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21.jpeg" ContentType="image/jpeg"/>
  <Override PartName="/ppt/media/image28.jpeg" ContentType="image/jpeg"/>
  <Override PartName="/ppt/media/image27.jpeg" ContentType="image/jpeg"/>
  <Override PartName="/ppt/media/image6.jpeg" ContentType="image/jpeg"/>
  <Override PartName="/ppt/media/image7.wmf" ContentType="image/x-wmf"/>
  <Override PartName="/ppt/media/image13.png" ContentType="image/png"/>
  <Override PartName="/ppt/media/image12.jpeg" ContentType="image/jpeg"/>
  <Override PartName="/ppt/media/image31.jpeg" ContentType="image/jpeg"/>
  <Override PartName="/ppt/media/image8.wmf" ContentType="image/x-wmf"/>
  <Override PartName="/ppt/media/image4.jpeg" ContentType="image/jpeg"/>
  <Override PartName="/ppt/media/image25.png" ContentType="image/png"/>
  <Override PartName="/ppt/media/image32.jpeg" ContentType="image/jpeg"/>
  <Override PartName="/ppt/media/image33.png" ContentType="image/png"/>
  <Override PartName="/ppt/media/image16.wmf" ContentType="image/x-wmf"/>
  <Override PartName="/ppt/media/image9.jpeg" ContentType="image/jpeg"/>
  <Override PartName="/ppt/media/image11.png" ContentType="image/png"/>
  <Override PartName="/ppt/media/image34.wmf" ContentType="image/x-wmf"/>
  <Override PartName="/ppt/media/image35.wmf" ContentType="image/x-wmf"/>
  <Override PartName="/ppt/media/image36.png" ContentType="image/png"/>
  <Override PartName="/ppt/media/image15.png" ContentType="image/png"/>
  <Override PartName="/ppt/media/image18.jpeg" ContentType="image/jpeg"/>
  <Override PartName="/ppt/media/image19.wmf" ContentType="image/x-wmf"/>
  <Override PartName="/ppt/media/image3.jpeg" ContentType="image/jpeg"/>
  <Override PartName="/ppt/media/image30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14.wmf" ContentType="image/x-wmf"/>
  <Override PartName="/ppt/media/image17.wmf" ContentType="image/x-wmf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5C35-46DA-4E38-BC05-FA0ABA326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187C-C5F8-402A-90C8-512D39730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1D84-B922-4876-89B2-EE2D8F2CF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D771-E791-477F-B9CA-1F18FFFCD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E9A1-BA33-4B1F-AE77-90919A7C3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9057-9AC4-4831-96C7-6101ECFD5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BE93-79B2-480A-AD8F-A50AEE052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496A-27CD-484B-837C-77E5A5763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46DB-3346-41E2-A38F-54C0FD8D1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A82C-5932-44C3-A972-64F910FC2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3A0D-2B72-4003-9BBA-18D666DCC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9CF6-5421-44DC-95FE-AA1CB269A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E9C3-09F5-4B21-88D2-475D127DE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A4F0-9E4D-48D5-9DB9-FABC71C2D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69AD-334D-42CE-A2C7-B622BF505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3A7B-311E-41DE-A386-E693FE2B4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7590-487E-487C-982D-56CA561F9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BE3C-A228-45F8-8234-1B84BDC56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B9B3-68E7-4094-9FCE-5008D4469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F105-7E88-4B13-8478-4884F70B0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C589-C914-48CE-B614-368BD7C3C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FA0E-C8F2-4AD0-B865-8FA7282CC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2CF8-6F0C-43B5-A720-175BB6D97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75C7-3AA5-44E5-A45C-57C86B005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7E99-408D-4344-8AC5-F78F2EF0B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D635-A7A1-4DD6-8B1A-C696C648E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C8E0-69EA-4F46-AE12-5DBDD1694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CDC7-00F6-441D-BC54-38DF7C92E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6364-8C99-4D37-A3D6-0B77FFBC3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D7CA-F4A2-4CAD-8EFF-D6BCC2978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24F6-0B7E-419E-AB10-31B32C1CD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4F69-0DA9-4410-A139-0162F81BB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71A9-EF41-49B2-AF45-D4B0184B5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8173-E8DA-4166-B98A-274B0C5BF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7FFE-640E-4194-8755-52328F154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3B88-815E-409E-9C81-B4DEF33AA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79A22-08A2-4347-8E3A-31BD042A27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13191-F8BC-40AF-865E-54AC29AB66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63860-A190-49CA-BFDF-1C0BF47053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42AAB-87ED-42BB-BB15-A91E774EF6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94E3-FD5B-4DA5-8738-EBAA36AF6E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E760-DE78-45D2-AA2C-55E7433729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D9EA-2653-4544-A7E6-9EBCE7179B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348E-4E32-4470-9256-92E89EA033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49C5-AD7F-420E-BB57-08345C7FFF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CB68-8F8E-44DB-B24B-1B81963ADC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97AE-3274-4FB3-8745-A8BF9F0F8E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102F7-DCCA-4C67-8615-F1A3CBA992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E446-3549-41F0-A664-0AF798F70F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9705-D05D-414D-A89E-CE84D97FA8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1068-FFD1-42B5-94F4-300A3C1D6F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7ECB-535F-45BC-9539-0754C8877A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6229-03BB-450B-90E2-0E917A7614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4C3FF-580D-4FAA-9E84-FE833BAB9B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A0AB4-2AFF-4595-9F5A-3CC47F9867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84631-85E0-490E-8FA2-977827E1C9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D22EC-75AF-4AB3-AE9C-713718F3AA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90534-8218-4676-8107-D2501D3D4B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FDA8A-D1B6-4E42-A685-6D0026AE3A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03984-A554-4A21-9CF7-403E8EBF87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4F62-4F5A-4BBE-B5FB-7AF76A70F0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LSI_WHO_Blue_CMYK1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E2CC-0294-4DA6-BEB0-0154CE15AE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wmf"/><Relationship Id="rId7" Type="http://schemas.openxmlformats.org/officeDocument/2006/relationships/image" Target="../media/image11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D6BF-EA2A-4168-968C-871456EFC9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600" spc="-1" strike="noStrike">
                <a:solidFill>
                  <a:srgbClr val="ffffff"/>
                </a:solidFill>
                <a:latin typeface="Verdana"/>
              </a:rPr>
              <a:t>Évaluation : Audits</a:t>
            </a:r>
            <a:endParaRPr b="0" lang="en-US" sz="4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ECF8-2B61-4741-AE6E-5983134631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5" descr="MCj04349290000[1]"/>
          <p:cNvPicPr/>
          <p:nvPr/>
        </p:nvPicPr>
        <p:blipFill>
          <a:blip r:embed="rId1"/>
          <a:stretch/>
        </p:blipFill>
        <p:spPr>
          <a:xfrm>
            <a:off x="2057400" y="47242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2"/>
          <a:srcRect l="0" t="15625" r="0" b="0"/>
          <a:stretch/>
        </p:blipFill>
        <p:spPr>
          <a:xfrm>
            <a:off x="5029200" y="4819680"/>
            <a:ext cx="3220920" cy="2038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cueillir l’information su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rocessus et les procédures opératoi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personnel, l’équipement, méthodes d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’environnement, la manipulation des échantill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contrôle de qualité et la vérification des résult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ratiques d’enregistrement et de rappo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674C-1C2E-44C8-9844-7E4E3D291F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arer les résultants aux documents du système de gestion de la qualité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toute rupture ou déviation par rapport aux procédur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re quelque chose des résultats d’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DC80-6671-42D7-B3C4-4BACEEA67E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18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178" name="Oval 5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Autorités de san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Oval 6"/>
          <p:cNvSpPr/>
          <p:nvPr/>
        </p:nvSpPr>
        <p:spPr>
          <a:xfrm>
            <a:off x="4724280" y="914400"/>
            <a:ext cx="441972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gence d’accrédi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Oval 7"/>
          <p:cNvSpPr/>
          <p:nvPr/>
        </p:nvSpPr>
        <p:spPr>
          <a:xfrm>
            <a:off x="5562720" y="4343400"/>
            <a:ext cx="358128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rogramme de santé publiq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Oval 8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Arial"/>
              </a:rPr>
              <a:t>Bailleurs</a:t>
            </a:r>
            <a:br>
              <a:rPr sz="3200"/>
            </a:br>
            <a:r>
              <a:rPr b="1" lang="fr-FR" sz="3200" spc="-1" strike="noStrike">
                <a:solidFill>
                  <a:srgbClr val="00007d"/>
                </a:solidFill>
                <a:latin typeface="Arial"/>
              </a:rPr>
              <a:t>de fon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urs extern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19" descr="lab_design"/>
          <p:cNvPicPr/>
          <p:nvPr/>
        </p:nvPicPr>
        <p:blipFill>
          <a:blip r:embed="rId2"/>
          <a:stretch/>
        </p:blipFill>
        <p:spPr>
          <a:xfrm>
            <a:off x="3048120" y="1981080"/>
            <a:ext cx="2593800" cy="31244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20"/>
          <p:cNvSpPr/>
          <p:nvPr/>
        </p:nvSpPr>
        <p:spPr>
          <a:xfrm>
            <a:off x="3124080" y="31240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3049-4628-4DDF-91C1-29CC9C61B3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s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Group 8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189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3" name="Group 32"/>
          <p:cNvGrpSpPr/>
          <p:nvPr/>
        </p:nvGrpSpPr>
        <p:grpSpPr>
          <a:xfrm>
            <a:off x="533520" y="3581280"/>
            <a:ext cx="5234040" cy="2933640"/>
            <a:chOff x="533520" y="3581280"/>
            <a:chExt cx="5234040" cy="2933640"/>
          </a:xfrm>
        </p:grpSpPr>
        <p:pic>
          <p:nvPicPr>
            <p:cNvPr id="194" name="Picture 5" descr="j0213395"/>
            <p:cNvPicPr/>
            <p:nvPr/>
          </p:nvPicPr>
          <p:blipFill>
            <a:blip r:embed="rId1"/>
            <a:stretch/>
          </p:blipFill>
          <p:spPr>
            <a:xfrm>
              <a:off x="4114800" y="442332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3" descr="j0433934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16"/>
            <p:cNvSpPr/>
            <p:nvPr/>
          </p:nvSpPr>
          <p:spPr>
            <a:xfrm>
              <a:off x="1905120" y="4227120"/>
              <a:ext cx="23778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Avertir personnel, aménager emploi du temps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7" name="Rectangle 17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éparation d’un audit extern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638680" y="4648320"/>
            <a:ext cx="350532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assembler les informations et les regist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9" name="Group 31"/>
          <p:cNvGrpSpPr/>
          <p:nvPr/>
        </p:nvGrpSpPr>
        <p:grpSpPr>
          <a:xfrm>
            <a:off x="380880" y="1447920"/>
            <a:ext cx="3885480" cy="2361600"/>
            <a:chOff x="380880" y="1447920"/>
            <a:chExt cx="3885480" cy="2361600"/>
          </a:xfrm>
        </p:grpSpPr>
        <p:pic>
          <p:nvPicPr>
            <p:cNvPr id="200" name="Picture 27" descr="MCj03636380000[1]"/>
            <p:cNvPicPr/>
            <p:nvPr/>
          </p:nvPicPr>
          <p:blipFill>
            <a:blip r:embed="rId3"/>
            <a:stretch/>
          </p:blipFill>
          <p:spPr>
            <a:xfrm>
              <a:off x="380880" y="1447920"/>
              <a:ext cx="3650400" cy="236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29"/>
            <p:cNvSpPr/>
            <p:nvPr/>
          </p:nvSpPr>
          <p:spPr>
            <a:xfrm>
              <a:off x="1087200" y="2149920"/>
              <a:ext cx="317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ifier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2CC8-6D77-4FE9-95CF-601223BFC2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AutoShape 21"/>
          <p:cNvSpPr/>
          <p:nvPr/>
        </p:nvSpPr>
        <p:spPr>
          <a:xfrm rot="10800000">
            <a:off x="2438280" y="5409720"/>
            <a:ext cx="6400800" cy="83844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apport d’audit externe et plan d’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Identifiez manquements/non conformité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nregistrez les résultats et actions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édigez un rap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Planifiez des actions corr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Développez un calendri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Attribuez les responsabilité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4495680" y="1066680"/>
            <a:ext cx="44197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Laboratoire revoit/ comprend les recommand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20"/>
          <p:cNvSpPr/>
          <p:nvPr/>
        </p:nvSpPr>
        <p:spPr>
          <a:xfrm>
            <a:off x="2914560" y="1219320"/>
            <a:ext cx="1524240" cy="76176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22"/>
          <p:cNvSpPr/>
          <p:nvPr/>
        </p:nvSpPr>
        <p:spPr>
          <a:xfrm rot="5400000">
            <a:off x="6705000" y="3276360"/>
            <a:ext cx="3657600" cy="7621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AutoShape 26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27"/>
          <p:cNvSpPr/>
          <p:nvPr/>
        </p:nvSpPr>
        <p:spPr>
          <a:xfrm>
            <a:off x="609480" y="1447920"/>
            <a:ext cx="2133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apport et résumé des auditeurs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1CB0-8FEB-496A-A1EA-609460CA5F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86" descr="MCj04099450000[1]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3" descr="spy_guy_bck_col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7"/>
          <p:cNvSpPr/>
          <p:nvPr/>
        </p:nvSpPr>
        <p:spPr>
          <a:xfrm>
            <a:off x="6553080" y="9144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Picture 9" descr="j0424784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0"/>
          <p:cNvSpPr/>
          <p:nvPr/>
        </p:nvSpPr>
        <p:spPr>
          <a:xfrm>
            <a:off x="6400800" y="35053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Moins coûteu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78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 in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77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quis par standards I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né régulièr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né quand problèmes identifi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84"/>
          <p:cNvSpPr/>
          <p:nvPr/>
        </p:nvSpPr>
        <p:spPr>
          <a:xfrm>
            <a:off x="2895480" y="1293840"/>
            <a:ext cx="2667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garder ses propres process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87" descr="bulles_CDC"/>
          <p:cNvPicPr/>
          <p:nvPr/>
        </p:nvPicPr>
        <p:blipFill>
          <a:blip r:embed="rId4"/>
          <a:stretch/>
        </p:blipFill>
        <p:spPr>
          <a:xfrm>
            <a:off x="228600" y="3670200"/>
            <a:ext cx="266688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DBD5-FD25-4B1A-81BB-73EFE070AC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Valeur des audits intern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préparer pour un audit exter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nsibiliser 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portunité d’amélio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ctions préventives et correctiv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portunité de formation conti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ondre aux standards d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74BD-3829-4A1D-8383-EB76527DDE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s Internes : Exigences IS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23"/>
          <p:cNvSpPr/>
          <p:nvPr/>
        </p:nvSpPr>
        <p:spPr>
          <a:xfrm>
            <a:off x="0" y="1752480"/>
            <a:ext cx="914400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gramme d’audit ex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cédures documenté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uditeurs indépendants de l’activ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ésultats rendus sous forme de rapport et revus par la direction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tion de suivi rap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E054-1519-4D9B-8FE0-33FD624C28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i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Arc 5"/>
          <p:cNvSpPr/>
          <p:nvPr/>
        </p:nvSpPr>
        <p:spPr>
          <a:xfrm>
            <a:off x="7238880" y="2286000"/>
            <a:ext cx="1447920" cy="1523880"/>
          </a:xfrm>
          <a:prstGeom prst="pie">
            <a:avLst/>
          </a:prstGeom>
          <a:gradFill rotWithShape="0">
            <a:gsLst>
              <a:gs pos="0">
                <a:srgbClr val="b27e5e"/>
              </a:gs>
              <a:gs pos="100000">
                <a:srgbClr val="523a2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Arc 6"/>
          <p:cNvSpPr/>
          <p:nvPr/>
        </p:nvSpPr>
        <p:spPr>
          <a:xfrm rot="5400000">
            <a:off x="5295960" y="2857680"/>
            <a:ext cx="1295280" cy="1676160"/>
          </a:xfrm>
          <a:prstGeom prst="pie">
            <a:avLst/>
          </a:prstGeom>
          <a:solidFill>
            <a:srgbClr val="ffd9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AutoShape 7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AutoShape 8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9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5257800" y="16002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ériolog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3581280" y="76212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é a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udits inter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0" y="1981080"/>
            <a:ext cx="40384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Ne pas auditer votre propre travai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14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utr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CFAE-8804-4A69-8524-F4CEC17758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1" name="Group 12"/>
          <p:cNvGrpSpPr/>
          <p:nvPr/>
        </p:nvGrpSpPr>
        <p:grpSpPr>
          <a:xfrm>
            <a:off x="152280" y="533520"/>
            <a:ext cx="8991000" cy="5790600"/>
            <a:chOff x="152280" y="533520"/>
            <a:chExt cx="8991000" cy="5790600"/>
          </a:xfrm>
        </p:grpSpPr>
        <p:sp>
          <p:nvSpPr>
            <p:cNvPr id="252" name="AutoShape 11"/>
            <p:cNvSpPr/>
            <p:nvPr/>
          </p:nvSpPr>
          <p:spPr>
            <a:xfrm>
              <a:off x="152280" y="533520"/>
              <a:ext cx="8991000" cy="57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Préparer 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fr-FR" sz="1500" spc="-1" strike="noStrike">
                  <a:solidFill>
                    <a:srgbClr val="000000"/>
                  </a:solidFill>
                  <a:latin typeface="Verdana"/>
                </a:rPr>
                <a:t>listes de contrôle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000000"/>
                  </a:solidFill>
                  <a:latin typeface="Verdana"/>
                </a:rPr>
                <a:t>formulaires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Planifier  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réguliers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Programme</a:t>
              </a:r>
              <a:br>
                <a:rPr sz="2500"/>
              </a:b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 d’audit</a:t>
              </a:r>
              <a:br>
                <a:rPr sz="2500"/>
              </a:b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 interne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Attribuer </a:t>
              </a:r>
              <a:br>
                <a:rPr sz="25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responsabilité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0" name="Text Box 3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7" descr="j0432664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bs00272_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" descr="MCj04349290000[1]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2" descr="head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A7AC-2B5D-42FE-9B13-63DD323375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u module, les participants seront en mesure d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un processus préparant le personnel à un audit exter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lanifier et gérer un audit inter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scuter comment utiliser les résultats d’un aud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laidoyer à propos de l’importance des mesures correctives à prend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2469-591E-4EFB-94FC-87B1893DC7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AutoShape 24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AutoShape 13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1828800" y="7621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Directeur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Oval 7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1066680" y="2362320"/>
            <a:ext cx="3048120" cy="1557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Détermine la ligne de conduite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568440" y="4843440"/>
            <a:ext cx="4038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Assigne responsabilités</a:t>
            </a:r>
            <a:r>
              <a:rPr b="0" lang="fr-FR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fr-FR" sz="1800" spc="-1" strike="noStrike">
                <a:solidFill>
                  <a:srgbClr val="ffff00"/>
                </a:solidFill>
                <a:latin typeface="Verdana"/>
              </a:rPr>
              <a:t>pour le programme d’audit interne – </a:t>
            </a:r>
            <a:r>
              <a:rPr b="0" lang="fr-FR" sz="1800" spc="-1" strike="noStrike">
                <a:solidFill>
                  <a:srgbClr val="ff6600"/>
                </a:solidFill>
                <a:latin typeface="Verdana"/>
              </a:rPr>
              <a:t>responsable qualit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00800" y="2514600"/>
            <a:ext cx="20574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soutient les mesures d’actions corr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AutoShape 20"/>
          <p:cNvSpPr/>
          <p:nvPr/>
        </p:nvSpPr>
        <p:spPr>
          <a:xfrm rot="5400000">
            <a:off x="1943280" y="1333440"/>
            <a:ext cx="761760" cy="9907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AutoShape 21"/>
          <p:cNvSpPr/>
          <p:nvPr/>
        </p:nvSpPr>
        <p:spPr>
          <a:xfrm rot="5400000">
            <a:off x="1942560" y="3543120"/>
            <a:ext cx="914400" cy="114300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AutoShape 22"/>
          <p:cNvSpPr/>
          <p:nvPr/>
        </p:nvSpPr>
        <p:spPr>
          <a:xfrm rot="5400000">
            <a:off x="6819840" y="1485720"/>
            <a:ext cx="990720" cy="106704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AutoShape 23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AutoShape 26"/>
          <p:cNvSpPr/>
          <p:nvPr/>
        </p:nvSpPr>
        <p:spPr>
          <a:xfrm>
            <a:off x="1905120" y="5715000"/>
            <a:ext cx="761760" cy="5335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B5C8-A4F3-42A7-8E00-9B0F757E81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AutoShape 31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152280" y="457200"/>
            <a:ext cx="8686800" cy="16250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Responsabilité du Responsabl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Créer et maintenir un système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Oval 7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3200400" y="2652840"/>
            <a:ext cx="266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Coordonne le processus d’audit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Gérer</a:t>
            </a:r>
            <a:br>
              <a:rPr sz="2000"/>
            </a:b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actions correc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17"/>
          <p:cNvSpPr/>
          <p:nvPr/>
        </p:nvSpPr>
        <p:spPr>
          <a:xfrm rot="5400000">
            <a:off x="4076640" y="1942920"/>
            <a:ext cx="609480" cy="8380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18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457200" y="23623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7d"/>
                </a:solidFill>
                <a:latin typeface="Verdana"/>
              </a:rPr>
              <a:t>Établir un calendri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AutoShape 21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’audit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Oval 24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Oval 25"/>
          <p:cNvSpPr/>
          <p:nvPr/>
        </p:nvSpPr>
        <p:spPr>
          <a:xfrm>
            <a:off x="304920" y="4876920"/>
            <a:ext cx="2057400" cy="137160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Text Box 26"/>
          <p:cNvSpPr/>
          <p:nvPr/>
        </p:nvSpPr>
        <p:spPr>
          <a:xfrm>
            <a:off x="333360" y="503244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Rapport pour le personn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AutoShape 14"/>
          <p:cNvSpPr/>
          <p:nvPr/>
        </p:nvSpPr>
        <p:spPr>
          <a:xfrm rot="11374200">
            <a:off x="2133000" y="2567880"/>
            <a:ext cx="1066680" cy="5554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AutoShape 23"/>
          <p:cNvSpPr/>
          <p:nvPr/>
        </p:nvSpPr>
        <p:spPr>
          <a:xfrm>
            <a:off x="5181480" y="5410080"/>
            <a:ext cx="1447920" cy="45720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AutoShape 22"/>
          <p:cNvSpPr/>
          <p:nvPr/>
        </p:nvSpPr>
        <p:spPr>
          <a:xfrm rot="10800000">
            <a:off x="2209680" y="5333760"/>
            <a:ext cx="1371600" cy="53316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28"/>
          <p:cNvSpPr/>
          <p:nvPr/>
        </p:nvSpPr>
        <p:spPr>
          <a:xfrm>
            <a:off x="380880" y="3276720"/>
            <a:ext cx="1905120" cy="12189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Text Box 29"/>
          <p:cNvSpPr/>
          <p:nvPr/>
        </p:nvSpPr>
        <p:spPr>
          <a:xfrm>
            <a:off x="457200" y="32767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7d"/>
                </a:solidFill>
                <a:latin typeface="Verdana"/>
              </a:rPr>
              <a:t>Sélectionner et former des auditeu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AutoShape 30"/>
          <p:cNvSpPr/>
          <p:nvPr/>
        </p:nvSpPr>
        <p:spPr>
          <a:xfrm rot="9818400">
            <a:off x="2133000" y="3276360"/>
            <a:ext cx="1066680" cy="5554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AutoShape 15"/>
          <p:cNvSpPr/>
          <p:nvPr/>
        </p:nvSpPr>
        <p:spPr>
          <a:xfrm rot="19251600">
            <a:off x="5257440" y="3733920"/>
            <a:ext cx="1828800" cy="45720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6553080" y="527688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Rapport pour la dir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E960-949D-4DCD-9B54-5E2E834796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ner un audit inter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un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diger des listes de contrô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union d’ouver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cueillir et analyser les inform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registrer l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union de clô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apport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4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D4C9-C0DB-4E99-8285-4C0FEE2CC6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1" name="Picture 109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124080" y="3809880"/>
            <a:ext cx="2438640" cy="2340000"/>
          </a:xfrm>
          <a:prstGeom prst="rect">
            <a:avLst/>
          </a:prstGeom>
          <a:ln w="0">
            <a:noFill/>
          </a:ln>
        </p:spPr>
      </p:pic>
      <p:grpSp>
        <p:nvGrpSpPr>
          <p:cNvPr id="312" name="Group 96"/>
          <p:cNvGrpSpPr/>
          <p:nvPr/>
        </p:nvGrpSpPr>
        <p:grpSpPr>
          <a:xfrm>
            <a:off x="2639880" y="3657600"/>
            <a:ext cx="3228840" cy="2860560"/>
            <a:chOff x="2639880" y="3657600"/>
            <a:chExt cx="3228840" cy="2860560"/>
          </a:xfrm>
        </p:grpSpPr>
        <p:sp>
          <p:nvSpPr>
            <p:cNvPr id="313" name="AutoShape 95"/>
            <p:cNvSpPr/>
            <p:nvPr/>
          </p:nvSpPr>
          <p:spPr>
            <a:xfrm>
              <a:off x="2868480" y="3657600"/>
              <a:ext cx="2770200" cy="28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620643"/>
            <p:cNvSpPr/>
            <p:nvPr/>
          </p:nvSpPr>
          <p:spPr>
            <a:xfrm>
              <a:off x="3240720" y="3857400"/>
              <a:ext cx="2026440" cy="184032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_s620644"/>
            <p:cNvSpPr/>
            <p:nvPr/>
          </p:nvSpPr>
          <p:spPr>
            <a:xfrm rot="7200000">
              <a:off x="3610800" y="4198680"/>
              <a:ext cx="1840320" cy="202644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" name="_s620646"/>
            <p:cNvSpPr/>
            <p:nvPr/>
          </p:nvSpPr>
          <p:spPr>
            <a:xfrm rot="14400000">
              <a:off x="3057120" y="4201200"/>
              <a:ext cx="1840320" cy="202644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_s620641"/>
            <p:cNvSpPr/>
            <p:nvPr/>
          </p:nvSpPr>
          <p:spPr>
            <a:xfrm>
              <a:off x="4808880" y="41943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_s620642"/>
            <p:cNvSpPr/>
            <p:nvPr/>
          </p:nvSpPr>
          <p:spPr>
            <a:xfrm>
              <a:off x="3847320" y="57067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_s620645"/>
            <p:cNvSpPr/>
            <p:nvPr/>
          </p:nvSpPr>
          <p:spPr>
            <a:xfrm>
              <a:off x="2885760" y="41943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réer un calendrier d’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ner des audits régulièr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dits plus fréquent en cas de problèmes ou de besoin d’amélio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audits devraient au cours du temps revoir tous les points essentiels du système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1016-1280-4E9F-8BA3-8D08B18B35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670536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heck-lists (listes de contrôle)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des formulaires pour les actions correctives et les rap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Picture 5" descr="MCj04349290000[1]"/>
          <p:cNvPicPr/>
          <p:nvPr/>
        </p:nvPicPr>
        <p:blipFill>
          <a:blip r:embed="rId1"/>
          <a:stretch/>
        </p:blipFill>
        <p:spPr>
          <a:xfrm>
            <a:off x="6629400" y="6094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CORRECTIVE ACTION FORM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E2C1-6DDC-44AD-BC27-8F860F5C2E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0" name="Picture 28" descr="Untitled-7"/>
          <p:cNvPicPr/>
          <p:nvPr/>
        </p:nvPicPr>
        <p:blipFill>
          <a:blip r:embed="rId1"/>
          <a:stretch/>
        </p:blipFill>
        <p:spPr>
          <a:xfrm>
            <a:off x="685800" y="1143000"/>
            <a:ext cx="716292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EA76-E2F1-4EB1-BD74-70CD5B8DA4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AutoShape 2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AutoShape 3"/>
          <p:cNvSpPr/>
          <p:nvPr/>
        </p:nvSpPr>
        <p:spPr>
          <a:xfrm rot="5400000">
            <a:off x="1294920" y="3047760"/>
            <a:ext cx="1295280" cy="129564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s audits doivent conduire à des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AutoShape 6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i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D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AutoShape 8"/>
          <p:cNvSpPr/>
          <p:nvPr/>
        </p:nvSpPr>
        <p:spPr>
          <a:xfrm>
            <a:off x="5638680" y="1371600"/>
            <a:ext cx="3200400" cy="312408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Mise en place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des a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AutoShape 7"/>
          <p:cNvSpPr/>
          <p:nvPr/>
        </p:nvSpPr>
        <p:spPr>
          <a:xfrm rot="20101800">
            <a:off x="3123720" y="3885840"/>
            <a:ext cx="3619800" cy="12952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6A5F-DC67-42FE-A01B-AAD09D5431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" name="Picture 5" descr="j0435880"/>
          <p:cNvPicPr/>
          <p:nvPr/>
        </p:nvPicPr>
        <p:blipFill>
          <a:blip r:embed="rId1"/>
          <a:stretch/>
        </p:blipFill>
        <p:spPr>
          <a:xfrm>
            <a:off x="5486400" y="3166920"/>
            <a:ext cx="2819520" cy="25146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ctions correctives et de rattrapag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es actions sont prises pour améliorer un processus ou corriger un problèm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Text Box 10"/>
          <p:cNvSpPr/>
          <p:nvPr/>
        </p:nvSpPr>
        <p:spPr>
          <a:xfrm>
            <a:off x="228600" y="3809880"/>
            <a:ext cx="5562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i est responsable?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600" spc="-1" strike="noStrike">
                <a:solidFill>
                  <a:srgbClr val="008000"/>
                </a:solidFill>
                <a:latin typeface="Verdana"/>
              </a:rPr>
              <a:t>Responsable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BCEC-8466-4346-B2FB-543129D443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ntreprendre des actions correctiv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une équipe de résolution de problèm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ercher les causes premiè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commander l’action corrective approprié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ttre en oeuvre l’action corr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Observer l’efficacité de l’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les actions et leurs résulta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rôl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14D7-89C7-4CCE-BC4C-F6D2923B24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Formulaire d’opportunité d’amélio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52" name="Picture 6" descr="CORRECTIVE ACTION FORM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53" name="ZoneTexte 5"/>
          <p:cNvSpPr/>
          <p:nvPr/>
        </p:nvSpPr>
        <p:spPr>
          <a:xfrm>
            <a:off x="3200400" y="1447920"/>
            <a:ext cx="2971800" cy="276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Formulaire d’action correcti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ZoneTexte 6"/>
          <p:cNvSpPr/>
          <p:nvPr/>
        </p:nvSpPr>
        <p:spPr>
          <a:xfrm>
            <a:off x="2362320" y="1963800"/>
            <a:ext cx="32004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Cette action corrective est le résultat de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ZoneTexte 7"/>
          <p:cNvSpPr/>
          <p:nvPr/>
        </p:nvSpPr>
        <p:spPr>
          <a:xfrm>
            <a:off x="2819520" y="251460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Audit intern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ZoneTexte 8"/>
          <p:cNvSpPr/>
          <p:nvPr/>
        </p:nvSpPr>
        <p:spPr>
          <a:xfrm>
            <a:off x="2819520" y="280188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Audit extern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ZoneTexte 9"/>
          <p:cNvSpPr/>
          <p:nvPr/>
        </p:nvSpPr>
        <p:spPr>
          <a:xfrm>
            <a:off x="5486400" y="220968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ZoneTexte 10"/>
          <p:cNvSpPr/>
          <p:nvPr/>
        </p:nvSpPr>
        <p:spPr>
          <a:xfrm>
            <a:off x="5486400" y="251460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ZoneTexte 11"/>
          <p:cNvSpPr/>
          <p:nvPr/>
        </p:nvSpPr>
        <p:spPr>
          <a:xfrm>
            <a:off x="5486400" y="281952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ZoneTexte 12"/>
          <p:cNvSpPr/>
          <p:nvPr/>
        </p:nvSpPr>
        <p:spPr>
          <a:xfrm>
            <a:off x="2362320" y="3276720"/>
            <a:ext cx="4572000" cy="36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Description du Problème ou du constat: </a:t>
            </a: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(Qu’est il arrivé et Pourquoi)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ZoneTexte 13"/>
          <p:cNvSpPr/>
          <p:nvPr/>
        </p:nvSpPr>
        <p:spPr>
          <a:xfrm>
            <a:off x="2362320" y="4781520"/>
            <a:ext cx="18288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Rapporté par: (Nom du personnel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ZoneTexte 14"/>
          <p:cNvSpPr/>
          <p:nvPr/>
        </p:nvSpPr>
        <p:spPr>
          <a:xfrm>
            <a:off x="2362320" y="5410080"/>
            <a:ext cx="4572000" cy="36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Action Corrective prise: </a:t>
            </a: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(Qu’est ce qui a été fait pour prévenir la réapparition du problème))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ZoneTexte 15"/>
          <p:cNvSpPr/>
          <p:nvPr/>
        </p:nvSpPr>
        <p:spPr>
          <a:xfrm>
            <a:off x="2819520" y="220968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Consta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57A4-BFE7-49A1-835C-6EC6B7158A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« Vous êtes le responsable qualité dans votre laboratoire et vous voulez organiser un audit interne. »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Quelles étapes allez vous suivre?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B672-561E-4E31-89F1-737D779090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Oval 9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Text Box 10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Le contrôle continu est l’élément clef du succès du système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4" descr="MCj04326350000[1]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MCj02153560000[1]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7" descr="MCj01567530000[1]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3862-8CAE-4F0C-BC83-69F77728B2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3" name="Picture 92" descr="Untitled-9"/>
          <p:cNvPicPr/>
          <p:nvPr/>
        </p:nvPicPr>
        <p:blipFill>
          <a:blip r:embed="rId1"/>
          <a:stretch/>
        </p:blipFill>
        <p:spPr>
          <a:xfrm>
            <a:off x="304920" y="603360"/>
            <a:ext cx="8381880" cy="57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9D90-A950-4722-A7B8-B7F1EAE2A8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685800" y="1371600"/>
            <a:ext cx="7696080" cy="47257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Ce n’est pas ce que vous trouvez…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C’est ce que vous faîtes de ce que vous trouvez.”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FFEC-0870-4E13-99CC-FC667D12A5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évaluation est importante dans le contrôle de l’efficacité du système qualité du laboratoir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audits externes et internes fournissent des informations utile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des résultats de l’évaluation est de trouver les causes du problème et de prendre des mesures corrective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5052-9E7D-45AB-84F0-F80B5373B1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ous les laboratoires devraient établir un programme d’audit interne. Conduit régulièrement, il fournira des informations favorisant les améliorations continu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roblèmes deviennent alors des opportunités d’amélio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11C8-6BC0-4802-82EF-ED67A34A61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714640" y="297144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8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80880" y="12952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9AC2-70EB-416E-BE52-4721FDCAE3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8" name="Picture 27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9528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B9C2-C493-485A-9466-B0A95E63D5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— 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80769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nalyse systématique de certaines (ou de toutes) parties du système de gestion de la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formité aux exige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9" descr="spy_guy"/>
          <p:cNvPicPr/>
          <p:nvPr/>
        </p:nvPicPr>
        <p:blipFill>
          <a:blip r:embed="rId1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C:\Users\Laurence\AppData\Local\Temp\Rar$DI00.100\bulles_def.gif"/>
          <p:cNvPicPr/>
          <p:nvPr/>
        </p:nvPicPr>
        <p:blipFill>
          <a:blip r:embed="rId2"/>
          <a:stretch/>
        </p:blipFill>
        <p:spPr>
          <a:xfrm>
            <a:off x="4495680" y="3884760"/>
            <a:ext cx="1981440" cy="19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930C-898C-40C6-BC91-4348AE3A66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ubOvalCallout"/>
          <p:cNvSpPr/>
          <p:nvPr/>
        </p:nvSpPr>
        <p:spPr>
          <a:xfrm>
            <a:off x="228600" y="1143000"/>
            <a:ext cx="7086600" cy="541008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-ce qu’une évaluation 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Une personne deman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5" descr="j0234625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1219320" y="2209680"/>
            <a:ext cx="518148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Qu’est ce qui est fait ?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Cela est il conforme aux lignes de conduite et aux procédur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0950-5EEE-4A22-9C3A-B4C6945B0A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urquoi faire une évaluation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pprendre “ où nous en sommes ” en terme de gestion de la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esurer les écar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Besoin d’information pour 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ifier, mettre en oeuv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trôl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mélioration conti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MCBD19903_0000[1]"/>
          <p:cNvPicPr/>
          <p:nvPr/>
        </p:nvPicPr>
        <p:blipFill>
          <a:blip r:embed="rId1"/>
          <a:stretch/>
        </p:blipFill>
        <p:spPr>
          <a:xfrm>
            <a:off x="6934320" y="2362320"/>
            <a:ext cx="19047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389E-E151-43F4-8B42-D973F150EF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24" descr="lab_design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5791320" y="2438280"/>
            <a:ext cx="335268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Oval 8"/>
          <p:cNvSpPr/>
          <p:nvPr/>
        </p:nvSpPr>
        <p:spPr>
          <a:xfrm>
            <a:off x="5943600" y="2971800"/>
            <a:ext cx="297180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roupe ou agences extérie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Audit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Audit ex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Line 17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Line 18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Line 19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a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AutoShape 27"/>
          <p:cNvSpPr/>
          <p:nvPr/>
        </p:nvSpPr>
        <p:spPr>
          <a:xfrm rot="5400000">
            <a:off x="1523880" y="3276360"/>
            <a:ext cx="114300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AutoShape 28"/>
          <p:cNvSpPr/>
          <p:nvPr/>
        </p:nvSpPr>
        <p:spPr>
          <a:xfrm rot="13572000">
            <a:off x="3352680" y="4876200"/>
            <a:ext cx="114300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686D-2130-4408-8EBB-060712E613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heminement du spécime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17" descr=""/>
          <p:cNvPicPr/>
          <p:nvPr/>
        </p:nvPicPr>
        <p:blipFill>
          <a:blip r:embed="rId1"/>
          <a:srcRect l="0" t="12742" r="0" b="0"/>
          <a:stretch/>
        </p:blipFill>
        <p:spPr>
          <a:xfrm>
            <a:off x="304920" y="1338120"/>
            <a:ext cx="830556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1:22:00Z</dcterms:created>
  <dc:creator>sam5</dc:creator>
  <dc:description/>
  <dc:language>en-US</dc:language>
  <cp:lastModifiedBy>dolmazonv</cp:lastModifiedBy>
  <dcterms:modified xsi:type="dcterms:W3CDTF">2010-04-07T17:06:09Z</dcterms:modified>
  <cp:revision>152</cp:revision>
  <dc:subject/>
  <dc:title>Slide 1</dc:title>
</cp:coreProperties>
</file>