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8.wmf" ContentType="image/x-wmf"/>
  <Override PartName="/ppt/media/image13.png" ContentType="image/png"/>
  <Override PartName="/ppt/media/image12.jpeg" ContentType="image/jpeg"/>
  <Override PartName="/ppt/media/image7.wmf" ContentType="image/x-wmf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5.jpeg" ContentType="image/jpeg"/>
  <Override PartName="/ppt/media/image6.png" ContentType="image/png"/>
  <Override PartName="/ppt/media/image11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334A8-4ABC-4E20-8B8F-23A1F3ABA5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9136E-AFE0-4E33-A225-CDD7FDEB81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229DB-86F9-4539-9DB7-141CEB592C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63FA5-4E88-4D48-AE71-BC6E3FD981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2B15B-C164-4FB7-95C5-09938D98F5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BAECE-C586-4059-816C-D3329EBDD3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2C4C3-4631-4939-B0E4-F0ECBDC24C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C5A2A-70AA-41EC-BEBD-B54AC5E782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53B63-417A-4618-BE38-9DDDB0BB3A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26525-86CB-4DFC-8241-FDCCC65EB1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712C9-5C9F-4312-9729-B5AFD4E59E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520B6-59D7-487F-AB3C-4427F1FB00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DA2C9-A253-4DF9-BBC4-D70739B975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F78F2-1EBB-4545-B7A7-B7EF45DC00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D72D5-0A9B-4B78-A0B3-702C79C55E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1D0F7-1FBC-4191-B53F-5121D192C4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E07BD-FDD3-40F7-A158-3EBFAFBC9D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A5C2E-C3FE-4298-920C-B8D4F61348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9D309-1D63-4BD5-B13A-064308F0CC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102BF-CBF1-4DDA-BFB4-F20E066D84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36278-42D4-478B-ACE8-9442C3F223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1F939-7C5C-4B2D-8DAE-8640A74475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18567-16F3-4BA2-993E-03EB26785D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8D685-3656-473B-9546-27F558EB8D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4EEF0-9334-4412-92F3-9C292872AA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A8E09-C2CD-4521-A256-C5EDADEEEC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FA0FD-D417-4181-AF56-FA14941CCE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31247-2D8A-4B59-A0B4-E582A885B2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702A1-11D5-408E-B083-78BD574026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7AFC2-54D5-42BB-8313-637142A6BA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7434E-02E9-4F75-B3E5-EC71192B9F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BA122-7D6B-470C-9686-9C32D96082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1F5018-E618-438B-BAEC-E22C8738CF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56EA26-724D-46D3-9055-EA94BCDED8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B61244-38EC-4808-B419-676EED6600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942FFD-1667-48A7-8FBD-C66E7A3730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9FC77-DAF7-4904-934A-9E11C4D0379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17B2F-5B7B-4210-91BD-F8C5F1538DC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B1D62-1794-431A-8FFF-E4EE1AE151A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38B4E-3B6B-4AF4-A459-E488348CF58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39DBF-D080-42B3-A381-BAF7EB34D3A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53352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16499-83ED-4766-A5F9-0702495CC2E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5F42B-0845-477D-BCE7-DEE79C95F37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E0B476-DF1E-4077-82A9-2C5B50E1952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250C3-2B78-4EAA-8010-EF1D5074B7D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35F6F-A8C8-4FA0-B297-95B7AE5A33F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E2452-BADC-4091-9D2D-61E9E62F6F4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0BFE8-D9EA-4338-AE4E-07CDC1ACC28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45BBD-3A61-4063-BCA8-275079245AD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180965-A77C-44E6-A2D4-DBD273DCAB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B9F805-C8C9-4F89-94E2-E33F575678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FA2063-19A4-4395-8DF5-8F2638EEC2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3352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77AE7A-0828-49BC-86F9-184FEBF5B0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147F4E-8205-4A04-BA65-C7D8B40A85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4524A9-B6BA-4F63-B23D-C6222E0884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46718B-133F-403B-AF50-8ACA5B79E6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C test de susceptibilité antimicrobienne - Module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07A9B-B96D-4DF6-BAC4-F474667C60B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982800" indent="-196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375920" indent="-196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69040" indent="-196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982800" indent="-196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375920" indent="-196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69040" indent="-196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F9913-34DC-4132-A886-7AECBB46EE5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8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18EAA-2D22-4C48-88F0-523042BA463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Verdana"/>
              </a:rPr>
              <a:t>Contrôle de qualité des tests de sensibilité antimicrobienn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Espace réservé du pied de page 1"/>
          <p:cNvSpPr/>
          <p:nvPr/>
        </p:nvSpPr>
        <p:spPr>
          <a:xfrm>
            <a:off x="45720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C test de susceptibilité antimicrobienne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4A478-E0B6-4E4A-8D4D-B51B5F1C1D5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élection d’une colonie à teste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755BC-46FB-4FB0-B921-A13C192B48F8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7" name="Object 2"/>
          <p:cNvGraphicFramePr/>
          <p:nvPr/>
        </p:nvGraphicFramePr>
        <p:xfrm>
          <a:off x="1220760" y="1752480"/>
          <a:ext cx="670248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0760" y="1752480"/>
                    <a:ext cx="670248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Espace réservé du pied de page 1"/>
          <p:cNvSpPr/>
          <p:nvPr/>
        </p:nvSpPr>
        <p:spPr>
          <a:xfrm>
            <a:off x="45720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C test de susceptibilité antimicrobienne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7EC65-1EAF-43A3-8106-63D0C3FDE19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MacFarland 0.5 </a:t>
            </a:r>
            <a:br>
              <a:rPr sz="3600"/>
            </a:b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juster la suspension bactérienn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62BE4-298D-4F76-B9E9-2F3D0AECFD3A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Object 2"/>
          <p:cNvGraphicFramePr/>
          <p:nvPr/>
        </p:nvGraphicFramePr>
        <p:xfrm>
          <a:off x="1220760" y="1752480"/>
          <a:ext cx="670248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0760" y="1752480"/>
                    <a:ext cx="670248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Espace réservé du pied de page 1"/>
          <p:cNvSpPr/>
          <p:nvPr/>
        </p:nvSpPr>
        <p:spPr>
          <a:xfrm>
            <a:off x="45720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C test de susceptibilité antimicrobienne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F65BA-0501-4A2B-B1A1-6BB236D8919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A27AE-A10E-4CD8-84C5-3CE8C9593191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Utiliser des distributeurs de disque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648320" cy="44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vantag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ratiques, rapid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augmentent la reproductibilité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isqu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ontamin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iminuent les capacités personnelles de juge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0" name="Picture 4" descr="distributeur"/>
          <p:cNvPicPr/>
          <p:nvPr/>
        </p:nvPicPr>
        <p:blipFill>
          <a:blip r:embed="rId1"/>
          <a:stretch/>
        </p:blipFill>
        <p:spPr>
          <a:xfrm>
            <a:off x="5105520" y="2057400"/>
            <a:ext cx="3886200" cy="32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Espace réservé du pied de page 1"/>
          <p:cNvSpPr/>
          <p:nvPr/>
        </p:nvSpPr>
        <p:spPr>
          <a:xfrm>
            <a:off x="45720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C test de susceptibilité antimicrobienne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67FEC-BE78-4148-9B9A-D988E5A0D8F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DB703-DF2D-4A48-BF27-4A00F3EC539D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Problèmes avec les disqu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95" name="Picture 12" descr="Too Heavy"/>
          <p:cNvPicPr/>
          <p:nvPr/>
        </p:nvPicPr>
        <p:blipFill>
          <a:blip r:embed="rId1"/>
          <a:stretch/>
        </p:blipFill>
        <p:spPr>
          <a:xfrm>
            <a:off x="304920" y="1447920"/>
            <a:ext cx="8381880" cy="4495680"/>
          </a:xfrm>
          <a:prstGeom prst="rect">
            <a:avLst/>
          </a:prstGeom>
          <a:ln w="0">
            <a:noFill/>
          </a:ln>
        </p:spPr>
      </p:pic>
      <p:sp>
        <p:nvSpPr>
          <p:cNvPr id="196" name="ZoneTexte 7"/>
          <p:cNvSpPr/>
          <p:nvPr/>
        </p:nvSpPr>
        <p:spPr>
          <a:xfrm>
            <a:off x="685800" y="5334120"/>
            <a:ext cx="3048120" cy="64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Disques correctement alignés et espac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ZoneTexte 8"/>
          <p:cNvSpPr/>
          <p:nvPr/>
        </p:nvSpPr>
        <p:spPr>
          <a:xfrm>
            <a:off x="5105520" y="5334120"/>
            <a:ext cx="3657600" cy="916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Disques correctement alignés et espac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Verdana"/>
              </a:rPr>
              <a:t>Inoculum trop import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Espace réservé du pied de page 1"/>
          <p:cNvSpPr/>
          <p:nvPr/>
        </p:nvSpPr>
        <p:spPr>
          <a:xfrm>
            <a:off x="45720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C test de susceptibilité antimicrobienne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30C2E-E7F9-45AD-9A5D-94555752D0F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Problèmes avec les disqu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01" name="Picture 5" descr="Disk moved"/>
          <p:cNvPicPr/>
          <p:nvPr/>
        </p:nvPicPr>
        <p:blipFill>
          <a:blip r:embed="rId1"/>
          <a:stretch/>
        </p:blipFill>
        <p:spPr>
          <a:xfrm>
            <a:off x="228600" y="1447920"/>
            <a:ext cx="8686800" cy="4981320"/>
          </a:xfrm>
          <a:prstGeom prst="rect">
            <a:avLst/>
          </a:prstGeom>
          <a:ln w="0">
            <a:noFill/>
          </a:ln>
        </p:spPr>
      </p:pic>
      <p:sp>
        <p:nvSpPr>
          <p:cNvPr id="202" name="ZoneTexte 5"/>
          <p:cNvSpPr/>
          <p:nvPr/>
        </p:nvSpPr>
        <p:spPr>
          <a:xfrm>
            <a:off x="685800" y="5373720"/>
            <a:ext cx="3048120" cy="64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Disques correctement alignés et espac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ZoneTexte 6"/>
          <p:cNvSpPr/>
          <p:nvPr/>
        </p:nvSpPr>
        <p:spPr>
          <a:xfrm>
            <a:off x="5638680" y="5400720"/>
            <a:ext cx="3048120" cy="1191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Zones non régulière car le disque n’a pas été appliqué correct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Espace réservé du pied de page 1"/>
          <p:cNvSpPr/>
          <p:nvPr/>
        </p:nvSpPr>
        <p:spPr>
          <a:xfrm>
            <a:off x="45720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C test de susceptibilité antimicrobienne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F0D21-D16C-4EDE-968A-51F9911D895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A710F-3CC5-406B-B0C9-710472091A2E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2" descr="pied_coulisse-calliper"/>
          <p:cNvPicPr/>
          <p:nvPr/>
        </p:nvPicPr>
        <p:blipFill>
          <a:blip r:embed="rId1"/>
          <a:stretch/>
        </p:blipFill>
        <p:spPr>
          <a:xfrm>
            <a:off x="457200" y="1371600"/>
            <a:ext cx="3276720" cy="2597040"/>
          </a:xfrm>
          <a:prstGeom prst="rect">
            <a:avLst/>
          </a:prstGeom>
          <a:ln w="0">
            <a:noFill/>
          </a:ln>
        </p:spPr>
      </p:pic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Mesure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09" name="Picture 7" descr="Antibiot"/>
          <p:cNvPicPr/>
          <p:nvPr/>
        </p:nvPicPr>
        <p:blipFill>
          <a:blip r:embed="rId2"/>
          <a:stretch/>
        </p:blipFill>
        <p:spPr>
          <a:xfrm>
            <a:off x="5791320" y="1219320"/>
            <a:ext cx="1973160" cy="2666880"/>
          </a:xfrm>
          <a:prstGeom prst="rect">
            <a:avLst/>
          </a:prstGeom>
          <a:ln w="0">
            <a:noFill/>
          </a:ln>
        </p:spPr>
      </p:pic>
      <p:sp>
        <p:nvSpPr>
          <p:cNvPr id="210" name="Text Box 8"/>
          <p:cNvSpPr/>
          <p:nvPr/>
        </p:nvSpPr>
        <p:spPr>
          <a:xfrm>
            <a:off x="6522480" y="403848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Rè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9"/>
          <p:cNvSpPr/>
          <p:nvPr/>
        </p:nvSpPr>
        <p:spPr>
          <a:xfrm>
            <a:off x="1809000" y="4114800"/>
            <a:ext cx="292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ied à coulis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10"/>
          <p:cNvSpPr/>
          <p:nvPr/>
        </p:nvSpPr>
        <p:spPr>
          <a:xfrm>
            <a:off x="304920" y="4572000"/>
            <a:ext cx="8458200" cy="190512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ecture avec une lumière suffisante et à l’arrière de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a boî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a zone lue est spécifique à un médica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Une loupe peut a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es millimètres comp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3" name="Object 9"/>
          <p:cNvGraphicFramePr/>
          <p:nvPr/>
        </p:nvGraphicFramePr>
        <p:xfrm>
          <a:off x="2438280" y="1905120"/>
          <a:ext cx="3117960" cy="2104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4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38280" y="1905120"/>
                    <a:ext cx="3117960" cy="21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Espace réservé du pied de page 1"/>
          <p:cNvSpPr/>
          <p:nvPr/>
        </p:nvSpPr>
        <p:spPr>
          <a:xfrm>
            <a:off x="45720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C test de susceptibilité antimicrobienne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B612C-3129-4B3B-918B-DC70C65459B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Etest – méthode par gradient de concentration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0785E-9864-4CAC-9459-DEC34BFCF39F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2" descr="CO04-2351 Etest blood cult isolate 2"/>
          <p:cNvPicPr/>
          <p:nvPr/>
        </p:nvPicPr>
        <p:blipFill>
          <a:blip r:embed="rId1"/>
          <a:stretch/>
        </p:blipFill>
        <p:spPr>
          <a:xfrm>
            <a:off x="1554120" y="1752480"/>
            <a:ext cx="603576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Espace réservé du pied de page 3"/>
          <p:cNvSpPr/>
          <p:nvPr/>
        </p:nvSpPr>
        <p:spPr>
          <a:xfrm>
            <a:off x="45720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C test de susceptibilité antimicrobienne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857F5-8A89-493B-A15A-DFE77EC8C40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87631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Les résultats peuvent être incorrects si :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51920" y="17521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’organisme n’a pas été bien identifié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erreur de transcrip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hoix inapproprié d’antibiotiqu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’échantillon testé du patient n’était pas le b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’analyse demandée n’était pas la bonn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’échantillon n’a pas été conservé correct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Espace réservé du pied de page 1"/>
          <p:cNvSpPr/>
          <p:nvPr/>
        </p:nvSpPr>
        <p:spPr>
          <a:xfrm>
            <a:off x="45720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C test de susceptibilité antimicrobienne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22ECB-7063-49E7-AB3B-CB4A2AF8E11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3DA7C-958F-442D-9F32-1EEA84293DB7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15640" y="456840"/>
            <a:ext cx="88390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Tests de sensibilité antimicrobienn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16" name="Picture 4" descr="k_b"/>
          <p:cNvPicPr/>
          <p:nvPr/>
        </p:nvPicPr>
        <p:blipFill>
          <a:blip r:embed="rId1"/>
          <a:stretch/>
        </p:blipFill>
        <p:spPr>
          <a:xfrm>
            <a:off x="457200" y="1600200"/>
            <a:ext cx="1714680" cy="16686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6" descr="Staphylococcus_aureus_Etest2"/>
          <p:cNvPicPr/>
          <p:nvPr/>
        </p:nvPicPr>
        <p:blipFill>
          <a:blip r:embed="rId2"/>
          <a:stretch/>
        </p:blipFill>
        <p:spPr>
          <a:xfrm>
            <a:off x="2362320" y="1600200"/>
            <a:ext cx="1676160" cy="16765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8" descr="micmlc2"/>
          <p:cNvPicPr/>
          <p:nvPr/>
        </p:nvPicPr>
        <p:blipFill>
          <a:blip r:embed="rId3"/>
          <a:stretch/>
        </p:blipFill>
        <p:spPr>
          <a:xfrm>
            <a:off x="4114800" y="1600200"/>
            <a:ext cx="2209680" cy="17496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0" descr="vitek-2"/>
          <p:cNvPicPr/>
          <p:nvPr/>
        </p:nvPicPr>
        <p:blipFill>
          <a:blip r:embed="rId4"/>
          <a:stretch/>
        </p:blipFill>
        <p:spPr>
          <a:xfrm>
            <a:off x="6400800" y="1600200"/>
            <a:ext cx="2362320" cy="177012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11"/>
          <p:cNvSpPr/>
          <p:nvPr/>
        </p:nvSpPr>
        <p:spPr>
          <a:xfrm>
            <a:off x="174240" y="4114800"/>
            <a:ext cx="70081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fournissent des informations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our sélectionner 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’antibiothérapie approprié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Espace réservé du pied de page 3"/>
          <p:cNvSpPr/>
          <p:nvPr/>
        </p:nvSpPr>
        <p:spPr>
          <a:xfrm>
            <a:off x="45720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C test de susceptibilité antimicrobienne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EEC33-AE47-42F1-9A1F-6206BF9CED3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Méthodes d’interprét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méthode des disqu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fournit des résultats qualitatifs interprétables : sensibles, intermédiaires et résista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microdilution et diffusion en agar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fournissent un résultat quantitatif, une concentration minimum inhibitri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Espace réservé du pied de page 1"/>
          <p:cNvSpPr/>
          <p:nvPr/>
        </p:nvSpPr>
        <p:spPr>
          <a:xfrm>
            <a:off x="45720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C test de susceptibilité antimicrobienne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ECA68-2997-4ED8-8682-1B10AC4F4A5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4" descr="PBL Susceptibility testing 2008"/>
          <p:cNvPicPr/>
          <p:nvPr/>
        </p:nvPicPr>
        <p:blipFill>
          <a:blip r:embed="rId1"/>
          <a:srcRect l="4364" t="8470" r="5455" b="8470"/>
          <a:stretch/>
        </p:blipFill>
        <p:spPr>
          <a:xfrm>
            <a:off x="685800" y="1143000"/>
            <a:ext cx="7558200" cy="522756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3"/>
          <p:cNvSpPr/>
          <p:nvPr/>
        </p:nvSpPr>
        <p:spPr>
          <a:xfrm>
            <a:off x="762120" y="457200"/>
            <a:ext cx="61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Métho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ZoneTexte 6"/>
          <p:cNvSpPr/>
          <p:nvPr/>
        </p:nvSpPr>
        <p:spPr>
          <a:xfrm>
            <a:off x="5029200" y="1752480"/>
            <a:ext cx="3886200" cy="1798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Les tests de sensibilité déterminent si la bactérie peut être inhibée par un antibiotiqu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La susceptibilité est basée sur la concentration requise pour réduire la pousse sous le niveau visible (voir CIM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ZoneTexte 8"/>
          <p:cNvSpPr/>
          <p:nvPr/>
        </p:nvSpPr>
        <p:spPr>
          <a:xfrm>
            <a:off x="2362320" y="2890800"/>
            <a:ext cx="914400" cy="580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Verdana"/>
              </a:rPr>
              <a:t>Concentration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Verdana"/>
              </a:rPr>
              <a:t>Inhibitri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Verdana"/>
              </a:rPr>
              <a:t>Minimu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ZoneTexte 9"/>
          <p:cNvSpPr/>
          <p:nvPr/>
        </p:nvSpPr>
        <p:spPr>
          <a:xfrm>
            <a:off x="380880" y="2666880"/>
            <a:ext cx="1905120" cy="580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Verdana"/>
              </a:rPr>
              <a:t>Tubes avec milieu de culture, bactéries, et des quantité croissante d’antibiotiq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ZoneTexte 10"/>
          <p:cNvSpPr/>
          <p:nvPr/>
        </p:nvSpPr>
        <p:spPr>
          <a:xfrm>
            <a:off x="5791320" y="3657600"/>
            <a:ext cx="2057400" cy="215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Verdana"/>
              </a:rPr>
              <a:t>Sensib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Une bactérie est dite sensible à un antibiotique si la pousse est inhibée par une concentration qui est </a:t>
            </a:r>
            <a:r>
              <a:rPr b="0" lang="fr-FR" sz="900" spc="-1" strike="noStrike">
                <a:solidFill>
                  <a:srgbClr val="ff6600"/>
                </a:solidFill>
                <a:latin typeface="Verdana"/>
              </a:rPr>
              <a:t>FACILEMENT</a:t>
            </a: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 et en toute </a:t>
            </a:r>
            <a:r>
              <a:rPr b="0" lang="fr-FR" sz="900" spc="-1" strike="noStrike">
                <a:solidFill>
                  <a:srgbClr val="ff6600"/>
                </a:solidFill>
                <a:latin typeface="Verdana"/>
              </a:rPr>
              <a:t>SECURITE</a:t>
            </a: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 obtenue dans la circulation sanguine du patient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Une réponse clinique positive pour le patient est anticipé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Verdana"/>
              </a:rPr>
              <a:t>Résistan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L’opposé de sensible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ZoneTexte 11"/>
          <p:cNvSpPr/>
          <p:nvPr/>
        </p:nvSpPr>
        <p:spPr>
          <a:xfrm>
            <a:off x="685800" y="3429000"/>
            <a:ext cx="1295280" cy="64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Boîte d’agar avec un tapis de pousse bactérien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ZoneTexte 12"/>
          <p:cNvSpPr/>
          <p:nvPr/>
        </p:nvSpPr>
        <p:spPr>
          <a:xfrm>
            <a:off x="2514600" y="4648320"/>
            <a:ext cx="1066680" cy="580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Verdana"/>
              </a:rPr>
              <a:t>Zone d’inhibition de la pousse bactérien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ZoneTexte 13"/>
          <p:cNvSpPr/>
          <p:nvPr/>
        </p:nvSpPr>
        <p:spPr>
          <a:xfrm>
            <a:off x="1600200" y="5024520"/>
            <a:ext cx="914400" cy="580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Verdana"/>
              </a:rPr>
              <a:t>Disque imprégné d’antibiotiq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ZoneTexte 14"/>
          <p:cNvSpPr/>
          <p:nvPr/>
        </p:nvSpPr>
        <p:spPr>
          <a:xfrm>
            <a:off x="2743200" y="5562720"/>
            <a:ext cx="533520" cy="368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Verdana"/>
              </a:rPr>
              <a:t>Taille de la zon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ZoneTexte 15"/>
          <p:cNvSpPr/>
          <p:nvPr/>
        </p:nvSpPr>
        <p:spPr>
          <a:xfrm rot="5400000">
            <a:off x="3169800" y="3823920"/>
            <a:ext cx="914400" cy="27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Verdana"/>
              </a:rPr>
              <a:t>Taille de la zon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ZoneTexte 16"/>
          <p:cNvSpPr/>
          <p:nvPr/>
        </p:nvSpPr>
        <p:spPr>
          <a:xfrm>
            <a:off x="4191120" y="4540320"/>
            <a:ext cx="457200" cy="185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Verdana"/>
              </a:rPr>
              <a:t>CIM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ZoneTexte 17"/>
          <p:cNvSpPr/>
          <p:nvPr/>
        </p:nvSpPr>
        <p:spPr>
          <a:xfrm>
            <a:off x="4267080" y="3581280"/>
            <a:ext cx="1371600" cy="64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Verdana"/>
              </a:rPr>
              <a:t>Note: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Verdana"/>
              </a:rPr>
              <a:t>En mesurant la taille de la zone, on peut calculer la CIM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Verdana"/>
              </a:rPr>
              <a:t>Plus la zone est petite, plus la CIM est élevé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ZoneTexte 18"/>
          <p:cNvSpPr/>
          <p:nvPr/>
        </p:nvSpPr>
        <p:spPr>
          <a:xfrm>
            <a:off x="3276720" y="2666880"/>
            <a:ext cx="1523880" cy="459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Verdana"/>
              </a:rPr>
              <a:t>Dilution de milieu de cultu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Verdana"/>
              </a:rPr>
              <a:t>Test de susceptibilité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ZoneTexte 19"/>
          <p:cNvSpPr/>
          <p:nvPr/>
        </p:nvSpPr>
        <p:spPr>
          <a:xfrm>
            <a:off x="3809880" y="5486400"/>
            <a:ext cx="1524240" cy="337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Verdana"/>
              </a:rPr>
              <a:t>Diffusion de disq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Verdana"/>
              </a:rPr>
              <a:t>Test de susceptibilité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Espace réservé du pied de page 1"/>
          <p:cNvSpPr/>
          <p:nvPr/>
        </p:nvSpPr>
        <p:spPr>
          <a:xfrm>
            <a:off x="45720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C test de susceptibilité antimicrobienne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D100A-E1B1-40AC-B795-4F6BB0095F4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lide Number Placeholder 1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11863-9F7F-463E-B3C9-5B5002F5E57E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2" descr=""/>
          <p:cNvPicPr/>
          <p:nvPr/>
        </p:nvPicPr>
        <p:blipFill>
          <a:blip r:embed="rId1"/>
          <a:stretch/>
        </p:blipFill>
        <p:spPr>
          <a:xfrm>
            <a:off x="457200" y="2819520"/>
            <a:ext cx="2708280" cy="350496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146" name="Text Box 3"/>
          <p:cNvSpPr/>
          <p:nvPr/>
        </p:nvSpPr>
        <p:spPr>
          <a:xfrm>
            <a:off x="304920" y="1295280"/>
            <a:ext cx="8076960" cy="214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linical and Laboratory Standards Instit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Société française de microbiolog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British Society for Antimicrobial Chemothera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7" descr=""/>
          <p:cNvPicPr/>
          <p:nvPr/>
        </p:nvPicPr>
        <p:blipFill>
          <a:blip r:embed="rId2"/>
          <a:stretch/>
        </p:blipFill>
        <p:spPr>
          <a:xfrm>
            <a:off x="6172200" y="2819520"/>
            <a:ext cx="2503440" cy="3504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aphicFrame>
        <p:nvGraphicFramePr>
          <p:cNvPr id="148" name="Object 6"/>
          <p:cNvGraphicFramePr/>
          <p:nvPr/>
        </p:nvGraphicFramePr>
        <p:xfrm>
          <a:off x="3429000" y="2819520"/>
          <a:ext cx="2639880" cy="3504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9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819520"/>
                    <a:ext cx="2639880" cy="3504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50" name="Text Box 8"/>
          <p:cNvSpPr/>
          <p:nvPr/>
        </p:nvSpPr>
        <p:spPr>
          <a:xfrm>
            <a:off x="685800" y="457200"/>
            <a:ext cx="36576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Réfé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Espace réservé du pied de page 1"/>
          <p:cNvSpPr/>
          <p:nvPr/>
        </p:nvSpPr>
        <p:spPr>
          <a:xfrm>
            <a:off x="45720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C test de susceptibilité antimicrobienne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85462-8BB6-41E5-843D-FA10C9D87D3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7d"/>
                </a:solidFill>
                <a:latin typeface="Verdana"/>
              </a:rPr>
              <a:t>Exemple d’un extrait de référence :</a:t>
            </a:r>
            <a:br>
              <a:rPr sz="2800"/>
            </a:b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élection du médicament à teste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E0004-E7BC-4D39-9E9B-F7615DB67459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5" name="Object 2"/>
          <p:cNvGraphicFramePr/>
          <p:nvPr/>
        </p:nvGraphicFramePr>
        <p:xfrm>
          <a:off x="380880" y="1981080"/>
          <a:ext cx="8272440" cy="377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981080"/>
                    <a:ext cx="8272440" cy="377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Espace réservé du pied de page 1"/>
          <p:cNvSpPr/>
          <p:nvPr/>
        </p:nvSpPr>
        <p:spPr>
          <a:xfrm>
            <a:off x="45720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C test de susceptibilité antimicrobienne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ECA03-2658-4E75-839D-C349DB02A3E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43018-2BFB-48A6-9935-EBD8797C681C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quand des erreurs surviennent dans le test de susceptibilité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milieux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antibiotique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inoculum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incub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équipement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interprét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Espace réservé du pied de page 1"/>
          <p:cNvSpPr/>
          <p:nvPr/>
        </p:nvSpPr>
        <p:spPr>
          <a:xfrm>
            <a:off x="45720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C test de susceptibilité antimicrobienne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E985F-6537-45BD-8547-5A660B99328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B35BE-256F-4B46-99EC-892782D65D3C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Méthode des disqu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8458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Milieu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       Mueller Hinton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4 mm épaisseur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pH 7.2 to 7.4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isques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stockag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antibiotiques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température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-20</a:t>
            </a:r>
            <a:r>
              <a:rPr b="0" lang="fr-FR" sz="2400" spc="-1" strike="noStrike" baseline="40000">
                <a:solidFill>
                  <a:srgbClr val="000000"/>
                </a:solidFill>
                <a:latin typeface="Verdana"/>
              </a:rPr>
              <a:t>o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 mini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Inoculum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McFarland 0.5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(10</a:t>
            </a:r>
            <a:r>
              <a:rPr b="0" lang="fr-FR" sz="2400" spc="-1" strike="noStrike" baseline="30000">
                <a:solidFill>
                  <a:srgbClr val="000000"/>
                </a:solidFill>
                <a:latin typeface="Verdana"/>
              </a:rPr>
              <a:t>8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bacteria/mL)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Incubateur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température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35</a:t>
            </a:r>
            <a:r>
              <a:rPr b="0" lang="fr-FR" sz="2400" spc="-1" strike="noStrike" baseline="30000">
                <a:solidFill>
                  <a:srgbClr val="000000"/>
                </a:solidFill>
                <a:latin typeface="Verdana"/>
              </a:rPr>
              <a:t>o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Espace réservé du pied de page 1"/>
          <p:cNvSpPr/>
          <p:nvPr/>
        </p:nvSpPr>
        <p:spPr>
          <a:xfrm>
            <a:off x="45720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C test de susceptibilité antimicrobienne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58530-DAE3-4221-9EB5-5150E4229F8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B4918-66B1-4B23-BC74-6CBEEB0AB29C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ouches de collec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00"/>
                </a:solidFill>
                <a:latin typeface="Verdana"/>
              </a:rPr>
              <a:t>E. coli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ATCC 25922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00"/>
                </a:solidFill>
                <a:latin typeface="Verdana"/>
              </a:rPr>
              <a:t>S. aureus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ATCC 25923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00"/>
                </a:solidFill>
                <a:latin typeface="Verdana"/>
              </a:rPr>
              <a:t>P. aeruginosa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ATCC 27853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Text Box 5"/>
          <p:cNvSpPr/>
          <p:nvPr/>
        </p:nvSpPr>
        <p:spPr>
          <a:xfrm>
            <a:off x="685800" y="3886200"/>
            <a:ext cx="80773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s souches de CQ doivent provenir d‘organisations réputées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Utiliser des souches spécifiques pour tester différentes combinaisons de médica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1T14:00:58Z</dcterms:created>
  <dc:creator>Robin Barteluk</dc:creator>
  <dc:description/>
  <dc:language>en-US</dc:language>
  <cp:lastModifiedBy>dolmazonv</cp:lastModifiedBy>
  <dcterms:modified xsi:type="dcterms:W3CDTF">2010-04-08T14:40:14Z</dcterms:modified>
  <cp:revision>17</cp:revision>
  <dc:subject/>
  <dc:title>Microbiology QC</dc:title>
</cp:coreProperties>
</file>