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48DB-3546-4039-82D2-6E37A9964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6B7A-8F5A-4AE6-BBEC-31EBDDD6D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602C-48D5-45FF-9A43-0B887B88F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013E-4191-4EF6-A26A-A57F17F88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811A-F923-42FC-BB80-2ADE7C8C4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AA3E-49D0-4652-94CF-C48FAFF49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E2C5-A622-4ADD-8676-65755EA1C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E47E-DB2D-427A-8675-0A4C0CCAA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DCAB-C5CB-4555-87D6-0434E4EC2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DA28-8744-416D-9571-6A4CAF183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3D75-6C14-4DFD-903D-FA25580BB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00CF-5DBE-4E1C-B98D-8303D16B4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C124-A209-40CA-8FEF-677C31928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DB3F-8AE0-4CFE-A2B8-387B303CE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35B5C-B3F2-416C-B70D-CD1AF6F22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4B834-9D57-4C28-B1D9-C2EC90CB4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A3953-77D1-4516-AAFC-CFB2DF972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B4914-BD6C-4E9E-A544-679BDEE858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F700-C71A-4943-8C68-148E5A23AF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AF3A-06C5-4B1C-B75E-C0B980162C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A00E-82E8-40A7-B662-8BB48A1872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63A7-8CA0-49F1-A529-A4B6343E79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7A7A-FE19-43E2-B27A-74648EE9D4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570A-B72E-4B2B-943B-F3F167CC77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140C-20C2-4FAD-913E-D988175FC5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E37FC-6EA6-47C4-862E-6016CE4834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5534-D344-4D8C-9F5D-60CDDC0318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7EDB-82BC-4BF0-85B6-35D62FB1FC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AAA8-0B57-40FB-93F5-BED13E2FAA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3C33-688C-408B-8620-4BA5A9EE85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81F-D3AC-49F9-A8FB-EC4A30274C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05B4B-7AB5-4335-AADE-4214FE5E34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967CE-60DC-4439-B08F-ED029B1BD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97126-6007-45BC-8059-3AB689DEF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5E52F-D774-4148-BE6E-6072838F0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65048-5703-4D2E-8211-2EE5D9645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ED422-D2A2-4EBD-8662-3CD084E72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86BD5-95D5-45DD-9581-D71CDC63D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CDE4-4486-4739-88B6-40689E1EA7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83E4-E5EA-43D1-8461-E815C84FD1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7FA9-BD19-497A-9A70-ED76DAC1E3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5" name="Text Box 16"/>
          <p:cNvSpPr/>
          <p:nvPr/>
        </p:nvSpPr>
        <p:spPr>
          <a:xfrm>
            <a:off x="2971800" y="1600200"/>
            <a:ext cx="617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des processus : Contrôle qualité des procédures qualitatives et semi quantitativ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6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6C24-831A-4661-8400-89D793ECCD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ation de contrôles traditionnel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és comm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un contrôle positif et néga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faiblement positif pour les procédures immun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sissez des contrôles positifs proches des valeurs limites (cut-off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pour contrôler la phase d’ex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A615-7134-4344-A90F-B08D494CFFD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0477-D047-462C-A6BF-5D32A1B49C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0" descr="qc_bacteria"/>
          <p:cNvPicPr/>
          <p:nvPr/>
        </p:nvPicPr>
        <p:blipFill>
          <a:blip r:embed="rId1"/>
          <a:stretch/>
        </p:blipFill>
        <p:spPr>
          <a:xfrm>
            <a:off x="6248520" y="2897280"/>
            <a:ext cx="2666880" cy="229716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C8C5-2E1F-4D88-A8BA-9D8473051B4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ultures de collection pour le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« maison 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ons prévisib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milieux, les réactifs et les consommables fonctionnent comme prév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7" descr="qc_growth_poor_growth_cdc"/>
          <p:cNvPicPr/>
          <p:nvPr/>
        </p:nvPicPr>
        <p:blipFill>
          <a:blip r:embed="rId2"/>
          <a:stretch/>
        </p:blipFill>
        <p:spPr>
          <a:xfrm>
            <a:off x="4419720" y="4919760"/>
            <a:ext cx="28954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1E98-49FD-4414-927A-678E6B16DB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igines des souches de référenc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ATCC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 American Type Culture Collection (USA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TCC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ational Type Culture Collection (UK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IP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llection de l’Institut Pasteur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DE72-7D51-459B-A56D-8D2FFAD23E6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F5CA-B2DB-4D15-AE1D-ABCABBD1B1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148B-B5A3-4685-9D61-58D375694C6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colorants sont importants—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enez soin d’eux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89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0"/>
          <p:cNvSpPr/>
          <p:nvPr/>
        </p:nvSpPr>
        <p:spPr>
          <a:xfrm>
            <a:off x="5531760" y="52578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Pas de soi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507960" y="5257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Verdana"/>
              </a:rPr>
              <a:t>Attention Contin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BEA4-37FA-4543-9ED6-7650982741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1029-43FA-4E8C-9168-8A80A9E111A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estion des color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la procédure établie pour les préparer ou les reconstitu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te : contenu, concentration, date de préparation et de première utilisation, de péremption, initiales du prépar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age appropr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9550-C531-46DE-821C-F353D39B4A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D0EA-EE30-4688-84E0-39B88162360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 des souch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pproprié pour des souches particulièr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cation avec des organismes conn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pour vérifier si précipitation ou cristau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si contaminants tels que bactéries et champign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6" descr="hematol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657600" y="441972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auch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Wright 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roit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Gram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5" name="Picture 8" descr="g082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D122-D288-4FD0-BDE7-C8C5D10CCE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9F55-6734-4E55-A79E-6373FFD621B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loration de Gram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0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"/>
          <p:cNvSpPr/>
          <p:nvPr/>
        </p:nvSpPr>
        <p:spPr>
          <a:xfrm>
            <a:off x="380880" y="5029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Verdana"/>
              </a:rPr>
              <a:t>Bonne Qualité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647240" y="50292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alité médiocr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1365-1235-4A98-8D98-225F0781FD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02C2-B737-4D94-AB1F-3985DE2F7E0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C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Vérifier la performance de tous les mil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« maison » : tous les l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du commerce : seulement nouveau l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10" descr="qc_mac_nlf_cdc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qc_mac_lf-cdc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2"/>
          <p:cNvSpPr/>
          <p:nvPr/>
        </p:nvSpPr>
        <p:spPr>
          <a:xfrm>
            <a:off x="3429000" y="3505320"/>
            <a:ext cx="2438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Q MacConkey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uche: lactose -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oite: lactose +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54E5-FF6B-4687-A5E8-ACA68AF6C2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09480" y="3200400"/>
            <a:ext cx="8229600" cy="3933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Le sang humai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ne devrait pas être utilisé car 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tion entre les lo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contenir des substances inhibitrices, y compris des antibiotiqu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être dangereux (par exemple virus de l’hépatite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Picture 39" descr="bio_hazrd_red_blk_cdc"/>
          <p:cNvPicPr/>
          <p:nvPr/>
        </p:nvPicPr>
        <p:blipFill>
          <a:blip r:embed="rId1"/>
          <a:stretch/>
        </p:blipFill>
        <p:spPr>
          <a:xfrm>
            <a:off x="5562720" y="5931000"/>
            <a:ext cx="1189080" cy="92700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FB26-7050-489B-BCCC-605A430418B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milieux à év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8" name="Group 7"/>
          <p:cNvGrpSpPr/>
          <p:nvPr/>
        </p:nvGrpSpPr>
        <p:grpSpPr>
          <a:xfrm>
            <a:off x="4114800" y="1143000"/>
            <a:ext cx="2514600" cy="914400"/>
            <a:chOff x="4114800" y="1143000"/>
            <a:chExt cx="2514600" cy="914400"/>
          </a:xfrm>
        </p:grpSpPr>
        <p:sp>
          <p:nvSpPr>
            <p:cNvPr id="229" name="AutoShape 8"/>
            <p:cNvSpPr/>
            <p:nvPr/>
          </p:nvSpPr>
          <p:spPr>
            <a:xfrm>
              <a:off x="4193280" y="160020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AutoShape 9"/>
            <p:cNvSpPr/>
            <p:nvPr/>
          </p:nvSpPr>
          <p:spPr>
            <a:xfrm>
              <a:off x="4114800" y="11430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3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3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4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4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4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50" name="Text Box 32"/>
          <p:cNvSpPr/>
          <p:nvPr/>
        </p:nvSpPr>
        <p:spPr>
          <a:xfrm>
            <a:off x="782280" y="1523880"/>
            <a:ext cx="26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érim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hydrat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minés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6823-696F-4785-9CE3-3C0E5B29FF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3" name="Picture 7" descr="plates_venlabs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1562-22A2-4744-B6D8-0B900743FB2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qualité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ervez un enregistrement des milieux préparés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nregistrez les résultats dans un registre dédié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H, stérilité, fertilité avec cultures de collection, réponse biochimique des cultures de col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réquenc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nalyser chaque nouveau lot ou numéro de l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985E-0F99-4B2F-8651-1F0B10FB69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95DC-1C43-4A64-AB91-311E1452A71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aire la différence entre les contrôles intégrés et les autres contrô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utiliser les souches de contrôle pour le contrôle qualité en microbiolog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cuter l’utilisation du contrôle qualité pour les colorants utilisés lors d’examens microscop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méthodes pour vérifier la performance des milieux microbiologique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BE64-EE40-40A3-BAA9-75B490CFCC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5F22-A228-4C89-85DA-07C4CEF50B4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s tests qualitatifs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onnent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a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e résultat numériqu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Test semi quantitatifs donnent une esti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réer un programme de CQ pour les test qualitatifs et semi quantitatif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871E-EB6A-4E81-8B5B-F3148CB3AC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 de CQ suivies par TOUT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jours enregistrer les résultats du CQ et les actions correc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i résultats de CQ pas acceptables, PAS de compte rendu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8D34-A2FD-4BAF-B51A-CD747C5C6AC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ce réservé du pied de page 3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8EBE-6A3C-409E-A795-6096CE4C17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11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631800"/>
            <a:ext cx="53337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BFF2-E1D9-4677-BEF0-5F7168EF96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 laboratoire A fait une culture et </a:t>
            </a:r>
            <a:r>
              <a:rPr b="0" i="1" lang="fr-FR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est identifié 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mesures de CQ pouvez vous utiliser pour confirmer que la souche a bien été identifiée 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0677-E56D-4DE5-8022-F65E71B541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6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5029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D69E-67F1-4A7E-944E-2103155D50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e tests qualitatifs ou semi quantita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amens microscop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ndelette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sér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microbi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te réaction qui ne donne pas de résultat numér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7DA3-61E2-4994-8530-628307638BC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8" name="Picture 7" descr="micro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agglut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http://www.academic.marist.edu/~jzmz/methods/wbcrbc.jpg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48F5-738B-4777-89A8-82112D20FE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cepts import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 l’échantill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étence du personne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ance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de contrô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s colorants, milieux et réa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servation des regist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C954-0BD7-4FC1-AF37-DA8F46FA910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98A8-1FAA-4EE3-9F3E-409E5F412F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qui imitent les échantillons de pati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ultures de colle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FF5A-756D-46FB-9D24-2CC5026360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égrés dans le kit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ssés automatiquement avec chaque 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certains aspects de la performance du k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’évaluent pas tout le processus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29D0-6731-4844-B313-9C4A750456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traditionne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nt une réactivité con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itent les échantillons de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l’intégrité de tout le système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dolmazonv</cp:lastModifiedBy>
  <dcterms:modified xsi:type="dcterms:W3CDTF">2010-04-07T17:00:08Z</dcterms:modified>
  <cp:revision>479</cp:revision>
  <dc:subject/>
  <dc:title>Slide 1</dc:title>
</cp:coreProperties>
</file>