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1625-557A-4887-90F6-37C47575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FF17-CBD0-4E0A-BABB-C08EC7AF6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354B-F8E8-41BB-89FC-8CF6F64BA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F5A3-9C1F-4A54-B76B-8B576E06A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E4D1-CCAD-4ACA-9B81-3DDF5279D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F604-280A-4CA9-806C-DBDFE428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1983-8A67-4134-BF49-76963DACB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DA53-DB3F-4ED9-9C51-0B8A1090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DE77-4D44-4840-8ECA-8819950A4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BBEE-EA79-44F3-979D-A81387FAB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8733-0656-4C3D-B553-60A90AC58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9B65-CE3C-4F11-900D-F614C9ECF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6A49-725A-40E1-8CC6-9A0B4DA99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E75F-4715-4670-92E1-5415AAE7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9568F-1E73-4BCF-88EB-8CA648AFC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C3017-E8E4-4E17-B2D3-5CB454AEA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B2E4-0DA7-4156-A4D0-6BEC7F368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12C91-6A6D-449D-8DE7-F00BA95AA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C9B-40B2-4698-8623-37CDE7AA0E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C7EF-ED43-46F4-AB01-8FF9A6B258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79E-16D8-47AA-9F9C-D9CBD05E52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9721-AF6D-4BF2-8A67-87B9E9302B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E9E-5A12-4F26-A59A-AFF44FA3E2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3D8D-BD72-4126-BBD4-F6F1EDB162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E9C-F892-4A26-BADB-BA10C81ABB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B850-E5DC-46EE-923A-9CFA80FAD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D01-F035-4EC0-9FF1-E7BA7CCBF2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3BD9-F927-40F7-8ACA-A620FB0E13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D3F-1093-4E70-BC48-0DD817D9F2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C91-1740-4634-9FA1-11C00AB361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E53-2668-4BA1-A168-DCC50ED012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E753-A8DB-4212-8291-8497A8EC2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E9F1-28F1-4363-B491-8995642EA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AD92F-9735-49BD-92A9-C4F801E9C0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2441-BD46-4E99-AE62-66BAC3096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1B1A-586D-43BF-9495-BF8FFE66E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A91E8-C0AC-4291-AB2B-D85813B38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CE90-A4C0-44F4-A6D7-F260C3128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D1B6-ADE2-4910-8C3D-4C6959B58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798D-B7D8-44AA-8940-7A67DEF29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412C-4027-4456-BB3F-333FA37807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1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5" name="Text Box 16"/>
          <p:cNvSpPr/>
          <p:nvPr/>
        </p:nvSpPr>
        <p:spPr>
          <a:xfrm>
            <a:off x="2971800" y="1600200"/>
            <a:ext cx="617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des processus : Contrôle qualité des procédures qualitatives et semi quantitatives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D223-8FD5-4FCD-AF42-9DC9EE74E9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Utilisation de contrôles traditionnel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és comm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un contrôle positif et néga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faiblement positif pour les procédures immun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oisissez des contrôles positifs proches des valeurs limites (cut-off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ez un contrôle pour contrôler la phase d’extr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68C1-A129-4D75-991E-7C51CF3553E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D307-6108-43CD-ABB1-C1FA678213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0" descr="qc_bacteria"/>
          <p:cNvPicPr/>
          <p:nvPr/>
        </p:nvPicPr>
        <p:blipFill>
          <a:blip r:embed="rId1"/>
          <a:stretch/>
        </p:blipFill>
        <p:spPr>
          <a:xfrm>
            <a:off x="6248520" y="2897280"/>
            <a:ext cx="2666880" cy="2297160"/>
          </a:xfrm>
          <a:prstGeom prst="rect">
            <a:avLst/>
          </a:prstGeom>
          <a:ln w="0">
            <a:noFill/>
          </a:ln>
        </p:spPr>
      </p:pic>
      <p:sp>
        <p:nvSpPr>
          <p:cNvPr id="17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92F6-C5B1-4FD2-B4AE-FB3447E619C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ultures de collection pour le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ches « maison 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ons prévisib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milieux, les réactifs et les consommables fonctionnent comme prév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7" descr="qc_growth_poor_growth_cdc"/>
          <p:cNvPicPr/>
          <p:nvPr/>
        </p:nvPicPr>
        <p:blipFill>
          <a:blip r:embed="rId2"/>
          <a:stretch/>
        </p:blipFill>
        <p:spPr>
          <a:xfrm>
            <a:off x="4419720" y="4919760"/>
            <a:ext cx="289548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7ACF-CD29-437C-A588-9F261759D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igines des souches de référenc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ATCC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- American Type Culture Collection (USA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TCC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ational Type Culture Collection (UK)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IP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llection de l’Institut Pasteur (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E744-3A77-45A5-B296-36DB35047CE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3E15-2989-4629-ACBA-DD7884DFC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2261-9908-4150-839D-96A18E427B3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colorants sont importants—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enez soin d’eux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89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0"/>
          <p:cNvSpPr/>
          <p:nvPr/>
        </p:nvSpPr>
        <p:spPr>
          <a:xfrm>
            <a:off x="5531760" y="525780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as de soi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507960" y="5257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Verdana"/>
              </a:rPr>
              <a:t>Attention Contin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5E63-C47C-434D-A1C7-015D6A6B1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2673-453F-46AF-9D11-BAB77A430E1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estion des color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z la procédure établie pour les préparer ou les reconstitu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te : contenu, concentration, date de préparation et de première utilisation, de péremption, initiales du prépar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age appropri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BD66-3768-402F-BE52-F73386668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BD74-61FB-4EC5-B0BE-2807E862C3BA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qualité des souch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000" spc="-1" strike="noStrike">
                <a:solidFill>
                  <a:srgbClr val="000000"/>
                </a:solidFill>
                <a:latin typeface="Verdana"/>
              </a:rPr>
              <a:t>Approprié pour des souches particulièr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cation avec des organismes conn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pour vérifier si précipitation ou cris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z si contaminants tels que bactéries et champign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6" descr="hematol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3657600" y="441972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Gauch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Wright 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Droite: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coloration Gram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5" name="Picture 8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9F72-3943-4CF6-A43F-84855F852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A2A8-08B9-43ED-AA58-BDA1D42E67C5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loration de Gram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0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0"/>
          <p:cNvSpPr/>
          <p:nvPr/>
        </p:nvSpPr>
        <p:spPr>
          <a:xfrm>
            <a:off x="380880" y="50292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9900"/>
                </a:solidFill>
                <a:latin typeface="Verdana"/>
              </a:rPr>
              <a:t>Bonne Qualité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4647240" y="502920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alité médiocre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FCEC-A018-4B25-BF88-875BECB42C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3538-68FB-4798-91B1-ED117A40AB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C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Vérifier la performance de tous les mil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« maison » : tous les 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ilieux du commerce : seulement nouveau l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10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2"/>
          <p:cNvSpPr/>
          <p:nvPr/>
        </p:nvSpPr>
        <p:spPr>
          <a:xfrm>
            <a:off x="3429000" y="3505320"/>
            <a:ext cx="2438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Q MacConkey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che: lactose -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roite: lactose +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BD3E-ED7F-4996-ACA1-79E4B96C8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09480" y="3200400"/>
            <a:ext cx="8229600" cy="3933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Le sang humai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ne devrait pas être utilisé car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tion entre les lot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contenir des substances inhibitrices, y compris des antibiotiqu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t être dangereux (par exemple virus de l’hépatite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25" name="Picture 39" descr="bio_hazrd_red_blk_cdc"/>
          <p:cNvPicPr/>
          <p:nvPr/>
        </p:nvPicPr>
        <p:blipFill>
          <a:blip r:embed="rId1"/>
          <a:stretch/>
        </p:blipFill>
        <p:spPr>
          <a:xfrm>
            <a:off x="5562720" y="5931000"/>
            <a:ext cx="1189080" cy="927000"/>
          </a:xfrm>
          <a:prstGeom prst="rect">
            <a:avLst/>
          </a:prstGeom>
          <a:ln w="0">
            <a:noFill/>
          </a:ln>
        </p:spPr>
      </p:pic>
      <p:sp>
        <p:nvSpPr>
          <p:cNvPr id="22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C86A-41C3-42F0-9591-82FF8B5168A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milieux à év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8" name="Group 7"/>
          <p:cNvGrpSpPr/>
          <p:nvPr/>
        </p:nvGrpSpPr>
        <p:grpSpPr>
          <a:xfrm>
            <a:off x="4114800" y="1143000"/>
            <a:ext cx="2514600" cy="914400"/>
            <a:chOff x="4114800" y="1143000"/>
            <a:chExt cx="2514600" cy="914400"/>
          </a:xfrm>
        </p:grpSpPr>
        <p:sp>
          <p:nvSpPr>
            <p:cNvPr id="229" name="AutoShape 8"/>
            <p:cNvSpPr/>
            <p:nvPr/>
          </p:nvSpPr>
          <p:spPr>
            <a:xfrm>
              <a:off x="4193280" y="160020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AutoShape 9"/>
            <p:cNvSpPr/>
            <p:nvPr/>
          </p:nvSpPr>
          <p:spPr>
            <a:xfrm>
              <a:off x="4114800" y="11430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3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3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4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4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4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50" name="Text Box 32"/>
          <p:cNvSpPr/>
          <p:nvPr/>
        </p:nvSpPr>
        <p:spPr>
          <a:xfrm>
            <a:off x="782280" y="1523880"/>
            <a:ext cx="26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érim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hydraté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minés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32E7-B0DE-4AFF-9CBA-125CCA313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53" name="Picture 7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1199-2E86-4860-A46F-E266BF35DA8E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qualité des milieu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ervez un enregistrement des milieux préparés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nregistrez les résultats dans un registre dédi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H, stérilité, fertilité avec cultures de collection, réponse biochimique des cultures de coll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Fréquenc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Analyser chaque nouveau lot ou numéro de 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F7B4-FCAD-4EDA-A15A-628B498795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6BDB-122A-4BAF-B325-2B57B504E366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aire la différence entre les contrôles intégrés et les autres contrô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utiliser les souches de contrôle pour le contrôle qualité en microbiolog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scuter l’utilisation du contrôle qualité pour les colorants utilisés lors d’examens microscop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méthodes pour vérifier la performance des milieux microbiologiqu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6F7C-94A5-4AD3-ABDB-A11B6A46E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EA98-8DE7-4716-A077-BBA546E3E5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s tests qualitatifs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onnent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a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de résultat numériqu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Test semi quantitatifs donnent une estim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réer un programme de CQ pour les test qualitatifs et semi quantitatif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A915-DFED-4A9C-B917-46CFED32D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cédures de CQ suivies par TOUT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jours enregistrer les résultats du CQ et les actions corr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i résultats de CQ pas acceptables, PAS de compte rendu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6379-4238-4FFE-9EB1-252864276C8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ce réservé du pied de page 3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B4AB-1E77-4BFD-B24D-518487BF8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11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631800"/>
            <a:ext cx="53337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C265-CBC7-4550-9103-CB09ECB1F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 laboratoire A fait une culture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est identifié 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mesures de CQ pouvez vous utiliser pour confirmer que la souche a bien été identifiée 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5D1C-BF0E-40C2-87E9-D33E30EA6F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6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5029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DB8E-212A-430E-AFA1-A3EC21349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e tests qualitatifs ou semi quantita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amens microscop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ndelett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sér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microbiologiqu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te réaction qui ne donne pas de résultat numér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F092-CEE2-4AF4-A54C-4663683BC7C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Picture 7" descr="micro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agglut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ttp://www.academic.marist.edu/~jzmz/methods/wbcrbc.jpg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DDEB-4AA9-4DE2-B98A-9C9DC4FC70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cepts import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 l’échantill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étence du personne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ance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de contrô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estion des colorants, milieux et réa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servation des regist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D40A-87B9-42C8-88E3-E38AE21DD36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8B0-B823-4B8E-BBD4-80DCB8BB4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s qui imitent les échantillons de patien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ultures de colle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93F2-5C3E-4083-9257-397BAA7F3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incorporé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égrés dans le kit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ssés automatiquement avec chaque 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certains aspects de la performance du k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’évaluent pas tout le processus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1"/>
          <p:cNvSpPr/>
          <p:nvPr/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ôle des processus: CQ Qualitatif et semi quantitatif -Module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2341-1A2C-4009-A83B-8205648E1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s traditionne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nt une réactivité con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itent les échantillons de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valuent l’intégrité de tout le système d’analy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dolmazonv</cp:lastModifiedBy>
  <dcterms:modified xsi:type="dcterms:W3CDTF">2010-04-07T17:00:08Z</dcterms:modified>
  <cp:revision>479</cp:revision>
  <dc:subject/>
  <dc:title>Slide 1</dc:title>
</cp:coreProperties>
</file>