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B630-E301-4797-A313-DBA15CB11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3E42-72DF-452C-94BC-B4061956D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2C07-B941-4EAF-A949-352D5DA4A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D9FE-5FCD-45C7-A936-671086CE0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1C7D-4CB2-4B76-AAAD-66C7D35CD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E22B-46C4-4943-AE15-C796E86EA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AC43-A647-427F-B873-268FFC55C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E97B-08F5-4B9C-8CE9-C4595A6D7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E5E4-A82A-43C0-B008-D553F30C4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FDE1-DEB0-43B1-B968-5B4A76CED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F37F-1C90-40A4-B59E-624ABD245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BA43-20AD-4D04-9851-8C6CF3F88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775A-01B8-4AE9-8C0B-D5D0EDBB7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1AEE-3C4A-49F8-9A8F-C89A902EA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922D-04CD-455C-88BD-FD5A80E60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8021-6840-4138-B702-83C45871B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B06D-219E-4F1F-8F1C-0A0044FF3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81B5-4D6D-49AD-B397-0DBDBF22D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0563-FFD0-4393-ADD0-93859D070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4C44-4CEB-4188-A74A-10DAEC2B4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F17D-2DA0-49A7-8059-B6A9633EF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2E6A-6253-400C-9D0D-232B15B19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0FD0-EA32-4B2E-91F9-6F3B6D4FB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2DB3-BFF9-4E16-9C48-506BB2CBC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C5AB-E021-42B8-83C6-FFA23426A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DBCA-7B59-4659-9295-28AF44BCC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DEE3-D33A-4672-9FFC-6749E7FB5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7C67-09D9-4FB1-91F8-A3A984C31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9902-ABDE-4367-8FC2-440FD385B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A165-C825-42C0-B3B2-CA5142154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34C0-40D7-485A-BBC4-D6DBCAECE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C68F-682F-4059-A205-C3FC213B3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A56B3-8B90-4047-BF63-B1479CBB89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A4893-68D5-4134-A1E2-40A083A48F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17C44-9B33-42E2-A3D1-33476DE561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FAD59-361A-4EEE-82B7-BA4A193408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0715-AA6F-4908-900F-2BF99DA9FC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E762-6DEC-440A-A1C7-67910EB8CA4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8DF8-9B52-4536-8104-58DC75F56F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C32F-4C56-4DE1-A51F-BE01C22F0B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D998-1547-4DD3-95CF-6E956B0827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5B1F-E03B-40E0-8646-E7E11B008E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7DC0-6FD2-413C-B868-A4098D1911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3CB15-128D-4625-A5D2-7284F5AA02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D740-7AF8-44E9-9293-B65C13AE70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D2FF-F475-43FA-A94D-C30E416BA7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A34B-ABA4-4D70-B3AF-03D142E347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E061-D2E6-4E4B-8806-EBE8AD5BDA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9E5F-0A49-4286-919D-6B3E4D2295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5CCE8-58FF-4FA0-B93F-E9EF8F0F77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4F5DA-BF44-4E3B-AAD4-31A2226B1D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02286-A422-4881-A796-732E20C4BA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06D28-FBE5-4AF6-A8F2-40D2244B5C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7604E-E07C-4263-BCB7-D8A90B5E84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9C3CF-6879-4D78-BECD-A35B9A3288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F95AF-30F0-4E4E-B90E-7B77A1B4D9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C5D4-6CF4-4AED-9694-2F74B4B3B5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B20D-1EAB-4B0D-B56B-514B9605CC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1661-19F0-4D20-A0C0-D74716092D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Contrôle de qualité des tests de sensibilité antimicrobien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BEF1-0DAB-4AC9-9857-D87D2DD046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élection d’une colonie à tes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A3CC-3F00-43A5-9154-1FE4436C3EF3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11FB-F2F4-42D4-A48B-0325E0320E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cFarland 0.5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juster la suspension bactérien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9560-71EB-483E-9843-93575EBFF3D9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B555-FF7D-45AE-8B2F-D72CAF34A0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1ED9-4FB4-43E6-97DA-BEF5FAF926E8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Utiliser des distributeurs de disqu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vant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atiques, rapi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ugmentent la reproducti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isqu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minuent les capacités personnelles de ju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6910-5CDE-435B-AA19-182C088BAF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123A-005D-4E03-84AC-2369B3A37C0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avec les dis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196" name="ZoneTexte 7"/>
          <p:cNvSpPr/>
          <p:nvPr/>
        </p:nvSpPr>
        <p:spPr>
          <a:xfrm>
            <a:off x="685800" y="5334120"/>
            <a:ext cx="304812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sques correctement alignés et espa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ZoneTexte 8"/>
          <p:cNvSpPr/>
          <p:nvPr/>
        </p:nvSpPr>
        <p:spPr>
          <a:xfrm>
            <a:off x="5105520" y="5334120"/>
            <a:ext cx="3657600" cy="91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sques correctement alignés et espa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Inoculum trop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570E-13F6-4F3C-9B6E-475B5F9F06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avec les dis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01" name="Picture 5" descr="Disk moved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4981320"/>
          </a:xfrm>
          <a:prstGeom prst="rect">
            <a:avLst/>
          </a:prstGeom>
          <a:ln w="0">
            <a:noFill/>
          </a:ln>
        </p:spPr>
      </p:pic>
      <p:sp>
        <p:nvSpPr>
          <p:cNvPr id="202" name="ZoneTexte 5"/>
          <p:cNvSpPr/>
          <p:nvPr/>
        </p:nvSpPr>
        <p:spPr>
          <a:xfrm>
            <a:off x="685800" y="5373720"/>
            <a:ext cx="304812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sques correctement alignés et espa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ZoneTexte 6"/>
          <p:cNvSpPr/>
          <p:nvPr/>
        </p:nvSpPr>
        <p:spPr>
          <a:xfrm>
            <a:off x="5638680" y="5400720"/>
            <a:ext cx="304812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Zones non régulière car le disque n’a pas été appliqué correc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4161-BE0E-4C8A-9943-3295364D8B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7DCD-0FC7-4CD6-B8A1-E90425FA04ED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ur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09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8"/>
          <p:cNvSpPr/>
          <p:nvPr/>
        </p:nvSpPr>
        <p:spPr>
          <a:xfrm>
            <a:off x="6522480" y="40384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è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1809000" y="41148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ied à couli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304920" y="4572000"/>
            <a:ext cx="8458200" cy="19051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cture avec une lumière suffisante et à l’arrière 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boî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zone lue est spécifique à un médica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ne loupe peut a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millimètres comp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D6C6-DC50-4043-B936-2E9F781ADC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test – méthode par gradient de concent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CDCB-23C6-48F0-95B2-DC2FDC336100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Espace réservé du pied de page 3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A8B7-2573-407A-AAD2-43B79E5A0D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s résultats peuvent être incorrects si 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organisme n’a pas été bien identifi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rreur de transcrip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oix inapproprié d’antibiot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échantillon testé du patient n’était pas le b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nalyse demandée n’était pas la bon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échantillon n’a pas été conservé correct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35DE-8D7C-4B91-9FD4-D40E6DE483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1735-9F5A-450C-A137-428E9FBDCE28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5640" y="45684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ests de sensibilité antimicrobien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6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1"/>
          <p:cNvSpPr/>
          <p:nvPr/>
        </p:nvSpPr>
        <p:spPr>
          <a:xfrm>
            <a:off x="174240" y="4114800"/>
            <a:ext cx="7008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urnissent des information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our sélectionner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ntibiothérapie appropri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pied de page 3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6151-F3AC-481A-B0EF-6EEAD063D7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s d’interpré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éthode des disq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urnit des résultats qualitatifs interprétables : sensibles, intermédiaires et résista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icrodilution et diffusion en agar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fournissent un résultat quantitatif, une concentration minimum inhibitr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FAFA-2A00-4DB9-AE9F-C24F75A135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éth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oneTexte 6"/>
          <p:cNvSpPr/>
          <p:nvPr/>
        </p:nvSpPr>
        <p:spPr>
          <a:xfrm>
            <a:off x="5029200" y="1752480"/>
            <a:ext cx="3886200" cy="179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es tests de sensibilité déterminent si la bactérie peut être inhibée par un antibiotiqu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a susceptibilité est basée sur la concentration requise pour réduire la pousse sous le niveau visible (voir CIM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oneTexte 8"/>
          <p:cNvSpPr/>
          <p:nvPr/>
        </p:nvSpPr>
        <p:spPr>
          <a:xfrm>
            <a:off x="2362320" y="2890800"/>
            <a:ext cx="91440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Concentrati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Inhibit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Minim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oneTexte 9"/>
          <p:cNvSpPr/>
          <p:nvPr/>
        </p:nvSpPr>
        <p:spPr>
          <a:xfrm>
            <a:off x="380880" y="2666880"/>
            <a:ext cx="190512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Tubes avec milieu de culture, bactéries, et des quantité croissante d’antibioti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ZoneTexte 10"/>
          <p:cNvSpPr/>
          <p:nvPr/>
        </p:nvSpPr>
        <p:spPr>
          <a:xfrm>
            <a:off x="5791320" y="3657600"/>
            <a:ext cx="2057400" cy="215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Sensi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ne bactérie est dite sensible à un antibiotique si la pousse est inhibée par une concentration qui est </a:t>
            </a:r>
            <a:r>
              <a:rPr b="0" lang="fr-FR" sz="900" spc="-1" strike="noStrike">
                <a:solidFill>
                  <a:srgbClr val="ff6600"/>
                </a:solidFill>
                <a:latin typeface="Verdana"/>
              </a:rPr>
              <a:t>FACILEMENT</a:t>
            </a: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 et en toute </a:t>
            </a:r>
            <a:r>
              <a:rPr b="0" lang="fr-FR" sz="900" spc="-1" strike="noStrike">
                <a:solidFill>
                  <a:srgbClr val="ff6600"/>
                </a:solidFill>
                <a:latin typeface="Verdana"/>
              </a:rPr>
              <a:t>SECURITE</a:t>
            </a: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 obtenue dans la circulation sanguine du pati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ne réponse clinique positive pour le patient est anticipé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Résista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L’opposé de sensibl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oneTexte 11"/>
          <p:cNvSpPr/>
          <p:nvPr/>
        </p:nvSpPr>
        <p:spPr>
          <a:xfrm>
            <a:off x="685800" y="3429000"/>
            <a:ext cx="129528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Boîte d’agar avec un tapis de pousse bactérien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oneTexte 12"/>
          <p:cNvSpPr/>
          <p:nvPr/>
        </p:nvSpPr>
        <p:spPr>
          <a:xfrm>
            <a:off x="2514600" y="4648320"/>
            <a:ext cx="106668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Zone d’inhibition de la pousse bactérien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oneTexte 13"/>
          <p:cNvSpPr/>
          <p:nvPr/>
        </p:nvSpPr>
        <p:spPr>
          <a:xfrm>
            <a:off x="1600200" y="5024520"/>
            <a:ext cx="91440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Disque imprégné d’antibioti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ZoneTexte 14"/>
          <p:cNvSpPr/>
          <p:nvPr/>
        </p:nvSpPr>
        <p:spPr>
          <a:xfrm>
            <a:off x="2743200" y="5562720"/>
            <a:ext cx="53352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Taille de la zon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oneTexte 15"/>
          <p:cNvSpPr/>
          <p:nvPr/>
        </p:nvSpPr>
        <p:spPr>
          <a:xfrm rot="5400000">
            <a:off x="3169800" y="3823920"/>
            <a:ext cx="914400" cy="27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Taille de la zon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16"/>
          <p:cNvSpPr/>
          <p:nvPr/>
        </p:nvSpPr>
        <p:spPr>
          <a:xfrm>
            <a:off x="4191120" y="4540320"/>
            <a:ext cx="457200" cy="185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CI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17"/>
          <p:cNvSpPr/>
          <p:nvPr/>
        </p:nvSpPr>
        <p:spPr>
          <a:xfrm>
            <a:off x="4267080" y="3581280"/>
            <a:ext cx="137160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Note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En mesurant la taille de la zone, on peut calculer la CIM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Plus la zone est petite, plus la CIM est élevé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18"/>
          <p:cNvSpPr/>
          <p:nvPr/>
        </p:nvSpPr>
        <p:spPr>
          <a:xfrm>
            <a:off x="3276720" y="2666880"/>
            <a:ext cx="1523880" cy="45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Dilution de milieu de cul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Test de susceptibili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19"/>
          <p:cNvSpPr/>
          <p:nvPr/>
        </p:nvSpPr>
        <p:spPr>
          <a:xfrm>
            <a:off x="3809880" y="5486400"/>
            <a:ext cx="152424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Diffusion de dis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Test de susceptibili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93D2-53BA-43C9-A32E-0F41DD0EB6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C0C4-8B69-4886-9F53-8003F97C6FF6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46" name="Text Box 3"/>
          <p:cNvSpPr/>
          <p:nvPr/>
        </p:nvSpPr>
        <p:spPr>
          <a:xfrm>
            <a:off x="304920" y="1295280"/>
            <a:ext cx="8076960" cy="21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linical and Laboratory Standards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ociété française de microbi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48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0" name="Text Box 8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éfé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FD9F-7FC3-4440-AD3B-E8228FA9EC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Exemple d’un extrait de référence :</a:t>
            </a:r>
            <a:br>
              <a:rPr sz="28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élection du médicament à tes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191C-098A-481C-8C69-76867ED9BEE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1956-B42C-42F2-86F1-9A2AA74BC1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2010-4068-4F4C-AF69-721AA8EDCC5F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d des erreurs surviennent dans le test de susceptibilit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ilieux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ntibiotiqu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équipement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terpré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6B85-BC91-4272-B0CD-C1352B129E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D973-F7FB-43AF-8328-6EBCB3B7F374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 des dis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ilieu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      Mueller Hinto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4 mm épaisseur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sque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ock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tibiotique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mpératur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fr-FR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 min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fr-FR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ubateur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mpératur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fr-FR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1C41-87C4-4BF5-9D42-7646F15C28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E4B3-B141-4CAF-810A-B9EA0D90B6F3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uches de coll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685800" y="3886200"/>
            <a:ext cx="8077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souches de CQ doivent provenir d‘organisations réputé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des souches spécifiques pour tester différentes combinaisons de médica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4:00:58Z</dcterms:created>
  <dc:creator>Robin Barteluk</dc:creator>
  <dc:description/>
  <dc:language>en-US</dc:language>
  <cp:lastModifiedBy>dolmazonv</cp:lastModifiedBy>
  <dcterms:modified xsi:type="dcterms:W3CDTF">2010-04-08T14:40:14Z</dcterms:modified>
  <cp:revision>17</cp:revision>
  <dc:subject/>
  <dc:title>Microbiology QC</dc:title>
</cp:coreProperties>
</file>