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6318-A4EB-4ABD-B3F9-DA03DB3D9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0303-541A-4E41-9686-729C8A870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DDD1-7ACF-4EFE-A81F-E8D13D833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3E27-BFE1-41A3-8E4A-C743FD064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D92F-D6C8-4518-9F0E-03F97F369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24F1-9D82-4E43-8DFC-79B3EC1A5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EAF0-C648-445F-96E2-631DC7072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3104-FF27-48DF-ABA5-AE53C6537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FA0B-0C24-4C57-A24D-885E8A7D1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C35B-85CD-48D5-A4AB-1C1DC251C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1A69-E708-4D62-AA4C-4983E82C7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136C-5B55-4C31-BF2B-D5B8CF826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E0B2-0A3B-4D85-8B87-34197CBB4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04F8-BA65-42F6-B0F9-B0D420AA3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6189-4F05-43CA-ACE5-1EB140B49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A745-8B8F-4BD3-B131-A09E5330D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2E67-1B44-44FA-944D-3C53D1686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A549-58C0-41BC-BDFF-DE752A9F3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3250-0898-497C-B1FC-7F7A51465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D10B-9447-4D1D-B2C5-EFEDF9252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34A9-C047-42CC-8FEC-326AA6956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7B05-DAE2-44C7-9B07-93E780EBC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8D4CD-7CA7-4FE9-9B19-D8EC11F44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543B1-C900-4BA4-99CF-55FA7BDE8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78D21-8BF5-4D86-8CE3-9BEF3BD32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4AE84-B4BB-4027-9957-6D514DCBC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798-A399-4C1F-BC4A-AB704D4A95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4A27-FD94-4EAA-B13D-5A251525F3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B8E9-29B1-44D3-9DA9-9922B045A7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C86C-447E-4430-996F-329290065B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F344-A1D9-4D24-8CF1-AF175E59DB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224B-E940-4BCE-A300-AD7ABA413D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E8DF-3792-4E03-979F-B98BCCF635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04C80-9CD3-4F1A-BF38-3E31DEBD7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0529-C0CD-464D-95AA-6F123D0D46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B471-FFFC-459F-9061-C387B6EC92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262B-BD4A-4747-A13D-DA06DD2736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4DD9-F009-4FD8-9740-BEE3BFB14C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8747-F184-4B30-8D32-E6C638A19C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46A84-4276-447E-89D7-4CF390713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A2AF0-15E0-40FA-9EE2-3E8192DBDF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93489-D282-4ACA-BC7E-594379FEC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03016-E141-478F-AA2B-3717F6DF0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C9296-005E-4AA8-B87A-708AADB7A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3B7E8-D5FC-4B8E-8813-849ADA9229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DABDB-BD9A-4378-9715-87D1DBA2E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81E5-322D-42AD-B591-0ABDFCBF1E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E8C4-397B-4DB2-AD99-4B3D472DA0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3504-A2B8-4AA5-8621-9F4F1DB0CF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Qualité :  </a:t>
            </a: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4DF0-850D-424D-9C1E-7AC8AF71F3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40E4-1CAF-4E12-A0F7-58402296CCD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ltat négatif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08FA-2774-4BB7-BAB8-12B574F520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28FC-8C17-4C7A-942D-2E092CEC4EE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isques avec la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plupart des RT-PCR sont faîtes « sur place 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imers ne sont pas nécessairement optimisés pour le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posi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néga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prétation des tests a besoin d’être faite prudem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CD24-3C59-4C29-BB41-643EEBF872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D588-6E1F-4A6F-A07C-4AD043B1FC6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ue généra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Prélèvement, transport, et traitemen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ir l’intégrité des acides nucléique à travers tous le process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 de la 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un circuit unidirectionnel de la zone de préparation des réactifs (ADN free) à la zone de traitement de l’échantillon, à la zone d’amplification et de détec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s positif et nég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Référence: CLSI MM3-A (Méthode de diagnostic moléculaire pour les maladies infectieu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6F3B-63FA-44D4-A42B-8EC6357059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15E1-8271-4321-A021-533AAB9A476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: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5CBF-42F7-4C74-A71B-0EE5FEFDA4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2619-BC65-4B89-85A3-2E29BE510BB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DBF0-AA09-4430-A3A2-FB01BF8B1C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8BC1-0BB0-4591-9BD4-065594F5C9C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Oval 3"/>
          <p:cNvSpPr/>
          <p:nvPr/>
        </p:nvSpPr>
        <p:spPr>
          <a:xfrm>
            <a:off x="152280" y="1600200"/>
            <a:ext cx="14479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E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ible AN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amplifi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2C73-17A1-4978-916A-35DFCE023C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34B9-810C-442C-B5B7-10287810454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actions d’amplif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Amplification /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412600" y="472428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AS d’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667E-603E-4920-A23D-9E7098ACB1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D535-A225-407E-825E-70FD26E59EF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228600" y="1305000"/>
            <a:ext cx="8153280" cy="4952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CF93-F1A0-4C5A-A527-CDD9D18534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89ED-6FB5-49E7-9D6F-C16EBB9132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7E95-B743-44EE-9ABF-C5C72770EE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97C6-02A2-4431-86AD-FB9BA751AD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dolmazonv</cp:lastModifiedBy>
  <dcterms:modified xsi:type="dcterms:W3CDTF">2010-04-08T14:42:55Z</dcterms:modified>
  <cp:revision>7</cp:revision>
  <dc:subject/>
  <dc:title>Quality Control:   Molecular Diagnostics</dc:title>
</cp:coreProperties>
</file>