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45E0B-5838-4DBA-8B03-F1A911CE1C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08B46-07CD-42EB-9028-C203312A9A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580DE-19B3-4806-B7F4-DA40B98E5C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C3505-AFE1-4BCE-BD08-09A8858563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E8D3E-47B9-4B20-987D-E66BE83EF7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361BE-333E-49B0-BDAD-0B157398CB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091C2-4D3F-44AF-9D05-499B9B0026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ABD52-09F9-4FC3-B0F2-FF62A9E562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A4FEE-18AC-4A81-8BBA-860E63E7A7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8F681-2A4A-4D77-AB29-FF64FA3051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8AB1B-3C2D-4868-8C2B-906750B45A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C2260-3D47-41BC-A6B0-B507652CCC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DFEF8-6BCD-457D-9F63-810BD09D63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376C9-E344-43FA-890F-709307E014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00756-3425-4FAA-9174-7BA810DBCB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DB3C8-8458-46E1-A71A-EFC6406FAB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AADF1-472F-4008-96C3-F0E099F634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779F0-1B3F-44F4-A1CC-B7B7156FD4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55774-AA3B-4EEA-9700-D4178C82FC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1534F-4111-482C-990C-35C7895F5C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F8414-A608-465D-8E18-07289FC05D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9F9F7-FA15-4B58-9937-F58D0C941B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3BD5BA-3888-4FC7-B24A-FC3AE45C48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A55E99-E2E7-41CF-A84C-A76A9AF6D0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F4F4E6-0B56-400E-B522-25DBAF4A44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F8F1CA-CECD-4707-847D-02BC3214E2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D40FC-3FB5-4D83-BADA-4DB80330C5A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70C12-AA82-492E-9F6F-18F9566EEA1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FFCBB-3427-413A-9AFC-04F59AB6C43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D02B5-0DE9-40F6-8C76-AA43DB2D792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FEAEE-6C25-437F-8167-7EA0F8308E8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0B782-FE69-4314-BF20-5AEB3FD3073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2BE04-FF06-4844-B9D7-1DCFA7B634B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916508-2C6C-4253-B898-5C885B0B20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F6B69-7B93-48CE-A3C0-0458F5448BD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051EB-3557-4E41-8DA7-4B43C44BB83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22DB6-A75C-44D7-AED3-F9EA96CEF85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131CB-03AC-49CC-80B3-1B02F86524F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4C524-95FB-457A-BFBC-7BD15A769DE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56F4FF-C027-4500-A1B8-53AFB58322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5053F7-FC76-4607-AB9A-55575626DB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002C90-9D60-4E1A-8C14-4D0FF41CA7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9AC236-32E7-4AB6-B387-ABB8ECACDE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CBF03B-8231-4DC7-A303-2E983F16E8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FE3346-30D7-4E12-AF22-A1BB7187F4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89AE5C-FAFD-4F67-B766-78944E6D37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880" y="6248520"/>
            <a:ext cx="5029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rôle de qualité des diagnostics moléculaires - Module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76AFC-95BD-4634-AB56-1D21D477F09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982800" indent="-196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375920" indent="-196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69040" indent="-196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982800" indent="-196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375920" indent="-196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69040" indent="-196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44B85-E60B-4EB9-9DD4-8A0AC8C2177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8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79A62-168E-4D6E-BBED-BC5B99223A3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Verdana"/>
              </a:rPr>
              <a:t>Contrôle Qualité :  </a:t>
            </a:r>
            <a:br>
              <a:rPr sz="3600"/>
            </a:br>
            <a:r>
              <a:rPr b="0" lang="fr-FR" sz="3600" spc="-1" strike="noStrike">
                <a:solidFill>
                  <a:srgbClr val="ffffff"/>
                </a:solidFill>
                <a:latin typeface="Verdana"/>
              </a:rPr>
              <a:t>Diagnostics moléculair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Espace réservé du pied de page 1"/>
          <p:cNvSpPr/>
          <p:nvPr/>
        </p:nvSpPr>
        <p:spPr>
          <a:xfrm>
            <a:off x="380880" y="6248520"/>
            <a:ext cx="5029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 qualité des diagnostics moléculaires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A9DA3-1D5E-41D3-9D76-02B06856B69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96CAB-BF10-426F-9F82-B5D094B348FB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ésultat négatif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69" name="Picture 3" descr=""/>
          <p:cNvPicPr/>
          <p:nvPr/>
        </p:nvPicPr>
        <p:blipFill>
          <a:blip r:embed="rId1"/>
          <a:stretch/>
        </p:blipFill>
        <p:spPr>
          <a:xfrm>
            <a:off x="469800" y="1676520"/>
            <a:ext cx="8202600" cy="388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Espace réservé du pied de page 1"/>
          <p:cNvSpPr/>
          <p:nvPr/>
        </p:nvSpPr>
        <p:spPr>
          <a:xfrm>
            <a:off x="380880" y="6248520"/>
            <a:ext cx="5029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 qualité des diagnostics moléculaires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8D1E7-2E59-404B-A890-E85E02FA230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A7414-F550-4F68-8E34-8E14FCCDEEE8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isques avec la PC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a plupart des RT-PCR sont faîtes « sur place »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76080" indent="-25992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s primers ne sont pas nécessairement optimisés pour le te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76080" indent="-25992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s contrôles positifs sont « maison »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76080" indent="-25992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s contrôles négatifs sont « maison »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’interprétation des tests a besoin d’être faite prudem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Espace réservé du pied de page 1"/>
          <p:cNvSpPr/>
          <p:nvPr/>
        </p:nvSpPr>
        <p:spPr>
          <a:xfrm>
            <a:off x="380880" y="6248520"/>
            <a:ext cx="5029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 qualité des diagnostics moléculaires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8BABF-FD98-4DFC-B544-510BC07D305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54A1B-CA9D-442A-AF0D-22B74DF94080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Vue généra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800000"/>
                </a:solidFill>
                <a:latin typeface="Verdana"/>
              </a:rPr>
              <a:t>Prélèvement, transport, et traitement de l’échantill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maintenir l’intégrité des acides nucléique à travers tous le processu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800000"/>
                </a:solidFill>
                <a:latin typeface="Verdana"/>
              </a:rPr>
              <a:t>Contrôle de la contamin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établir un circuit unidirectionnel de la zone de préparation des réactifs (ADN free) à la zone de traitement de l’échantillon, à la zone d’amplification et de détection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800000"/>
                </a:solidFill>
                <a:latin typeface="Verdana"/>
              </a:rPr>
              <a:t>Contrôles positif et négatif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800000"/>
                </a:solidFill>
                <a:latin typeface="Verdana"/>
              </a:rPr>
              <a:t>Référence: CLSI MM3-A (Méthode de diagnostic moléculaire pour les maladies infectieuse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Espace réservé du pied de page 1"/>
          <p:cNvSpPr/>
          <p:nvPr/>
        </p:nvSpPr>
        <p:spPr>
          <a:xfrm>
            <a:off x="380880" y="6248520"/>
            <a:ext cx="5029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 qualité des diagnostics moléculaires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4E226-6D57-4644-8B67-671E756670F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8E6F0-7B70-49BA-911B-141DDAFA4F77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Contrôle Qualité:  </a:t>
            </a:r>
            <a:br>
              <a:rPr sz="3600"/>
            </a:b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diagnostics moléculair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21" name="Picture 3" descr=""/>
          <p:cNvPicPr/>
          <p:nvPr/>
        </p:nvPicPr>
        <p:blipFill>
          <a:blip r:embed="rId1"/>
          <a:stretch/>
        </p:blipFill>
        <p:spPr>
          <a:xfrm>
            <a:off x="884160" y="1676520"/>
            <a:ext cx="73738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Espace réservé du pied de page 1"/>
          <p:cNvSpPr/>
          <p:nvPr/>
        </p:nvSpPr>
        <p:spPr>
          <a:xfrm>
            <a:off x="380880" y="6248520"/>
            <a:ext cx="5029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 qualité des diagnostics moléculaires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DCE1D-73E0-402A-9EC3-CA977F14B95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1B6BF-B3BA-4988-A5CC-28D88B91D9AD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3" descr=""/>
          <p:cNvPicPr/>
          <p:nvPr/>
        </p:nvPicPr>
        <p:blipFill>
          <a:blip r:embed="rId1"/>
          <a:stretch/>
        </p:blipFill>
        <p:spPr>
          <a:xfrm>
            <a:off x="2057400" y="1066680"/>
            <a:ext cx="4821120" cy="521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Espace réservé du pied de page 1"/>
          <p:cNvSpPr/>
          <p:nvPr/>
        </p:nvSpPr>
        <p:spPr>
          <a:xfrm>
            <a:off x="380880" y="6248520"/>
            <a:ext cx="5029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 qualité des diagnostics moléculaires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DFB46-B48B-4FA4-A7E4-980B9A4EBA7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7D0A2-E213-4E54-88D0-7E86D33F9516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eal Time-PCR (temps réel)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" name="Oval 3"/>
          <p:cNvSpPr/>
          <p:nvPr/>
        </p:nvSpPr>
        <p:spPr>
          <a:xfrm>
            <a:off x="152280" y="1600200"/>
            <a:ext cx="1447920" cy="6858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 Narrow"/>
              </a:rPr>
              <a:t>ECHANTILL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4"/>
          <p:cNvSpPr/>
          <p:nvPr/>
        </p:nvSpPr>
        <p:spPr>
          <a:xfrm>
            <a:off x="533520" y="3124080"/>
            <a:ext cx="990360" cy="60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 Narrow"/>
              </a:rPr>
              <a:t>PRI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5"/>
          <p:cNvSpPr/>
          <p:nvPr/>
        </p:nvSpPr>
        <p:spPr>
          <a:xfrm>
            <a:off x="685800" y="2362320"/>
            <a:ext cx="2895480" cy="609480"/>
          </a:xfrm>
          <a:prstGeom prst="rightArrow">
            <a:avLst>
              <a:gd name="adj1" fmla="val 50000"/>
              <a:gd name="adj2" fmla="val 118768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 Narrow"/>
              </a:rPr>
              <a:t>Taq polymer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6"/>
          <p:cNvSpPr/>
          <p:nvPr/>
        </p:nvSpPr>
        <p:spPr>
          <a:xfrm>
            <a:off x="3733920" y="2209680"/>
            <a:ext cx="1447560" cy="91440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 Narrow"/>
              </a:rPr>
              <a:t>Cible AN</a:t>
            </a:r>
            <a:br>
              <a:rPr sz="2400"/>
            </a:br>
            <a:r>
              <a:rPr b="1" lang="fr-FR" sz="2400" spc="-1" strike="noStrike">
                <a:solidFill>
                  <a:srgbClr val="ffffff"/>
                </a:solidFill>
                <a:latin typeface="Arial Narrow"/>
              </a:rPr>
              <a:t> amplifié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7"/>
          <p:cNvSpPr/>
          <p:nvPr/>
        </p:nvSpPr>
        <p:spPr>
          <a:xfrm>
            <a:off x="2514600" y="3962520"/>
            <a:ext cx="3352680" cy="533160"/>
          </a:xfrm>
          <a:prstGeom prst="rightArrow">
            <a:avLst>
              <a:gd name="adj1" fmla="val 50000"/>
              <a:gd name="adj2" fmla="val 157208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 Narrow"/>
              </a:rPr>
              <a:t>SYBR Gr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8"/>
          <p:cNvSpPr/>
          <p:nvPr/>
        </p:nvSpPr>
        <p:spPr>
          <a:xfrm>
            <a:off x="5562720" y="2895480"/>
            <a:ext cx="3352680" cy="2438640"/>
          </a:xfrm>
          <a:prstGeom prst="irregularSeal1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 Narrow"/>
              </a:rPr>
              <a:t>Fluorescence</a:t>
            </a:r>
            <a:br>
              <a:rPr sz="2400"/>
            </a:br>
            <a:r>
              <a:rPr b="1" lang="fr-FR" sz="2400" spc="-1" strike="noStrike">
                <a:solidFill>
                  <a:srgbClr val="ffffff"/>
                </a:solidFill>
                <a:latin typeface="Arial Narrow"/>
              </a:rPr>
              <a:t> Quantitativ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9"/>
          <p:cNvSpPr/>
          <p:nvPr/>
        </p:nvSpPr>
        <p:spPr>
          <a:xfrm>
            <a:off x="2590920" y="4495680"/>
            <a:ext cx="609480" cy="1524240"/>
          </a:xfrm>
          <a:prstGeom prst="upArrow">
            <a:avLst>
              <a:gd name="adj1" fmla="val 50000"/>
              <a:gd name="adj2" fmla="val 62522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ff"/>
                </a:solidFill>
                <a:latin typeface="Arial Narrow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10"/>
          <p:cNvSpPr/>
          <p:nvPr/>
        </p:nvSpPr>
        <p:spPr>
          <a:xfrm>
            <a:off x="3505320" y="4495680"/>
            <a:ext cx="609480" cy="1524240"/>
          </a:xfrm>
          <a:prstGeom prst="upArrow">
            <a:avLst>
              <a:gd name="adj1" fmla="val 50000"/>
              <a:gd name="adj2" fmla="val 62522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ff"/>
                </a:solidFill>
                <a:latin typeface="Arial Narrow"/>
              </a:rPr>
              <a:t>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11"/>
          <p:cNvSpPr/>
          <p:nvPr/>
        </p:nvSpPr>
        <p:spPr>
          <a:xfrm>
            <a:off x="4495680" y="4495680"/>
            <a:ext cx="609840" cy="1524240"/>
          </a:xfrm>
          <a:prstGeom prst="upArrow">
            <a:avLst>
              <a:gd name="adj1" fmla="val 50000"/>
              <a:gd name="adj2" fmla="val 62485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 Narrow"/>
              </a:rPr>
              <a:t>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Espace réservé du pied de page 1"/>
          <p:cNvSpPr/>
          <p:nvPr/>
        </p:nvSpPr>
        <p:spPr>
          <a:xfrm>
            <a:off x="380880" y="6248520"/>
            <a:ext cx="5029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 qualité des diagnostics moléculaires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C9B42-357D-441D-B0BF-87576E51D2C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13A2C-BB9C-44FD-A005-1D523ADC2566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éactions d’amplific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3" name="Rectangle 3"/>
          <p:cNvSpPr/>
          <p:nvPr/>
        </p:nvSpPr>
        <p:spPr>
          <a:xfrm>
            <a:off x="1295280" y="1752480"/>
            <a:ext cx="6400800" cy="37339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Freeform 4"/>
          <p:cNvSpPr/>
          <p:nvPr/>
        </p:nvSpPr>
        <p:spPr>
          <a:xfrm>
            <a:off x="1752480" y="2811600"/>
            <a:ext cx="5612040" cy="2471760"/>
          </a:xfrm>
          <a:prstGeom prst="pie">
            <a:avLst/>
          </a:pr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5"/>
          <p:cNvSpPr/>
          <p:nvPr/>
        </p:nvSpPr>
        <p:spPr>
          <a:xfrm>
            <a:off x="1752480" y="5638680"/>
            <a:ext cx="5867640" cy="533520"/>
          </a:xfrm>
          <a:prstGeom prst="rightArrow">
            <a:avLst>
              <a:gd name="adj1" fmla="val 50000"/>
              <a:gd name="adj2" fmla="val 27494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 Narrow"/>
              </a:rPr>
              <a:t>Amplification / Tem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6"/>
          <p:cNvSpPr/>
          <p:nvPr/>
        </p:nvSpPr>
        <p:spPr>
          <a:xfrm>
            <a:off x="533520" y="1828800"/>
            <a:ext cx="533160" cy="3429000"/>
          </a:xfrm>
          <a:prstGeom prst="upArrow">
            <a:avLst>
              <a:gd name="adj1" fmla="val 50000"/>
              <a:gd name="adj2" fmla="val 160787"/>
            </a:avLst>
          </a:prstGeom>
          <a:gradFill rotWithShape="0">
            <a:gsLst>
              <a:gs pos="0">
                <a:srgbClr val="00ff00"/>
              </a:gs>
              <a:gs pos="100000">
                <a:srgbClr val="0099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Freeform 7"/>
          <p:cNvSpPr/>
          <p:nvPr/>
        </p:nvSpPr>
        <p:spPr>
          <a:xfrm>
            <a:off x="1752480" y="5300640"/>
            <a:ext cx="5562720" cy="135000"/>
          </a:xfrm>
          <a:prstGeom prst="pie">
            <a:avLst/>
          </a:prstGeom>
          <a:noFill/>
          <a:ln w="7632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9"/>
          <p:cNvSpPr/>
          <p:nvPr/>
        </p:nvSpPr>
        <p:spPr>
          <a:xfrm>
            <a:off x="5717880" y="2438280"/>
            <a:ext cx="10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 Narrow"/>
              </a:rPr>
              <a:t>POSI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0"/>
          <p:cNvSpPr/>
          <p:nvPr/>
        </p:nvSpPr>
        <p:spPr>
          <a:xfrm>
            <a:off x="5412600" y="4724280"/>
            <a:ext cx="23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 Narrow"/>
              </a:rPr>
              <a:t>PAS d’ AMPLIFIC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Espace réservé du pied de page 1"/>
          <p:cNvSpPr/>
          <p:nvPr/>
        </p:nvSpPr>
        <p:spPr>
          <a:xfrm>
            <a:off x="380880" y="6248520"/>
            <a:ext cx="5029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 qualité des diagnostics moléculaires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516BE-A181-4B94-A806-2F44ED7B948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8C139-5C3E-4CF1-BD5C-226180A5CB4F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3" descr=""/>
          <p:cNvPicPr/>
          <p:nvPr/>
        </p:nvPicPr>
        <p:blipFill>
          <a:blip r:embed="rId1"/>
          <a:stretch/>
        </p:blipFill>
        <p:spPr>
          <a:xfrm>
            <a:off x="228600" y="1305000"/>
            <a:ext cx="8153280" cy="4952880"/>
          </a:xfrm>
          <a:prstGeom prst="rect">
            <a:avLst/>
          </a:prstGeom>
          <a:ln w="0">
            <a:noFill/>
          </a:ln>
        </p:spPr>
      </p:pic>
      <p:sp>
        <p:nvSpPr>
          <p:cNvPr id="154" name="Rectangle 2"/>
          <p:cNvSpPr/>
          <p:nvPr/>
        </p:nvSpPr>
        <p:spPr>
          <a:xfrm>
            <a:off x="457200" y="380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eal Time-PCR (temps réel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Espace réservé du pied de page 1"/>
          <p:cNvSpPr/>
          <p:nvPr/>
        </p:nvSpPr>
        <p:spPr>
          <a:xfrm>
            <a:off x="380880" y="6248520"/>
            <a:ext cx="5029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 qualité des diagnostics moléculaires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7F717-C5A9-4BD6-97EA-5CD5DA6E8FF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DEE70-B09F-49A9-BBC7-2655B5DA88A8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/H3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59" name="Picture 3" descr=""/>
          <p:cNvPicPr/>
          <p:nvPr/>
        </p:nvPicPr>
        <p:blipFill>
          <a:blip r:embed="rId1"/>
          <a:stretch/>
        </p:blipFill>
        <p:spPr>
          <a:xfrm>
            <a:off x="581040" y="1676520"/>
            <a:ext cx="79804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Espace réservé du pied de page 1"/>
          <p:cNvSpPr/>
          <p:nvPr/>
        </p:nvSpPr>
        <p:spPr>
          <a:xfrm>
            <a:off x="380880" y="6248520"/>
            <a:ext cx="5029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 qualité des diagnostics moléculaires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AEA59-F8E0-4827-9C59-47F10011E2F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DBB69-BA28-43F9-9EC1-15210BBDBF2A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/H5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64" name="Picture 3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767556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8T07:02:05Z</dcterms:created>
  <dc:creator>Robin Barteluk</dc:creator>
  <dc:description/>
  <dc:language>en-US</dc:language>
  <cp:lastModifiedBy>dolmazonv</cp:lastModifiedBy>
  <dcterms:modified xsi:type="dcterms:W3CDTF">2010-04-08T14:42:55Z</dcterms:modified>
  <cp:revision>7</cp:revision>
  <dc:subject/>
  <dc:title>Quality Control:   Molecular Diagnostics</dc:title>
</cp:coreProperties>
</file>