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6A8B-A6D3-42D1-B0FB-9D6605717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6ED9-E58D-4A68-B240-6A964333A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D643-99FF-44E6-9045-9541182A4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E61C-11B1-418F-8B7B-0B2E86352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A816-95DB-4115-9562-2C0686B56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37A9-0453-4EF1-830E-2929F5AE2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D20B-3C65-4663-AF6D-F9AB84FE2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2B03-3818-45AC-AF00-0EC92A7D6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19B8-E6B2-461D-ADCF-5EB0588BA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51E7-816A-4FFE-84D6-482BB86AD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5D8A-5B42-450F-939D-CEA8E69CC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CC9E-A3C8-4041-82E8-35CE873C5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29C5-7B61-48B8-A7BD-CFD537A19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C397-2C57-4165-A15F-90013D996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A181-6738-49FF-9FAF-24D610E70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DE3A-8770-4CFE-A7AB-5433CCADF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7480-FA90-41B8-907F-88D835505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C586-3FD0-45EA-8258-184C83A02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9474-520D-4B0B-9D17-F7A3A43D1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A054-6D58-4A2C-B925-45FC475F3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A910-AA5F-45C1-89D0-DB311D4AB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A393-8831-410E-8B67-33D4017DA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1DBB-1B94-4D28-9661-255C6CB5F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A091-AC52-400D-A482-53C0D3060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6A29-CD84-40BB-93DF-734FFE1C7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6019-C69E-43EC-98D9-3D17903EE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BDAC-2150-4439-8887-0C2F07224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D348-1FAC-4C30-98B4-82A03B5FE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7FB0-56F3-4954-8495-11EA4062D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6D6E-F56E-4A2B-84BE-12656A0AB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731C-1F2A-432F-AA38-D902D7946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5AE5-0BE5-40B4-B4DB-3BD43ED45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88214-1BBC-4F02-8733-2A8788015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FB2C0-3455-4FBB-B5CB-00E1483E2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2D943-7058-4F95-9B95-4CA17D05B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562A7-10A6-4BBF-B5A9-C84EB2D1A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754A-96ED-42E4-9A79-9C49158602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4BC7-D9D7-4410-B664-7F9C4B419E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698-AE99-4514-9290-7FFFDDD91A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4457-4C5C-469A-9D84-3DB744B809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E72D-73CB-46FF-8140-481F268559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C114-6E80-4B49-9BE4-D1E185E8C5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5963-C758-4001-9C33-0F505C4297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06EBD-6588-4C4C-ABDF-E7CEB6722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6B4-738D-41E4-946D-3F0A2F00E7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3FD3-075B-4D56-A11D-CDA95F6760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0BF0-7221-4A89-A4A3-B89E77ED86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66F8-B38B-4910-8B9F-809E5C5D88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02D4-A860-4D9F-B26F-88A6B59F44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3C2A7-FFBA-4998-A6E9-C0DE005C5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059B0-4559-45EE-A498-9EE4796F2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FFEF2-7B00-4A6B-A11C-6181B4CBE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586E1-767B-4AB4-8DD2-6C53AACB9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3CB59-25A9-4266-8FD3-EDD82104A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A7999-1F4D-4B86-A927-A06F2926A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DCF2E-8965-4792-A474-B9C996F91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C5CD-9270-45FE-B803-B321DA7B7D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43D2-A735-450F-8CC1-DCA391B227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F19A-9CAD-439D-9240-4B0CFD796D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de qualité des 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2E51-6C11-4F41-A7D3-8D1E25FD66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’une colonie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CD17-A3CC-44AE-8795-56B9E7B37FC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8AED-03DC-4F8B-8A30-1FC1729729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cFarland 0.5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juster la suspension bactér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B307-61CF-4ABA-A0BE-D73532577EE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90A8-2ABE-4C81-92F0-2C7581EA01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ED22-4209-4CF6-844E-7CE1B17F29B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er des distributeurs de disqu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es, rap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gmentent la reproduct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isq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minuent les capacités personnelles de ju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2DD1-75B3-4B8E-9620-4D597FA8F4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DB42-778B-4666-954E-E84694A6B1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196" name="ZoneTexte 7"/>
          <p:cNvSpPr/>
          <p:nvPr/>
        </p:nvSpPr>
        <p:spPr>
          <a:xfrm>
            <a:off x="685800" y="53341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8"/>
          <p:cNvSpPr/>
          <p:nvPr/>
        </p:nvSpPr>
        <p:spPr>
          <a:xfrm>
            <a:off x="5105520" y="5334120"/>
            <a:ext cx="36576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Inoculum trop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20C5-219A-4D5A-B930-BC9FEBB966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1" name="Picture 5" descr="Disk moved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81320"/>
          </a:xfrm>
          <a:prstGeom prst="rect">
            <a:avLst/>
          </a:prstGeom>
          <a:ln w="0">
            <a:noFill/>
          </a:ln>
        </p:spPr>
      </p:pic>
      <p:sp>
        <p:nvSpPr>
          <p:cNvPr id="202" name="ZoneTexte 5"/>
          <p:cNvSpPr/>
          <p:nvPr/>
        </p:nvSpPr>
        <p:spPr>
          <a:xfrm>
            <a:off x="685800" y="53737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6"/>
          <p:cNvSpPr/>
          <p:nvPr/>
        </p:nvSpPr>
        <p:spPr>
          <a:xfrm>
            <a:off x="5638680" y="5400720"/>
            <a:ext cx="30481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Zones non régulière car le disque n’a pas été appliqué correc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5ADD-2E66-4050-8C14-C1286823BC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9FFA-2CBD-4265-9257-BA4D7B2B6AF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9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6522480" y="4038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è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809000" y="4114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ied à coul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04920" y="4572000"/>
            <a:ext cx="8458200" cy="1905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cture avec une lumière suffisante et à l’arrière 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boî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zone lue est spécifique à un médica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loupe peut a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millimètres comp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9234-E324-4530-815E-55B5C91EDD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test – méthode par gradient de concent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0A2A-C371-488D-A40E-BC43C7DFE1F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C3DD-E7F2-4FA3-B151-C9A3CA56D3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ésultats peuvent être incorrects si 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organisme n’a pas été bien identif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rreur de transcri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x inapproprié d’antibiot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testé du patient n’était pas le b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nalyse demandée n’était pas la bo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n’a pas été conservé correct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6EF3-0054-47EA-B492-5522A14CFB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BA3D-9065-4917-B36D-9B05A840228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5640" y="456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6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1"/>
          <p:cNvSpPr/>
          <p:nvPr/>
        </p:nvSpPr>
        <p:spPr>
          <a:xfrm>
            <a:off x="174240" y="4114800"/>
            <a:ext cx="700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ssent des inform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our sélectionner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tibiothérapie appropr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5681-71AF-492A-87A6-F029519AC2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interpré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éthode des disq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t des résultats qualitatifs interprétables : sensibles, intermédiaires et résist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crodilution et diffusion en aga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fournissent un résultat quantitatif, une concentration minimum inhibitr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9F99-798E-4A64-9BDC-43452CA0E2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ét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6"/>
          <p:cNvSpPr/>
          <p:nvPr/>
        </p:nvSpPr>
        <p:spPr>
          <a:xfrm>
            <a:off x="5029200" y="1752480"/>
            <a:ext cx="388620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tests de sensibilité déterminent si la bactérie peut être inhibée par un antibiot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a susceptibilité est basée sur la concentration requise pour réduire la pousse sous le niveau visible (voir CI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8"/>
          <p:cNvSpPr/>
          <p:nvPr/>
        </p:nvSpPr>
        <p:spPr>
          <a:xfrm>
            <a:off x="2362320" y="289080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Concentr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Inhibit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inim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9"/>
          <p:cNvSpPr/>
          <p:nvPr/>
        </p:nvSpPr>
        <p:spPr>
          <a:xfrm>
            <a:off x="380880" y="2666880"/>
            <a:ext cx="190512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ubes avec milieu de culture, bactéries, et des quantité croissante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0"/>
          <p:cNvSpPr/>
          <p:nvPr/>
        </p:nvSpPr>
        <p:spPr>
          <a:xfrm>
            <a:off x="5791320" y="3657600"/>
            <a:ext cx="2057400" cy="215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ensi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bactérie est dite sensible à un antibiotique si la pousse est inhibée par une concentration qui est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FACILEMENT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et en toute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SECURITE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obtenue dans la circulation sanguine du pati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réponse clinique positive pour le patient est anticipé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Résist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L’opposé de sensibl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1"/>
          <p:cNvSpPr/>
          <p:nvPr/>
        </p:nvSpPr>
        <p:spPr>
          <a:xfrm>
            <a:off x="685800" y="3429000"/>
            <a:ext cx="12952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Boîte d’agar avec un tapis de pousse bactérien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2"/>
          <p:cNvSpPr/>
          <p:nvPr/>
        </p:nvSpPr>
        <p:spPr>
          <a:xfrm>
            <a:off x="2514600" y="4648320"/>
            <a:ext cx="106668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Zone d’inhibition de la pousse bactérie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3"/>
          <p:cNvSpPr/>
          <p:nvPr/>
        </p:nvSpPr>
        <p:spPr>
          <a:xfrm>
            <a:off x="1600200" y="502452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Disque imprégné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4"/>
          <p:cNvSpPr/>
          <p:nvPr/>
        </p:nvSpPr>
        <p:spPr>
          <a:xfrm>
            <a:off x="2743200" y="5562720"/>
            <a:ext cx="533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5"/>
          <p:cNvSpPr/>
          <p:nvPr/>
        </p:nvSpPr>
        <p:spPr>
          <a:xfrm rot="5400000">
            <a:off x="3169800" y="3823920"/>
            <a:ext cx="914400" cy="27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6"/>
          <p:cNvSpPr/>
          <p:nvPr/>
        </p:nvSpPr>
        <p:spPr>
          <a:xfrm>
            <a:off x="4191120" y="4540320"/>
            <a:ext cx="457200" cy="18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C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7"/>
          <p:cNvSpPr/>
          <p:nvPr/>
        </p:nvSpPr>
        <p:spPr>
          <a:xfrm>
            <a:off x="4267080" y="3581280"/>
            <a:ext cx="13716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Note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En mesurant la taille de la zone, on peut calculer la CIM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Plus la zone est petite, plus la CIM est élevé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8"/>
          <p:cNvSpPr/>
          <p:nvPr/>
        </p:nvSpPr>
        <p:spPr>
          <a:xfrm>
            <a:off x="3276720" y="2666880"/>
            <a:ext cx="152388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lution de milieu de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9"/>
          <p:cNvSpPr/>
          <p:nvPr/>
        </p:nvSpPr>
        <p:spPr>
          <a:xfrm>
            <a:off x="3809880" y="5486400"/>
            <a:ext cx="152424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ffusion de dis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65D0-280B-42C8-9948-84C5BB3AA7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EC01-1E35-427C-9E2D-70659885231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6" name="Text Box 3"/>
          <p:cNvSpPr/>
          <p:nvPr/>
        </p:nvSpPr>
        <p:spPr>
          <a:xfrm>
            <a:off x="304920" y="1295280"/>
            <a:ext cx="807696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linical and Laboratory Standards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ciété française de microb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8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Text Box 8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fé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558A-8EB4-49D1-8FF3-4AE7793541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Exemple d’un extrait de référence :</a:t>
            </a:r>
            <a:br>
              <a:rPr sz="28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u médicament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78B8-1FE1-491A-B7C4-D9B8C3C51C0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7763-ADD4-4899-8254-21FCAA8906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D67E-F556-4138-81B8-ECE6ABEBE96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d des erreurs surviennent dans le test de susceptibilit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li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tibiotiq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quipement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terpré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C1C1-1E3C-42C5-A0BE-EF188FE450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2CD3-CDA6-44CF-B5E8-6D0E853A4BC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 d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lieu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      Mueller Hint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4 mm épaisseu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tibioti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fr-FR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 mi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ubateur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3707-DB7A-419B-9230-44A6C523C8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D9E3-E8E8-4192-AD9B-A2D9C23EB58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uches de coll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5800" y="388620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souches de CQ doivent provenir d‘organisations réputé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souches spécifiques pour tester différentes combinaisons de médic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00:58Z</dcterms:created>
  <dc:creator>Robin Barteluk</dc:creator>
  <dc:description/>
  <dc:language>en-US</dc:language>
  <cp:lastModifiedBy>dolmazonv</cp:lastModifiedBy>
  <dcterms:modified xsi:type="dcterms:W3CDTF">2010-04-08T14:40:14Z</dcterms:modified>
  <cp:revision>17</cp:revision>
  <dc:subject/>
  <dc:title>Microbiology QC</dc:title>
</cp:coreProperties>
</file>