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4704-7C98-4719-A41D-26B3C96A3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81132-EA43-4DE4-8C1A-65870E963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86D8-7260-49A5-B8BC-D98F7FE31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1568-A4D7-484B-A41B-0C4AA118C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9DF3B-1A8F-4FBE-A628-D1DCE8C6D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4A56-E69C-4191-8E2B-8DEEC3567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AAC5-3492-460C-9C93-2E816FACA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6573-C891-4E56-8A14-72B2AE0FF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F7FD-0DE5-4A54-9408-0676FBAD3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7EC1-37A4-41CE-80D8-2DD0FD567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9676-C7ED-4FA7-B505-D18CEC3B3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3586-E44C-4B4C-8003-3815A37BD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B560-4495-4245-9B43-646DDD443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0C08-00EB-43FF-A1F6-B6131297B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8524-E475-422E-A8C7-60C3FAF9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9EC1C-F9D3-4121-878B-559883392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E863-749B-486C-9713-D17C64FDA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2793-E89B-4664-93E3-B20DAECDE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2502-C425-41EF-8278-10A01FD53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0DB4-69BD-4958-9765-AA0A8F10D6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27A7-6689-44AA-98E3-145CA6BB5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AF28-431B-48E5-B537-94ECB28CD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67A1C-870E-4BF3-8E4B-182976653A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13046-68F0-483C-A744-4680F2CFE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F4DF5-6CB5-4450-95C2-FFE77F2AA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1733CB-EDA6-46B2-8996-8C606AACB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8C5741-80EE-483C-A37D-CD2D5D11D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BD2EF5-259C-4500-9292-026AB95E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C3381-BE6D-45FF-940E-09C1A487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59C96-576F-44AE-8642-C114675C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4E5768-AF30-4481-BE23-1D4337CB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63028C-B16D-45F0-8C3A-60434A83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F61F8-EFF8-479F-B708-2AB2A392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B816E-6F16-439F-8A4F-0190E4619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EFC933-769A-4F5E-847A-0B410D0D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A51459-ABFE-474B-9099-83262E5A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D8D79-4901-4558-A2AE-157DA431C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8D337-91FC-4AED-963E-885FB404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0230F-EA3B-465C-ADB1-83427D4FE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98449-6496-438F-B55E-D5F403F776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7B3C-305B-4C51-B35E-1823A7EB2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5FC0C-EDD6-4316-967A-5A7F097A2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4D14-D50F-415E-9F9A-8D6560CD7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7C5CC-9C0D-4556-9697-22FF07E434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7475A-86A9-43AD-BA24-C28CD35EA7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63F1-83E2-4454-9752-2435AFED7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9F5D-C5BB-49A4-99AA-11D05477CD0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0F4E8-20E8-498C-A1A9-8657606093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3EB4A-CB2F-4DEC-8CB8-843CAA5937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ystème “Multi Règles”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ystème “multi règles “ (ou règles multiples) développé par le Dr. James O. Westgard, basé sur des concepts statistiqu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binaison de critères de décision ou règles pour évaluer si un système est sous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 quand au moins 2 niveaux de contrôles sont passés avec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e peut pas être utilisé si un seul niveau de contrôle est utilis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9" descr="westgard_lecturing"/>
          <p:cNvPicPr/>
          <p:nvPr/>
        </p:nvPicPr>
        <p:blipFill>
          <a:blip r:embed="rId1"/>
          <a:stretch/>
        </p:blipFill>
        <p:spPr>
          <a:xfrm>
            <a:off x="4114800" y="4267080"/>
            <a:ext cx="3657600" cy="2368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ce réservé du pied de page 3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8443-BDB5-40A6-A658-B2DAEE3AD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7_glu_control-1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7_glu_control_2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3485-32F9-4F43-B53B-A5D1B2A5F2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pons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1, 22, 24, 26, 27, 30, 31, 33, 34, 36-44 – sous contrô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s 23, 28, 29 –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25 -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2 – 2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Jour 35 - R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E4227-49B2-46E5-8164-2E476CE2EB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itre du système muti règles de Westgard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3988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2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R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4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Verdana"/>
              </a:rPr>
              <a:t>Règle 10</a:t>
            </a:r>
            <a:r>
              <a:rPr b="0" lang="fr-FR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886200" y="18288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 quand 2 niveaux de contrôle sont analysés par séri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90DD-46A7-4648-9C58-49EAC54562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1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ègle d’avertissement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– ne cause pas le rejet du te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des deux résultats du contrôle est en dehors de ±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lerte les techniciens sur des problèmes potentiel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oit alors évaluer la Règle 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A97E1-5709-481D-9306-29A5FC776E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 2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valeurs consécutives du contrôle pour le même niveau sont en dehors de ±2S dans la même direction, ou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deux contrôles dans la même série excèdent ±2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ultats ne peuvent pas être rend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 une action corr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DF4A-6ECC-4950-8CA6-EC6C311AA1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Règ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contrôle est inférieur à –2SD et l’autre est supérieur à +2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intervalle entre les deux résultats sera par conséquent supérieur à 4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erreur </a:t>
            </a:r>
            <a:r>
              <a:rPr b="0" lang="fr-FR" sz="3200" spc="-1" strike="noStrike">
                <a:solidFill>
                  <a:srgbClr val="ff0000"/>
                </a:solidFill>
                <a:latin typeface="Verdana"/>
              </a:rPr>
              <a:t>aléatoir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s’est produite, le test doit être rejeté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216AF-DCE7-4757-ABA9-1A01357E7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4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76312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l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quatre résultats consécutifs de CQ pour un niveau de contrôle sont en dehors de ±1S, o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des résultats consécutifs en dehors de ±1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F05E-58FF-4F41-8DDB-E55F644A5A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Westgard – Règle10</a:t>
            </a:r>
            <a:r>
              <a:rPr b="0" lang="fr-FR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quiert des données de plusieurs te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10 résultats consécutifs pour un niveau de contrôle sont du même côté de la moyenne, ou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s deux niveaux de contrôle ont cinq résultats consécutifs du même côté d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49E2-02E6-48E9-A1F1-98572EAA1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C Multi Règles de Westgard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64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ce réservé du pied de page 1"/>
          <p:cNvSpPr/>
          <p:nvPr/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-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99625-7E3F-4DA5-B922-AEF80BC879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000099"/>
                </a:solidFill>
                <a:latin typeface="Verdana"/>
              </a:rPr>
              <a:t>Activité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Verdana"/>
              </a:rPr>
              <a:t>En utilisant le système multi règles de Westgard, décrivez les valeurs de contrôles quotidiennes de la diapositive suivante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dolmazonv</cp:lastModifiedBy>
  <dcterms:modified xsi:type="dcterms:W3CDTF">2010-04-08T14:13:34Z</dcterms:modified>
  <cp:revision>12</cp:revision>
  <dc:subject/>
  <dc:title>Westgard Multirule System</dc:title>
</cp:coreProperties>
</file>