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2.png" ContentType="image/png"/>
  <Override PartName="/ppt/media/image20.jpeg" ContentType="image/jpeg"/>
  <Override PartName="/ppt/media/image23.wmf" ContentType="image/x-wmf"/>
  <Override PartName="/ppt/media/image6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4C7B-3CDE-4F50-A894-2BDA8C62A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969A-6D14-467A-B51C-51287BAE8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A9A848-001C-45B8-86C4-B0F1D4AA4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DB4C58-BAFB-4371-A984-5DF998894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60A96E-57A6-498E-8E1E-7492A9EB3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3439F7-BE43-4215-A00D-A4901B3CE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08CC48-BE40-4D81-AD4F-7916FE92C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02CD-ED43-456C-9303-ED0E270ED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1E34A1-A35D-4866-A1F4-22577CC29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13A4-55F2-4EAD-99B3-4FC518510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89601E-4DA4-4F2B-8A5C-97E01219F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FB66EC-1757-4478-8456-229B3AAF3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26E768-A417-41DD-813A-70DF72361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CAFC37-CD5D-4716-826B-44C70EDEA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2AF281-A773-445A-B321-F2685C308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BBDA7A-9982-425D-9100-5AF052C5F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0A0A-A0C0-4922-BD73-97EBD83E5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CAAB-EFA9-47A5-86B0-8E6F66F35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D2A6ED-9778-400E-85B5-2C931D563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07E9C5-6664-498C-9A48-B2561EA6B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4D253F-ADBC-496F-B179-F674B27C8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7D22A9-5F95-4623-8F57-A8AB5308F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8DEF39-D397-43ED-9A68-24B9F5BF4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929CED-7D9A-4A98-9E13-3DD5B188E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62740F-1265-40D5-BD67-E70A0C927CF6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5BC941-E150-42AB-8ED2-F8F52B35B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D628F7-2DB1-412B-81CD-A8BA0C408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7024-1655-4078-AC12-C2B748CB8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4E52E7-FF45-461E-A30F-7523A0BBBF6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8204A3-13BC-42F4-A781-A0230289D87F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3115D7-28B5-4113-A709-EAE74DFD9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C55A-A6B2-43EE-B3B8-1D8429CD5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AE1825-334F-4650-9D30-14FB4322F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9B8D5B-5DD5-4ED2-A412-8B32AEB5F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03483B-5729-4F44-A5EA-0B207D113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1B1EDC-9E96-4943-9E66-3B67FC214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C8EFA1-5BF6-4997-8E14-15AC9CF04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4ACE-B041-491A-8C97-CECA6C945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D56F-277F-4336-8001-AB8848822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FCA300-0B56-4870-8597-8D948A2AC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C34E-8F0D-4BB4-B77C-1DDB40F13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BA210-17FB-426D-A350-8A4D3273F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57A8D-A4B3-4FF4-A0E8-B483331FF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D95D1-1D76-4449-958D-789E9BAEB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10043-0AB6-4C8C-AFC7-A6780E85B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FE816-DA59-4F5B-BF2F-2E492603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4EE5F-64F8-4ADC-90A1-9B72A1AC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6B054-8B2C-4A6C-B7DF-1929AA30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48C20-425F-4541-9ED4-9F4B97B2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F9D0A-B240-42AA-BBB8-6B24AC0A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8E9D6-C04F-432D-B946-3B515CD6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C64AA-8430-4FDB-97E0-9018DE36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62D9B-DFDB-4083-9906-CFDF97AF6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08C1C-3B87-40E1-939C-DCA62BB2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3163F-D46A-4C9B-905A-A439CD57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A3BCA-F27F-43BE-A994-4AC84957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10582-332B-4832-8CEA-DE4A3874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7ADD8-CE14-4BFF-BC5A-8FC91640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15C44-D522-4376-86E4-6957888E3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3DC9F-3227-49F6-B33E-6DC188788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4FF28-4157-4B3F-957C-855046D19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66204-7FCC-4E1E-8EA4-EB54D0494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35F05-B92E-45CA-B328-CC198EBC6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DC613-C51D-475B-B943-890789635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34160-7C9E-4D37-90B8-6E2A00601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4832-3B8B-45CF-B59E-817F53912D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F95C-A6CC-41C9-940F-F95B3FC2E8AA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4B70-87AC-411B-9F7B-7D918BA55C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2666880" y="19051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8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Qualité pour les tests quantit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192D-001A-4211-8AEE-D0C21AC1187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BFDC-7A13-4417-A225-0D4D4D24C6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ypes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vent être congelés, lyophilisés, ou conservés chimiqu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e reconstitution très exacte si cette étape es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pipetting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95EC-44D1-4AFB-82A2-B4F71EF3B6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rigines d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rcialement préparé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s sur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tenus auprès d’un autre laboratoire, en général laboratoire central ou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7EA1-61A3-43AB-90FE-408D6922DE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219320"/>
          <a:ext cx="8610480" cy="466560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cible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érifier puis util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le non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xigé avant utili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 Maison 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érums maison mélangés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t 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FCE6-7F74-425A-935B-5803C16A15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hoisir l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alement disponibles en valeur normale, pathologique haute et pathologique ba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Untitled-3"/>
          <p:cNvPicPr/>
          <p:nvPr/>
        </p:nvPicPr>
        <p:blipFill>
          <a:blip r:embed="rId1"/>
          <a:stretch/>
        </p:blipFill>
        <p:spPr>
          <a:xfrm>
            <a:off x="3048120" y="3456000"/>
            <a:ext cx="4647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EDB4-86E6-4A31-A4B5-974E185068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Préparation et stockage des contrôl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dhérer aux instructions du fabric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a quantité adéquate du même numéro de l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correc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83" descr="Bottle"/>
          <p:cNvPicPr/>
          <p:nvPr/>
        </p:nvPicPr>
        <p:blipFill>
          <a:blip r:embed="rId1"/>
          <a:stretch/>
        </p:blipFill>
        <p:spPr>
          <a:xfrm>
            <a:off x="5486400" y="4876920"/>
            <a:ext cx="89676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 rot="18999600">
            <a:off x="5790960" y="4114440"/>
            <a:ext cx="1098360" cy="5335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D12A-74E4-438A-8616-3D91DD3268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Étapes de la mise en oeuvre du CQ quantitatif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btenir le matériel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er le contrôle 20 fois sur 30 j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culer la moyenne , l’écart type et 1S, 2S, 3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1"/>
          <p:cNvGrpSpPr/>
          <p:nvPr/>
        </p:nvGrpSpPr>
        <p:grpSpPr>
          <a:xfrm>
            <a:off x="4724280" y="1828800"/>
            <a:ext cx="4054680" cy="4835880"/>
            <a:chOff x="4724280" y="1828800"/>
            <a:chExt cx="4054680" cy="4835880"/>
          </a:xfrm>
        </p:grpSpPr>
        <p:sp>
          <p:nvSpPr>
            <p:cNvPr id="222" name="Line 23"/>
            <p:cNvSpPr/>
            <p:nvPr/>
          </p:nvSpPr>
          <p:spPr>
            <a:xfrm>
              <a:off x="727488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>
              <a:off x="699912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699912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699912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7692840" y="4967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Moyen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732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5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3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60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2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30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61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88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7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248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56"/>
            <p:cNvSpPr/>
            <p:nvPr/>
          </p:nvSpPr>
          <p:spPr>
            <a:xfrm>
              <a:off x="699912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699912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>
              <a:off x="699912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699912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8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36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60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56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84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732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8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60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48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3000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84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36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36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3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5"/>
            <p:cNvSpPr/>
            <p:nvPr/>
          </p:nvSpPr>
          <p:spPr>
            <a:xfrm>
              <a:off x="7752240" y="4457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1"/>
            <p:cNvSpPr/>
            <p:nvPr/>
          </p:nvSpPr>
          <p:spPr>
            <a:xfrm>
              <a:off x="7752240" y="55382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2"/>
            <p:cNvSpPr/>
            <p:nvPr/>
          </p:nvSpPr>
          <p:spPr>
            <a:xfrm>
              <a:off x="7752240" y="4083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3"/>
            <p:cNvSpPr/>
            <p:nvPr/>
          </p:nvSpPr>
          <p:spPr>
            <a:xfrm>
              <a:off x="7752240" y="3574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"/>
            <p:cNvSpPr/>
            <p:nvPr/>
          </p:nvSpPr>
          <p:spPr>
            <a:xfrm>
              <a:off x="7752240" y="5901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5"/>
            <p:cNvSpPr/>
            <p:nvPr/>
          </p:nvSpPr>
          <p:spPr>
            <a:xfrm>
              <a:off x="7752240" y="626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387C-6A9F-46B9-82B1-6E6C7A475D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 de la fluctu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 fluctuation est un évènement normal quand un contrôle est testé de façon répét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ffectée p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3520" y="30481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chnique  opérato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2895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ditions 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11496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ractéristiques des performances de l’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Verdana"/>
              </a:rPr>
              <a:t>Le but est de différencier la fluctuation due au hasard de celle due à une err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0204-6FFB-4637-A998-27D797EDBD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ensemble des données est distribué autour d’une valeur cent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215D-3A39-4AE4-86BA-132410BEE5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676520"/>
          <a:ext cx="8153640" cy="3825720"/>
        </p:xfrm>
        <a:graphic>
          <a:graphicData uri="http://schemas.openxmlformats.org/drawingml/2006/table">
            <a:tbl>
              <a:tblPr/>
              <a:tblGrid>
                <a:gridCol w="1981440"/>
                <a:gridCol w="617220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a le plus grand 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di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permet de partager la série en deux parties de même nombre d'élé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 arithmétique des résult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C992-6601-4712-8F90-433227FAB5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es valeurs ne sont pas toutes les mê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03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26888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560840" y="2343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d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338560" y="1600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49092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7A6B-A5EB-496A-8370-23B90CE305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fférencier justesse/exactitude et pré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le matériel de contrôle pour l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limites acceptables de contrôle pour une méthode lorsque seulement un niveau de matériel de contrôle est dispon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l’utilisation des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corriger les problèmes apparaissant « en dehors de tout contrôle 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060D-86FE-49AD-A3E2-520EDF7D83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ymboles utilisé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mme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=nombre de me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= toutes les mesures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 à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X  représent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4625-17D0-43AE-9476-DD7EC8C61A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0" y="288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  = 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Prem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Secon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Dern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Nombre total de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CBB0-686E-4E99-AB9B-D403446010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Exemple</a:t>
            </a:r>
            <a:br>
              <a:rPr sz="1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: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est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ELIS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ez le contrôle 20 fois sur 30 jours. Enregistrer les valeurs de DO et les valeurs des cut off pour chaque mes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visez la DO par la CO (OD/CO) pour chaque point ou observation. Cela standardise les donné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ditionnez les ratios et divisez par le nombre de mesures pour obtenir la moy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2B9A-9BA9-4270-BFC1-7A39104A85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onnées présentant une valeur aberrante ou “outlier”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8D79-706C-405A-A1AC-333FEFAAC0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tribution symétrique de toutes les valeurs autour de la moyen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e en cloche caractérist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umée pour toutes les statistiques du contrô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5562720" y="3962520"/>
            <a:ext cx="3276360" cy="2286000"/>
            <a:chOff x="5562720" y="3962520"/>
            <a:chExt cx="3276360" cy="2286000"/>
          </a:xfrm>
        </p:grpSpPr>
        <p:sp>
          <p:nvSpPr>
            <p:cNvPr id="339" name="Freeform 9"/>
            <p:cNvSpPr/>
            <p:nvPr/>
          </p:nvSpPr>
          <p:spPr>
            <a:xfrm>
              <a:off x="5564520" y="3962520"/>
              <a:ext cx="3271320" cy="217116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562720" y="6118200"/>
              <a:ext cx="3276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7200360" y="4070520"/>
              <a:ext cx="720" cy="2178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2"/>
          <p:cNvSpPr/>
          <p:nvPr/>
        </p:nvSpPr>
        <p:spPr>
          <a:xfrm rot="16200000">
            <a:off x="4109040" y="48819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équ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55308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7EE8-F30D-4C2A-9F92-EFBEA3709A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e l’exactitude et la précision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3520" y="609480"/>
            <a:ext cx="8076960" cy="21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ontrôle qualité est utilisé pour vérifier l’exactitude et la précision d’une 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MCDD00744_0000[1]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D852-09A4-4256-98B4-A753DA9BAB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76520"/>
          <a:ext cx="8229600" cy="423072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 de mesure qui est le plus proche de la valeur vrai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é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Écart (fluctuation) des valeurs entre ell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fférence entre le résultat attendu de l’analyse et une valeur de référence acceptée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F8C2-6D46-473A-BC1C-68B0B6C8D6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xactitude et Pré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57" name="Picture 59" descr="Untitled-2"/>
          <p:cNvPicPr/>
          <p:nvPr/>
        </p:nvPicPr>
        <p:blipFill>
          <a:blip r:embed="rId1"/>
          <a:stretch/>
        </p:blipFill>
        <p:spPr>
          <a:xfrm>
            <a:off x="457200" y="1446120"/>
            <a:ext cx="800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9C00-A7CE-4CFD-A052-D4BF11A734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Écart-type et probabilité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orsque les mesures sont normalement distribuées (distribution normale des valeurs), une valeur tombera dans l’interval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S : 68.3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2S : 95.5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3S : 99.7% du te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364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365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7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ré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    2s     -1s       Moyenne  +1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76FE-C468-4A5D-914C-24E5184D5C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cart type (S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2306520" y="3124080"/>
                <a:ext cx="38736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9" name="Rectangle 6"/>
          <p:cNvSpPr/>
          <p:nvPr/>
        </p:nvSpPr>
        <p:spPr>
          <a:xfrm>
            <a:off x="304920" y="1447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 est la mesure principale de la dispersion utilisée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cart-type – Formul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F41E-3584-4CD9-BEDE-B9EAAE409C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Picture 65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C24F-C07E-4506-9BD9-774B7AD300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efficient de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efficient de variation (CV) est le S exprimé en pourcentage de la moyen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ntrôler la pr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mparer des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idéalement inférieur à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752480" y="2514600"/>
                <a:ext cx="558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yenn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2C3E-C458-4095-8870-C19E736C17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685800" y="1371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Représentation graphique des intervalles des valeurs du contrôle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7F12-D3EA-4403-871C-C19D4E1ACB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tatistiques pour le CQ Quantitatif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5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5900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228600" y="1676520"/>
            <a:ext cx="8610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sez le contrôle au moins 20 fois sur 20 à 30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’assurer que les variations liées aux fluctuations sont représ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lculez la moyenne e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1, 2 et 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E5D7-52D9-49D0-98AF-6EB7FF002D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racer des lignes pour la moyenne et les écarts types</a:t>
            </a:r>
            <a:br>
              <a:rPr sz="2800"/>
            </a:b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calculés à partir de 20 mesures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5"/>
          <p:cNvSpPr/>
          <p:nvPr/>
        </p:nvSpPr>
        <p:spPr>
          <a:xfrm flipH="1">
            <a:off x="22860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om du dia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6"/>
          <p:cNvSpPr/>
          <p:nvPr/>
        </p:nvSpPr>
        <p:spPr>
          <a:xfrm>
            <a:off x="4952880" y="1600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uméro de 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80E6-18AA-4D4E-854D-6AECACEE86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40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6"/>
          <p:cNvSpPr/>
          <p:nvPr/>
        </p:nvSpPr>
        <p:spPr>
          <a:xfrm>
            <a:off x="8367480" y="3292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57"/>
          <p:cNvSpPr/>
          <p:nvPr/>
        </p:nvSpPr>
        <p:spPr>
          <a:xfrm>
            <a:off x="8367480" y="2824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58"/>
          <p:cNvSpPr/>
          <p:nvPr/>
        </p:nvSpPr>
        <p:spPr>
          <a:xfrm>
            <a:off x="8367480" y="4043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59"/>
          <p:cNvSpPr/>
          <p:nvPr/>
        </p:nvSpPr>
        <p:spPr>
          <a:xfrm>
            <a:off x="8367480" y="45766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65"/>
          <p:cNvSpPr/>
          <p:nvPr/>
        </p:nvSpPr>
        <p:spPr>
          <a:xfrm>
            <a:off x="8367480" y="50338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66"/>
          <p:cNvSpPr/>
          <p:nvPr/>
        </p:nvSpPr>
        <p:spPr>
          <a:xfrm>
            <a:off x="8367480" y="236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3"/>
          <p:cNvSpPr/>
          <p:nvPr/>
        </p:nvSpPr>
        <p:spPr>
          <a:xfrm>
            <a:off x="4038120" y="61531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5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r les résultats des contrôles quotid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0F97-0AB6-45BC-9241-6F69266F72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Nombre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interprétation dépend du nombre de contrôles passés avec les échantillons de pat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on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un niveau de contrôl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eptez les résultats si le contrôle est dans ± 2SD à moins d’un déplacement ou d’une 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eux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deux niveaux de contrô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quez le système multi règles de Westg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5A3A-46CB-4AEF-9287-FB7143F5CD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tection d’erreu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aléatoir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 dispersion des résultats de CQ sans motif – une seule cause de rejection si en dehors de 2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systématiqu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pas acceptable,  corriger la source de l’err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placement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du même côté de la moyenne 6 jours consécu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enda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se déplaçant dans une direction – se dirige vers une val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8D4F-593F-41ED-BCE7-A388ADB900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1200"/>
            </a:b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Déplacem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F9D6-6B41-4B55-A530-F368397546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Tend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C450-8087-493D-B0FE-600BDBDE8D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 de l’incertitu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valle de valeur dans lequel la valeur vraie peut raisonnablement se trou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stimée à un niveau de confiance de 95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la méthode est précise, plus faible est la quantité de dispersion dans l’intervalle de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a plupart des cas, un intervalle de +/- 2S est accepté comme mesure de l’incertitude, expliqué par la fluctuation aléatoire.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5139-43DC-487E-B08E-6B70F6A587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ests Quantitati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esurent la quantité d’une substance particulière dans un échantill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ntrôle qualité pour les tests quantitatifs est conçu pour s’assurer que les résultats son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ac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iab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83E2-43AB-4403-AAF7-FDACADD24E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Si CQ hors contrô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rrêtez les 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z et corrigez le problè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passez les échantillons de patients et les contrôles après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as de compte-rendu des résultats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ant que le problème n’est pas résolu et que les contrôles ne sont pas corrects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C70E-B202-439F-8F46-7A345AD644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oudre les problèm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problèm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x lignes de conduite et procédures pour les actions de cor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spy_guy"/>
          <p:cNvPicPr/>
          <p:nvPr/>
        </p:nvPicPr>
        <p:blipFill>
          <a:blip r:embed="rId1"/>
          <a:stretch/>
        </p:blipFill>
        <p:spPr>
          <a:xfrm>
            <a:off x="6400800" y="6858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4_log_book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6C34-811C-439D-81E4-71CFD3EAEA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Problèmes possib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es réactifs ou des k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u matériel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manipulation de l’opér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ans le suivi des instructions du fabr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de procédure dépassé, obsolè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calib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E1EE-DC08-4F8F-A870-776E962ED7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Un programme de contrôle qualité des tests quantitatifs est essentiel. Il devra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touts les tests quantita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sséder des lignes de conduite et procédures écrites suivies pa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voir un responsable qualité contrôlant et révisant les données du C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e analyse statistique, conserver de bons enregistr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ner à bien des actions correctives et de résolution de problè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ce réservé du pied de page 3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FE05-5BDC-4CE8-8042-0E29DCB680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de CQ permet au laboratoire de différencier les fluctuations normales des err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CQ contrôle l’exactitude et la précision des analyses du laborato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ésultats des patients ne devraient jamais être rendus si les résultats du contrôle qualité pour l’analyse en cours ne correspondent pas aux valeurs cibles du laboratoire.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394D-AEFD-4A42-B9C5-D23991E6A8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4640" y="21337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6" name="Picture 12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927000"/>
            <a:ext cx="5181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EB43-D52C-4BD3-96DC-A25B6B5CD0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Étapes de la mise en oeuvre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949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des lignes de conduite et des procédu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ttribuer les responsabilités, forme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du bon matériel de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intervalles et limites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velopper des graphiques pour relever les valeurs du contrôle -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les valeurs du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toutes les actions entrepri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903B-A2B9-4B47-8AA5-6522646823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’un contrôle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qui contient la substance à analys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s sont testés en même temps qu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é pour valider la fiabilité du système d’analys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après la calibration de l’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périodiquement pendant l’analy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F0B7-8F31-4266-922A-9338046A91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ibrateurs ou Contrôles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6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51D5-055D-4340-A9B4-B791CE8953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Verdana"/>
              </a:rPr>
              <a:t>Calibrateurs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Substance avec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concentration spécifique.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Utilisés pour calibrer les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points de mesure sur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éch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ontrôles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ubstance similaire aux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s de patient, à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concentration établi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s pour s’assurer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cédure fonctionn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rrec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162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213560" y="389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16866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1438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267696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6276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175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D836-EE22-4DF6-8CD9-D25C3CB674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ractéristiques des contrôle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appropriés pour le test cib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ponibles en grande quantité, idéalement suffisamment pour 1 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uvent être stockés dans de petits aliqu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9:41Z</dcterms:created>
  <dc:creator>exw2</dc:creator>
  <dc:description/>
  <dc:language>en-US</dc:language>
  <cp:lastModifiedBy>dolmazonv</cp:lastModifiedBy>
  <dcterms:modified xsi:type="dcterms:W3CDTF">2010-04-07T16:49:58Z</dcterms:modified>
  <cp:revision>621</cp:revision>
  <dc:subject/>
  <dc:title>Slide 1</dc:title>
</cp:coreProperties>
</file>