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dt" idx="6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ftr" idx="7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 type="sldNum" idx="8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0431A-4F0A-4F94-91E4-52A3389CB8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71552-2886-4906-A83B-EDC910CFEE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7772B-361B-4656-9101-48D058E511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D14D3-D991-4784-8FBE-37AB05A29C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59121-B45F-4D22-99E2-99E2AE34F0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s of activity-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ver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F0D3D-A6D5-4248-ADA6-DFCF5EC272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05ED5-E38B-4728-8D9D-35C362B358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36B30-A24D-4238-B436-3D5F97B581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50622-FCF2-4615-80EC-FEBD39DBC1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A96A7-78A0-4938-B0A0-21423702EF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9476E-DD69-4513-8350-A87AD3E1B2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E9F03-5263-4DF6-A192-CB2A850C77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6D603-40EE-41A0-943F-43F87DBEC8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DFF18-1B5D-46CF-8B15-CDE007A76A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E450B-8854-476D-82AD-7545C3017F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EC91B-DE1D-4FA1-9C6E-8F7BAD4869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02624-EB93-4E5D-A610-C47D3FC78A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4FFFF-C7FA-4D7A-9335-15AB078E57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70EED-EAAC-4674-A32C-8F07495747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9E3B4-AE82-4763-B2D0-5CB84A0FBE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B4D37-A57F-41E3-B34C-340FF13845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ity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95A24-93CD-4126-BE67-5901EE086A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11226D-0925-4B51-84B6-BBCDAF9C51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AD0F91-C18C-4A7A-AF6F-743FC273A8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E8BA4A-919D-44DF-B712-42F90C35D2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A56277-4619-46AE-B834-BE60ECFD6E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2E199E-AC7F-415A-AA7B-B61E06B16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8E6882-9D97-4FFC-A8AC-8544AB2F4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DDBA10-CDDB-449B-A4AD-A7AA5FDBC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6EC15A-5503-4183-92B7-8D2E8BF48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63330D-E584-4D60-95BE-C281D4D19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6094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804D91-1A7A-4BF6-9779-3C5538C21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AD1339-AC36-4F85-880C-261D20BE7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6C756B-5745-43B5-AE56-262B41B52B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1FE600-68C8-49C2-B40F-FDFD35D30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825869-F25F-453F-B847-75F410D8D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20FFBC-F4CF-4F1C-8EBD-BF903CFEA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49F13F-D610-48C5-A2B3-7338C1B8D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EF9B1B-AC19-4A0C-8597-C69E1EBCA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90E676-9214-41C5-8AF0-3B661A5D9F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B29929-0AF3-44DC-8A81-2763CCC832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634E2D-5BE2-4945-9ADC-78952D96A4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6094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93DBC6-2CA5-4F55-94CF-D825FC7819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F21C53-90AF-4A89-A6B6-290F974165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E1682A-4DBC-497E-800A-52AD756137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C63164-6DBB-47E0-8D44-6BEF0C1FCA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095880"/>
            <a:ext cx="4114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-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7854A-F6E9-4C6A-AA77-E2B43443E1E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982800" indent="-196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375920" indent="-196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69040" indent="-196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982800" indent="-196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375920" indent="-196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69040" indent="-196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-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4C37F-BB51-4C25-8D7E-DAFD50E5660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Espace réservé du pied de page 1"/>
          <p:cNvSpPr/>
          <p:nvPr/>
        </p:nvSpPr>
        <p:spPr>
          <a:xfrm>
            <a:off x="457200" y="609588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-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E345A-3888-4EE3-A63D-F8D904B8503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Système “Multi Règles” de Westgard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système “multi règles “ (ou règles multiples) développé par le Dr. James O. Westgard, basé sur des concepts statistique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ombinaison de critères de décision ou règles pour évaluer si un système est sous contrô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utilisé quand au moins 2 niveaux de contrôles sont passés avec l’analy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ne peut pas être utilisé si un seul niveau de contrôle est utilisé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8" name="Picture 9" descr="westgard_lecturing"/>
          <p:cNvPicPr/>
          <p:nvPr/>
        </p:nvPicPr>
        <p:blipFill>
          <a:blip r:embed="rId1"/>
          <a:stretch/>
        </p:blipFill>
        <p:spPr>
          <a:xfrm>
            <a:off x="4114800" y="4267080"/>
            <a:ext cx="3657600" cy="236880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10"/>
          <p:cNvSpPr/>
          <p:nvPr/>
        </p:nvSpPr>
        <p:spPr>
          <a:xfrm>
            <a:off x="6095880" y="4495680"/>
            <a:ext cx="2210040" cy="3988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Dr. Westg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Espace réservé du pied de page 3"/>
          <p:cNvSpPr/>
          <p:nvPr/>
        </p:nvSpPr>
        <p:spPr>
          <a:xfrm>
            <a:off x="457200" y="609588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-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3B029-9192-459E-9FA4-731272A6F83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5" descr="7_glu_control-1"/>
          <p:cNvPicPr/>
          <p:nvPr/>
        </p:nvPicPr>
        <p:blipFill>
          <a:blip r:embed="rId1"/>
          <a:stretch/>
        </p:blipFill>
        <p:spPr>
          <a:xfrm>
            <a:off x="457200" y="457200"/>
            <a:ext cx="8305920" cy="281952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6" descr="7_glu_control_2"/>
          <p:cNvPicPr/>
          <p:nvPr/>
        </p:nvPicPr>
        <p:blipFill>
          <a:blip r:embed="rId2"/>
          <a:stretch/>
        </p:blipFill>
        <p:spPr>
          <a:xfrm>
            <a:off x="457200" y="3429000"/>
            <a:ext cx="8358120" cy="28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Espace réservé du pied de page 1"/>
          <p:cNvSpPr/>
          <p:nvPr/>
        </p:nvSpPr>
        <p:spPr>
          <a:xfrm>
            <a:off x="457200" y="609588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-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966EA-516D-42C0-895E-0D5F3206FFE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55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Répons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57200" y="1447920"/>
            <a:ext cx="83059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Jours 21, 22, 24, 26, 27, 30, 31, 33, 34, 36-44 – sous contrôle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Jours 23, 28, 29 – 1</a:t>
            </a:r>
            <a:r>
              <a:rPr b="0" lang="fr-FR" sz="3200" spc="-1" strike="noStrike" baseline="-25000">
                <a:solidFill>
                  <a:srgbClr val="000000"/>
                </a:solidFill>
                <a:latin typeface="Verdana"/>
              </a:rPr>
              <a:t>2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Jour 25 - 1</a:t>
            </a:r>
            <a:r>
              <a:rPr b="0" lang="fr-FR" sz="3200" spc="-1" strike="noStrike" baseline="-25000">
                <a:solidFill>
                  <a:srgbClr val="000000"/>
                </a:solidFill>
                <a:latin typeface="Verdana"/>
              </a:rPr>
              <a:t>3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Jour 32 – 2</a:t>
            </a:r>
            <a:r>
              <a:rPr b="0" lang="fr-FR" sz="3200" spc="-1" strike="noStrike" baseline="-25000">
                <a:solidFill>
                  <a:srgbClr val="000000"/>
                </a:solidFill>
                <a:latin typeface="Verdana"/>
              </a:rPr>
              <a:t>2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Jour 35 - R</a:t>
            </a:r>
            <a:r>
              <a:rPr b="0" lang="fr-FR" sz="3200" spc="-1" strike="noStrike" baseline="-25000">
                <a:solidFill>
                  <a:srgbClr val="000000"/>
                </a:solidFill>
                <a:latin typeface="Verdana"/>
              </a:rPr>
              <a:t>4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Espace réservé du pied de page 1"/>
          <p:cNvSpPr/>
          <p:nvPr/>
        </p:nvSpPr>
        <p:spPr>
          <a:xfrm>
            <a:off x="457200" y="609588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-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F9278-A25B-483E-B01A-52B50A24B9B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Footer Placeholder 1"/>
          <p:cNvSpPr/>
          <p:nvPr/>
        </p:nvSpPr>
        <p:spPr>
          <a:xfrm>
            <a:off x="457200" y="6248520"/>
            <a:ext cx="4343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2296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Titre du système muti règles de Westgard</a:t>
            </a:r>
            <a:r>
              <a:rPr b="1" lang="fr-FR" sz="3600" spc="-1" strike="noStrike">
                <a:solidFill>
                  <a:srgbClr val="00007d"/>
                </a:solidFill>
                <a:latin typeface="Verdana"/>
              </a:rPr>
              <a:t> </a:t>
            </a:r>
            <a:br>
              <a:rPr sz="2400"/>
            </a:b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739880"/>
            <a:ext cx="3657600" cy="252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0000"/>
          </a:bodyPr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Verdana"/>
              </a:rPr>
              <a:t>Règle 1</a:t>
            </a:r>
            <a:r>
              <a:rPr b="0" lang="fr-FR" sz="4000" spc="-1" strike="noStrike" baseline="-25000">
                <a:solidFill>
                  <a:srgbClr val="000000"/>
                </a:solidFill>
                <a:latin typeface="Verdana"/>
              </a:rPr>
              <a:t>2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Verdana"/>
              </a:rPr>
              <a:t>Règle 2</a:t>
            </a:r>
            <a:r>
              <a:rPr b="0" lang="fr-FR" sz="4000" spc="-1" strike="noStrike" baseline="-25000">
                <a:solidFill>
                  <a:srgbClr val="000000"/>
                </a:solidFill>
                <a:latin typeface="Verdana"/>
              </a:rPr>
              <a:t>2S</a:t>
            </a:r>
            <a:r>
              <a:rPr b="0" lang="fr-FR" sz="4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Verdana"/>
              </a:rPr>
              <a:t>Règle 1</a:t>
            </a:r>
            <a:r>
              <a:rPr b="0" lang="fr-FR" sz="4000" spc="-1" strike="noStrike" baseline="-25000">
                <a:solidFill>
                  <a:srgbClr val="000000"/>
                </a:solidFill>
                <a:latin typeface="Verdana"/>
              </a:rPr>
              <a:t>3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Verdana"/>
              </a:rPr>
              <a:t>Règle R</a:t>
            </a:r>
            <a:r>
              <a:rPr b="0" lang="fr-FR" sz="4000" spc="-1" strike="noStrike" baseline="-25000">
                <a:solidFill>
                  <a:srgbClr val="000000"/>
                </a:solidFill>
                <a:latin typeface="Verdana"/>
              </a:rPr>
              <a:t>4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Verdana"/>
              </a:rPr>
              <a:t>Règle 4</a:t>
            </a:r>
            <a:r>
              <a:rPr b="0" lang="fr-FR" sz="4000" spc="-1" strike="noStrike" baseline="-25000">
                <a:solidFill>
                  <a:srgbClr val="000000"/>
                </a:solidFill>
                <a:latin typeface="Verdana"/>
              </a:rPr>
              <a:t>1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Verdana"/>
              </a:rPr>
              <a:t>Règle 10</a:t>
            </a:r>
            <a:r>
              <a:rPr b="0" lang="fr-FR" sz="4000" spc="-1" strike="noStrike" baseline="-25000">
                <a:solidFill>
                  <a:srgbClr val="000000"/>
                </a:solidFill>
                <a:latin typeface="Verdana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657600" y="1599840"/>
            <a:ext cx="4191120" cy="15238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Text Box 8"/>
          <p:cNvSpPr/>
          <p:nvPr/>
        </p:nvSpPr>
        <p:spPr>
          <a:xfrm>
            <a:off x="3886200" y="1828800"/>
            <a:ext cx="3809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Utilisé quand 2 niveaux de contrôle sont analysés par séri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9"/>
          <p:cNvSpPr/>
          <p:nvPr/>
        </p:nvSpPr>
        <p:spPr>
          <a:xfrm>
            <a:off x="1752480" y="5486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11" descr="j0082253"/>
          <p:cNvPicPr/>
          <p:nvPr/>
        </p:nvPicPr>
        <p:blipFill>
          <a:blip r:embed="rId1"/>
          <a:stretch/>
        </p:blipFill>
        <p:spPr>
          <a:xfrm>
            <a:off x="6019920" y="3124080"/>
            <a:ext cx="250164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Espace réservé du pied de page 1"/>
          <p:cNvSpPr/>
          <p:nvPr/>
        </p:nvSpPr>
        <p:spPr>
          <a:xfrm>
            <a:off x="457200" y="609588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-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C3632-A4E1-4D35-B03D-3D4C88DEA29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Westgard – Règle 1</a:t>
            </a:r>
            <a:r>
              <a:rPr b="0" lang="fr-FR" sz="3600" spc="-1" strike="noStrike" baseline="-25000">
                <a:solidFill>
                  <a:srgbClr val="000099"/>
                </a:solidFill>
                <a:latin typeface="Verdana"/>
              </a:rPr>
              <a:t>2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Règle d’avertissement 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– ne cause pas le rejet du tes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Un des deux résultats du contrôle est en dehors de ±2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lerte les techniciens sur des problèmes potentiel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oit alors évaluer la Règle 1</a:t>
            </a:r>
            <a:r>
              <a:rPr b="0" lang="fr-FR" sz="3200" spc="-1" strike="noStrike" baseline="-25000">
                <a:solidFill>
                  <a:srgbClr val="000000"/>
                </a:solidFill>
                <a:latin typeface="Verdana"/>
              </a:rPr>
              <a:t>3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Espace réservé du pied de page 1"/>
          <p:cNvSpPr/>
          <p:nvPr/>
        </p:nvSpPr>
        <p:spPr>
          <a:xfrm>
            <a:off x="457200" y="609588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-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4A3CB-A5C6-4EF4-9BD9-64298C47111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701640"/>
            <a:ext cx="8229600" cy="7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Westgard – Règle 2</a:t>
            </a:r>
            <a:r>
              <a:rPr b="0" lang="fr-FR" sz="3600" spc="-1" strike="noStrike" baseline="-25000">
                <a:solidFill>
                  <a:srgbClr val="000099"/>
                </a:solidFill>
                <a:latin typeface="Verdana"/>
              </a:rPr>
              <a:t>2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eux valeurs consécutives du contrôle pour le même niveau sont en dehors de ±2S dans la même direction, ou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s deux contrôles dans la même série excèdent ±2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ésultats ne peuvent pas être rendu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equière une action correctiv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Espace réservé du pied de page 1"/>
          <p:cNvSpPr/>
          <p:nvPr/>
        </p:nvSpPr>
        <p:spPr>
          <a:xfrm>
            <a:off x="457200" y="609588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-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2105D-15C4-44D0-9361-C400D071DC3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Westgard – R</a:t>
            </a:r>
            <a:r>
              <a:rPr b="0" lang="fr-FR" sz="3600" spc="-1" strike="noStrike" baseline="-25000">
                <a:solidFill>
                  <a:srgbClr val="000099"/>
                </a:solidFill>
                <a:latin typeface="Verdana"/>
              </a:rPr>
              <a:t>4S</a:t>
            </a: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 Règ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Un contrôle est inférieur à –2SD et l’autre est supérieur à +2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’intervalle entre les deux résultats sera par conséquent supérieur à 4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Une erreur </a:t>
            </a:r>
            <a:r>
              <a:rPr b="0" lang="fr-FR" sz="3200" spc="-1" strike="noStrike">
                <a:solidFill>
                  <a:srgbClr val="ff0000"/>
                </a:solidFill>
                <a:latin typeface="Verdana"/>
              </a:rPr>
              <a:t>aléatoire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s’est produite, le test doit être rejeté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Espace réservé du pied de page 1"/>
          <p:cNvSpPr/>
          <p:nvPr/>
        </p:nvSpPr>
        <p:spPr>
          <a:xfrm>
            <a:off x="457200" y="609588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-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87C23-53E6-4DBF-9675-EFE85C1505F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Westgard – Règle4</a:t>
            </a:r>
            <a:r>
              <a:rPr b="0" lang="fr-FR" sz="3600" spc="-1" strike="noStrike" baseline="-25000">
                <a:solidFill>
                  <a:srgbClr val="000099"/>
                </a:solidFill>
                <a:latin typeface="Verdana"/>
              </a:rPr>
              <a:t>1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763120" cy="366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equiert les données de plusieurs tes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quatre résultats consécutifs de CQ pour un niveau de contrôle sont en dehors de ±1S, ou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es deux niveaux de contrôle ont des résultats consécutifs en dehors de ±1S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Espace réservé du pied de page 1"/>
          <p:cNvSpPr/>
          <p:nvPr/>
        </p:nvSpPr>
        <p:spPr>
          <a:xfrm>
            <a:off x="457200" y="609588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-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044D6-FF6F-4A4E-85DB-F0B3F591F17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Westgard – Règle10</a:t>
            </a:r>
            <a:r>
              <a:rPr b="0" lang="fr-FR" sz="3600" spc="-1" strike="noStrike" baseline="-25000">
                <a:solidFill>
                  <a:srgbClr val="000099"/>
                </a:solidFill>
                <a:latin typeface="Verdana"/>
              </a:rPr>
              <a:t>X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8229600" cy="333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equiert des données de plusieurs tes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10 résultats consécutifs pour un niveau de contrôle sont du même côté de la moyenne, ou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es deux niveaux de contrôle ont cinq résultats consécutifs du même côté de la moyenn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Line 5"/>
          <p:cNvSpPr/>
          <p:nvPr/>
        </p:nvSpPr>
        <p:spPr>
          <a:xfrm>
            <a:off x="4724280" y="838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Espace réservé du pied de page 1"/>
          <p:cNvSpPr/>
          <p:nvPr/>
        </p:nvSpPr>
        <p:spPr>
          <a:xfrm>
            <a:off x="457200" y="609588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-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7E5CB-0BB0-420B-A6C8-006C914C7BE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99"/>
                </a:solidFill>
                <a:latin typeface="Verdana"/>
              </a:rPr>
              <a:t>QC Multi Règles de Westgard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64" name="Picture 3" descr="flow3"/>
          <p:cNvPicPr/>
          <p:nvPr/>
        </p:nvPicPr>
        <p:blipFill>
          <a:blip r:embed="rId1"/>
          <a:stretch/>
        </p:blipFill>
        <p:spPr>
          <a:xfrm>
            <a:off x="762120" y="1295280"/>
            <a:ext cx="7772400" cy="481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Espace réservé du pied de page 1"/>
          <p:cNvSpPr/>
          <p:nvPr/>
        </p:nvSpPr>
        <p:spPr>
          <a:xfrm>
            <a:off x="457200" y="609588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-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8CFC1-0BB5-49AC-A856-A5B31B3A5B4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65280"/>
            <a:ext cx="7772400" cy="66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99"/>
                </a:solidFill>
                <a:latin typeface="Verdana"/>
              </a:rPr>
              <a:t>Activité</a:t>
            </a:r>
            <a:br>
              <a:rPr sz="3800"/>
            </a:br>
            <a:endParaRPr b="0" lang="en-US" sz="38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837720" y="1371600"/>
            <a:ext cx="7239240" cy="287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300" spc="-1" strike="noStrike">
                <a:solidFill>
                  <a:srgbClr val="000000"/>
                </a:solidFill>
                <a:latin typeface="Verdana"/>
              </a:rPr>
              <a:t>En utilisant le système multi règles de Westgard, décrivez les valeurs de contrôles quotidiennes de la diapositive suivante</a:t>
            </a:r>
            <a:endParaRPr b="0" lang="en-US" sz="4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8T02:26:00Z</dcterms:created>
  <dc:creator>Robin Barteluk</dc:creator>
  <dc:description/>
  <dc:language>en-US</dc:language>
  <cp:lastModifiedBy>dolmazonv</cp:lastModifiedBy>
  <dcterms:modified xsi:type="dcterms:W3CDTF">2010-04-08T14:13:34Z</dcterms:modified>
  <cp:revision>12</cp:revision>
  <dc:subject/>
  <dc:title>Westgard Multirule System</dc:title>
</cp:coreProperties>
</file>