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png" ContentType="image/png"/>
  <Override PartName="/ppt/media/image8.png" ContentType="image/png"/>
  <Override PartName="/ppt/media/image10.wmf" ContentType="image/x-wmf"/>
  <Override PartName="/ppt/media/image4.jpeg" ContentType="image/jpeg"/>
  <Override PartName="/ppt/media/image25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12.png" ContentType="image/png"/>
  <Override PartName="/ppt/media/image20.jpeg" ContentType="image/jpeg"/>
  <Override PartName="/ppt/media/image23.wmf" ContentType="image/x-wmf"/>
  <Override PartName="/ppt/media/image6.wmf" ContentType="image/x-wmf"/>
  <Override PartName="/ppt/media/image5.png" ContentType="image/png"/>
  <Override PartName="/ppt/media/image21.wmf" ContentType="image/x-wmf"/>
  <Override PartName="/ppt/media/image19.wmf" ContentType="image/x-wmf"/>
  <Override PartName="/ppt/media/image16.jpeg" ContentType="image/jpeg"/>
  <Override PartName="/ppt/media/image14.wmf" ContentType="image/x-wmf"/>
  <Override PartName="/ppt/media/image1.jpeg" ContentType="image/jpeg"/>
  <Override PartName="/ppt/media/image22.jpeg" ContentType="image/jpeg"/>
  <Override PartName="/ppt/media/image11.wmf" ContentType="image/x-wmf"/>
  <Override PartName="/ppt/media/image17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EE94-9B62-428C-B285-C69A13FAE0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9C0D-3183-4B1A-9913-C9588E987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A8E704-0DE7-4B49-9462-EF44002B4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79F12D2-875B-4A3B-8075-AC4174985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84BBFA-A4B6-4431-B779-C96F2F98B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99B723A-D66C-4E8A-BCE5-5A13927AC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2B1642-DE29-463F-9F29-5A5CCE052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0903-1AEF-4758-AE91-09C2916E1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DB99BD2-FE31-438F-810E-1F7B982A0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9018-E965-447A-A854-486ED39B0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0F8A1D-8FB1-409A-93F0-DD27B44EA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F5843F3-B7C8-45BC-9BDB-721BC0B8A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C0BD8D-22F5-4D5E-A1F4-FE5F42F0A5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851E55-6BE0-4741-9A15-F13AC85D7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5B6666-4907-4F4B-899D-8EAFBCDE5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20231E6-A4A7-4231-A764-0DA001FF9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6F1A-6EF0-4BA9-8B81-C05CFADB1D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AAE41-42CC-4442-BA5F-BE75AFC8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3854A54-69A7-4334-8FE4-60FF4B6237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8495D5-1A0B-4004-9A61-79C7F8116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5136203-2F9A-4E02-A493-A6B974E25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CF3EF0-8F41-42A1-9EC9-7A04F15FD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JM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2143B9-530C-4E8B-B6E6-4030A638B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2F2695B-F358-4190-87A0-6202964EB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1CE054-22B6-449B-A9A0-29C26D177CC4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CB5EC9-F833-4EEF-9CBA-A52F419CF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C45502-4CDD-4678-B56C-88C683A5D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FC0D-C827-44F9-AC4D-3EAC9632D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E4810B-3E51-4646-8A7C-67AC661739C2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797479-DE8F-488E-94FC-5DC2461468B9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AB68D1A-59E9-4EC5-9AEB-B617C50A0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152A-3237-4FDE-B459-DBF1A66BA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B6008CA-DA02-47DA-9B4B-42020B4FD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09BE7C8-2E98-4127-98E2-31B326964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CA51C4-DF50-42EC-8AF2-1B9798013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457122-2107-4BC4-A6E1-55FF33B3D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0EBAC22-B983-464A-B6CF-FCD5EBF8B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1657C-5C04-4D29-BFC5-6FE7A41AE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A559A-E349-4D98-9266-4432BEDAB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A89BFF-BA07-4D0D-A2D8-9D19A328F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3A8BA-E810-4C9B-9225-753B46155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49EB0-B8B2-428E-B076-C1045C2149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D1B1D-27CF-4710-B473-B33DBE044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05851-C02F-4354-8F84-3E32EDE49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BBBEF-8132-4A1C-BBA5-22DD6ED56D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3C437E-8028-461F-A53E-E6FA77EA5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EC57A-0DA2-4BA4-82EE-B5974DEE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30AEFC-59B0-4F28-9531-2B48CED2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9A922-7AE2-4401-9FAB-2FB40E2F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DE9C6-B59F-4A52-A4C3-880BFE0A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88427-C550-468F-853B-98A3620B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3B6C1-F9E1-491F-9CA0-FC128B7F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F0303-4547-4B9A-A9E0-E42C8393B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A92AB-4E03-4556-B342-EF781B0FE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08019D-631F-4133-9EAE-D93433C5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B67581-2224-41EF-979A-1A9354DB9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6A6F8-373E-432B-AF36-791F8EA2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0212D-156E-46E0-B6D7-1B648872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FCE9F-C6E9-4E2B-BAF4-AE0A1F0FA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088F7-C59C-41B1-9E9A-46FF99BC1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9AABE-246A-4DE9-87F8-21CBDE7CC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A74DF-36C9-4A18-B0B6-226A066B7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E5711-744D-4AF7-A0FE-0269E4F21D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F9DD3-F60C-4021-85CE-DE9868E3E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03FFA-9EB4-4FC0-B581-3CE6F10DA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F2AB-B6BA-404D-93B2-BAEA52B13A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FD7E4-DFB3-41BF-AB55-4CD2580A3867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FB38-BF2C-414B-AB9B-4F4AC3CD2D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image" Target="../media/image11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1.wmf"/><Relationship Id="rId12" Type="http://schemas.openxmlformats.org/officeDocument/2006/relationships/image" Target="../media/image11.wmf"/><Relationship Id="rId13" Type="http://schemas.openxmlformats.org/officeDocument/2006/relationships/image" Target="../media/image11.wmf"/><Relationship Id="rId14" Type="http://schemas.openxmlformats.org/officeDocument/2006/relationships/image" Target="../media/image11.wmf"/><Relationship Id="rId15" Type="http://schemas.openxmlformats.org/officeDocument/2006/relationships/image" Target="../media/image11.wmf"/><Relationship Id="rId16" Type="http://schemas.openxmlformats.org/officeDocument/2006/relationships/image" Target="../media/image11.wmf"/><Relationship Id="rId17" Type="http://schemas.openxmlformats.org/officeDocument/2006/relationships/image" Target="../media/image11.wmf"/><Relationship Id="rId18" Type="http://schemas.openxmlformats.org/officeDocument/2006/relationships/image" Target="../media/image11.wmf"/><Relationship Id="rId19" Type="http://schemas.openxmlformats.org/officeDocument/2006/relationships/image" Target="../media/image11.wmf"/><Relationship Id="rId20" Type="http://schemas.openxmlformats.org/officeDocument/2006/relationships/image" Target="../media/image11.wmf"/><Relationship Id="rId21" Type="http://schemas.openxmlformats.org/officeDocument/2006/relationships/image" Target="../media/image11.wmf"/><Relationship Id="rId22" Type="http://schemas.openxmlformats.org/officeDocument/2006/relationships/image" Target="../media/image11.wmf"/><Relationship Id="rId23" Type="http://schemas.openxmlformats.org/officeDocument/2006/relationships/image" Target="../media/image11.wmf"/><Relationship Id="rId24" Type="http://schemas.openxmlformats.org/officeDocument/2006/relationships/image" Target="../media/image11.wmf"/><Relationship Id="rId25" Type="http://schemas.openxmlformats.org/officeDocument/2006/relationships/image" Target="../media/image11.wmf"/><Relationship Id="rId26" Type="http://schemas.openxmlformats.org/officeDocument/2006/relationships/image" Target="../media/image11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11.wmf"/><Relationship Id="rId31" Type="http://schemas.openxmlformats.org/officeDocument/2006/relationships/image" Target="../media/image11.wmf"/><Relationship Id="rId32" Type="http://schemas.openxmlformats.org/officeDocument/2006/relationships/image" Target="../media/image11.wmf"/><Relationship Id="rId33" Type="http://schemas.openxmlformats.org/officeDocument/2006/relationships/image" Target="../media/image11.wmf"/><Relationship Id="rId34" Type="http://schemas.openxmlformats.org/officeDocument/2006/relationships/image" Target="../media/image11.wmf"/><Relationship Id="rId35" Type="http://schemas.openxmlformats.org/officeDocument/2006/relationships/image" Target="../media/image11.wmf"/><Relationship Id="rId36" Type="http://schemas.openxmlformats.org/officeDocument/2006/relationships/image" Target="../media/image11.wmf"/><Relationship Id="rId37" Type="http://schemas.openxmlformats.org/officeDocument/2006/relationships/image" Target="../media/image11.wmf"/><Relationship Id="rId38" Type="http://schemas.openxmlformats.org/officeDocument/2006/relationships/image" Target="../media/image11.wmf"/><Relationship Id="rId39" Type="http://schemas.openxmlformats.org/officeDocument/2006/relationships/image" Target="../media/image11.wmf"/><Relationship Id="rId40" Type="http://schemas.openxmlformats.org/officeDocument/2006/relationships/image" Target="../media/image11.wmf"/><Relationship Id="rId41" Type="http://schemas.openxmlformats.org/officeDocument/2006/relationships/image" Target="../media/image11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" name="Text Box 16"/>
          <p:cNvSpPr/>
          <p:nvPr/>
        </p:nvSpPr>
        <p:spPr>
          <a:xfrm>
            <a:off x="2666880" y="1905120"/>
            <a:ext cx="70866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Contrôle des processus :</a:t>
            </a:r>
            <a:br>
              <a:rPr sz="4800"/>
            </a:b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 Qualité pour les tests quantita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8400-975B-4829-B08A-77173B3D8D5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2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AB0A-640B-4C45-A3F1-FA5E37D3E5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ypes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uvent être congelés, lyophilisés, ou conservés chimiqu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e reconstitution très exacte si cette étape es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6" name="Picture 4" descr="pipetting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0B3E-1BD5-4C27-BCD6-5C1E953A8A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rigines d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ercialement préparés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aits sur pla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tenus auprès d’un autre laboratoire, en général laboratoire central ou de référenc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67AC0-4D55-4839-B6F6-857F24DFD4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228600" y="1219320"/>
          <a:ext cx="8610480" cy="466560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cible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érifier puis utilis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6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 dos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ible non prédéterminée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xigé avant utilis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« Maison 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érums maison mélangés</a:t>
                      </a:r>
                      <a:br>
                        <a:rPr sz="2800"/>
                      </a:b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trôle total et valid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F2140-3C70-4D71-AE52-B237FDF8AF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hoisir les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Généralement disponibles en valeur normale, pathologique haute et pathologique bas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Untitled-3"/>
          <p:cNvPicPr/>
          <p:nvPr/>
        </p:nvPicPr>
        <p:blipFill>
          <a:blip r:embed="rId1"/>
          <a:stretch/>
        </p:blipFill>
        <p:spPr>
          <a:xfrm>
            <a:off x="3048120" y="3456000"/>
            <a:ext cx="464796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AB09-8406-463B-A517-5477C9BBF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Préparation et stockage des contrôl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dhérer aux instructions du fabric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Garder la quantité adéquate du même numéro de lo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1600" indent="-2916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tocker correc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4" name="Picture 183" descr="Bottle"/>
          <p:cNvPicPr/>
          <p:nvPr/>
        </p:nvPicPr>
        <p:blipFill>
          <a:blip r:embed="rId1"/>
          <a:stretch/>
        </p:blipFill>
        <p:spPr>
          <a:xfrm>
            <a:off x="5486400" y="4876920"/>
            <a:ext cx="896760" cy="1523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16" name="AutoShape 7"/>
          <p:cNvSpPr/>
          <p:nvPr/>
        </p:nvSpPr>
        <p:spPr>
          <a:xfrm rot="18999600">
            <a:off x="5790960" y="4114440"/>
            <a:ext cx="1098360" cy="533520"/>
          </a:xfrm>
          <a:prstGeom prst="pi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D5E4-3471-45FE-9576-8BDE5ABE3A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Étapes de la mise en oeuvre du CQ quantitatif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-36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btenir le matériel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er le contrôle 20 fois sur 30 jou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lculer la moyenne , l’écart type et 1S, 2S, 3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1" name="Group 61"/>
          <p:cNvGrpSpPr/>
          <p:nvPr/>
        </p:nvGrpSpPr>
        <p:grpSpPr>
          <a:xfrm>
            <a:off x="4724280" y="1828800"/>
            <a:ext cx="4054680" cy="4835880"/>
            <a:chOff x="4724280" y="1828800"/>
            <a:chExt cx="4054680" cy="4835880"/>
          </a:xfrm>
        </p:grpSpPr>
        <p:sp>
          <p:nvSpPr>
            <p:cNvPr id="222" name="Line 23"/>
            <p:cNvSpPr/>
            <p:nvPr/>
          </p:nvSpPr>
          <p:spPr>
            <a:xfrm>
              <a:off x="727488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4"/>
            <p:cNvSpPr/>
            <p:nvPr/>
          </p:nvSpPr>
          <p:spPr>
            <a:xfrm>
              <a:off x="699912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5"/>
            <p:cNvSpPr/>
            <p:nvPr/>
          </p:nvSpPr>
          <p:spPr>
            <a:xfrm>
              <a:off x="699912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26"/>
            <p:cNvSpPr/>
            <p:nvPr/>
          </p:nvSpPr>
          <p:spPr>
            <a:xfrm>
              <a:off x="699912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33"/>
            <p:cNvSpPr/>
            <p:nvPr/>
          </p:nvSpPr>
          <p:spPr>
            <a:xfrm>
              <a:off x="7692840" y="4967280"/>
              <a:ext cx="1086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Moyen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7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732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5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3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60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2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30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61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88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6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7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248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Line 56"/>
            <p:cNvSpPr/>
            <p:nvPr/>
          </p:nvSpPr>
          <p:spPr>
            <a:xfrm>
              <a:off x="699912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57"/>
            <p:cNvSpPr/>
            <p:nvPr/>
          </p:nvSpPr>
          <p:spPr>
            <a:xfrm>
              <a:off x="699912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58"/>
            <p:cNvSpPr/>
            <p:nvPr/>
          </p:nvSpPr>
          <p:spPr>
            <a:xfrm>
              <a:off x="699912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59"/>
            <p:cNvSpPr/>
            <p:nvPr/>
          </p:nvSpPr>
          <p:spPr>
            <a:xfrm>
              <a:off x="699912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3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8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36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60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56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84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732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8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60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48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3000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84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36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36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3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2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Text Box 85"/>
            <p:cNvSpPr/>
            <p:nvPr/>
          </p:nvSpPr>
          <p:spPr>
            <a:xfrm>
              <a:off x="7752240" y="44578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91"/>
            <p:cNvSpPr/>
            <p:nvPr/>
          </p:nvSpPr>
          <p:spPr>
            <a:xfrm>
              <a:off x="7752240" y="55382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92"/>
            <p:cNvSpPr/>
            <p:nvPr/>
          </p:nvSpPr>
          <p:spPr>
            <a:xfrm>
              <a:off x="7752240" y="408348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93"/>
            <p:cNvSpPr/>
            <p:nvPr/>
          </p:nvSpPr>
          <p:spPr>
            <a:xfrm>
              <a:off x="7752240" y="35744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94"/>
            <p:cNvSpPr/>
            <p:nvPr/>
          </p:nvSpPr>
          <p:spPr>
            <a:xfrm>
              <a:off x="7752240" y="590184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5"/>
            <p:cNvSpPr/>
            <p:nvPr/>
          </p:nvSpPr>
          <p:spPr>
            <a:xfrm>
              <a:off x="7752240" y="6265800"/>
              <a:ext cx="435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9B21E-CA9B-4312-8BD4-497F810AFF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 de la fluctu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 fluctuation est un évènement normal quand un contrôle est testé de façon répét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ffectée par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6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7"/>
          <p:cNvSpPr/>
          <p:nvPr/>
        </p:nvSpPr>
        <p:spPr>
          <a:xfrm>
            <a:off x="533520" y="3048120"/>
            <a:ext cx="228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chnique  opératoir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2819520" y="28954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ditions  environnement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6114960" y="297180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aractéristiques des performances de l’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Verdana"/>
              </a:rPr>
              <a:t>Le but est de différencier la fluctuation due au hasard de celle due à une err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D9D24-E99A-4483-AFDA-39EE29FEA8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ensemble des données est distribué autour d’une valeur centra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CB1B-4D3E-475D-AD1D-CD06C5CB72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s d’une distribution normal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09480" y="1676520"/>
          <a:ext cx="8153640" cy="3825720"/>
        </p:xfrm>
        <a:graphic>
          <a:graphicData uri="http://schemas.openxmlformats.org/drawingml/2006/table">
            <a:tbl>
              <a:tblPr/>
              <a:tblGrid>
                <a:gridCol w="1981440"/>
                <a:gridCol w="617220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a le plus grand effecti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62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dia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ur qui permet de partager la série en deux parties de même nombre d'élé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yenne arithmétique des résulta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0FF6-CA04-4768-80FB-88975B582E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es valeurs ne sont pas toutes les même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03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04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22"/>
          <p:cNvSpPr/>
          <p:nvPr/>
        </p:nvSpPr>
        <p:spPr>
          <a:xfrm>
            <a:off x="4268880" y="16765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5"/>
          <p:cNvSpPr/>
          <p:nvPr/>
        </p:nvSpPr>
        <p:spPr>
          <a:xfrm>
            <a:off x="4560840" y="23432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édi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7"/>
          <p:cNvSpPr/>
          <p:nvPr/>
        </p:nvSpPr>
        <p:spPr>
          <a:xfrm>
            <a:off x="2338560" y="16002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0"/>
          <p:cNvSpPr/>
          <p:nvPr/>
        </p:nvSpPr>
        <p:spPr>
          <a:xfrm>
            <a:off x="3490920" y="609588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Mes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89CC-F7A7-4333-98A8-FC1664715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ifférencier justesse/exactitude et préc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le matériel de contrôle pour le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limites acceptables de contrôle pour une méthode lorsque seulement un niveau de matériel de contrôle est disponi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pliquer l’utilisation des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crire comment corriger les problèmes apparaissant « en dehors de tout contrôle 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373B-0ECE-4D3E-B54B-2D8FEFEB8D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ymboles utilisé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omme 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=nombre de mes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fr-FR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fr-FR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= toutes les mesures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(1 à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X  représente la moyen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93F08-1CA4-43F0-8921-CC9583A044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0" name="Rectangle 4"/>
          <p:cNvSpPr/>
          <p:nvPr/>
        </p:nvSpPr>
        <p:spPr>
          <a:xfrm>
            <a:off x="0" y="2881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  = Moy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Prem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fr-FR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= Second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fr-FR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Dernière me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= Nombre total de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C36E5-58EA-4EBD-82A3-B2571E424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Exemple</a:t>
            </a:r>
            <a:br>
              <a:rPr sz="1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cul de la moyenne: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ests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ELISA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ez le contrôle 20 fois sur 30 jours. Enregistrer les valeurs de DO et les valeurs des cut off pour chaque mesur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visez la DO par la CO (OD/CO) pour chaque point ou observation. Cela standardise les donnée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ditionnez les ratios et divisez par le nombre de mesures pour obtenir la moyenn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4CD3-392A-4ECA-B017-339163F595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6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onnées présentant une valeur aberrante ou “outlier”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495320" y="15235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0F841-BA1C-40D2-8653-4B90F96AC8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stribution norma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tribution symétrique de toutes les valeurs autour de la moyenn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orme en cloche caractéristiq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umée pour toutes les statistiques du contrôle qual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8"/>
          <p:cNvGrpSpPr/>
          <p:nvPr/>
        </p:nvGrpSpPr>
        <p:grpSpPr>
          <a:xfrm>
            <a:off x="5562720" y="3962520"/>
            <a:ext cx="3276360" cy="2286000"/>
            <a:chOff x="5562720" y="3962520"/>
            <a:chExt cx="3276360" cy="2286000"/>
          </a:xfrm>
        </p:grpSpPr>
        <p:sp>
          <p:nvSpPr>
            <p:cNvPr id="339" name="Freeform 9"/>
            <p:cNvSpPr/>
            <p:nvPr/>
          </p:nvSpPr>
          <p:spPr>
            <a:xfrm>
              <a:off x="5564520" y="3962520"/>
              <a:ext cx="3271320" cy="217116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0"/>
            <p:cNvSpPr/>
            <p:nvPr/>
          </p:nvSpPr>
          <p:spPr>
            <a:xfrm>
              <a:off x="5562720" y="6118200"/>
              <a:ext cx="327636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"/>
            <p:cNvSpPr/>
            <p:nvPr/>
          </p:nvSpPr>
          <p:spPr>
            <a:xfrm>
              <a:off x="7200360" y="4070520"/>
              <a:ext cx="720" cy="2178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12"/>
          <p:cNvSpPr/>
          <p:nvPr/>
        </p:nvSpPr>
        <p:spPr>
          <a:xfrm rot="16200000">
            <a:off x="4109040" y="4881960"/>
            <a:ext cx="205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Fréqu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553080" y="6172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oyen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578E-B0C6-4682-81B0-D8F65C156A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e l’exactitude et la précision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533520" y="609480"/>
            <a:ext cx="8076960" cy="21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e contrôle qualité est utilisé pour vérifier l’exactitude et la précision d’une analy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MCDD00744_0000[1]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ECC1-E1BE-4F9A-92CD-4C5CFDD24B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533520" y="1676520"/>
          <a:ext cx="8229600" cy="423072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actitu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sultat de mesure qui est le plus proche de la valeur vrai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éc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Écart (fluctuation) des valeurs entre elle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803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Différence entre le résultat attendu de l’analyse et une valeur de référence acceptée.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3ADB8-BCB4-433A-9CD0-00B4388ADB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xactitude et Pré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57" name="Picture 59" descr="Untitled-2"/>
          <p:cNvPicPr/>
          <p:nvPr/>
        </p:nvPicPr>
        <p:blipFill>
          <a:blip r:embed="rId1"/>
          <a:stretch/>
        </p:blipFill>
        <p:spPr>
          <a:xfrm>
            <a:off x="457200" y="1446120"/>
            <a:ext cx="8001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3C968-E39E-4FA4-810A-25A9871654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Écart-type et probabilité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orsque les mesures sont normalement distribuées (distribution normale des valeurs), une valeur tombera dans l’interval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S : 68.3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2S : 95.5% du temps</a:t>
            </a:r>
            <a:br>
              <a:rPr sz="2400"/>
            </a:br>
            <a:br>
              <a:rPr sz="2400"/>
            </a:br>
            <a:r>
              <a:rPr b="1" lang="fr-FR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3S : 99.7% du tem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6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364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365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366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67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fr-FR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400" spc="-1" strike="noStrike">
                  <a:solidFill>
                    <a:srgbClr val="000099"/>
                  </a:solidFill>
                  <a:latin typeface="Arial"/>
                </a:rPr>
                <a:t>Fréque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-    2s     -1s       Moyenne  +1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fr-FR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4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96E7-68A9-4AEA-A59C-9270638C58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Ecart type (S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8" name="Object 3"/>
              <p:cNvSpPr txBox="1"/>
              <p:nvPr/>
            </p:nvSpPr>
            <p:spPr>
              <a:xfrm>
                <a:off x="2306520" y="3124080"/>
                <a:ext cx="387360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89" name="Rectangle 6"/>
          <p:cNvSpPr/>
          <p:nvPr/>
        </p:nvSpPr>
        <p:spPr>
          <a:xfrm>
            <a:off x="304920" y="14479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 est la mesure principale de la dispersion utilisée a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Écart-type – Formule stati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3C45-DD7B-4AF5-91A6-3F3A8FD392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39" name="Picture 65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1828800" y="132552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62D68-FFB9-4EA8-A851-200CB3BACD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oefficient de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83908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oefficient de variation (CV) est le S exprimé en pourcentage de la moyenn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ntrôler la pré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utilisé pour comparer des méthod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CV est idéalement inférieur à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Object 4"/>
              <p:cNvSpPr txBox="1"/>
              <p:nvPr/>
            </p:nvSpPr>
            <p:spPr>
              <a:xfrm>
                <a:off x="1752480" y="2514600"/>
                <a:ext cx="558972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oyenn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95A9-B26E-4AC8-B38F-F38FAEE0F4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9" name="Text Box 118"/>
          <p:cNvSpPr/>
          <p:nvPr/>
        </p:nvSpPr>
        <p:spPr>
          <a:xfrm>
            <a:off x="685800" y="137160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Représentation graphique des intervalles des valeurs du contrôle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6811B-1B6E-4ECE-8DA0-D0C0581429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Statistiques pour le CQ Quantitatif 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05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5900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5"/>
          <p:cNvSpPr/>
          <p:nvPr/>
        </p:nvSpPr>
        <p:spPr>
          <a:xfrm>
            <a:off x="228600" y="1676520"/>
            <a:ext cx="8610480" cy="41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sez le contrôle au moins 20 fois sur 20 à 30 j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’assurer que les variations liées aux fluctuations sont représent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lculez la moyenne et </a:t>
            </a:r>
            <a:r>
              <a:rPr b="0" lang="fr-FR" sz="3200" spc="-1" strike="noStrike" u="sng">
                <a:solidFill>
                  <a:srgbClr val="000000"/>
                </a:solidFill>
                <a:uFillTx/>
                <a:latin typeface="Verdana"/>
                <a:ea typeface="ＭＳ Ｐゴシック"/>
              </a:rPr>
              <a:t>+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1, 2 et 3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608A-8116-4F3A-8962-16D6E49926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99"/>
                </a:solidFill>
                <a:latin typeface="Verdana"/>
              </a:rPr>
              <a:t>Tracer des lignes pour la moyenne et les écarts types</a:t>
            </a:r>
            <a:br>
              <a:rPr sz="2800"/>
            </a:b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fr-FR" sz="1600" spc="-1" strike="noStrike">
                <a:solidFill>
                  <a:srgbClr val="000099"/>
                </a:solidFill>
                <a:latin typeface="Verdana"/>
              </a:rPr>
              <a:t>calculés à partir de 20 mesures</a:t>
            </a:r>
            <a:r>
              <a:rPr b="0" lang="fr-FR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1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Box 25"/>
          <p:cNvSpPr/>
          <p:nvPr/>
        </p:nvSpPr>
        <p:spPr>
          <a:xfrm flipH="1">
            <a:off x="228600" y="16002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om du diagramm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Box 26"/>
          <p:cNvSpPr/>
          <p:nvPr/>
        </p:nvSpPr>
        <p:spPr>
          <a:xfrm>
            <a:off x="4952880" y="1600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Numéro de lot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B6DD-BC53-4D3C-A796-7CA1B8203D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39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40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43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56"/>
          <p:cNvSpPr/>
          <p:nvPr/>
        </p:nvSpPr>
        <p:spPr>
          <a:xfrm>
            <a:off x="8367480" y="329256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757"/>
          <p:cNvSpPr/>
          <p:nvPr/>
        </p:nvSpPr>
        <p:spPr>
          <a:xfrm>
            <a:off x="8367480" y="28242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758"/>
          <p:cNvSpPr/>
          <p:nvPr/>
        </p:nvSpPr>
        <p:spPr>
          <a:xfrm>
            <a:off x="8367480" y="404352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759"/>
          <p:cNvSpPr/>
          <p:nvPr/>
        </p:nvSpPr>
        <p:spPr>
          <a:xfrm>
            <a:off x="8367480" y="45766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765"/>
          <p:cNvSpPr/>
          <p:nvPr/>
        </p:nvSpPr>
        <p:spPr>
          <a:xfrm>
            <a:off x="8367480" y="503388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766"/>
          <p:cNvSpPr/>
          <p:nvPr/>
        </p:nvSpPr>
        <p:spPr>
          <a:xfrm>
            <a:off x="8367480" y="2367000"/>
            <a:ext cx="51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3"/>
          <p:cNvSpPr/>
          <p:nvPr/>
        </p:nvSpPr>
        <p:spPr>
          <a:xfrm>
            <a:off x="4038120" y="615312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55"/>
          <p:cNvSpPr/>
          <p:nvPr/>
        </p:nvSpPr>
        <p:spPr>
          <a:xfrm>
            <a:off x="685800" y="144792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r les résultats des contrôles quotidi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732D-0D94-4C65-939B-05C6B25700B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Nombre de contrô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interprétation dépend du nombre de contrôles passés avec les échantillons de pati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Bon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un niveau de contrôle 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cceptez les résultats si le contrôle est dans ± 2SD à moins d’un déplacement ou d’une tend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spcBef>
                <a:spcPts val="34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Mieux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Si deux niveaux de contrôle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ppliquez le système multi règles de Westgar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0D66-B681-41F2-9484-A9BBBC86A9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Détection d’erreu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aléatoir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 dispersion des résultats de CQ sans motif – une seule cause de rejection si en dehors de 2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rreur systématique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 pas acceptable,  corriger la source de l’erreu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xemples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placement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du même côté de la moyenne 6 jours consécu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Tendance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– contrôle se déplaçant dans une direction – se dirige vers une val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ABDE1-7D0C-4ABC-BEE6-3E553B9865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1200"/>
            </a:b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Déplacemen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97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B999-CED6-450B-8A39-E8461FB458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Diagramme de Levey-Jennings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Tendance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755"/>
          <p:cNvSpPr/>
          <p:nvPr/>
        </p:nvSpPr>
        <p:spPr>
          <a:xfrm>
            <a:off x="8056440" y="3657600"/>
            <a:ext cx="10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Moy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756"/>
          <p:cNvSpPr/>
          <p:nvPr/>
        </p:nvSpPr>
        <p:spPr>
          <a:xfrm>
            <a:off x="8367480" y="329256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757"/>
          <p:cNvSpPr/>
          <p:nvPr/>
        </p:nvSpPr>
        <p:spPr>
          <a:xfrm>
            <a:off x="8367480" y="28242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758"/>
          <p:cNvSpPr/>
          <p:nvPr/>
        </p:nvSpPr>
        <p:spPr>
          <a:xfrm>
            <a:off x="8367480" y="404352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1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759"/>
          <p:cNvSpPr/>
          <p:nvPr/>
        </p:nvSpPr>
        <p:spPr>
          <a:xfrm>
            <a:off x="8367480" y="45766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2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765"/>
          <p:cNvSpPr/>
          <p:nvPr/>
        </p:nvSpPr>
        <p:spPr>
          <a:xfrm>
            <a:off x="8367480" y="5033880"/>
            <a:ext cx="5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-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766"/>
          <p:cNvSpPr/>
          <p:nvPr/>
        </p:nvSpPr>
        <p:spPr>
          <a:xfrm>
            <a:off x="8367480" y="2367000"/>
            <a:ext cx="5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+3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962160" y="6000840"/>
            <a:ext cx="73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J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26"/>
          <p:cNvSpPr/>
          <p:nvPr/>
        </p:nvSpPr>
        <p:spPr>
          <a:xfrm>
            <a:off x="1555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7"/>
          <p:cNvSpPr/>
          <p:nvPr/>
        </p:nvSpPr>
        <p:spPr>
          <a:xfrm>
            <a:off x="1555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1"/>
          <p:cNvSpPr/>
          <p:nvPr/>
        </p:nvSpPr>
        <p:spPr>
          <a:xfrm>
            <a:off x="13464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B673-0047-41DC-98C8-D90E1F5A2C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Mesure de l’incertitud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tervalle de valeur dans lequel la valeur vraie peut raisonnablement se trouver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stimée à un niveau de confiance de 95%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lus la méthode est précise, plus faible est la quantité de dispersion dans l’intervalle de 95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115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a plupart des cas, un intervalle de +/- 2S est accepté comme mesure de l’incertitude, expliqué par la fluctuation aléatoire.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3D6F9-9FFD-4728-B271-9087ABBD13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Tests Quantitati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esurent la quantité d’une substance particulière dans un échantillon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contrôle qualité pour les tests quantitatifs est conçu pour s’assurer que les résultats sont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ac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Fiabl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836B2-D0C0-4DE3-857C-6650F7EEEA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Si CQ hors contrôle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Verdana"/>
              </a:rPr>
              <a:t>Arrêtez les 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z et corrigez le problè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passez les échantillons de patients et les contrôles après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4320" indent="-2743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as de compte-rendu des résultats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ant que le problème n’est pas résolu et que les contrôles ne sont pas corrects.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4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D2052-D3FC-4CE3-B81D-490BE9F71D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oudre les problèm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problème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 référer aux lignes de conduite et procédures pour les actions de corre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Picture 4" descr="spy_guy"/>
          <p:cNvPicPr/>
          <p:nvPr/>
        </p:nvPicPr>
        <p:blipFill>
          <a:blip r:embed="rId1"/>
          <a:stretch/>
        </p:blipFill>
        <p:spPr>
          <a:xfrm>
            <a:off x="6400800" y="68580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5" descr="4_log_book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DF05-4ACB-44A3-9B7A-71EAE8F2BF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Problèmes possibl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es réactifs ou des ki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gradation du matériel de contrô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manipulation de l’opérate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ans le suivi des instructions du fabrican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nuel de procédure dépassé, obsolèt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aut de l’équip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rreur de calibr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CCD51-B6E0-403E-A5B3-7C954A9381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Un programme de contrôle qualité des tests quantitatifs est essentiel. Il devra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touts les tests quantitatif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osséder des lignes de conduite et procédures écrites suivies pa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voir un responsable qualité contrôlant et révisant les données du CQ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er une analyse statistique, conserver de bons enregistrements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ener à bien des actions correctives et de résolution de problè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Espace réservé du pied de page 3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3C76D-D50F-49A0-B104-C3C3831A89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de CQ permet au laboratoire de différencier les fluctuations normales des erreu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gramme CQ contrôle l’exactitude et la précision des analyses du laboratoir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ésultats des patients ne devraient jamais être rendus si les résultats du contrôle qualité pour l’analyse en cours ne correspondent pas aux valeurs cibles du laboratoire.</a:t>
            </a: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3526B-DC7C-4940-BED2-D3759D62F7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714640" y="2133720"/>
            <a:ext cx="3429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Verdana"/>
              </a:rPr>
              <a:t>Commentaires?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616" name="Picture 12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04920" y="927000"/>
            <a:ext cx="5181480" cy="49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5EE3-A450-45A5-A238-31C71D0AC9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Étapes de la mise en oeuvre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294920"/>
            <a:ext cx="85341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réer des lignes de conduite et des procédur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ttribuer les responsabilités, former le personn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électionner du bon matériel de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Établir des intervalles et limites de contrô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velopper des graphiques pour relever les valeurs du contrôle - diagrammes de Levey-Jenning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ntrôler les valeurs du contrô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registrer toutes les actions entrepris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8880" indent="-5788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305C0-DF28-4B40-A864-1603E26E24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Qu’est ce qu’un contrôle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tériel qui contient la substance à analys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s sont testés en même temps que les échantillons de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é pour valider la fiabilité du système d’analyse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après la calibration de l’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16680" indent="-2372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sé périodiquement pendant l’analy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E30B-9777-4870-8DEE-2EE683872F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librateurs ou Contrôles 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156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E2A0-1C79-497C-839E-8C216C7C83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99"/>
                </a:solidFill>
                <a:latin typeface="Verdana"/>
              </a:rPr>
              <a:t>Calibrateurs</a:t>
            </a:r>
            <a:r>
              <a:rPr b="1" lang="fr-FR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Substance avec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concentration spécifique.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Utilisés pour calibrer les 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points de mesure sur une</a:t>
            </a:r>
            <a:br>
              <a:rPr sz="2000"/>
            </a:br>
            <a:r>
              <a:rPr b="1" lang="fr-FR" sz="2000" spc="-1" strike="noStrike">
                <a:solidFill>
                  <a:srgbClr val="000099"/>
                </a:solidFill>
                <a:latin typeface="Verdana"/>
              </a:rPr>
              <a:t>échel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Contrôles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Substance similaire aux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s de patient, à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ne concentration établie 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Utilisés pour s’assurer qu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 procédure fonctionne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correct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162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213560" y="3897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16866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0"/>
            <p:cNvSpPr/>
            <p:nvPr/>
          </p:nvSpPr>
          <p:spPr>
            <a:xfrm>
              <a:off x="214380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2"/>
            <p:cNvSpPr/>
            <p:nvPr/>
          </p:nvSpPr>
          <p:spPr>
            <a:xfrm>
              <a:off x="2676960" y="3809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3"/>
            <p:cNvSpPr/>
            <p:nvPr/>
          </p:nvSpPr>
          <p:spPr>
            <a:xfrm>
              <a:off x="3362760" y="388584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175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pied de page 1"/>
          <p:cNvSpPr/>
          <p:nvPr/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Q Quantitatif  - Modul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888F-4DBB-44D2-8A85-1C98242738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99"/>
                </a:solidFill>
                <a:latin typeface="Verdana"/>
              </a:rPr>
              <a:t>Caractéristiques des contrôle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appropriés pour le test cibl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Valeurs proches des niveaux pour lesquels une décision médicale est pri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imilaires aux échantillons de pat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sponibles en grande quantité, idéalement suffisamment pour 1 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uvent être stockés dans de petits aliquo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05:59:41Z</dcterms:created>
  <dc:creator>exw2</dc:creator>
  <dc:description/>
  <dc:language>en-US</dc:language>
  <cp:lastModifiedBy>dolmazonv</cp:lastModifiedBy>
  <dcterms:modified xsi:type="dcterms:W3CDTF">2010-04-07T16:49:58Z</dcterms:modified>
  <cp:revision>621</cp:revision>
  <dc:subject/>
  <dc:title>Slide 1</dc:title>
</cp:coreProperties>
</file>