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media/image12.png" ContentType="image/png"/>
  <Override PartName="/ppt/media/image7.wmf" ContentType="image/x-wmf"/>
  <Override PartName="/ppt/media/image11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708FC-D43E-4F5C-96CD-D211929136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408C9-D911-4563-9DC6-3CA3B32812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8DD21-473B-4DC9-AEBA-F2F8BCD5FD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97D4FAC-BF83-4FE0-B955-3ECB8D5AB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88EF2-B183-49A6-BF48-E3CDB1105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22C296A-A9B1-46CE-9863-BCB1CF685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77B63BD-CC92-4BE2-99AA-B992C0A31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0DB35A2-BAB2-4E61-93CC-87DE32394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C757595-D231-4E36-8045-1E4AC808C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A847883-CBCB-4B55-A12F-FCAF43F3D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73BDA-5CD3-49B2-889A-A5B040B3B2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E0D13-60A8-449A-8ACB-D7EBC50750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0852E-2695-4CB7-BEA0-D1F44FB6A5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5852A-BDF8-4852-9580-CBBFC9C937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2EEDF-2C00-492B-BBE2-1DC5709A6F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4F32-DBCE-42EA-B8B7-C7D47324711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2CF0-501E-494E-B17C-BC4B0CEFFC4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D594-AE7E-4EFF-A036-CA1CE09F17A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8D82-3014-4D29-BE64-1E2288A76D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8D59-AF6D-49FB-9A92-C3C9EE98202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A757-523D-4CFD-9688-2CE61F8CD26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3349-CE3C-49D2-A28C-D2ED394E4A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79B07-10A2-401C-97CC-08959CD188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062D-8D1C-408F-844C-EF076438F2F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AEBB-58B2-41A9-B0A8-155B091CD9C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D32A-3156-465F-8A18-82E6C6A7713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FA97-AB63-4A4D-80C5-690741AE39F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BFE2-108B-4519-BC67-C367F2557F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D823B-C34F-4DA8-8BD2-25237C4041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F8F5D-A388-4667-8516-7F89B2F75D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24CD4-BF50-4C9D-9CFB-B0271328B7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E1ADC-D6CC-4C27-9A5A-D4A2464DBB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AC87D-C3AC-409F-8A28-2BE8AEA497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7443F-D222-428F-948B-50B58D131F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AF3BC-E645-4587-8133-4B4AB942A8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 au Contrôle de la Qualitél-Modul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732DF-43FF-495A-B418-0154E727DC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B2D31-2B22-4CBA-8CE2-199D49828A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A8811-11D4-4856-A9CA-7F82C217CA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Text Box 16"/>
          <p:cNvSpPr/>
          <p:nvPr/>
        </p:nvSpPr>
        <p:spPr>
          <a:xfrm>
            <a:off x="2819520" y="1447920"/>
            <a:ext cx="6172200" cy="28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Verdana"/>
              </a:rPr>
              <a:t>Contrôle des processus :</a:t>
            </a:r>
            <a:br>
              <a:rPr sz="4400"/>
            </a:b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Introduction au Contrôl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67BE0-27BC-4E00-8786-0F8A103929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 C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rtie importante du système de gestion de la qual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but est de détecter les erreurs et les éliminer avant que les résultats ne soient rend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ifférents processus de CQ sont appliqués pour contrôler les examens quantitatifs, qualitatifs et semi quantitatif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0E916-8940-46AB-930B-DFB4B58C27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562720" y="762120"/>
            <a:ext cx="35812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 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6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533520" y="990720"/>
            <a:ext cx="4647960" cy="4460760"/>
          </a:xfrm>
          <a:prstGeom prst="rect">
            <a:avLst/>
          </a:prstGeom>
          <a:ln w="0">
            <a:noFill/>
          </a:ln>
        </p:spPr>
      </p:pic>
      <p:sp>
        <p:nvSpPr>
          <p:cNvPr id="197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61228-44A7-480A-A33C-8402E579AC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fin du module, les participants seront en mesure de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inir le contrôle qualité et décrire sa relation avec le système général de gestion de la qualité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crire les différences existantes entre les tests quantitatifs, semi quantitatifs et qualitatif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E56DE-192B-4C1C-A656-D9861C6361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36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648320" cy="4460760"/>
          </a:xfrm>
          <a:prstGeom prst="rect">
            <a:avLst/>
          </a:prstGeom>
          <a:ln w="0">
            <a:noFill/>
          </a:ln>
        </p:spPr>
      </p:pic>
      <p:sp>
        <p:nvSpPr>
          <p:cNvPr id="137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6B278-9F95-40A0-BB5C-7201FAC54A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é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Le Contrôle Qualité (CQ)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st la  partie de la gestion de la qualité se concentrant sur les exigences qualité à remplir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(ISO 9000:2000, 3.2.10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l s’agit d’examiner un matériel de « contrôle » de nature connue, avec les échantillons, pour vérifier la justesse et la précision du processus analytique dans son ensemble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300BC-676A-41DE-8CE0-0F2016259E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Bu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16765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ffff00"/>
                </a:solidFill>
                <a:latin typeface="Verdana"/>
              </a:rPr>
              <a:t>Le but du CQ est de détecter les erreurs et de les corriger avant que les résultats du patient ne soient rendu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F5839-07C2-43F8-9394-C2220E15C3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nalyses quantita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Mesure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la quantité d’une substance particulière dans un échantill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9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50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51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3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7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mesures devraient être exactes et préc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8" descr="10040_lores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161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5F869-47C1-40B2-AF2E-C8C3E675C2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éthodes d’analyse qualitativ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nalyses qui ne donnent pas de résultats numériqu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roissance ou pas de croiss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ositif ou négati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ctif ou non réactif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angement de coul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5" name="Picture 8" descr="qc_growth_poor_growth_cdc"/>
          <p:cNvPicPr/>
          <p:nvPr/>
        </p:nvPicPr>
        <p:blipFill>
          <a:blip r:embed="rId1"/>
          <a:stretch/>
        </p:blipFill>
        <p:spPr>
          <a:xfrm>
            <a:off x="6781680" y="1828800"/>
            <a:ext cx="2230560" cy="1494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pos_neg-urease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qc_pos_neg_latex_agglut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168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9DC4A-441B-4693-868B-123A8F74EC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Méthodes d’analyse semi quantitativ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81520" indent="-28152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résultats sont exprimés par une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estimation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de la quantité présente de la substance mesurée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1520" indent="-281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ce”, “quantité modérée,” ou “1+, 2+ ou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520" indent="-281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ombre de cellules vues par champ au microscop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520" indent="-281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itres et dilutions dans les tests sérologiq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9BECE-66BD-4E00-A499-628D20051E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457200" y="609480"/>
            <a:ext cx="8458200" cy="5638680"/>
            <a:chOff x="457200" y="609480"/>
            <a:chExt cx="8458200" cy="5638680"/>
          </a:xfrm>
        </p:grpSpPr>
        <p:grpSp>
          <p:nvGrpSpPr>
            <p:cNvPr id="175" name="Group 6"/>
            <p:cNvGrpSpPr/>
            <p:nvPr/>
          </p:nvGrpSpPr>
          <p:grpSpPr>
            <a:xfrm>
              <a:off x="457200" y="609480"/>
              <a:ext cx="8381520" cy="5638680"/>
              <a:chOff x="457200" y="609480"/>
              <a:chExt cx="8381520" cy="5638680"/>
            </a:xfrm>
          </p:grpSpPr>
          <p:sp>
            <p:nvSpPr>
              <p:cNvPr id="176" name="AutoShape 5"/>
              <p:cNvSpPr/>
              <p:nvPr/>
            </p:nvSpPr>
            <p:spPr>
              <a:xfrm>
                <a:off x="457200" y="609480"/>
                <a:ext cx="8381520" cy="563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_s10255"/>
              <p:cNvSpPr/>
              <p:nvPr/>
            </p:nvSpPr>
            <p:spPr>
              <a:xfrm flipH="1">
                <a:off x="2657520" y="3428640"/>
                <a:ext cx="995040" cy="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_s10254"/>
              <p:cNvSpPr/>
              <p:nvPr/>
            </p:nvSpPr>
            <p:spPr>
              <a:xfrm>
                <a:off x="666720" y="2759040"/>
                <a:ext cx="1990440" cy="1338840"/>
              </a:xfrm>
              <a:prstGeom prst="rect">
                <a:avLst/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800" spc="-1" strike="noStrike">
                    <a:solidFill>
                      <a:srgbClr val="000000"/>
                    </a:solidFill>
                    <a:latin typeface="Verdana"/>
                  </a:rPr>
                  <a:t>Revue des</a:t>
                </a:r>
                <a:br>
                  <a:rPr sz="2800"/>
                </a:br>
                <a:r>
                  <a:rPr b="1" lang="fr-FR" sz="2800" spc="-1" strike="noStrike">
                    <a:solidFill>
                      <a:srgbClr val="000000"/>
                    </a:solidFill>
                    <a:latin typeface="Verdana"/>
                  </a:rPr>
                  <a:t> données</a:t>
                </a:r>
                <a:br>
                  <a:rPr sz="2800"/>
                </a:br>
                <a:r>
                  <a:rPr b="1" lang="fr-FR" sz="2800" spc="-1" strike="noStrike">
                    <a:solidFill>
                      <a:srgbClr val="000000"/>
                    </a:solidFill>
                    <a:latin typeface="Verdana"/>
                  </a:rPr>
                  <a:t> CQ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_s10253"/>
              <p:cNvSpPr/>
              <p:nvPr/>
            </p:nvSpPr>
            <p:spPr>
              <a:xfrm>
                <a:off x="4647960" y="4098240"/>
                <a:ext cx="0" cy="66924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_s10252"/>
              <p:cNvSpPr/>
              <p:nvPr/>
            </p:nvSpPr>
            <p:spPr>
              <a:xfrm>
                <a:off x="3652560" y="4767840"/>
                <a:ext cx="1990440" cy="1339560"/>
              </a:xfrm>
              <a:prstGeom prst="rect">
                <a:avLst/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Assurer </a:t>
                </a:r>
                <a:br>
                  <a:rPr sz="1900"/>
                </a:b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une </a:t>
                </a:r>
                <a:br>
                  <a:rPr sz="1900"/>
                </a:b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documentation</a:t>
                </a:r>
                <a:br>
                  <a:rPr sz="1900"/>
                </a:b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complète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_s10251"/>
              <p:cNvSpPr/>
              <p:nvPr/>
            </p:nvSpPr>
            <p:spPr>
              <a:xfrm>
                <a:off x="5643000" y="3428640"/>
                <a:ext cx="995040" cy="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_s10250"/>
              <p:cNvSpPr/>
              <p:nvPr/>
            </p:nvSpPr>
            <p:spPr>
              <a:xfrm>
                <a:off x="6638400" y="2759040"/>
                <a:ext cx="1990800" cy="1338840"/>
              </a:xfrm>
              <a:prstGeom prst="rect">
                <a:avLst/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Verdana"/>
                  </a:rPr>
                  <a:t>Formez</a:t>
                </a:r>
                <a:br>
                  <a:rPr sz="2400"/>
                </a:br>
                <a:r>
                  <a:rPr b="1" lang="fr-FR" sz="2400" spc="-1" strike="noStrike">
                    <a:solidFill>
                      <a:srgbClr val="000000"/>
                    </a:solidFill>
                    <a:latin typeface="Verdana"/>
                  </a:rPr>
                  <a:t> tout le</a:t>
                </a:r>
                <a:br>
                  <a:rPr sz="2400"/>
                </a:br>
                <a:r>
                  <a:rPr b="1" lang="fr-FR" sz="2400" spc="-1" strike="noStrike">
                    <a:solidFill>
                      <a:srgbClr val="000000"/>
                    </a:solidFill>
                    <a:latin typeface="Verdana"/>
                  </a:rPr>
                  <a:t> personne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_s10249"/>
              <p:cNvSpPr/>
              <p:nvPr/>
            </p:nvSpPr>
            <p:spPr>
              <a:xfrm flipV="1">
                <a:off x="4647960" y="2089440"/>
                <a:ext cx="0" cy="66924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_s10248"/>
              <p:cNvSpPr/>
              <p:nvPr/>
            </p:nvSpPr>
            <p:spPr>
              <a:xfrm>
                <a:off x="3652560" y="750600"/>
                <a:ext cx="1990440" cy="1338840"/>
              </a:xfrm>
              <a:prstGeom prst="rect">
                <a:avLst/>
              </a:prstGeom>
              <a:blipFill rotWithShape="0">
                <a:blip r:embed="rId4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Créer des lignes</a:t>
                </a:r>
                <a:br>
                  <a:rPr sz="1600"/>
                </a:b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 de conduite</a:t>
                </a:r>
                <a:br>
                  <a:rPr sz="1600"/>
                </a:b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 et procédures</a:t>
                </a:r>
                <a:br>
                  <a:rPr sz="1600"/>
                </a:b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écrit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_s10247"/>
              <p:cNvSpPr/>
              <p:nvPr/>
            </p:nvSpPr>
            <p:spPr>
              <a:xfrm>
                <a:off x="3652560" y="2759040"/>
                <a:ext cx="1990440" cy="1338840"/>
              </a:xfrm>
              <a:prstGeom prst="rect">
                <a:avLst/>
              </a:prstGeom>
              <a:blipFill rotWithShape="0">
                <a:blip r:embed="rId5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cccce6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Text Box 16"/>
            <p:cNvSpPr/>
            <p:nvPr/>
          </p:nvSpPr>
          <p:spPr>
            <a:xfrm>
              <a:off x="2819520" y="2590920"/>
              <a:ext cx="3733560" cy="200052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00007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00"/>
                  </a:solidFill>
                  <a:latin typeface="Verdana"/>
                </a:rPr>
                <a:t>Étapes du programme de C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17"/>
            <p:cNvSpPr/>
            <p:nvPr/>
          </p:nvSpPr>
          <p:spPr>
            <a:xfrm>
              <a:off x="5791320" y="1219320"/>
              <a:ext cx="1295280" cy="609480"/>
            </a:xfrm>
            <a:prstGeom prst="pi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8"/>
            <p:cNvSpPr/>
            <p:nvPr/>
          </p:nvSpPr>
          <p:spPr>
            <a:xfrm>
              <a:off x="7162920" y="990720"/>
              <a:ext cx="1752480" cy="91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inclure les actions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corr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3T14:13:11Z</dcterms:created>
  <dc:creator>Owner</dc:creator>
  <dc:description/>
  <dc:language>en-US</dc:language>
  <cp:lastModifiedBy>dolmazonv</cp:lastModifiedBy>
  <dcterms:modified xsi:type="dcterms:W3CDTF">2010-04-07T16:09:49Z</dcterms:modified>
  <cp:revision>52</cp:revision>
  <dc:subject/>
  <dc:title>Quality Control Overview</dc:title>
</cp:coreProperties>
</file>