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87811-1D01-445E-A44D-ECEC5B1F6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D8D26-C7A1-4AE3-9F4E-1AE0D9DFD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953BD-B0FA-4452-A3E5-8073A250C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898A1-26D1-4F0F-9F3B-597C05397C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04DE6-BDF6-4E60-9998-B4361E6E82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6B1B2-A72A-4649-9698-43F505F25E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CFBD1-9315-47BC-BBBC-E89CF3F6AB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0C131-4EDC-4BD7-ADE5-E237BF7FE8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C55A3-3F04-4C63-B3A8-9064C1FFE9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A5945-1FCE-40F5-8B54-22FDAE44A4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BA2BC-A4F3-44B1-8499-BDD32A600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435A8-9DEC-4CBB-887A-DC3D64D33D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E214B-8A5A-442A-9F2B-BF200E0736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063A4-A49A-4F01-8490-AD581E8180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21E56-AF09-4019-81B1-406253782B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F804EB-EAC6-4DEF-8BE7-F74641F5F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E4A25F-8FE5-408E-8716-C557D3CF9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FA5AEB-FF53-4990-9C79-A65D4C0CE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9BD000-B9DC-40D2-9587-AF5EFA5E2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FC45A0-CF8D-4465-9421-454BB905C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833E47-CB75-4807-87E3-BFA8BC25B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7B0086-E368-4D93-82F9-D4C733207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3EF7D-62BC-422D-93E9-6505662965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FE6243-D2BC-4FC1-B462-44342E50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63D9FF-6EA6-48BF-8D9E-3C6981C52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EE58F0-A6CC-48F4-AE50-EB67E5234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AA0545-51CD-4379-8D80-1BD15FEA1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C81A71-EF81-42C0-9832-789875095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DFC00-F22D-42E7-ADA2-AB124560C0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5315A9-8519-4D26-944D-70A8919555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D3590-2254-48B4-9A9E-9A5EA3FD16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10F60-9874-498C-A16B-9D68FDD64B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4C9F8-CC32-49B7-8E95-7BFA414E3C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E3D90-0BA4-467D-9B2A-A814D709A9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847E4-02EC-4B91-AC03-913D8FB28F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7AF8D-0006-4E4D-8215-BF72FFEFD0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3154A-0D54-44B1-A741-9D75CB4C580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Espace réservé du pied de page 1"/>
          <p:cNvSpPr/>
          <p:nvPr/>
        </p:nvSpPr>
        <p:spPr>
          <a:xfrm>
            <a:off x="4572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607F9-C7CB-41EE-A7FE-0ABEB27079E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Étude de cas: Impact de l’absence de programme de gestion de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Scénario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Un laboratoire de référence a demandé urgemment des réactifs, principalement liés à des maladies diarrhéiques. Les réactifs demandés ont été envoyé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Résultats d’une évaluation externe du Laborato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Pendant la mission de suivi du programme, la “pièce de stockage” a été visitée. Face à l’énorme stock observé, un inventaire a été conduit pendant la miss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Espace réservé du pied de page 1"/>
          <p:cNvSpPr/>
          <p:nvPr/>
        </p:nvSpPr>
        <p:spPr>
          <a:xfrm>
            <a:off x="4572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50E62-D3A3-491A-812A-43777A7CA8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7d"/>
                </a:solidFill>
                <a:latin typeface="Verdana"/>
              </a:rPr>
              <a:t>Étude de cas: Impact de l’absence de programme de gestion de sto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Résultat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Un inventaire n’avait pas été fait depuis des anné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ersonne ne savait ce qui était dispon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Les réactifs demandés en urgence étaient présents, la moitié d’entre eux étaient toujours utilisables, l’autre moitié était périmé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Verdana"/>
              </a:rPr>
              <a:t>Résultat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Augmentation des coûts des réactifs, le temps passé par le laboratoire pour contacter des donneurs, temps passé par les donneurs pour commander les réactif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Perte d’argent et de temps, 3 semaines de délai/retard, pendant ce temps analyses stoppées dans le pa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Espace réservé du pied de page 1"/>
          <p:cNvSpPr/>
          <p:nvPr/>
        </p:nvSpPr>
        <p:spPr>
          <a:xfrm>
            <a:off x="4572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64476-EBC8-4B44-84C7-56CEE3900AB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4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25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Text Box 7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0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4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5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6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7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8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9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0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1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22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3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4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5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Espace réservé du pied de page 1"/>
          <p:cNvSpPr/>
          <p:nvPr/>
        </p:nvSpPr>
        <p:spPr>
          <a:xfrm>
            <a:off x="4572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979CE-C5F1-4422-8C9B-9B3C8C8774C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Espace réservé du pied de page 1"/>
          <p:cNvSpPr/>
          <p:nvPr/>
        </p:nvSpPr>
        <p:spPr>
          <a:xfrm>
            <a:off x="45720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at et gestion de stock - Modul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Espace réservé du numéro de diapositive 2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B266F-F968-4D21-9E61-9315BA7305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0000"/>
                </a:solidFill>
                <a:latin typeface="Verdana"/>
              </a:rPr>
              <a:t>Exemple d’un programme spécialisé :Soft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dolmazonv</cp:lastModifiedBy>
  <dcterms:modified xsi:type="dcterms:W3CDTF">2010-04-08T14:12:46Z</dcterms:modified>
  <cp:revision>13</cp:revision>
  <dc:subject/>
  <dc:title>Discussion: The Problem</dc:title>
</cp:coreProperties>
</file>