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7.wmf" ContentType="image/x-wmf"/>
  <Override PartName="/ppt/media/image26.jpeg" ContentType="image/jpeg"/>
  <Override PartName="/ppt/media/image24.wmf" ContentType="image/x-wmf"/>
  <Override PartName="/ppt/media/image21.png" ContentType="image/png"/>
  <Override PartName="/ppt/media/image23.png" ContentType="image/png"/>
  <Override PartName="/ppt/media/image6.wmf" ContentType="image/x-wmf"/>
  <Override PartName="/ppt/media/image19.jpeg" ContentType="image/jpeg"/>
  <Override PartName="/ppt/media/image29.wmf" ContentType="image/x-wmf"/>
  <Override PartName="/ppt/media/image11.wmf" ContentType="image/x-wmf"/>
  <Override PartName="/ppt/media/image18.png" ContentType="image/png"/>
  <Override PartName="/ppt/media/image31.wmf" ContentType="image/x-wmf"/>
  <Override PartName="/ppt/media/image7.jpeg" ContentType="image/jpeg"/>
  <Override PartName="/ppt/media/image25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2.wmf" ContentType="image/x-wmf"/>
  <Override PartName="/ppt/media/image30.wmf" ContentType="image/x-wmf"/>
  <Override PartName="/ppt/media/image33.png" ContentType="image/png"/>
  <Override PartName="/ppt/media/image34.png" ContentType="image/png"/>
  <Override PartName="/ppt/media/image15.png" ContentType="image/png"/>
  <Override PartName="/ppt/media/image36.jpeg" ContentType="image/jpeg"/>
  <Override PartName="/ppt/media/image2.jpeg" ContentType="image/jpeg"/>
  <Override PartName="/ppt/media/image35.png" ContentType="image/png"/>
  <Override PartName="/ppt/media/image5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3.png" ContentType="image/png"/>
  <Override PartName="/ppt/media/image20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C952-DF74-438D-AFD8-721ED6934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07CA-8C59-400D-8D38-6F227C41C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1D54-6B98-4B80-A618-301102E82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2DBD-53C3-490A-B98B-658D8EC99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40AD-34A3-4966-8646-4A1471855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AD30-1F5C-423D-B303-2758648B0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C863-8AC4-4A11-84B9-4842DA875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2F18-94FD-4A31-A6B7-F31D204F3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35D5-99F2-46A2-95B4-2966797E4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9C4A-8CAF-4DCC-B3BD-550929F3D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125C-9F2D-470F-95E5-89A8FF37F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49A6-729A-42F6-B941-9DE9E68F0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5D3D-2137-4249-8FCE-DA549C4E4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5206-EB45-48DA-AAB6-4A8589B30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EE94-E153-4E2C-BAF2-49F37683C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75B6-1D2A-4DC9-88BB-9BCB81D08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E8A4-5AEC-40CA-AE3D-4D173DFB7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2E18-3A61-49D3-B46C-8DF214EF5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57E4-F066-4748-94FD-1365B4D3B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2A5E-9067-435E-9244-BE1E36A40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EBA55-41BE-4E79-89BC-94036FB816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94FEA-DBD4-4992-B427-781AB06069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558E5-B400-445F-B570-DA3D93433F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804BC-028E-4B6C-BC5E-EAB6373A23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02C9-272C-479F-B262-96ABA132A8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360F-F855-428F-BFB6-D5E4A68878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3695-828C-461D-936D-26662567BD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CA33-AA2B-4F7C-AE81-018B338AA9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22D6-13B2-4B03-A918-8C20017686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E383-3F52-4C20-9452-C68CFD7208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F6F7-6297-4EE5-A269-9575135F4C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E062E-A1C4-4779-BAF0-F732E83046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6FBA-554E-41BA-8DE8-B7A4792958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6CCF-936B-4ECD-9511-2771352008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9B13-7A97-4751-9CC3-2828099310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49F5-25E0-43AD-BD6F-0B97DF62E7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C794-F6D6-4656-93A6-235EED680E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6EE7D-3FA1-4C0D-9528-6E400E65C5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307A7-EC1C-4786-BB20-0CB4649F34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74872-E75A-41CD-B916-B7349759E2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31F7E-E7F5-442F-80C2-26CD62B57B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F6D87-806C-4C4D-9C6B-6E5EBBB8F9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63B11-D8CF-4F41-A208-8C19365592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3C179-2416-4355-900A-B4B9276951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BC2B-D2D3-4A89-9C71-2A75C121C6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A4D0-8CD5-4405-9C34-C0DC9E1A38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7A5D-415B-446C-BD90-8E3FB4AC68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362320" y="1600200"/>
            <a:ext cx="731520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Approvisionnement et gestion des stoc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4A5A-1741-4D78-A1E0-6953DBF5E3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 mettre en place un 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1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3124080" y="2895480"/>
            <a:ext cx="31244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4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5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6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7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8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ssigner responsa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6629400" y="2133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nalyse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des beso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les besoins minim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3429000" y="5257800"/>
            <a:ext cx="2514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évelopper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formulaires et regis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3"/>
          <p:cNvSpPr/>
          <p:nvPr/>
        </p:nvSpPr>
        <p:spPr>
          <a:xfrm>
            <a:off x="685800" y="449568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systèm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our recevoir et sto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685800" y="2057400"/>
            <a:ext cx="266688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Maintenir </a:t>
            </a:r>
            <a:br>
              <a:rPr sz="1400"/>
            </a:b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n système de gestion de stock dans toutes les zones de sto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5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6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7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8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9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0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8293-C724-4294-A1C6-22216F7E0F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r les beso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re une analyse des besoins en consommables et réactifs 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stant toutes les analys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ant les consommables nécessaires pour chaque analy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ant l’information disponible pour estime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FC10-9BF1-4FAF-9BD8-BF63AF182C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nalyse des besoins : Information Requ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80880" y="1295280"/>
            <a:ext cx="8534520" cy="5045040"/>
            <a:chOff x="380880" y="1295280"/>
            <a:chExt cx="8534520" cy="5045040"/>
          </a:xfrm>
        </p:grpSpPr>
        <p:sp>
          <p:nvSpPr>
            <p:cNvPr id="222" name="AutoShape 4"/>
            <p:cNvSpPr/>
            <p:nvPr/>
          </p:nvSpPr>
          <p:spPr>
            <a:xfrm>
              <a:off x="380880" y="1295280"/>
              <a:ext cx="8534520" cy="504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98691"/>
            <p:cNvSpPr/>
            <p:nvPr/>
          </p:nvSpPr>
          <p:spPr>
            <a:xfrm flipH="1" flipV="1">
              <a:off x="2616120" y="3436560"/>
              <a:ext cx="1022400" cy="1904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98685"/>
            <p:cNvSpPr/>
            <p:nvPr/>
          </p:nvSpPr>
          <p:spPr>
            <a:xfrm>
              <a:off x="542880" y="2631960"/>
              <a:ext cx="213192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Espac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stockage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98690"/>
            <p:cNvSpPr/>
            <p:nvPr/>
          </p:nvSpPr>
          <p:spPr>
            <a:xfrm flipH="1">
              <a:off x="3393720" y="4313160"/>
              <a:ext cx="630360" cy="5050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98672"/>
            <p:cNvSpPr/>
            <p:nvPr/>
          </p:nvSpPr>
          <p:spPr>
            <a:xfrm>
              <a:off x="1704960" y="4699080"/>
              <a:ext cx="2131920" cy="1231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Temps pou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mman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98689"/>
            <p:cNvSpPr/>
            <p:nvPr/>
          </p:nvSpPr>
          <p:spPr>
            <a:xfrm>
              <a:off x="5272200" y="4313160"/>
              <a:ext cx="635040" cy="503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98670"/>
            <p:cNvSpPr/>
            <p:nvPr/>
          </p:nvSpPr>
          <p:spPr>
            <a:xfrm>
              <a:off x="5465880" y="4699080"/>
              <a:ext cx="2131920" cy="12319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Niveau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priorité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98688"/>
            <p:cNvSpPr/>
            <p:nvPr/>
          </p:nvSpPr>
          <p:spPr>
            <a:xfrm flipV="1">
              <a:off x="5657760" y="3435120"/>
              <a:ext cx="1022400" cy="191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98667"/>
            <p:cNvSpPr/>
            <p:nvPr/>
          </p:nvSpPr>
          <p:spPr>
            <a:xfrm>
              <a:off x="6248520" y="2631960"/>
              <a:ext cx="25128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Consommation/mois       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98687"/>
            <p:cNvSpPr/>
            <p:nvPr/>
          </p:nvSpPr>
          <p:spPr>
            <a:xfrm flipV="1">
              <a:off x="4648320" y="2583000"/>
              <a:ext cx="0" cy="620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98665"/>
            <p:cNvSpPr/>
            <p:nvPr/>
          </p:nvSpPr>
          <p:spPr>
            <a:xfrm>
              <a:off x="3276720" y="1352520"/>
              <a:ext cx="243972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Unité de 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conditionnement      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98662"/>
            <p:cNvSpPr/>
            <p:nvPr/>
          </p:nvSpPr>
          <p:spPr>
            <a:xfrm>
              <a:off x="3584520" y="3203640"/>
              <a:ext cx="228132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br>
                <a:rPr sz="3000"/>
              </a:b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'un article </a:t>
              </a:r>
              <a:br>
                <a:rPr sz="3000"/>
              </a:b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15EB-5513-438C-A9D7-14C137586E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533520"/>
            <a:ext cx="80773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a quantification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09480" y="1905120"/>
            <a:ext cx="7848720" cy="25311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La quantification</a:t>
            </a:r>
            <a:r>
              <a:rPr b="0" lang="fr-FR" sz="3200" spc="-1" strike="noStrike">
                <a:solidFill>
                  <a:srgbClr val="ffcc00"/>
                </a:solidFill>
                <a:latin typeface="Verdana"/>
              </a:rPr>
              <a:t> est un processus pour calculer la quantité requise d’un article pour une période donné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3398-CD0A-4950-8788-764E93ACFE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fr-FR" sz="3600" spc="-1" strike="noStrike">
                <a:solidFill>
                  <a:srgbClr val="e40202"/>
                </a:solidFill>
                <a:latin typeface="Verdana"/>
              </a:rPr>
              <a:t>quand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t partie de la planification annu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ise en œuvre d’un nouveau programme de san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préparation à une épidémie potentielle ou identif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DAD1-1766-47AD-9184-F3BE0E2560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Commen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consomm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morbid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E142-E565-480E-964C-A7121EB987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antification: basée su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5943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asée sur la consommation ré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oit prendre en comp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réellement uti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gaspillés périmés ou abîm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en rupture de stock plus de 15 jours sur l’ann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Untitled-43"/>
          <p:cNvPicPr/>
          <p:nvPr/>
        </p:nvPicPr>
        <p:blipFill>
          <a:blip r:embed="rId1"/>
          <a:stretch/>
        </p:blipFill>
        <p:spPr>
          <a:xfrm>
            <a:off x="5638680" y="2695680"/>
            <a:ext cx="35053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CBDA-40C5-498C-9B5C-E8DB0FD1EC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Untitled-42"/>
          <p:cNvPicPr/>
          <p:nvPr/>
        </p:nvPicPr>
        <p:blipFill>
          <a:blip r:embed="rId1"/>
          <a:stretch/>
        </p:blipFill>
        <p:spPr>
          <a:xfrm>
            <a:off x="5105520" y="2395440"/>
            <a:ext cx="4038480" cy="25574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: basée sur la morbid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asée sur le nombre réel d’é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prendre en compt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aill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idence mala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actitude donnée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morbid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gnes de conduit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andardisées de tra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FE05-30E6-4AE6-9105-17365A44BA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es registr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uméro de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itères de refus ou d’acceptation des produ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’utilisation/sortis du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 peut être utile de garder les registres sur le lieu de stock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storage_shelves"/>
          <p:cNvPicPr/>
          <p:nvPr/>
        </p:nvPicPr>
        <p:blipFill>
          <a:blip r:embed="rId1"/>
          <a:stretch/>
        </p:blipFill>
        <p:spPr>
          <a:xfrm>
            <a:off x="6647040" y="533520"/>
            <a:ext cx="2116080" cy="21333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gestion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 stock 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j0234700"/>
          <p:cNvPicPr/>
          <p:nvPr/>
        </p:nvPicPr>
        <p:blipFill>
          <a:blip r:embed="rId2"/>
          <a:stretch/>
        </p:blipFill>
        <p:spPr>
          <a:xfrm rot="2522400">
            <a:off x="7559280" y="3511440"/>
            <a:ext cx="16002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4C3A-EFD4-4B1E-84F6-CEA1138E1F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 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Quanti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ock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alance du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tre informatio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étag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sti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;og_book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A354-03C7-4850-BA69-3DFEE44F52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es étapes nécessaires pour mettre en œuvre un programme de contrôle et d’inventaire des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mmer les facteurs à considérer avant d’acheter des consomm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velopper un plan de contrôle du système de gestion des stocks et des invent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iscuter l’importance de la documentation concernant l’approvisionnement et la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8727-1F00-46A9-AE25-AE8FE48107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Inspecter les commandes au moment de la livr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s cont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’intég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réceptio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our chaque prod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anger les nouveaux articles derrière ceux en st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réer ou mettre à jour des regis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FIL15003"/>
          <p:cNvPicPr/>
          <p:nvPr/>
        </p:nvPicPr>
        <p:blipFill>
          <a:blip r:embed="rId1"/>
          <a:stretch/>
        </p:blipFill>
        <p:spPr>
          <a:xfrm>
            <a:off x="6781680" y="4495680"/>
            <a:ext cx="2076480" cy="1860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pe01495_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4980-D743-471F-9EE4-D92E1C4F24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p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rganisé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erm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ien ventil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s de soleil dir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gères soli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rticles à portée de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écautions de sécurité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8"/>
          <p:cNvSpPr/>
          <p:nvPr/>
        </p:nvSpPr>
        <p:spPr>
          <a:xfrm>
            <a:off x="6019920" y="3962520"/>
            <a:ext cx="213336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3" descr="j0434713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A40D-707B-433B-B4E3-2E46C083F1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Rayonn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7"/>
          <p:cNvSpPr/>
          <p:nvPr/>
        </p:nvSpPr>
        <p:spPr>
          <a:xfrm>
            <a:off x="685800" y="533412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uivre les précautions de sécur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1"/>
          <p:cNvSpPr/>
          <p:nvPr/>
        </p:nvSpPr>
        <p:spPr>
          <a:xfrm>
            <a:off x="4572000" y="4343400"/>
            <a:ext cx="213372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D265-DBC8-4800-BB9F-5586CCAE1B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ite la “perte” d’un produ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conomise du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ématise l’espac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sto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uméroter chambres froide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frigérateur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congélateur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étiqueter les ray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8" descr="refrigerator_storage_cdc"/>
          <p:cNvPicPr/>
          <p:nvPr/>
        </p:nvPicPr>
        <p:blipFill>
          <a:blip r:embed="rId1"/>
          <a:srcRect l="0" t="0" r="0" b="25408"/>
          <a:stretch/>
        </p:blipFill>
        <p:spPr>
          <a:xfrm>
            <a:off x="4495680" y="4800600"/>
            <a:ext cx="3246480" cy="1701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rganisation des rayonn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7" descr="stock_room"/>
          <p:cNvPicPr/>
          <p:nvPr/>
        </p:nvPicPr>
        <p:blipFill>
          <a:blip r:embed="rId2"/>
          <a:stretch/>
        </p:blipFill>
        <p:spPr>
          <a:xfrm>
            <a:off x="5791320" y="1716120"/>
            <a:ext cx="32004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CFF7-1F29-49CB-9E69-CF03762C75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tiliser des étiquettes avec des dates clairement visibl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’ouver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e pére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6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8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0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5860-100B-4138-AAFA-897AD08024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 continu de la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6" descr="Untitled-41"/>
          <p:cNvPicPr/>
          <p:nvPr/>
        </p:nvPicPr>
        <p:blipFill>
          <a:blip r:embed="rId1"/>
          <a:stretch/>
        </p:blipFill>
        <p:spPr>
          <a:xfrm>
            <a:off x="457200" y="1050840"/>
            <a:ext cx="82296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909D-547D-4606-AEBE-FB3C4A0939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Gestion informatis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at exact du stock, classification des prod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dates de pére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tatistiques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planifier les ordres d’ac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a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âches de gestion de stock facili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convéni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rdinateur sur place nécess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quiert un personnel form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713040"/>
            <a:ext cx="26672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4D15-FD6C-4D55-BC0E-22D291929A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laboratoire bien géré possèdera un système d’approvisionnement et de gestion de st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système requière de planifier et contrôler: analyser les besoins, développer des formulaires et procédures, maintenir un inventaire. Le laboratoire devra maintenir un système de gestion de stock pour tous les réactifs et consommables utilisés a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AFDC-52D7-4390-A090-5FD82EFCF9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gestion de stock 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gmente l’efficience et l’efficacité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ondra aux besoins des patients et du personnel de s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 la disponibilité des produits quand nécess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104F-1F68-433F-B0C2-95454D58DD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58128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21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6094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7960-675E-4301-AD90-0965A81C19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n demande à votre laboratoire de se préparer en vue d’une épidémie de grippe potentie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sont les différents facteurs à étudier en planifiant ce processu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problèmes seriez vous susceptibles de rencontrer lors de la planification et de la mise en oeuv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5D1E-DAC8-4587-9E6C-D0087A9310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4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5C58-E022-47CA-A5A8-B9D04E4893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Bénéfices d’un programme</a:t>
            </a:r>
            <a:br>
              <a:rPr sz="3200"/>
            </a:b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609480" y="3352680"/>
            <a:ext cx="2438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ournitures et réactifs toujours dispon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5943600" y="3200400"/>
            <a:ext cx="28195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oins de gaspill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Budget respec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2" descr="j0424198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5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maint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7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153" name="Line 19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0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1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F1DC-1C24-40B1-981A-C6234E8C44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quilibre entre disponibilité du stock et dates de péremption des produits.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urée de vie des réactif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var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actifs RIA : 3 à 8 sema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Kits API : 4 à 1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tisérums : 1 à 4 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isques antibiotiques : 2 à 3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prêt à l’emploi : 1 à 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déshydraté : 3 à 5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FIL738"/>
          <p:cNvPicPr/>
          <p:nvPr/>
        </p:nvPicPr>
        <p:blipFill>
          <a:blip r:embed="rId1"/>
          <a:stretch/>
        </p:blipFill>
        <p:spPr>
          <a:xfrm>
            <a:off x="5410080" y="2514600"/>
            <a:ext cx="3429000" cy="28875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éfis de la gestion de st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5791320" y="36576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En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7467480" y="3352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at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érem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8001-6237-4177-ADE4-3E9473D05D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principau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6" descr="Untitled-46"/>
          <p:cNvPicPr/>
          <p:nvPr/>
        </p:nvPicPr>
        <p:blipFill>
          <a:blip r:embed="rId1"/>
          <a:stretch/>
        </p:blipFill>
        <p:spPr>
          <a:xfrm>
            <a:off x="228600" y="1438200"/>
            <a:ext cx="868680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D3C4-07E9-4805-9406-47D81DF0B9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pour qualifier et sélectionner des vend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critères de sélection pour les consommables ou réactifs à ache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des informations auprès d’autres laborato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aluer avant l’approvisionnement et après la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026F-8BC3-455F-A1C1-EE4A6331E6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sidé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éterminer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dalité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de paiemen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457200" y="1143000"/>
            <a:ext cx="5409720" cy="2971080"/>
            <a:chOff x="457200" y="1143000"/>
            <a:chExt cx="5409720" cy="2971080"/>
          </a:xfrm>
        </p:grpSpPr>
        <p:sp>
          <p:nvSpPr>
            <p:cNvPr id="177" name="AutoShape 9"/>
            <p:cNvSpPr/>
            <p:nvPr/>
          </p:nvSpPr>
          <p:spPr>
            <a:xfrm>
              <a:off x="457200" y="1143000"/>
              <a:ext cx="5409720" cy="29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0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Négocier les pri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R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contra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17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3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1"/>
          <p:cNvSpPr/>
          <p:nvPr/>
        </p:nvSpPr>
        <p:spPr>
          <a:xfrm>
            <a:off x="609480" y="1295280"/>
            <a:ext cx="5105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Comprendre les exigences du gouver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2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3" descr="j0412568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4" descr="j0311860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5" descr="j0185303"/>
          <p:cNvPicPr/>
          <p:nvPr/>
        </p:nvPicPr>
        <p:blipFill>
          <a:blip r:embed="rId3"/>
          <a:stretch/>
        </p:blipFill>
        <p:spPr>
          <a:xfrm>
            <a:off x="6705720" y="5029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6"/>
          <p:cNvSpPr/>
          <p:nvPr/>
        </p:nvSpPr>
        <p:spPr>
          <a:xfrm>
            <a:off x="5638680" y="37339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ssurer disponibilité et livra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2:07:52Z</dcterms:created>
  <dc:creator>sam5</dc:creator>
  <dc:description/>
  <dc:language>en-US</dc:language>
  <cp:lastModifiedBy>dolmazonv</cp:lastModifiedBy>
  <dcterms:modified xsi:type="dcterms:W3CDTF">2010-04-07T15:05:22Z</dcterms:modified>
  <cp:revision>130</cp:revision>
  <dc:subject/>
  <dc:title>Slide 1</dc:title>
</cp:coreProperties>
</file>