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1.png" ContentType="image/png"/>
  <Override PartName="/ppt/media/image23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18.png" ContentType="image/png"/>
  <Override PartName="/ppt/media/image31.wmf" ContentType="image/x-wmf"/>
  <Override PartName="/ppt/media/image7.jpeg" ContentType="image/jpeg"/>
  <Override PartName="/ppt/media/image25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0.wmf" ContentType="image/x-wmf"/>
  <Override PartName="/ppt/media/image33.png" ContentType="image/png"/>
  <Override PartName="/ppt/media/image34.png" ContentType="image/png"/>
  <Override PartName="/ppt/media/image15.png" ContentType="image/pn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3.png" ContentType="image/png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3953-BA50-4D28-8CB3-9728F6EAD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D170-A3E5-47B8-841B-F1D4B5B37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3CBD-07A3-464C-86FA-708FC5A3C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1031-F645-4E46-A336-0121F4D93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9680-6798-49CC-B659-3E764DD66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A46F-9198-402F-B15C-02F6DFFD2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AE55-81BE-4943-8910-E0B931CE5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593C-3B77-490F-9F85-0C1EB8AF7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1D11-A07E-4735-9954-5017E0028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9DCA-AB71-4028-8DCA-42286538B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3EE5-3C11-42F7-9669-96BED4F4C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C2E9-E430-4C04-8A8C-6374D786B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A3AC-3EFD-488D-92D2-14C69A167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32EC-D37D-4FDB-B57C-75F5D8003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296B-06D8-40C4-803F-386FB2530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9C8C-466C-481D-B9DF-803CA994F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61AC-EF64-417E-B2D9-CD61AD662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0295-0DFE-43A3-8FD0-4C61C67E1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ACB4-EB3B-48B6-9375-A0061D437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D9BA-3B3F-4FD2-9818-E18336639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D89F9-CD9F-476E-840C-87B29FE08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D4B20-46D7-474D-9EE6-7DA0CEA6C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807D7-72E5-4855-9818-A2A7B8402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BE6DF-3999-4EC8-AB4C-15CE35994A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FE5-B43C-44F9-8AD4-7AB81F151A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660E-7C9A-4D2B-BD04-2D7AE7248F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A5C-FA83-4431-A763-7E50C88BD5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F64-00B8-4384-A58C-32A2CE1B6D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E30-4949-414B-A7CD-9B6A4AA107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2ECB-BE0D-455E-ABF7-2419C139AB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B0DC-E5DD-46A3-A871-213911D1DA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10865-F1C5-4AA5-B534-E0EF99C92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A219-DFE6-418E-9850-F417000A8B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CC68-2ED4-4765-908B-AA9E3E6146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561A-D2F2-4941-B29B-42EC424959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39AC-31AF-48A6-BE36-80E728D7EC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B1D7-7B2A-4C32-A873-FD500E594A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87D93-8962-4B21-B589-0E683E774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A6607-BD46-4A9F-9A80-73014DE33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B9174-BD7F-4810-8B30-5A4B7D541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F554F-C9DC-42E4-BE38-67872145A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DE037-F668-45D0-AB62-174E50C2F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78918-A603-47BE-838A-5D2B84DCD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253D9-877E-421C-9B88-38F685FB7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6598-138F-407A-836F-66D24C2452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80E1-83E2-4B00-9061-BFBC56A20F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DB19-341E-4C89-872A-4032999D1E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362320" y="1600200"/>
            <a:ext cx="7315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Approvisionnement et gestion des st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6EB0-4A60-43DC-AF03-6EC75906F3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 mettre en place un 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24080" y="2895480"/>
            <a:ext cx="3124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signer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629400" y="2133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alys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les besoins minim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429000" y="525780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velopper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mulaires et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85800" y="449568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systèm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ur recevoir et sto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85800" y="2057400"/>
            <a:ext cx="266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intenir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système de gestion de stock dans toutes les zones de 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7D58-C098-4A26-A763-F0B4310F75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r les bes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une analyse des besoins en consommables et réactif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stant toutes les analys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les consommables nécessaires pour chaqu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ant l’information disponible pour estime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B1D0-FA89-4AFD-B8FF-2F07E665CD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nalyse des besoins : Information Req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295280"/>
            <a:ext cx="8534520" cy="5045040"/>
            <a:chOff x="380880" y="1295280"/>
            <a:chExt cx="8534520" cy="5045040"/>
          </a:xfrm>
        </p:grpSpPr>
        <p:sp>
          <p:nvSpPr>
            <p:cNvPr id="222" name="AutoShape 4"/>
            <p:cNvSpPr/>
            <p:nvPr/>
          </p:nvSpPr>
          <p:spPr>
            <a:xfrm>
              <a:off x="380880" y="1295280"/>
              <a:ext cx="8534520" cy="50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98691"/>
            <p:cNvSpPr/>
            <p:nvPr/>
          </p:nvSpPr>
          <p:spPr>
            <a:xfrm flipH="1" flipV="1">
              <a:off x="2616120" y="3436560"/>
              <a:ext cx="1022400" cy="190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98685"/>
            <p:cNvSpPr/>
            <p:nvPr/>
          </p:nvSpPr>
          <p:spPr>
            <a:xfrm>
              <a:off x="542880" y="2631960"/>
              <a:ext cx="213192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spac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stockage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98690"/>
            <p:cNvSpPr/>
            <p:nvPr/>
          </p:nvSpPr>
          <p:spPr>
            <a:xfrm flipH="1">
              <a:off x="3393720" y="4313160"/>
              <a:ext cx="630360" cy="505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98672"/>
            <p:cNvSpPr/>
            <p:nvPr/>
          </p:nvSpPr>
          <p:spPr>
            <a:xfrm>
              <a:off x="1704960" y="4699080"/>
              <a:ext cx="2131920" cy="1231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pou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98689"/>
            <p:cNvSpPr/>
            <p:nvPr/>
          </p:nvSpPr>
          <p:spPr>
            <a:xfrm>
              <a:off x="5272200" y="4313160"/>
              <a:ext cx="635040" cy="503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98670"/>
            <p:cNvSpPr/>
            <p:nvPr/>
          </p:nvSpPr>
          <p:spPr>
            <a:xfrm>
              <a:off x="5465880" y="4699080"/>
              <a:ext cx="2131920" cy="1231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Niveau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priorité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98688"/>
            <p:cNvSpPr/>
            <p:nvPr/>
          </p:nvSpPr>
          <p:spPr>
            <a:xfrm flipV="1">
              <a:off x="5657760" y="3435120"/>
              <a:ext cx="1022400" cy="191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98667"/>
            <p:cNvSpPr/>
            <p:nvPr/>
          </p:nvSpPr>
          <p:spPr>
            <a:xfrm>
              <a:off x="6248520" y="2631960"/>
              <a:ext cx="25128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onsommation/mois     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98687"/>
            <p:cNvSpPr/>
            <p:nvPr/>
          </p:nvSpPr>
          <p:spPr>
            <a:xfrm flipV="1">
              <a:off x="4648320" y="2583000"/>
              <a:ext cx="0" cy="620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98665"/>
            <p:cNvSpPr/>
            <p:nvPr/>
          </p:nvSpPr>
          <p:spPr>
            <a:xfrm>
              <a:off x="3276720" y="1352520"/>
              <a:ext cx="243972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Unité de 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conditionnement      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98662"/>
            <p:cNvSpPr/>
            <p:nvPr/>
          </p:nvSpPr>
          <p:spPr>
            <a:xfrm>
              <a:off x="3584520" y="3203640"/>
              <a:ext cx="228132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br>
                <a:rPr sz="3000"/>
              </a:b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'un article 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67D5-B8C2-455C-BD24-8CB28629FE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3352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a quantifica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1905120"/>
            <a:ext cx="7848720" cy="25311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La quantification</a:t>
            </a:r>
            <a:r>
              <a:rPr b="0" lang="fr-FR" sz="3200" spc="-1" strike="noStrike">
                <a:solidFill>
                  <a:srgbClr val="ffcc00"/>
                </a:solidFill>
                <a:latin typeface="Verdana"/>
              </a:rPr>
              <a:t> est un processus pour calculer la quantité requise d’un article pour une période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8D24-B0E1-4CE8-86C4-A8238BEA5F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fr-FR" sz="3600" spc="-1" strike="noStrike">
                <a:solidFill>
                  <a:srgbClr val="e40202"/>
                </a:solidFill>
                <a:latin typeface="Verdana"/>
              </a:rPr>
              <a:t>qua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 partie de la planification ann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ise en œuvre d’un nouveau programm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préparation à une épidémie potentielle ou ident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3ACF-9C77-4E77-AAF0-A3A152DACE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Com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consom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morb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ED04-6867-4139-9324-53983F24E9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antification: basée su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asée sur la consommation ré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prendre en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réellement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gaspillés périmés ou abîm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en rupture de stock plus de 15 jours sur l’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Untitled-43"/>
          <p:cNvPicPr/>
          <p:nvPr/>
        </p:nvPicPr>
        <p:blipFill>
          <a:blip r:embed="rId1"/>
          <a:stretch/>
        </p:blipFill>
        <p:spPr>
          <a:xfrm>
            <a:off x="5638680" y="2695680"/>
            <a:ext cx="3505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76CC-8A38-490B-857B-64F105D8A7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ntitled-42"/>
          <p:cNvPicPr/>
          <p:nvPr/>
        </p:nvPicPr>
        <p:blipFill>
          <a:blip r:embed="rId1"/>
          <a:stretch/>
        </p:blipFill>
        <p:spPr>
          <a:xfrm>
            <a:off x="5105520" y="2395440"/>
            <a:ext cx="4038480" cy="255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: basée sur la morbid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sée sur le nombre réel d’é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prendre en comp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il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idence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actitu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morb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gnes de conduit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ndardisée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FEA3-E6F3-45DD-B3C5-667598D277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es regist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 d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itères de refus ou d’acceptation des prod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’utilisation/sortis du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peut être utile de garder les registres sur le lieu de sto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storage_shelves"/>
          <p:cNvPicPr/>
          <p:nvPr/>
        </p:nvPicPr>
        <p:blipFill>
          <a:blip r:embed="rId1"/>
          <a:stretch/>
        </p:blipFill>
        <p:spPr>
          <a:xfrm>
            <a:off x="6647040" y="533520"/>
            <a:ext cx="211608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gestion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 stock 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j0234700"/>
          <p:cNvPicPr/>
          <p:nvPr/>
        </p:nvPicPr>
        <p:blipFill>
          <a:blip r:embed="rId2"/>
          <a:stretch/>
        </p:blipFill>
        <p:spPr>
          <a:xfrm rot="2522400">
            <a:off x="7559280" y="35114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3EED-73D8-4ABC-9CB6-EDFA057290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Quant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alance du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tre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étag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;og_book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6376-1842-4500-8D4F-CCAD36574B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es étapes nécessaires pour mettre en œuvre un programme de contrôle et d’inventaire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mmer les facteurs à considérer avant d’acheter des consom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velopper un plan de contrôle du système de gestion des stocks et des inv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ter l’importance de la documentation concernant l’approvisionnement et la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B377-7D18-458A-A035-0E18B4E501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specter les commandes au moment de la liv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s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récep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ur chaqu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nger les nouveaux articles derrière ceux en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ou mettre à jour des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FIL15003"/>
          <p:cNvPicPr/>
          <p:nvPr/>
        </p:nvPicPr>
        <p:blipFill>
          <a:blip r:embed="rId1"/>
          <a:stretch/>
        </p:blipFill>
        <p:spPr>
          <a:xfrm>
            <a:off x="6781680" y="4495680"/>
            <a:ext cx="2076480" cy="1860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pe01495_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1E8A-4A43-452D-9462-5C63871D4E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rganis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er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en venti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soleil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gères so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les à portée d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écautions de sécurité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6019920" y="3962520"/>
            <a:ext cx="213336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j0434713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46ED-0369-4D65-8DCE-2B4110AF91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Rayonn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7"/>
          <p:cNvSpPr/>
          <p:nvPr/>
        </p:nvSpPr>
        <p:spPr>
          <a:xfrm>
            <a:off x="685800" y="533412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ivre les précautions de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4572000" y="4343400"/>
            <a:ext cx="213372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3AE3-7739-4F3C-9787-DB2F2C9E86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la “perte”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onomise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se l’espac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uméroter chambres froid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frigérateur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congélateu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étiqueter les ra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refrigerator_storage_cdc"/>
          <p:cNvPicPr/>
          <p:nvPr/>
        </p:nvPicPr>
        <p:blipFill>
          <a:blip r:embed="rId1"/>
          <a:srcRect l="0" t="0" r="0" b="25408"/>
          <a:stretch/>
        </p:blipFill>
        <p:spPr>
          <a:xfrm>
            <a:off x="4495680" y="4800600"/>
            <a:ext cx="3246480" cy="1701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ganisation des rayonn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tock_room"/>
          <p:cNvPicPr/>
          <p:nvPr/>
        </p:nvPicPr>
        <p:blipFill>
          <a:blip r:embed="rId2"/>
          <a:stretch/>
        </p:blipFill>
        <p:spPr>
          <a:xfrm>
            <a:off x="5791320" y="1716120"/>
            <a:ext cx="3200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7610-C73E-418B-A998-6E53310051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tiliser des étiquettes avec des dates clairement visib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’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e pér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0FFF-B4A6-4BE4-9E6F-2E4BA263EA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 continu de la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6" descr="Untitled-41"/>
          <p:cNvPicPr/>
          <p:nvPr/>
        </p:nvPicPr>
        <p:blipFill>
          <a:blip r:embed="rId1"/>
          <a:stretch/>
        </p:blipFill>
        <p:spPr>
          <a:xfrm>
            <a:off x="457200" y="1050840"/>
            <a:ext cx="8229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1CA1-831C-4E41-BD1F-A2D750A73E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Gestion informat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at exact du stock, classifica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dates de pér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tatistiqu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planifier les ordres d’a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âches de gestion de stock facili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convéni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dinateur sur place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quiert un personnel for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713040"/>
            <a:ext cx="2667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67C0-5AB7-42CA-8648-E6E2E56A5E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boratoire bien géré possèdera un système d’approvisionnement et de gestion de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requière de planifier et contrôler: analyser les besoins, développer des formulaires et procédures, maintenir un inventaire. Le laboratoire devra maintenir un système de gestion de stock pour tous les réactifs et consommables utilisés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A256-95F0-46B2-90E5-BE9868F26E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gestion de stock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gmente l’efficience et l’efficacité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ondra aux besoins des patients et du personnel de 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 la disponibilité des produits quand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1F41-28BA-4444-9298-BAF7EA9F97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5812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2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A91A-4A0E-41D1-94BD-E66634011D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n demande à votre laboratoire de se préparer en vue d’une épidémie de grippe potent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sont les différents facteurs à étudier en planifiant ce process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problèmes seriez vous susceptibles de rencontrer lors de la planification et de la mise en oeuv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2F82-97BE-4D3C-AF93-12A2DE0820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0BBE-C4B5-4EE3-853E-6F8B07786B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Bénéfices d’un programme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33526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urnitures et réactifs toujour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43600" y="320040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ins de gaspill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Budget resp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j0424198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maint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4538-3BC8-4484-A82E-A0CFD23C20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quilibre entre disponibilité du stock et dates de péremption des produit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urée de vie des réactif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va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actifs RIA : 3 à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Kits API : 4 à 1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tisérums : 1 à 4 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sques antibiotiques : 2 à 3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prêt à l’emploi : 1 à 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déshydraté : 3 à 5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FIL738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2887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éfis de la gestion de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13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6748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4413-5081-4BCD-9038-DC4E33BD6F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princip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6" descr="Untitled-46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1481-33B8-45CA-BB34-57EF3D3B81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pour qualifier et sélectionner des vend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critères de sélection pour les consommables ou réactifs à ac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des informations auprès d’autr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avant l’approvisionnement et après la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BD07-9976-49DB-B796-9154DA7798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sidé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alité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a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1143000"/>
            <a:ext cx="5409720" cy="2971080"/>
            <a:chOff x="457200" y="1143000"/>
            <a:chExt cx="5409720" cy="2971080"/>
          </a:xfrm>
        </p:grpSpPr>
        <p:sp>
          <p:nvSpPr>
            <p:cNvPr id="177" name="AutoShape 9"/>
            <p:cNvSpPr/>
            <p:nvPr/>
          </p:nvSpPr>
          <p:spPr>
            <a:xfrm>
              <a:off x="457200" y="1143000"/>
              <a:ext cx="54097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Négocier les p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R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contr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7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609480" y="1295280"/>
            <a:ext cx="5105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Comprendre les exigences du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3" descr="j0412568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j0311860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5" descr="j0185303"/>
          <p:cNvPicPr/>
          <p:nvPr/>
        </p:nvPicPr>
        <p:blipFill>
          <a:blip r:embed="rId3"/>
          <a:stretch/>
        </p:blipFill>
        <p:spPr>
          <a:xfrm>
            <a:off x="670572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6"/>
          <p:cNvSpPr/>
          <p:nvPr/>
        </p:nvSpPr>
        <p:spPr>
          <a:xfrm>
            <a:off x="5638680" y="37339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urer disponibilité et liv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2:07:52Z</dcterms:created>
  <dc:creator>sam5</dc:creator>
  <dc:description/>
  <dc:language>en-US</dc:language>
  <cp:lastModifiedBy>dolmazonv</cp:lastModifiedBy>
  <dcterms:modified xsi:type="dcterms:W3CDTF">2010-04-07T15:05:22Z</dcterms:modified>
  <cp:revision>130</cp:revision>
  <dc:subject/>
  <dc:title>Slide 1</dc:title>
</cp:coreProperties>
</file>