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E852-2F83-4274-92E1-158F3A5F6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60AC-C071-46E1-B3D3-924272391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93C0-DDF3-4166-A584-1FA9EC0C6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CCCD-1BDF-4709-82FE-F1396DAE2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D3C2-9D15-4EB9-B302-2D49B7982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70C0-59F0-411D-9B87-2805FBBC4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8BF8-295B-4032-AF1C-43CABAFE1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265A-52A2-46BB-8CF8-BE963801F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FFA1-EACD-4666-B2B5-B05C2BB67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435E-A4CC-4D80-96D3-3A3C40C9F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F52B-A9CC-4883-B457-8F92D5766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1329B-BF20-4548-A4A8-27C1CB94CE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E741F-C488-4E40-9D81-F43871840E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630FB-4674-42E4-8840-350067BD6A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A0CB4-71E3-4469-ABF6-C597146BB6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95695-36BB-4F8E-9E0C-132FB1066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626B1-A4A3-4EA9-B2E3-5AC1BFBD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B798FB-7D73-453E-83C7-F38195D2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9FC34-96AA-4EA3-8F6F-223AE13D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724CA-3530-42B0-A245-AC9182DC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69A32-7DE7-44EE-9F85-3768D7AC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58433-AAAB-47FA-A730-C83649EE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3C054-E6DC-43C5-9818-C6D4ACC111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5B639-8D86-450A-B284-4796BF6D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7F23C-1B0A-447A-B982-C63A86E3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1F44C-9DBD-4C84-AF47-76314D36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50FEF-84C1-423F-B5A6-3D17A5330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E9042-348A-49D9-80D9-67B8DB8A1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6C9D8-AC8D-46A6-8683-17557DE2A1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6EC46-9D89-47D7-8237-53DC58F87E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D1D9C-3A4C-4BEC-AAB8-2A1F50E648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94F4A-B2E5-4C90-9A60-049170B589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B7BF4-C766-4625-9726-5CF1829A9A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0789D-694C-4A6C-8EE4-3C60F7121E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AE6EB-2454-43E7-B006-05BB8ADAB4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AF2B-F859-40F2-8A38-2FA02CDEF8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84F7-F6CA-4BD9-9302-A21B2C5979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3A3B-8606-46CF-91D2-315A8C196F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Étude de cas: Impact de l’absence de programme de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cénario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laboratoire de référence a demandé urgemment des réactifs, principalement liés à des maladies diarrhéiques. Les réactifs demandés ont été envoyé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ésultats d’une évaluation externe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ndant la mission de suivi du programme, la “pièce de stockage” a été visitée. Face à l’énorme stock observé, un inventaire a été conduit pendant la mis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53EB-60AF-4A2D-9AC7-38AAC79FB3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Étude de cas: Impact de l’absence de programme de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Un inventaire n’avait pas été fait depuis des anné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sonne ne savait ce qui était dispon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s réactifs demandés en urgence étaient présents, la moitié d’entre eux étaient toujours utilisables, l’autre moitié était périmé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ésulta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ugmentation des coûts des réactifs, le temps passé par le laboratoire pour contacter des donneurs, temps passé par les donneurs pour commander les réactif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te d’argent et de temps, 3 semaines de délai/retard, pendant ce temps analyses stoppées dans le p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AC0B-591A-4F12-A7B0-E4EBB09470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4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25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7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0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2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3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4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7C67-E46A-4C48-AFEB-B16DB48CBA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F093-ECD7-46AB-B142-09E75E9EAA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Exemple d’un programme spécialisé :Soft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dolmazonv</cp:lastModifiedBy>
  <dcterms:modified xsi:type="dcterms:W3CDTF">2010-04-08T14:12:46Z</dcterms:modified>
  <cp:revision>13</cp:revision>
  <dc:subject/>
  <dc:title>Discussion: The Problem</dc:title>
</cp:coreProperties>
</file>