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D22C-84CA-4795-9198-A29CC5AA1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CD55-8C30-4986-90A6-2F9FC2B50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C898-AB32-4B68-B941-919FC6EF2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8DD8-CD41-41C8-9A2F-086177E36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5739-40CC-4326-A27B-5DF0F3EDE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86BB-5903-4C85-A2E3-9B3FF993E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466E-103A-4C94-BE19-22087225C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CD96-8592-4FB2-9322-A8035FD29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1C31-6E33-4B41-827F-BCFB93DA8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7E9A-6756-4C2E-9C43-CF703A24A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FD87-6FDC-476D-A62F-9DFC34A85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1D50-7924-4C6F-A146-3DF21B0C3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9F0E-C0C5-4539-AC88-6FCFDD4EA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461F-0900-4BB2-A0FA-B89E18E21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C181-8920-4533-AB75-1BA708425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E160-69EF-4BCF-A499-00FC6454D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0293-3F7D-4E90-9320-34430B1AE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A712-07AF-45E3-B9F7-76D69EC91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2B5E-9422-490E-BDC3-5AA36EFB9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7481-C4B1-440D-A866-FA05BF12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5F6-1BDA-4BE5-BDF7-32A527E2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0C12-EA3A-4ED0-8B87-F5D1E026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DAE2-C9E9-441F-8244-8C729E2F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5EF9-9B6F-4545-AC10-62D20CE2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2615-5D5E-4E63-834D-858AD21A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C157-5A8D-4225-A741-1CBCBB24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6307-0A0B-4776-8AD0-DEDED62C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D1DB-CBCE-4E21-ADF7-5C1DED61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E300-F8B5-4BF3-8B0A-426BCB0C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926D-9CF8-476F-ABF0-37EAB842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7221-A1A9-49E5-951E-C7916EE4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6D7B-8D6E-4193-86C2-9B14F5DE5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trôler l’équipement utilisé au laboratoire en microbiolog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A154-754F-4950-B932-5D9F42F4B47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CB22-D71F-49CA-95BF-8D076051DE6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ipement - 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ôler les températures 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cub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frigé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gélateur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er le fonctionnement 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ids et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ntenir les regi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EA35-F257-410C-BD3D-C5E61B453B3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763D-F37D-4B0A-9D52-647F8FF64FF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784560" y="1295280"/>
            <a:ext cx="131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Stériles</a:t>
            </a: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707520" y="4800600"/>
            <a:ext cx="186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Éli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sécurisé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es déch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échets contamin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7618-1C10-461C-B740-4392CD93360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ux niveaux de contrôl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u 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chim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bactér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es produits stér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st de cro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6DF2-062B-494A-904C-827DC858498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6CD4-E22E-4B15-9DFC-7CFA776C7C9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ndicateurs chimiq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 de stérilisation est vérifiée.  Ne contrôle ni le temps ni la 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8080"/>
                </a:solidFill>
                <a:latin typeface="Arial"/>
              </a:rPr>
              <a:t>Indicateurs b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, le temps et la pression sont vérifi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indicateur ne garantit pas la stérilisation s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autoclave est trop remp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es volumes de bouillon sont trop g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B300-4D0C-4F00-94DB-285C4E6707B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gistr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6F17-7D04-4214-BE90-721C76A8EDE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763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200400" y="1677960"/>
            <a:ext cx="5562720" cy="3751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Garder les optiques pro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Avoir au moins une optique à immersion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Utiliser les lentilles montées sur res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mettre d’huile sur les optiq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permettre à l’échantillon de migrer au dessus de l’op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aff32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aff32"/>
                </a:solidFill>
                <a:latin typeface="Arial Narrow"/>
              </a:rPr>
              <a:t>Maintenir le réglage de Köh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dolmazonv</cp:lastModifiedBy>
  <dcterms:modified xsi:type="dcterms:W3CDTF">2010-04-07T14:19:03Z</dcterms:modified>
  <cp:revision>9</cp:revision>
  <dc:subject/>
  <dc:title>Slide 1</dc:title>
</cp:coreProperties>
</file>