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907588" cy="6858000"/>
  <p:notesSz cx="6948488" cy="10083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948000" cy="1008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5"/>
          </p:nvPr>
        </p:nvSpPr>
        <p:spPr>
          <a:xfrm>
            <a:off x="3935160" y="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745920" y="755640"/>
            <a:ext cx="5459400" cy="37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6"/>
          </p:nvPr>
        </p:nvSpPr>
        <p:spPr>
          <a:xfrm>
            <a:off x="-36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7"/>
          </p:nvPr>
        </p:nvSpPr>
        <p:spPr>
          <a:xfrm>
            <a:off x="393516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016EEBCB-D3E1-4972-A18D-F7A82F7E9C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A672C61D-2D13-4F47-9466-FDA8D68BBA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59880" y="4798800"/>
            <a:ext cx="5558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D7E53A73-0B4B-4998-9B68-3969D1B8EA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55D7758B-76F8-4C75-9D9B-560965A016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0E547988-9A75-43AE-BC1E-6E1319211D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9B9A4281-C248-494D-BB3A-E773F30990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76B96F28-C355-45C7-AFF5-A20C15E6DE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D6726CB6-64A7-4465-A22E-543B5E9D70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8CAC80FD-AE1C-42EF-899D-2188036B0A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F42675F2-A175-4883-B70A-7D33BF3082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F121B7F0-6465-4038-A0CC-17F9BDDA3D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BED36078-1CDF-425C-97A5-F617ECEE16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73A721C5-83E4-4042-BF98-A0991AC9B0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CF9EA830-D68E-441B-8EC1-E2123C9BF1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337864BE-3C6B-45E5-B36E-3CA9219D02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F54C2154-49F8-4D98-AE1A-4B9F80BF1B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FF62AE41-0D47-41C8-996A-804908A6C1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4EB4DA57-BE12-4663-B137-D7AB041876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77645DE1-A5FC-46FC-8BCD-324CB4CF69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25576E13-5622-4F82-B428-CB81F5ACEE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802F4A70-2A1D-4BD6-AB4E-5D729068DB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4C6357D8-91F6-4027-AD6E-67F29B2A3E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B122166E-3CE2-4B49-8499-B2DCAD9B06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13D31E2C-E70F-4EC4-80E0-B905BA048F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E2A179AA-20DB-4843-A12C-5C4F6075CC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91F53750-8337-4522-9DAE-B394C4BB7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E48E2C62-AF4D-4E42-BF0B-DCB3D34B1D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8D02E-356C-4CF4-9D64-6220316D3B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F0B6C-7A15-4A0A-85C4-1ABDE6FD50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1EF6D-0AF8-42BB-ABCA-F97932C837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61DBB-24E6-4FE3-BB7E-4038699A1D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32C8E3-3D80-4F22-ADA6-A66AD1464A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C8B168-C127-413D-BAC7-014E2F49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97C400-8553-49F5-83A2-55BFC990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BBE8C-CE14-4F3B-A0A6-9D5151A9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3156F5-54E1-4188-93E1-B1BAAC657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B08B4-F37A-44C1-B585-82C404579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65CD97-1F68-4C43-95EB-67D4D7B2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CD0D0-2E1D-4108-9512-3EE66AB657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32143A-D6EB-49BF-9EA9-99288BC0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AE144F-512B-4EB8-9ECA-371D9652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87DE65-3021-4D0D-8C6B-7AFA4B03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1E712-4D2E-4C20-83D9-0EDDCE2F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7F4596-21C1-4DFC-B30C-F7D4D9625C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9EE6A-6AA5-4486-A060-A85C4B1A75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0715C-D93A-437E-AD87-366FBFB442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996F5-F0F0-4251-8EE7-33E148768C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DA1B3-5642-441E-809B-C3C87B12ED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4C619-E9C2-43D6-89D8-C23A7CA64F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BE68D-D28C-449A-A279-15104BEB16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93544-2013-4460-A895-5FC0DE248B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6476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 Maintenance-Modu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4CA0-0899-427B-BA67-B60591A01E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905760" cy="546120"/>
            <a:chOff x="0" y="0"/>
            <a:chExt cx="990576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30960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47120" y="135000"/>
              <a:ext cx="945864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43520" y="135000"/>
              <a:ext cx="14904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92920" y="0"/>
              <a:ext cx="1512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92920" y="135000"/>
              <a:ext cx="15120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97360" y="274680"/>
              <a:ext cx="14976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42560" y="136440"/>
              <a:ext cx="15264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3520" y="271440"/>
              <a:ext cx="14904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97360" y="409680"/>
              <a:ext cx="14976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87880" indent="-212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13040" indent="-212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7972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859040" y="1690560"/>
              <a:ext cx="804672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3105360" cy="3157560"/>
              <a:chOff x="0" y="1066680"/>
              <a:chExt cx="310536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620640" y="3583080"/>
                <a:ext cx="62568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858680" y="1690560"/>
                <a:ext cx="62424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471040" y="1066680"/>
                <a:ext cx="6343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236240" y="3583080"/>
                <a:ext cx="6325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471040" y="1690560"/>
                <a:ext cx="6343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236240" y="2324160"/>
                <a:ext cx="6325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63072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858680" y="2324160"/>
                <a:ext cx="62424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620640" y="2948040"/>
                <a:ext cx="62568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236240" y="2948040"/>
                <a:ext cx="6325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87880" indent="-212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13040" indent="-212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55D4-61A7-430B-96B3-55791F6E87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8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9EE8-86EB-4BE6-B912-737B536452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71400" y="2193480"/>
            <a:ext cx="640260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Maintenance du Microscope </a:t>
            </a:r>
            <a:br>
              <a:rPr sz="36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3" name="Picture 11" descr="HHS-Logo-blue"/>
          <p:cNvPicPr/>
          <p:nvPr/>
        </p:nvPicPr>
        <p:blipFill>
          <a:blip r:embed="rId1"/>
          <a:stretch/>
        </p:blipFill>
        <p:spPr>
          <a:xfrm>
            <a:off x="8242200" y="610380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8908920" y="6107040"/>
            <a:ext cx="7621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09A3-3F87-450B-8CF0-4D963064FF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67840" y="274320"/>
            <a:ext cx="941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2: Nettoyer les o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880" y="1619280"/>
            <a:ext cx="54928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Aft>
                <a:spcPts val="2401"/>
              </a:spcAft>
              <a:buClr>
                <a:srgbClr val="00007d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ssuyer les oculaires, sécher avec un papier spécifique pour lentil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Aft>
                <a:spcPts val="2401"/>
              </a:spcAft>
              <a:buClr>
                <a:srgbClr val="00007d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er le nettoyage et le séchage si besoi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1"/>
          <a:srcRect l="13619" t="0" r="0" b="0"/>
          <a:stretch/>
        </p:blipFill>
        <p:spPr>
          <a:xfrm>
            <a:off x="5835600" y="1585800"/>
            <a:ext cx="3774960" cy="3718080"/>
          </a:xfrm>
          <a:prstGeom prst="rect">
            <a:avLst/>
          </a:prstGeom>
          <a:ln w="0">
            <a:noFill/>
          </a:ln>
        </p:spPr>
      </p:pic>
      <p:sp>
        <p:nvSpPr>
          <p:cNvPr id="15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FB4E-D17B-4CEA-84C0-7DE03D8588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Étape 3: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Nettoyer les objectif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48920" y="13093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objectifs sont nettoyés restant toujours attachés au micro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mprégner le papier avec la solution de nettoy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doucement en faisant des mouvement circulaires de l’intérieur vers l’extéri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avec un tissu sec ou un papier spécifique pour lentill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s objectifs ne devraient jamais être démonté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Espace réservé du pied de page 3"/>
          <p:cNvSpPr/>
          <p:nvPr/>
        </p:nvSpPr>
        <p:spPr>
          <a:xfrm>
            <a:off x="465120" y="629280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D130-A870-4DBE-A4F1-340C121E1C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6760" y="380520"/>
            <a:ext cx="9658440" cy="13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4: 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Nettoyage du plateau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28280" y="1963440"/>
            <a:ext cx="461484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le plateau en utilisant une solution nettoyante sur un tissu do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écher entièrement le plateau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péter les étapes ci dessus, si beso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1"/>
          <a:stretch/>
        </p:blipFill>
        <p:spPr>
          <a:xfrm>
            <a:off x="5465880" y="1784520"/>
            <a:ext cx="4086000" cy="4465440"/>
          </a:xfrm>
          <a:prstGeom prst="rect">
            <a:avLst/>
          </a:prstGeom>
          <a:ln w="0">
            <a:noFill/>
          </a:ln>
        </p:spPr>
      </p:pic>
      <p:sp>
        <p:nvSpPr>
          <p:cNvPr id="16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0892-B60C-4055-A4C8-F6A7727302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5: 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Nettoyage du corps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brancher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biber un tampon de coton avec un agent nettoy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ssuyer le corps du microscope pour enlever la poussière, la saleté et l’hu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er les étapes 1 à 3 si nécessair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1339-CEF8-4431-AF58-E34E58FD49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8320" y="553680"/>
            <a:ext cx="859824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Étape 6: Nettoyage du condensateur et lentilles auxiliair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6520" y="2030040"/>
            <a:ext cx="54658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brancher le micro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ettoyer la lentille du condensateur et les lentilles auxiliaires avec un écouvillon de coton imprégné de solution nettoya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avec un écouvillon se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Picture 7" descr=""/>
          <p:cNvPicPr/>
          <p:nvPr/>
        </p:nvPicPr>
        <p:blipFill>
          <a:blip r:embed="rId1"/>
          <a:stretch/>
        </p:blipFill>
        <p:spPr>
          <a:xfrm>
            <a:off x="5624640" y="2147760"/>
            <a:ext cx="3873240" cy="3310200"/>
          </a:xfrm>
          <a:prstGeom prst="rect">
            <a:avLst/>
          </a:prstGeom>
          <a:ln w="0">
            <a:noFill/>
          </a:ln>
        </p:spPr>
      </p:pic>
      <p:sp>
        <p:nvSpPr>
          <p:cNvPr id="174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1C63-8523-4A9D-AA3E-A916844EE3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mplacer l’ampoule du microscop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000" y="1854360"/>
            <a:ext cx="5483160" cy="45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brancher le microscop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rouver l’emplacement de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ivre les instructions du fabricant pour enlever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Picture 8" descr=""/>
          <p:cNvPicPr/>
          <p:nvPr/>
        </p:nvPicPr>
        <p:blipFill>
          <a:blip r:embed="rId1"/>
          <a:srcRect l="10240" t="0" r="0" b="0"/>
          <a:stretch/>
        </p:blipFill>
        <p:spPr>
          <a:xfrm>
            <a:off x="6219720" y="2063880"/>
            <a:ext cx="3475080" cy="3406680"/>
          </a:xfrm>
          <a:prstGeom prst="rect">
            <a:avLst/>
          </a:prstGeom>
          <a:ln w="0">
            <a:noFill/>
          </a:ln>
        </p:spPr>
      </p:pic>
      <p:sp>
        <p:nvSpPr>
          <p:cNvPr id="17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A6B7-E3BD-43AF-A1C9-BD1070961F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0960" y="485280"/>
            <a:ext cx="70992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mplacer l’ampoule (suite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69360" y="1181160"/>
            <a:ext cx="598500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10000"/>
              </a:lnSpc>
              <a:spcAft>
                <a:spcPts val="13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er un mouchoir ou tout autre objet pour enlever l’ampo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Aft>
                <a:spcPts val="10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e numéro du modèle sur l’ampoule pour s’assurer de la remplacer correctem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Aft>
                <a:spcPts val="10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mplacer l’ampoule en la tenant avec du papier optique ou tout autre matériel appropri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rcRect l="21099" t="0" r="0" b="0"/>
          <a:stretch/>
        </p:blipFill>
        <p:spPr>
          <a:xfrm>
            <a:off x="6426360" y="1373040"/>
            <a:ext cx="2970000" cy="36576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0"/>
          <p:cNvSpPr/>
          <p:nvPr/>
        </p:nvSpPr>
        <p:spPr>
          <a:xfrm>
            <a:off x="925560" y="5202360"/>
            <a:ext cx="8397720" cy="868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969840" y="5369040"/>
            <a:ext cx="83106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Ne jamais toucher l’ampoule avec vos doig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6EB3-A4B7-403B-B3A2-F62BB29C5E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000" y="1220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paration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64680" y="1479240"/>
            <a:ext cx="954108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Aft>
                <a:spcPts val="1001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 jamais désassembler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Aft>
                <a:spcPts val="1001"/>
              </a:spcAft>
              <a:buClr>
                <a:srgbClr val="9999ff"/>
              </a:buClr>
              <a:buSzPct val="11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tiques: oculaires et obje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Aft>
                <a:spcPts val="1001"/>
              </a:spcAft>
              <a:buClr>
                <a:srgbClr val="9999ff"/>
              </a:buClr>
              <a:buSzPct val="11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écaniques: plateau et bouton d’ajus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Aft>
                <a:spcPts val="11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 réparation de ces éléments requière l’appel de services extérieu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629D-2EBC-4F1A-A4D5-7E7E56C812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97960" y="1681200"/>
            <a:ext cx="694692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Aft>
                <a:spcPts val="1925"/>
              </a:spcAft>
              <a:buClr>
                <a:srgbClr val="00007d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eaucoup des problèmes courants peuvent être prévenus par un nettoyage routinier, l’ajustement et la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Aft>
                <a:spcPts val="2200"/>
              </a:spcAft>
              <a:buClr>
                <a:srgbClr val="00007d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ercher les services d’un professionnel quand le problème ne peut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pas être résolu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95000" y="528120"/>
            <a:ext cx="8915400" cy="7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Résolutions de problèmes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4" name="Picture 5" descr="46-1"/>
          <p:cNvPicPr/>
          <p:nvPr/>
        </p:nvPicPr>
        <p:blipFill>
          <a:blip r:embed="rId1"/>
          <a:srcRect l="2553" t="0" r="17873" b="0"/>
          <a:stretch/>
        </p:blipFill>
        <p:spPr>
          <a:xfrm>
            <a:off x="7443720" y="1557360"/>
            <a:ext cx="2170080" cy="3103560"/>
          </a:xfrm>
          <a:prstGeom prst="rect">
            <a:avLst/>
          </a:prstGeom>
          <a:ln w="0">
            <a:noFill/>
          </a:ln>
        </p:spPr>
      </p:pic>
      <p:sp>
        <p:nvSpPr>
          <p:cNvPr id="19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7627-F4AF-431B-ADB2-D0FC7B7AA3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: problèmes oculaires et maux de têt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70000" y="1980720"/>
            <a:ext cx="9407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juster la distance inter pupil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juster le réglage de dioptries de l’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les mêmes oculai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AC56-2642-4BFC-831F-750AABF22C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910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e ce module vous serez en mesure 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proprement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proprement le microscope, les optiques et l’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mplacer l’ampoul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gler les problèmes liés à l’utilisation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5059-350F-4770-AE93-46212FB96A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Image de mauvaise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34680" y="15602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’objectif et les lentil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e microscope à fo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érifier l’huile, la remplacer si contaminée ou douteus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a lame est entièrement sèche avant d’appliquer l’hui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E921-8ED1-4B5C-97C8-6ECBED7778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: éclairage inég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10760" y="168228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e porte objectif est sur la position où il « clique » quand il est en plac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entrer le condensat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atiquer un réglage de Köhle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érifier le modèle de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1C4B-40DA-486B-A743-B7FDF6CEC7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Réajustement Consta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la lame est plate sur le platea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e plateau et le dessous de la lam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le microscope est sur une surface pla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56B2-D752-43B8-A709-FD0C981C83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Lumière houleuse ou tremblotant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2760" y="1374480"/>
            <a:ext cx="9393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uvaise connex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ettoyer les contacts de la lampe (</a:t>
            </a: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débrancher !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es contacts halogènes font bien cont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mpoule a besoin d’être remplacé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garder si le cordon d’alimentation est abîmé, le remplacer si une lésion est vi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i le courant est instable, utiliser un stabilisat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2DF4-AABB-4C40-A482-7D384A030A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392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aintenance du Microscope -1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000" y="1714680"/>
            <a:ext cx="437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aintenance quotidien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Éclairage optimu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Propret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Ampou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Huile d’immers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Vérifier le cord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Le couvr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19320" y="1733400"/>
            <a:ext cx="4670280" cy="29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ervice Professionne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Aft>
                <a:spcPts val="1239"/>
              </a:spcAft>
              <a:buClr>
                <a:srgbClr val="9999cc"/>
              </a:buClr>
              <a:buSzPct val="13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Minimum une fois par an si possib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120000"/>
              </a:lnSpc>
              <a:spcAft>
                <a:spcPts val="1239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Problèmes qui ne peuvent être résolus par le personnel du laboratoi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DB4D-1B7E-4B3D-94ED-AC55B6BBE9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intenance du Microscope -2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1360" y="16268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47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aintenir un registre pou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roblè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maintenance de routin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répa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ièces détaché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35A0-27ED-4D15-8AB4-1B17C809DE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– Ques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40840" y="1980720"/>
            <a:ext cx="9664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 est l’autre terme pour oculair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les sont les deux raisons des problèmes de clarté du champ de vision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le but et rôle d’une boî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ACB5-722E-48F1-9E09-C6838B8FE6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Vue d’ensemble du contenu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itions de stockag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requis pour la maintenanc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lutions de nettoyage et solvants requis pour nettoyer les optiques, le socle et le corp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requis pour le nettoya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F44D-9E2A-4D4C-9A85-F99A8B10AD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000" y="17301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bon stockage du microscope préviendra ou réduira les problèm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optiques et les mécanismes du microscope doivent être protégés 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poussière, la sale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s champign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le microscop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s une housse protectr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 l’abri de l’humid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5975-CB4C-4B2F-9975-7CBC14F551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8915400" cy="95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lutions de nettoyage et solv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lution savonneuse pour nettoyer le corps et le soc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thyl-ether-alcool, alcool, ou solution de nettoyage pour optiques, pour nettoyer les optiqu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référer au guide du fabricant pour un solvant organique approprié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2054" descr="MCj02390130000[1]"/>
          <p:cNvPicPr/>
          <p:nvPr/>
        </p:nvPicPr>
        <p:blipFill>
          <a:blip r:embed="rId1"/>
          <a:stretch/>
        </p:blipFill>
        <p:spPr>
          <a:xfrm>
            <a:off x="217440" y="1531800"/>
            <a:ext cx="685800" cy="615960"/>
          </a:xfrm>
          <a:prstGeom prst="rect">
            <a:avLst/>
          </a:prstGeom>
          <a:ln w="0">
            <a:noFill/>
          </a:ln>
        </p:spPr>
      </p:pic>
      <p:sp>
        <p:nvSpPr>
          <p:cNvPr id="13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58DB-94AE-4CE8-AE00-9315D75153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lutions de nettoy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04720" y="1357200"/>
          <a:ext cx="8915400" cy="4140360"/>
        </p:xfrm>
        <a:graphic>
          <a:graphicData uri="http://schemas.openxmlformats.org/drawingml/2006/table">
            <a:tbl>
              <a:tblPr/>
              <a:tblGrid>
                <a:gridCol w="3362400"/>
                <a:gridCol w="2814840"/>
                <a:gridCol w="2738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lutions de nettoy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ge fréqu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ge non fréqu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Recommandation du fabric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thyl ether/alcool (80/2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Alc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Benzène / pétr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Xyl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3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0D7E-7E54-48B1-9092-3F4023ADCA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tériel de nettoy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760" y="126180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resse de gaz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couvillon en cot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apier spécial pour lentil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lternatives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pier fin de qualité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ousse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1030" descr=""/>
          <p:cNvPicPr/>
          <p:nvPr/>
        </p:nvPicPr>
        <p:blipFill>
          <a:blip r:embed="rId1"/>
          <a:stretch/>
        </p:blipFill>
        <p:spPr>
          <a:xfrm>
            <a:off x="6589800" y="977760"/>
            <a:ext cx="2938320" cy="3651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31" descr="microscope_cleaning_materials"/>
          <p:cNvPicPr/>
          <p:nvPr/>
        </p:nvPicPr>
        <p:blipFill>
          <a:blip r:embed="rId2"/>
          <a:stretch/>
        </p:blipFill>
        <p:spPr>
          <a:xfrm>
            <a:off x="5689440" y="4176720"/>
            <a:ext cx="2995920" cy="2349360"/>
          </a:xfrm>
          <a:prstGeom prst="rect">
            <a:avLst/>
          </a:prstGeom>
          <a:ln w="0">
            <a:noFill/>
          </a:ln>
        </p:spPr>
      </p:pic>
      <p:sp>
        <p:nvSpPr>
          <p:cNvPr id="14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6924-7FF6-4D58-8830-78C795327D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cessus de nettoyage du microscop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88600" y="15332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je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teau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rps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ens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92EF-1920-45A1-A35E-8ED33F333F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7680" y="274320"/>
            <a:ext cx="942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1: Nettoyage des o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0080" y="1473120"/>
            <a:ext cx="5422680" cy="36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asser la poussière avant d’essuyer les lentil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ttoyer les oculaires avec un écouvillon en coton imbibé de solution de nettoyage pour lentil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ttoyer avec un mouvement circulaire de l’intérieur vers l’extéri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8" descr=""/>
          <p:cNvPicPr/>
          <p:nvPr/>
        </p:nvPicPr>
        <p:blipFill>
          <a:blip r:embed="rId1"/>
          <a:srcRect l="22699" t="0" r="0" b="0"/>
          <a:stretch/>
        </p:blipFill>
        <p:spPr>
          <a:xfrm>
            <a:off x="6102360" y="2009880"/>
            <a:ext cx="3376440" cy="3322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microscope_cleaning_oculars"/>
          <p:cNvPicPr/>
          <p:nvPr/>
        </p:nvPicPr>
        <p:blipFill>
          <a:blip r:embed="rId2"/>
          <a:srcRect l="7500" t="45187" r="12500" b="14117"/>
          <a:stretch/>
        </p:blipFill>
        <p:spPr>
          <a:xfrm>
            <a:off x="4005360" y="4933800"/>
            <a:ext cx="2925720" cy="1316160"/>
          </a:xfrm>
          <a:prstGeom prst="rect">
            <a:avLst/>
          </a:prstGeom>
          <a:ln w="0">
            <a:noFill/>
          </a:ln>
        </p:spPr>
      </p:pic>
      <p:sp>
        <p:nvSpPr>
          <p:cNvPr id="15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3:53:25Z</dcterms:created>
  <dc:creator>Ken Jost / Stacy Howard</dc:creator>
  <dc:description/>
  <dc:language>en-US</dc:language>
  <cp:lastModifiedBy>dolmazonv</cp:lastModifiedBy>
  <cp:lastPrinted>2005-11-05T23:10:45Z</cp:lastPrinted>
  <dcterms:modified xsi:type="dcterms:W3CDTF">2010-04-07T14:20:37Z</dcterms:modified>
  <cp:revision>195</cp:revision>
  <dc:subject/>
  <dc:title>Overview of the Microscope </dc:title>
</cp:coreProperties>
</file>