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6EFF-1FED-4269-932F-C2B771899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AC5C-84C1-45FD-AB6E-F24177D25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D45D-B37E-41BA-A7EE-0F9505892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9263-BB1C-409B-B585-DCF33FD59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0805-1E0F-459A-8E88-3F3DCE428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0E624-8BFB-42D1-8B6D-94FA7DF08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B3A4-7544-4389-914C-CD43CC844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FE71-8407-4FA2-B1A1-C57C1FCAB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7344-142A-461B-98F3-90EB57121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87CC-365D-4539-B33F-4A5F5B529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1BCD9-E287-47F4-9883-02327F8CB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DBCA-03FD-43F3-8646-17700D3C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70D4-F6B0-455B-A5E3-69B2E56E3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3444-A8FE-41A5-BC54-C4F56F1C4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6BC6D-5CEB-4061-A9A9-B3927AE23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C4DA-CCA4-48A8-973E-7B08E0023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0F28-4F60-4C1C-8DD9-7BD200896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D718-120B-48EC-A4F1-F3CFCA59D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4404A-0B4E-4D7C-B6EE-6C5401D4B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FFE3-D884-4238-B1D0-E7F517F3F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9B36-16C9-4982-A71C-5D55443A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494E-34E9-4B23-87AE-84B56D50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999-B878-452E-BF68-3B7D845CD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8AE8-BC50-4F88-9DC0-711391344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947-B96F-4567-9C78-BBB5AF1B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2B0-3878-4F0E-8F00-E0969BD4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44AA-33BB-4A14-90B0-6F6B2B4E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F25B-3297-4007-9007-57F98887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9E7-0740-440C-BDF8-A004D3B5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A0C9-D6A5-496C-B94B-BF093E5D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D120-D4B8-438D-896D-2D7F254E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663E-0B90-4562-B8A6-41A3C2FD9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Contrôler l’équipement utilisé au laboratoire en microbiolog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44BA4-C45A-4A3F-8CB1-E8463E1D8E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C99D-DB5C-4699-ACCD-7915B74354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Équipement - Microbiolog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rôler les températures 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cub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éfrigér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gélateur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érifier le fonctionnement d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Hmèt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ids et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intenir les regis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B27B-0DC1-4FEA-995F-DFF2DCD785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93EA-FE58-4B46-94E6-557FCDC1AE29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>
            <a:off x="6784560" y="1295280"/>
            <a:ext cx="1311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Stériles</a:t>
            </a: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6707520" y="4800600"/>
            <a:ext cx="1863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Élimin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sécurisé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es déch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il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réacti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matér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Narrow"/>
              </a:rPr>
              <a:t>Déchets contamin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CBC4-C07D-49B6-8CCC-886AC713CE2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Deux niveaux de contrôl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u process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chimiq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dicateurs bactér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3300"/>
                </a:solidFill>
                <a:latin typeface="Arial"/>
              </a:rPr>
              <a:t>Contrôle des produits stér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est de croiss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4698-C01A-4775-B3DB-AE6DCA04FD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BEF1-3E5C-419F-94F5-F85317B11754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Indicateurs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Indicateurs chimique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 de stérilisation est vérifiée.  Ne contrôle ni le temps ni la pr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808080"/>
                </a:solidFill>
                <a:latin typeface="Arial"/>
              </a:rPr>
              <a:t>Indicateurs biolog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empérature, le temps et la pression sont vérifié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indicateur ne garantit pas la stérilisation s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’autoclave est trop remp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Les volumes de bouillon sont trop gr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1FDA-2226-421F-BEF8-1CAEFADB975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Registre de stéri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7AFC-9A7A-42C8-8394-61E73AE1E05C}" type="slidenum">
              <a:rPr b="0" lang="fr-FR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4060_research_large"/>
          <p:cNvPicPr/>
          <p:nvPr/>
        </p:nvPicPr>
        <p:blipFill>
          <a:blip r:embed="rId1"/>
          <a:stretch/>
        </p:blipFill>
        <p:spPr>
          <a:xfrm>
            <a:off x="7632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3200400" y="1677960"/>
            <a:ext cx="5562720" cy="3751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Garder les optiques pro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Avoir au moins une optique à immersion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Utiliser les lentilles montées sur res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mettre d’huile sur les optique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Narrow"/>
              </a:rPr>
              <a:t>Ne pas permettre à l’échantillon de migrer au dessus de l’opt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aff32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aff32"/>
                </a:solidFill>
                <a:latin typeface="Arial Narrow"/>
              </a:rPr>
              <a:t>Maintenir le réglage de Köhl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dolmazonv</cp:lastModifiedBy>
  <dcterms:modified xsi:type="dcterms:W3CDTF">2010-04-07T14:19:03Z</dcterms:modified>
  <cp:revision>9</cp:revision>
  <dc:subject/>
  <dc:title>Slide 1</dc:title>
</cp:coreProperties>
</file>