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1F044-8EA6-4556-A743-54B87E021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46BBD-CC9D-4B49-A82A-B9A1DA52F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A6A72-F148-4424-8AA4-98B48DFCD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7EBB0-417A-426E-8719-E623DE53A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17712-37E5-4C72-A00D-79F024A42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E7F3F-C551-4741-9272-35B2D0C65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33965-F37C-4E2B-9DD4-3A6999174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6B138-67C9-4A5D-A7C4-F54B50719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E32C6-4415-4CD0-BB3E-0B76E7FF0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7C3A9-BFA4-469E-8615-855047C5A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A0482-E726-4E6F-9500-54FD83469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DF87E-8B28-4E45-A2E5-DFCD712A1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F830B-7D92-4417-884F-ADB7FA823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33DD5-1913-4743-918B-50A767B65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65DE6-0174-4A7D-B3A4-FE225CD4B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4D9DA-0646-4263-BC50-448E8B59E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07128-91CB-43DD-A064-2F412595D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6A627-31E3-4FB6-8CBC-1A40ADF3D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98F58-642B-43F7-ABD2-B74412006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066B-C7CD-42FF-86A9-4CBF897E2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CC64-5538-4A2B-92F3-9DA7511F1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9E00-9096-4484-8470-1F56B8AEF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1E8E-4130-44C6-9BDB-5997892ED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2E9F-650D-4CDB-9C48-0351A1AA6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7637-8FA7-40DA-B2E7-0259AD6E4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7195-2746-4976-A7DB-F329F63D1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882C-B54D-46FF-BC65-7CD1BDD79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9844-CB86-4B30-B032-2CB23FD2F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A5CD-76EF-444E-A26C-DBE5FB04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9A12-D425-40BF-8C32-7C9735DD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B9AC-004B-4E88-ABD2-2C15FF07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E3B84-6E13-45BF-B38F-2C15299FE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ontrôler l’équipement utilisé au laboratoire en microbiologi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5D044-A35A-4E4A-B197-BFA2C7970DC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1E94E-6823-4692-9559-40D097F7622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Équipement - Microbiolog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trôler les températures 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cub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éfrigér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gélateurs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érifier le fonctionnement d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Hmè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ids et me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aintenir les regist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5BE34-8B88-4DA2-AF59-1A777F0D2E5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F795A-9FD2-4815-BC61-6165B45AF64E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6784560" y="1295280"/>
            <a:ext cx="1311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 Narrow"/>
              </a:rPr>
              <a:t>Stériles</a:t>
            </a: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milie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réac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matér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6707520" y="4800600"/>
            <a:ext cx="1863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Élimin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sécurisé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des déch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 Narrow"/>
              </a:rPr>
              <a:t>Prépa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milie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réac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matér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Déchets contamin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86D31-F9F8-4183-A8B5-11FC6A90D84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eux niveaux de contrôle de 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3300"/>
                </a:solidFill>
                <a:latin typeface="Arial"/>
              </a:rPr>
              <a:t>Contrôle du proces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dicateurs chimiq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dicateurs bactériolog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3300"/>
                </a:solidFill>
                <a:latin typeface="Arial"/>
              </a:rPr>
              <a:t>Contrôle des produits stér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est de croiss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039B4-B07E-4FF0-8C48-400326FE4C8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dicateurs de 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88965-4D79-4E8C-8F97-529007516352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dicateurs de 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Indicateurs chimique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température de stérilisation est vérifiée.  Ne contrôle ni le temps ni la pre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808080"/>
                </a:solidFill>
                <a:latin typeface="Arial"/>
              </a:rPr>
              <a:t>Indicateurs biolog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température, le temps et la pression sont vérifié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L’indicateur ne garantit pas la stérilisation si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L’autoclave est trop remp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Les volumes de bouillon sont trop gr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4DA26-9C05-480E-A34A-A9492682706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Registre de 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3C6AA-5579-40C5-AA78-355A8C2B577A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4060_research_large"/>
          <p:cNvPicPr/>
          <p:nvPr/>
        </p:nvPicPr>
        <p:blipFill>
          <a:blip r:embed="rId1"/>
          <a:stretch/>
        </p:blipFill>
        <p:spPr>
          <a:xfrm>
            <a:off x="7632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3200400" y="1677960"/>
            <a:ext cx="5562720" cy="375156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Garder les optiques pro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Avoir au moins une optique à immersion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Utiliser les lentilles montées sur res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Ne pas mettre d’huile sur les optiqu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Ne pas permettre à l’échantillon de migrer au dessus de l’op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aff32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aff32"/>
                </a:solidFill>
                <a:latin typeface="Arial Narrow"/>
              </a:rPr>
              <a:t>Maintenir le réglage de Köhl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dolmazonv</cp:lastModifiedBy>
  <dcterms:modified xsi:type="dcterms:W3CDTF">2010-04-07T14:19:03Z</dcterms:modified>
  <cp:revision>9</cp:revision>
  <dc:subject/>
  <dc:title>Slide 1</dc:title>
</cp:coreProperties>
</file>