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907588" cy="6858000"/>
  <p:notesSz cx="6948488" cy="10083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948000" cy="100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5"/>
          </p:nvPr>
        </p:nvSpPr>
        <p:spPr>
          <a:xfrm>
            <a:off x="3935160" y="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745920" y="755640"/>
            <a:ext cx="5459400" cy="37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6"/>
          </p:nvPr>
        </p:nvSpPr>
        <p:spPr>
          <a:xfrm>
            <a:off x="-3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7"/>
          </p:nvPr>
        </p:nvSpPr>
        <p:spPr>
          <a:xfrm>
            <a:off x="393516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FB05B3B4-9A5F-4E4C-9D24-7F2AE5B3CB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2F17150-9A39-446C-B37D-7DC56C5E8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59880" y="4798800"/>
            <a:ext cx="5558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9EE3F16-91A1-471B-8B25-252792D39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84A2721-2392-4E44-B6D5-FF0588BF03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B9A4880-77FB-43D1-B5F5-EA1E8531F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F7D9748-332D-450E-812C-1C6608FA9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91E76C9-6CDC-4EBF-B057-237C72A18A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1B7316B-8234-43DD-B25E-8A4081EF2C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764529C-FB8B-4314-9605-A4345A1D2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601FA2C-AD06-4648-AC4E-91C8226843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8CDCD25-B8ED-4717-A2FE-38B6535A89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D87A9675-EE51-4993-B447-19E3A775B2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97854C46-3D15-4124-A8F3-0A99757632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E436922F-6D37-490B-8FBF-68DF9203E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445FDCF-C776-4FBF-96A9-612ACC154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54D9DB23-8D67-4A0F-B185-65BC82282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2AD18071-D00A-412B-8690-FDBDAEA695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23760" y="4790880"/>
            <a:ext cx="5099040" cy="45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6EAED77-9C61-4AE7-A16B-D88D60FB0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802BE56C-F38B-414C-B1BE-E2DB838C9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1E04DC5A-D0A8-43B2-A030-110C626F0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A94864B-DEB0-4FD4-990E-626A7F913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859E172-E616-49C4-A5E7-24A90D90E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404AE6E3-5942-49F7-9A18-7F4A8767ED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6B841B26-9122-44D1-B738-DA506D9448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03E78236-C29E-48C3-A5BA-05A39AC942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7F67C4DF-D6B5-402D-80D2-80031D4446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odule 9:   Microscope Maintenanc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935520" y="9577440"/>
            <a:ext cx="3009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b">
            <a:noAutofit/>
          </a:bodyPr>
          <a:p>
            <a:pPr algn="r"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fld id="{BE568020-4D40-4982-9F07-D77E794CC6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746280" y="755640"/>
            <a:ext cx="5459400" cy="3780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95160" y="4790880"/>
            <a:ext cx="555624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58A9B-E523-4D93-A26A-258D7FEA65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A0F9D-ADD4-4F0E-8988-4F49CFAA95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589D-3AAE-4448-A95C-58A74B3A4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A4F92-09D2-455D-9472-B4874321EB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4FC13-B8AC-40CF-9C07-8B7E003452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FEE70-B525-44BD-9C3F-4740E363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601FF3-780D-4572-9FE2-718698B6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1392C2-12EA-4F6D-A280-5C45C21C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4AE0B9-31AA-44B5-B03B-82DE6470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3A9A7-3C69-4CBE-9242-B5CEADAE7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99A09-1607-449B-8CE7-5A1D1237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88CE-CC82-4044-9E24-E8A11AF87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4638C1-B94E-4453-96B0-9AC67287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4EE44C-2806-42A5-9100-772812D9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E840D-8FFF-407E-820B-8D2F4F10B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DEFAC-38C1-405F-8937-9ECF9C84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DB215-6389-4838-8846-17EE8E8ED8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13D21-E812-41BE-9F00-8241B781E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E7B44-88DE-4EC8-A16D-B338C6AF6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D8A1B-B7EF-4393-818E-FD773D4145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B99AA-2E70-41CF-BF02-83B15B8A8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2D0AE-6F2D-45B9-802D-758ED825A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6266-FCE7-4FCE-A3B9-08E0173D7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96FB6-2DA2-4DC0-9964-E6B447A18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6476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scope Maintenance-Modul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0010-A933-4733-9D4F-B16D9F03A3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4976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4976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620640" y="3583080"/>
                <a:ext cx="6256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858680" y="1690560"/>
                <a:ext cx="62424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858680" y="2324160"/>
                <a:ext cx="62424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620640" y="2948040"/>
                <a:ext cx="6256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87880" indent="-2124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13040" indent="-2124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13040" indent="-212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B401-7490-4020-9C98-17F21EF81C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5.jpeg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8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00B4-5412-4FBF-9635-03D03BB947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71400" y="2193480"/>
            <a:ext cx="640260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Maintenance du Microscope </a:t>
            </a:r>
            <a:br>
              <a:rPr sz="36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3" name="Picture 11" descr="HHS-Logo-blue"/>
          <p:cNvPicPr/>
          <p:nvPr/>
        </p:nvPicPr>
        <p:blipFill>
          <a:blip r:embed="rId1"/>
          <a:stretch/>
        </p:blipFill>
        <p:spPr>
          <a:xfrm>
            <a:off x="8242200" y="610380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8908920" y="6107040"/>
            <a:ext cx="76212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A8209-1D23-4085-BD96-B7F43CC09E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7840" y="274320"/>
            <a:ext cx="9410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2: Nettoyer l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880" y="1619280"/>
            <a:ext cx="54928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s oculaires, sécher avec un papier spécifique pour lentil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5000"/>
              </a:lnSpc>
              <a:spcAft>
                <a:spcPts val="2401"/>
              </a:spcAft>
              <a:buClr>
                <a:srgbClr val="00007d"/>
              </a:buClr>
              <a:buSzPct val="12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 nettoyage et le séchage si besoi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rcRect l="13619" t="0" r="0" b="0"/>
          <a:stretch/>
        </p:blipFill>
        <p:spPr>
          <a:xfrm>
            <a:off x="5835600" y="1585800"/>
            <a:ext cx="3774960" cy="3718080"/>
          </a:xfrm>
          <a:prstGeom prst="rect">
            <a:avLst/>
          </a:prstGeom>
          <a:ln w="0">
            <a:noFill/>
          </a:ln>
        </p:spPr>
      </p:pic>
      <p:sp>
        <p:nvSpPr>
          <p:cNvPr id="15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F97C-027F-4789-BF7F-B69A2C2583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3: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Nettoyer les objectif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48920" y="13093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objectifs sont nettoyés restant toujours attachés au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mprégner le papier avec la solution de nettoya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doucement en faisant des mouvement circulaires de l’intérieur vers l’extéri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lnSpc>
                <a:spcPct val="10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tissu sec ou un papier spécifique pour lentill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objectifs ne devraient jamais être démonté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Espace réservé du pied de page 3"/>
          <p:cNvSpPr/>
          <p:nvPr/>
        </p:nvSpPr>
        <p:spPr>
          <a:xfrm>
            <a:off x="465120" y="629280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7A47-3D0B-4D8B-BFFB-3906570B9E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6760" y="380520"/>
            <a:ext cx="9658440" cy="133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4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plateau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28280" y="1963440"/>
            <a:ext cx="46148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le plateau en utilisant une solution nettoyante sur un tissu do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écher entièrement le plateau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Aft>
                <a:spcPts val="22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péter les étapes ci dessus, si beso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7" descr=""/>
          <p:cNvPicPr/>
          <p:nvPr/>
        </p:nvPicPr>
        <p:blipFill>
          <a:blip r:embed="rId1"/>
          <a:stretch/>
        </p:blipFill>
        <p:spPr>
          <a:xfrm>
            <a:off x="5465880" y="1784520"/>
            <a:ext cx="4086000" cy="4465440"/>
          </a:xfrm>
          <a:prstGeom prst="rect">
            <a:avLst/>
          </a:prstGeom>
          <a:ln w="0">
            <a:noFill/>
          </a:ln>
        </p:spPr>
      </p:pic>
      <p:sp>
        <p:nvSpPr>
          <p:cNvPr id="16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29FA-8E1F-4EC8-8937-9C152FC67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5:   </a:t>
            </a: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Nettoyage du corps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biber un tampon de coton avec un agent nettoy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ssuyer le corps du microscope pour enlever la poussière, la saleté et l’huil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48280" indent="-5482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er les étapes 1 à 3 si nécessai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9204-73CB-43CF-8661-7A74495A4B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8320" y="553680"/>
            <a:ext cx="859824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Étape 6: Nettoyage du condensateur et lentilles auxiliair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6520" y="2030040"/>
            <a:ext cx="54658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brancher le microsco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a lentille du condensateur et les lentilles auxiliaires avec un écouvillon de coton imprégné de solution nettoya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uyer avec un écouvillon se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7" descr=""/>
          <p:cNvPicPr/>
          <p:nvPr/>
        </p:nvPicPr>
        <p:blipFill>
          <a:blip r:embed="rId1"/>
          <a:stretch/>
        </p:blipFill>
        <p:spPr>
          <a:xfrm>
            <a:off x="5624640" y="2147760"/>
            <a:ext cx="3873240" cy="3310200"/>
          </a:xfrm>
          <a:prstGeom prst="rect">
            <a:avLst/>
          </a:prstGeom>
          <a:ln w="0">
            <a:noFill/>
          </a:ln>
        </p:spPr>
      </p:pic>
      <p:sp>
        <p:nvSpPr>
          <p:cNvPr id="17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B6A2-63B5-4D76-BECE-D844A41897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68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000" y="1854360"/>
            <a:ext cx="5483160" cy="451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branch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Trouver l’emplacement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75000"/>
              </a:lnSpc>
              <a:spcAft>
                <a:spcPts val="18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les instructions du fabricant pour enlever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75000"/>
              </a:lnSpc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8" descr=""/>
          <p:cNvPicPr/>
          <p:nvPr/>
        </p:nvPicPr>
        <p:blipFill>
          <a:blip r:embed="rId1"/>
          <a:srcRect l="10240" t="0" r="0" b="0"/>
          <a:stretch/>
        </p:blipFill>
        <p:spPr>
          <a:xfrm>
            <a:off x="6219720" y="2063880"/>
            <a:ext cx="3475080" cy="3406680"/>
          </a:xfrm>
          <a:prstGeom prst="rect">
            <a:avLst/>
          </a:prstGeom>
          <a:ln w="0">
            <a:noFill/>
          </a:ln>
        </p:spPr>
      </p:pic>
      <p:sp>
        <p:nvSpPr>
          <p:cNvPr id="17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451A4-1843-49C7-A083-11205F76C4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0960" y="485280"/>
            <a:ext cx="70992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mplacer l’ampoule (suite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69360" y="1181160"/>
            <a:ext cx="59850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10000"/>
              </a:lnSpc>
              <a:spcAft>
                <a:spcPts val="13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 mouchoir ou tout autre objet pour enlever l’ampou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érifier le numéro du modèle sur l’ampoule pour s’assurer de la remplacer correctemen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Aft>
                <a:spcPts val="104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mplacer l’ampoule en la tenant avec du papier optique ou tout autre matériel appropri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Picture 5" descr=""/>
          <p:cNvPicPr/>
          <p:nvPr/>
        </p:nvPicPr>
        <p:blipFill>
          <a:blip r:embed="rId1"/>
          <a:srcRect l="21099" t="0" r="0" b="0"/>
          <a:stretch/>
        </p:blipFill>
        <p:spPr>
          <a:xfrm>
            <a:off x="6426360" y="1373040"/>
            <a:ext cx="2970000" cy="365760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10"/>
          <p:cNvSpPr/>
          <p:nvPr/>
        </p:nvSpPr>
        <p:spPr>
          <a:xfrm>
            <a:off x="925560" y="5202360"/>
            <a:ext cx="8397720" cy="868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969840" y="5369040"/>
            <a:ext cx="83106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Verdana"/>
              </a:rPr>
              <a:t>Ne jamais toucher l’ampoule avec vos doig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F001-CFB3-4124-AB51-D3280F3F2C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000" y="1220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paration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64680" y="1479240"/>
            <a:ext cx="954108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Aft>
                <a:spcPts val="1001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jamais désassembler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ptiques: oculaires et 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Aft>
                <a:spcPts val="1001"/>
              </a:spcAft>
              <a:buClr>
                <a:srgbClr val="9999ff"/>
              </a:buClr>
              <a:buSzPct val="11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caniques: plateau et bouton d’ajus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Aft>
                <a:spcPts val="11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réparation de ces éléments requière l’appel de services extérieu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6FE9-EC8A-4753-BB31-2CD2248BC9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597960" y="1681200"/>
            <a:ext cx="694692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Aft>
                <a:spcPts val="1925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aucoup des problèmes courants peuvent être prévenus par un nettoyage routinier, l’ajustement et la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Aft>
                <a:spcPts val="2200"/>
              </a:spcAft>
              <a:buClr>
                <a:srgbClr val="00007d"/>
              </a:buClr>
              <a:buSzPct val="10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ercher les services d’un professionnel quand le problème ne peut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pas être résolu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95000" y="528120"/>
            <a:ext cx="8915400" cy="72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solutions de problèmes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4" name="Picture 5" descr="46-1"/>
          <p:cNvPicPr/>
          <p:nvPr/>
        </p:nvPicPr>
        <p:blipFill>
          <a:blip r:embed="rId1"/>
          <a:srcRect l="2553" t="0" r="17873" b="0"/>
          <a:stretch/>
        </p:blipFill>
        <p:spPr>
          <a:xfrm>
            <a:off x="7443720" y="1557360"/>
            <a:ext cx="2170080" cy="3103560"/>
          </a:xfrm>
          <a:prstGeom prst="rect">
            <a:avLst/>
          </a:prstGeom>
          <a:ln w="0">
            <a:noFill/>
          </a:ln>
        </p:spPr>
      </p:pic>
      <p:sp>
        <p:nvSpPr>
          <p:cNvPr id="19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49C5-C2B2-4329-97B2-51C91A2F0F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: problèmes oculaires et maux de tê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0000" y="1980720"/>
            <a:ext cx="9407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a distance inter pupil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juster le réglage de dioptries de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es mêmes oculai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646F6-28A4-4F88-AB44-AE78CB391F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910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fin de ce module vous serez en mesure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proprement le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proprement le microscope, les optiques et l’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mplacer l’ampoul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gler les problèmes liés à l’utilisation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2584-06B9-4E8E-8CA8-55120431BB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Image de mauvaise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34680" y="1560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’objectif et les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microscope à fon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’huile, la remplacer si contaminée ou douteus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a lame est entièrement sèche avant d’appliquer l’hui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8728-89BA-434F-8BA8-9117C12DE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: éclairage inég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10760" y="168228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 porte objectif est sur la position où il « clique » quand il est en plac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entrer le condens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atiquer un réglage de Köhle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érifier le modèle de l’ampo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4CDED-4CDD-4078-A163-A6EBE52357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Réajustement Consta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a lame est plate sur le platea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ttoyer le plateau et le dessous de la lam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Aft>
                <a:spcPts val="2599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le microscope est sur une surface pla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3F07B-2920-4FCA-B79C-EB8BFBCCA1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79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blème: Lumière houleuse ou tremblotan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2760" y="1374480"/>
            <a:ext cx="9393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uvaise connex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ettoyer les contacts de la lampe (</a:t>
            </a:r>
            <a:r>
              <a:rPr b="0" lang="fr-FR" sz="2800" spc="-1" strike="noStrike">
                <a:solidFill>
                  <a:srgbClr val="ff0000"/>
                </a:solidFill>
                <a:latin typeface="Verdana"/>
              </a:rPr>
              <a:t>débrancher !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es contacts halogènes font bien conta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poule a besoin d’être remplacé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garder si le cordon d’alimentation est abîmé, le remplacer si une lésion est vi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1160" indent="-281160">
              <a:spcAft>
                <a:spcPts val="122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i le courant est instable, utiliser un stabilisat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DDAB-7966-41D1-BFBB-B6E9DB97E3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92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aintenance du Microscope -1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714680"/>
            <a:ext cx="437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intenance quotidien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Éclairage optimu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pret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Ampou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Huile d’immers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Vérifier le cord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Aft>
                <a:spcPts val="1239"/>
              </a:spcAft>
              <a:buClr>
                <a:srgbClr val="9999ff"/>
              </a:buClr>
              <a:buSzPct val="11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Le couvr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19320" y="1733400"/>
            <a:ext cx="4670280" cy="293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Aft>
                <a:spcPts val="1576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ervice Professionne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Aft>
                <a:spcPts val="1239"/>
              </a:spcAft>
              <a:buClr>
                <a:srgbClr val="9999cc"/>
              </a:buClr>
              <a:buSzPct val="13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Minimum une fois par an si possib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120000"/>
              </a:lnSpc>
              <a:spcAft>
                <a:spcPts val="1239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Problèmes qui ne peuvent être résolus par le personnel du laboratoi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3E1E-4671-43D5-98B2-E1DA3EFFE9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95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intenance du Microscope -2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1360" y="16268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475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aintenir un registre pou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roblèm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maintenance de routi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répa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Aft>
                <a:spcPts val="2200"/>
              </a:spcAft>
              <a:buClr>
                <a:srgbClr val="9999ff"/>
              </a:buClr>
              <a:buSzPct val="10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pièces détaché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1690-C067-457E-9C93-A7B831AE1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 – Ques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40840" y="1980720"/>
            <a:ext cx="9664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 est l’autre terme pour oculaire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elles sont les deux raisons des problèmes de clarté du champ de vision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le but et rôle d’une boî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DCB5-395B-4B97-ADE2-7D2A93C6A2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Vue d’ensemble du contenu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itions de stockag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a maintenance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s de nettoyage et solvants requis pour nettoyer les optiques, le socle et le corp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5000"/>
              </a:lnSpc>
              <a:spcAft>
                <a:spcPts val="220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requis pour le nettoyag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B9C6-186D-408C-B981-79305D1F6F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u microscop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000" y="173016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bon stockage du microscope préviendra ou réduira les problèmes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optiques et les mécanismes du microscope doivent être protégés d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poussière, la sale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s champign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le microscop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us une housse protectr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’abri de l’humid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EE10-6B69-4155-A036-0BA8C09F96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2840" y="504720"/>
            <a:ext cx="8915400" cy="95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 et solva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lution savonneuse pour nettoyer le corps et le soc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hyl-ether-alcool, alcool, ou solution de nettoyage pour optiques, pour nettoyer les optiqu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 guide du fabricant pour un solvant organique approprié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Picture 2054" descr="MCj02390130000[1]"/>
          <p:cNvPicPr/>
          <p:nvPr/>
        </p:nvPicPr>
        <p:blipFill>
          <a:blip r:embed="rId1"/>
          <a:stretch/>
        </p:blipFill>
        <p:spPr>
          <a:xfrm>
            <a:off x="217440" y="1531800"/>
            <a:ext cx="685800" cy="615960"/>
          </a:xfrm>
          <a:prstGeom prst="rect">
            <a:avLst/>
          </a:prstGeom>
          <a:ln w="0">
            <a:noFill/>
          </a:ln>
        </p:spPr>
      </p:pic>
      <p:sp>
        <p:nvSpPr>
          <p:cNvPr id="13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DFB9-4395-419C-B41D-7C527527C9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456840"/>
            <a:ext cx="891540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olutions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504720" y="1357200"/>
          <a:ext cx="8915400" cy="4140360"/>
        </p:xfrm>
        <a:graphic>
          <a:graphicData uri="http://schemas.openxmlformats.org/drawingml/2006/table">
            <a:tbl>
              <a:tblPr/>
              <a:tblGrid>
                <a:gridCol w="3362400"/>
                <a:gridCol w="2814840"/>
                <a:gridCol w="2738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utions de nettoyag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age non fréqu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Recommandation du fabric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cc00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Ethyl ether/alcool (80/2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Alco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Benzène / pétro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ou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Xyl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3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34317-6420-44F3-9CC9-602D77A06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tériel de nettoy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64760" y="126180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presse de ga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couvillon en cot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apier spécial pour lentil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ternative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pier fin de qualité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usseli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o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1030" descr=""/>
          <p:cNvPicPr/>
          <p:nvPr/>
        </p:nvPicPr>
        <p:blipFill>
          <a:blip r:embed="rId1"/>
          <a:stretch/>
        </p:blipFill>
        <p:spPr>
          <a:xfrm>
            <a:off x="6589800" y="977760"/>
            <a:ext cx="2938320" cy="3651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31" descr="microscope_cleaning_materials"/>
          <p:cNvPicPr/>
          <p:nvPr/>
        </p:nvPicPr>
        <p:blipFill>
          <a:blip r:embed="rId2"/>
          <a:stretch/>
        </p:blipFill>
        <p:spPr>
          <a:xfrm>
            <a:off x="5689440" y="4176720"/>
            <a:ext cx="2995920" cy="2349360"/>
          </a:xfrm>
          <a:prstGeom prst="rect">
            <a:avLst/>
          </a:prstGeom>
          <a:ln w="0">
            <a:noFill/>
          </a:ln>
        </p:spPr>
      </p:pic>
      <p:sp>
        <p:nvSpPr>
          <p:cNvPr id="14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4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06F63-86BC-41C6-A2B2-B8545277B4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Processus de nettoyage du microscop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88600" y="153324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cula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f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teau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ps du microsco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ens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5"/>
          <p:cNvSpPr/>
          <p:nvPr/>
        </p:nvSpPr>
        <p:spPr>
          <a:xfrm>
            <a:off x="709920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182F-5411-46BF-B2BE-D016A79F6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7680" y="274320"/>
            <a:ext cx="942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 1: Nettoyage des oculair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0080" y="1473120"/>
            <a:ext cx="5422680" cy="36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hasser la poussière avant d’essuyer les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les oculaires avec un écouvillon en coton imbibé de solution de nettoyage pour lentil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Aft>
                <a:spcPts val="1650"/>
              </a:spcAft>
              <a:buClr>
                <a:srgbClr val="00007d"/>
              </a:buClr>
              <a:buSzPct val="13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ttoyer avec un mouvement circulaire de l’intérieur vers l’extéri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8" descr=""/>
          <p:cNvPicPr/>
          <p:nvPr/>
        </p:nvPicPr>
        <p:blipFill>
          <a:blip r:embed="rId1"/>
          <a:srcRect l="22699" t="0" r="0" b="0"/>
          <a:stretch/>
        </p:blipFill>
        <p:spPr>
          <a:xfrm>
            <a:off x="6102360" y="2009880"/>
            <a:ext cx="3376440" cy="332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microscope_cleaning_oculars"/>
          <p:cNvPicPr/>
          <p:nvPr/>
        </p:nvPicPr>
        <p:blipFill>
          <a:blip r:embed="rId2"/>
          <a:srcRect l="7500" t="45187" r="12500" b="14117"/>
          <a:stretch/>
        </p:blipFill>
        <p:spPr>
          <a:xfrm>
            <a:off x="4005360" y="4933800"/>
            <a:ext cx="2925720" cy="1316160"/>
          </a:xfrm>
          <a:prstGeom prst="rect">
            <a:avLst/>
          </a:prstGeom>
          <a:ln w="0">
            <a:noFill/>
          </a:ln>
        </p:spPr>
      </p:pic>
      <p:sp>
        <p:nvSpPr>
          <p:cNvPr id="151" name="Espace réservé du pied de page 3"/>
          <p:cNvSpPr/>
          <p:nvPr/>
        </p:nvSpPr>
        <p:spPr>
          <a:xfrm>
            <a:off x="465120" y="6229440"/>
            <a:ext cx="498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du Microscope-Modul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3:53:25Z</dcterms:created>
  <dc:creator>Ken Jost / Stacy Howard</dc:creator>
  <dc:description/>
  <dc:language>en-US</dc:language>
  <cp:lastModifiedBy>dolmazonv</cp:lastModifiedBy>
  <cp:lastPrinted>2005-11-05T23:10:45Z</cp:lastPrinted>
  <dcterms:modified xsi:type="dcterms:W3CDTF">2010-04-07T14:20:37Z</dcterms:modified>
  <cp:revision>195</cp:revision>
  <dc:subject/>
  <dc:title>Overview of the Microscope </dc:title>
</cp:coreProperties>
</file>