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1018A-7805-4B03-A328-BC9EFB918B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DC752-FC1F-403A-88BF-768EB0B27B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204D0-DDB6-49A1-B8AC-52D938A824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9D948-38A6-4A4B-9761-81A382B01CC7}" type="datetime3">
              <a:rPr b="0" lang="en-US" sz="1200" spc="-1" strike="noStrike">
                <a:solidFill>
                  <a:srgbClr val="000000"/>
                </a:solidFill>
                <a:latin typeface="Arial"/>
              </a:rPr>
              <a:t>July 29,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FE123-7DA8-45B2-A607-AC1A781750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5194E-583F-4DD8-BE76-2083EB553A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0A838-F13E-48D3-A91D-FA77AC0631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111690-68A0-428D-BBE9-3BA0BB7D2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68076-A3D3-4A1F-B054-83BBF29CA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69099B-739B-430B-80AC-9E53B5091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3564F8-FB7F-462C-92E9-CA8952BBDA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97F326-F064-44C3-B1BA-FF988BB6C0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7D03DC-049B-4E6D-A3A4-A833515077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7CD9AE-2A13-4B2E-B6E1-2EEEBFF8E0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94DCEE-45AA-4262-B0D1-034A5E50A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510493-6506-40DE-86D4-B72E705A0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EB48E4-3C14-4B6B-830C-E472523619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CFA88-133C-4655-858C-ADB6657BF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B58E8-A78B-4FF9-9589-F1C00EE45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2558C-76A9-4D97-8294-1E8A16156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35674-3410-447E-AE69-A5E7A5E17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291B3-EA42-4D3D-85E1-612E746A24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A133B9-7F11-4396-94AC-741E11AB84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E00223-B713-4A3A-9504-4191599BEB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E7892-AA2F-4AAB-8D30-77B626A83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CB9E2-2886-4418-84C1-44458AEF2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DE9E6-D23C-49EE-84C3-64EDDBCB1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A9790-D3B5-42D7-A7D8-C30DC132D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B8703-6DEF-49C4-94AE-578C8379E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7284C-E2BD-4DC4-A3FA-C4B3092C4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64CBC-9E1E-495B-ACFB-299DA4A2ED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398A9-A74C-4EF0-A0E2-5F1CD43D19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EFEB973-DB7D-45B1-96B2-6A4516BFCEA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05C1BAD-521F-422C-B107-FE1C6241518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44D12-F8CC-4ADD-8BF2-F17F91B0D678}"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6DA12-EE05-4AF2-B43F-7EA619A91F97}"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