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6EE50-DC05-46C1-8BC4-0B6EABCAB2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EBFD2-71B0-4380-B1BC-0B065960A9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DC2B3CDE-BBF0-4709-82A4-FC25CCE4236C}"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7AB3C7D-D9DD-437B-8CE0-7F6EC1AC5CF1}"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3691B18-1D8F-480B-9B84-65E43467D865}"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96364F7-C95B-42CF-AFD5-B41CD6934515}" type="datetime">
              <a:rPr b="0" lang="en-US" sz="1200" spc="-1" strike="noStrike">
                <a:solidFill>
                  <a:srgbClr val="000000"/>
                </a:solidFill>
                <a:latin typeface="Times New Roman"/>
                <a:ea typeface="Arial"/>
              </a:rPr>
              <a:t>07/28/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6C535D1-827E-4C11-9C78-08573ADE830E}" type="datetime3">
              <a:rPr b="0" lang="en-US" sz="1200" spc="-1" strike="noStrike">
                <a:solidFill>
                  <a:srgbClr val="000000"/>
                </a:solidFill>
                <a:latin typeface="Times New Roman"/>
                <a:ea typeface="Arial"/>
              </a:rPr>
              <a:t>July 28,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67CC31B-BE6D-41F1-9F2C-06601D6DCCA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DC6E06-0A70-45D6-A51F-D5BD08F3AB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1CFD04-A786-4211-81FF-F7E320852C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6E50A2-2003-43C7-B3CD-6CB9F51BF7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22F348-E661-44FB-9410-E05BC734E8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A859FA-101F-4B6B-8AF3-A923F182E9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3779BF-339D-4038-AC65-CCF0A4DA08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D85C85-C918-430E-824E-AEAAF32378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AE6306-E9B0-4EBE-B7CF-7A9BD522CF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392F12-8CF8-4EB9-839D-610AE2937E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EFF9A6-53B7-43A8-8A5F-7CE86FCF8C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36E9C2-E7FC-43F3-AC53-5C95ABFDD4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E83892-05AE-4F8B-9894-125E15613C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669756-1F25-4E26-87D0-BD668980B8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C9B757-B280-47C1-9BA6-72B91A3702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CD6DAA-1E12-438D-B3BE-9419D67F7C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367E2D-3220-4A91-A79C-0C11F85E3B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642F2A-00F7-4FF1-A3F9-FD58FB3EC4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0AA388-47AD-4C7C-8D2C-7484C57A09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B993E9-58D6-41B8-B1AD-EE6980046A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6B4212-BF70-4CC6-B727-4A27BF647E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5C3AC0-79CA-4869-AE08-5FF9E4862E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5B030-C61C-4ADD-B7CC-28702A5373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32953-5125-44B0-AA9B-AEA6C9D39C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F15B5-AAD2-4B85-8F23-A220A6876D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908FF-E435-4F6D-9896-AB17D64DB4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F508F40A-732A-43F4-BB0A-67BE051C4B9F}"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69BFFFA1-F129-4A0E-9E59-DEA0B7E0D795}"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9C41E1D5-C847-4046-9D26-244F4A28F2A1}"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0FC86-C772-4EA0-BB45-15CD7EFF3927}"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B8F6421B-F836-4FE0-ABA5-906E608916CD}"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07D442F8-6A35-438A-8D86-52FA41E52928}"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8E8A0D34-B087-470C-91E5-8ABF69016051}"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