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7EFE-04B1-4125-BA76-AEBF5932D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A274-6671-4784-8DC9-24A16A1EE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C9C8-826E-4D05-B29F-6B33201BA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56A7-37DA-4DD8-8512-4AC45EF35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C3CA-B1C1-4A67-BEAB-8B04F3869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BDD046C-6D73-4BDA-93C5-6B1ABC9FCFD1}"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BA21ADB-9834-4F8D-B55F-B997B388DBD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9801C73-3374-4804-901B-64DC1B6E09F8}"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BD092EB-8FBD-4125-B5E1-850D49B19C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4DE4FE-74EB-4613-9EAB-D2740006DE11}" type="datetime3">
              <a:rPr b="0" lang="en-GB" sz="1200" spc="-1" strike="noStrike">
                <a:solidFill>
                  <a:srgbClr val="000000"/>
                </a:solidFill>
                <a:latin typeface="Arial"/>
                <a:ea typeface="Arial"/>
              </a:rPr>
              <a:t>29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0BE359-0197-428B-9F56-10A1988C88D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DF6C3DF-29EF-4C65-8361-BD4820C5FD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FDBE294-CD7B-4E85-8E12-71DFB427FA4B}"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4E140DB-452A-4450-9E67-98874760FA9F}"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42768E-2B2D-4BE7-9063-340DE399B129}"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05F637C-6968-489F-B3F3-7D3D3E0B89E9}"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0BCA6F3-4178-406F-A488-474C984BF3D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448B-71BD-4779-8568-90BA61FB60A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707325-A2BD-475C-A52C-16D11A0B99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48536C-FD79-4CFD-92F5-4EB1B96AABF4}"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C1F0-CCB2-4DDA-AF0A-F8FA5711BE2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4E8F-F57B-4555-83F8-A38D675C4AD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AFF5-14F9-41C2-9039-A6FAC75E7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8453-2D6D-4F0D-B0D4-FB55900967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0F6B6-0874-4BCA-87B6-F9D952E29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28C41-DB7A-426A-BF95-159E37D3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43592-7398-458F-A51B-9C458A06E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FBAEE-11D6-4BB6-A9DE-39815E7A7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7CC0D-DC08-4439-9343-62EA1EF2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0B463-B3F8-4C3B-AECC-80798B12F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131E5-7F54-4A53-A28C-C9D0C7BD0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60063-7C83-4E5C-94EC-A37BE4D35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B47DA-FFD3-4F4B-AE5A-36911BB47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4872F-E104-4F47-8BBA-EA84A96CC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6C6A4-6D31-4887-9C56-A98D7602D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162B5-55C5-4DEC-84DB-6BF6C73E9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3EF1-E95A-4DB4-B034-4B6B30F4B0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D1032C1-9001-4FC4-B8AE-2219D744A15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B4F1-C6F5-4DBC-B264-9A30CD2E757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4B20-0C76-4933-A345-8D300B911B5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