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07C05-4EC0-4C84-B137-6806589C3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B550E-2AB5-4EF7-BEDF-310006D80C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7E268274-905D-40C3-ADC9-D52B41E97A51}"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C0AF89D-7B93-43C8-B6E5-096FDDECBA8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6D71057-EFFB-4AF8-8088-E4F9089AEE3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283BBF5-06AF-4C4D-9A34-20130B3E78C2}" type="datetime">
              <a:rPr b="0" lang="en-US" sz="1200" spc="-1" strike="noStrike">
                <a:solidFill>
                  <a:srgbClr val="000000"/>
                </a:solidFill>
                <a:latin typeface="Times New Roman"/>
                <a:ea typeface="Arial"/>
              </a:rPr>
              <a:t>07/29/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59283C8-CF46-4CBA-A1E4-1FF4992E3EC5}" type="datetime3">
              <a:rPr b="0" lang="en-US" sz="1200" spc="-1" strike="noStrike">
                <a:solidFill>
                  <a:srgbClr val="000000"/>
                </a:solidFill>
                <a:latin typeface="Times New Roman"/>
                <a:ea typeface="Arial"/>
              </a:rPr>
              <a:t>July 29,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F4FA779-87FB-4C60-8B1E-0D382934CC1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FF616-C1A5-419C-A640-56E1B80C9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EBF23-568A-4789-8964-650F8D9D8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8DA0B-7A4D-4DC5-BD57-89EC895B1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52B2B-6B55-4E4A-9B92-2B4367AC8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1C6DE-6D45-4A0B-9A01-1188642A3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F1DDF3-6FCC-4FD9-9796-310DE0C200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4327D6-CDD0-460A-93A8-EF2F807DD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5076A-1983-4DEB-9E92-2E3E75C10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BDD74-8BFF-4A2A-82F0-C6C392C53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450C4-7F52-4106-A74F-EC7998536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7D6E1-37CF-4C3E-AD80-6B34E3A36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A1C283-896D-4366-BAAB-26BAC24B2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36514-13D7-4706-AACE-B532AD443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E2BE7-8941-49F0-91A8-8A5493695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35788-E83E-4B6A-A96B-270B5BEE8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88D9D-360F-473B-A658-BBCE7C3C5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2F05FA-0D87-4FE1-B183-A30A62FB52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28855C-5CAB-453C-8BB4-2186FC19EB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77CBD-E201-4524-B0F5-E67892B3E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F486C-B011-4DD7-8DF5-455347909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0704D-A4A9-4827-A054-5FA602E59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B1185-960F-473F-8775-57D57055A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59FE2-923B-447F-ADB0-A9D4FADAD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BF663-054A-4016-AD2A-92F855277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D1DF6-5045-46BA-928B-425B47971A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8171FB8-088B-4959-9818-D054C1F28BC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E7EC271-9F16-4C66-A6A0-93C8FE3328C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535BBCF-A5E8-4281-B9CA-8A79E927913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816FE-ADAE-42D9-B958-E2CF9B115FF9}"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25B8856-81B7-4A0F-8217-46DF6AD595B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783257F-3A2F-4FC4-83A5-58B0596DF25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4BF316C-092F-44B0-BB79-6089424E8FE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