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1"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5"/>
          </p:nvPr>
        </p:nvSpPr>
        <p:spPr>
          <a:xfrm>
            <a:off x="38541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4"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6"/>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7"/>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6CFB1-4EB4-4474-90B3-A7198C04AF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2BFD2-B136-4B72-B622-BD71380D4F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920880" y="746280"/>
            <a:ext cx="4965480" cy="3725640"/>
          </a:xfrm>
          <a:prstGeom prst="rect">
            <a:avLst/>
          </a:prstGeom>
          <a:ln w="0">
            <a:noFill/>
          </a:ln>
        </p:spPr>
      </p:sp>
      <p:sp>
        <p:nvSpPr>
          <p:cNvPr id="118"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1E66D-7734-4B2D-865D-E1971E1EB5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920880" y="746280"/>
            <a:ext cx="4965480" cy="3725640"/>
          </a:xfrm>
          <a:prstGeom prst="rect">
            <a:avLst/>
          </a:prstGeom>
          <a:ln w="0">
            <a:noFill/>
          </a:ln>
        </p:spPr>
      </p:sp>
      <p:sp>
        <p:nvSpPr>
          <p:cNvPr id="12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4772C-5504-4941-9746-A2EBEAD092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920880" y="746280"/>
            <a:ext cx="4965480" cy="3725640"/>
          </a:xfrm>
          <a:prstGeom prst="rect">
            <a:avLst/>
          </a:prstGeom>
          <a:ln w="0">
            <a:noFill/>
          </a:ln>
        </p:spPr>
      </p:sp>
      <p:sp>
        <p:nvSpPr>
          <p:cNvPr id="124"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920880" y="746280"/>
            <a:ext cx="4965480" cy="3725640"/>
          </a:xfrm>
          <a:prstGeom prst="rect">
            <a:avLst/>
          </a:prstGeom>
          <a:ln w="0">
            <a:noFill/>
          </a:ln>
        </p:spPr>
      </p:sp>
      <p:sp>
        <p:nvSpPr>
          <p:cNvPr id="126"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DF514-114F-41AD-BE61-FD8616CFC2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A95274-DCA2-4850-8852-6E93138374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28C935-4C96-415D-BEB4-0B72F76219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B80C53-597C-4E67-A210-84EF2635B6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AB0078-1110-4478-AF32-92A237938B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C6AD5AF-4E24-481A-B43E-D84657683D0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00C8220-929D-4FBD-80AF-AE648194939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EA63E09-95EA-4D85-9D89-8CD336F0A4A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9E8CD89-403E-48A5-895B-2BC9266D5D4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9462CE5-F1F5-4FC7-88AD-C092E51F00C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1FF15459-05DF-4920-852C-BD1E5F0F254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EE761B-E9E4-423D-967A-4A97061A350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AE87C2-FE76-4D24-83C2-0DA06C9721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E9E550-23A1-434C-AC2C-DFF72866E33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4368634-05C3-41EE-8414-19DF5820713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480F579-5B4B-4DA2-9A67-744A47C0958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C3641D3-A1FA-46EB-988A-9F369448B3C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6A7EA8C-7007-4481-8A16-E3BC6764753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7A2817-DDB3-48EF-947E-CF201CFC9B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3E58D3-2E1D-4234-8C79-2AE5423536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B4E4D8-B540-414B-8BB6-DAB1919B98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FD2AB4-D99A-4BC7-B9E9-41E3BC09D2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811528-53F7-4DF7-8C3E-C83F751488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580906-463A-4D41-961D-152CDE212C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3A8D3B-299E-47D0-BF1F-1D35D6DFBB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6B9F9-F095-473B-9F89-4E72F80EF8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C52F1458-9967-4445-A9F4-D5A92B00F511}"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3"/>
          <p:cNvSpPr/>
          <p:nvPr/>
        </p:nvSpPr>
        <p:spPr>
          <a:xfrm>
            <a:off x="755640" y="6391440"/>
            <a:ext cx="6192720" cy="2584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EVD PREPAREDNESS AND RESPONSE TRAINING PACKAGE</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Rapid Response Teams</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91118059-72BE-42C8-9E9C-4888A2BCD71C}"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49" name="Picture 7" descr=""/>
          <p:cNvPicPr/>
          <p:nvPr/>
        </p:nvPicPr>
        <p:blipFill>
          <a:blip r:embed="rId2"/>
          <a:stretch/>
        </p:blipFill>
        <p:spPr>
          <a:xfrm>
            <a:off x="7596360" y="6292800"/>
            <a:ext cx="1520640" cy="520920"/>
          </a:xfrm>
          <a:prstGeom prst="rect">
            <a:avLst/>
          </a:prstGeom>
          <a:ln w="0">
            <a:noFill/>
          </a:ln>
        </p:spPr>
      </p:pic>
      <p:sp>
        <p:nvSpPr>
          <p:cNvPr id="50" name="Rectangle 13"/>
          <p:cNvSpPr/>
          <p:nvPr/>
        </p:nvSpPr>
        <p:spPr>
          <a:xfrm>
            <a:off x="755640" y="6391440"/>
            <a:ext cx="6192720" cy="2584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EVD PREPAREDNESS AND RESPONSE TRAINING PACKAGE</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Rapid Response Teams</a:t>
            </a:r>
            <a:endParaRPr b="0" lang="en-US" sz="1200" spc="-1" strike="noStrike">
              <a:solidFill>
                <a:srgbClr val="000000"/>
              </a:solidFill>
              <a:latin typeface="Arial"/>
            </a:endParaRPr>
          </a:p>
        </p:txBody>
      </p:sp>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79E94-AD9F-4EE9-A717-4E3860AC14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ubTitle"/>
          </p:nvPr>
        </p:nvSpPr>
        <p:spPr>
          <a:xfrm>
            <a:off x="0" y="2205000"/>
            <a:ext cx="9144000" cy="1657440"/>
          </a:xfrm>
          <a:prstGeom prst="rect">
            <a:avLst/>
          </a:prstGeom>
          <a:solidFill>
            <a:srgbClr val="00b0f0"/>
          </a:solidFill>
          <a:ln w="0">
            <a:noFill/>
          </a:ln>
        </p:spPr>
        <p:txBody>
          <a:bodyPr anchor="t">
            <a:noAutofit/>
          </a:bodyPr>
          <a:p>
            <a:pPr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ea typeface="Verdana"/>
              </a:rPr>
              <a:t>Équipes d’intervention rapid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bjectifs de la séance</a:t>
            </a:r>
            <a:endParaRPr b="0" lang="en-US" sz="4200" spc="-1" strike="noStrike">
              <a:solidFill>
                <a:srgbClr val="000000"/>
              </a:solidFill>
              <a:latin typeface="Arial"/>
            </a:endParaRPr>
          </a:p>
        </p:txBody>
      </p:sp>
      <p:sp>
        <p:nvSpPr>
          <p:cNvPr id="99" name=""/>
          <p:cNvSpPr txBox="1"/>
          <p:nvPr/>
        </p:nvSpPr>
        <p:spPr>
          <a:xfrm>
            <a:off x="458640" y="1557360"/>
            <a:ext cx="8686800" cy="2952720"/>
          </a:xfrm>
          <a:prstGeom prst="rect">
            <a:avLst/>
          </a:prstGeom>
          <a:noFill/>
          <a:ln w="0">
            <a:noFill/>
          </a:ln>
        </p:spPr>
        <p:txBody>
          <a:bodyPr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Objectif général</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Équipes d’experts pluridisciplinaires, fonctionnelles et techniques, pouvant être déployées rapidement en cas de situation d’urgenc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bjectifs de la séance</a:t>
            </a:r>
            <a:endParaRPr b="0" lang="en-US" sz="4200" spc="-1" strike="noStrike">
              <a:solidFill>
                <a:srgbClr val="000000"/>
              </a:solidFill>
              <a:latin typeface="Arial"/>
            </a:endParaRPr>
          </a:p>
        </p:txBody>
      </p:sp>
      <p:sp>
        <p:nvSpPr>
          <p:cNvPr id="101" name=""/>
          <p:cNvSpPr txBox="1"/>
          <p:nvPr/>
        </p:nvSpPr>
        <p:spPr>
          <a:xfrm>
            <a:off x="457200" y="1412640"/>
            <a:ext cx="8686800" cy="4824360"/>
          </a:xfrm>
          <a:prstGeom prst="rect">
            <a:avLst/>
          </a:prstGeom>
          <a:noFill/>
          <a:ln w="0">
            <a:noFill/>
          </a:ln>
        </p:spPr>
        <p:txBody>
          <a:bodyPr anchor="t">
            <a:normAutofit/>
          </a:bodyPr>
          <a:p>
            <a:pP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Objectifs intermédiaires</a:t>
            </a: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uligner l’importance d’avoir des équipes d’intervention rapide pleinement opérationnelles, capables d’agir immédiatement, dès la notification d’un cas suspect</a:t>
            </a: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Décrire la composition et le mandat de ces équipes</a:t>
            </a: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Présenter brièvement les activités de ces équip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Définition</a:t>
            </a:r>
            <a:endParaRPr b="0" lang="en-US" sz="4400" spc="-1" strike="noStrike">
              <a:solidFill>
                <a:srgbClr val="000000"/>
              </a:solidFill>
              <a:latin typeface="Arial"/>
            </a:endParaRPr>
          </a:p>
        </p:txBody>
      </p:sp>
      <p:sp>
        <p:nvSpPr>
          <p:cNvPr id="103" name=""/>
          <p:cNvSpPr txBox="1"/>
          <p:nvPr/>
        </p:nvSpPr>
        <p:spPr>
          <a:xfrm>
            <a:off x="468360" y="764640"/>
            <a:ext cx="8229600" cy="492948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Équipe d’intervention rapide : groupe d’experts expérimentés pouvant intervenir n’importe où dans le pays sous 24 heures. Aident à endiguer/stopper précocement une flambée. Enquêtent sur le(s) premier(s) cas, fournissent des soins dans un établissement central, s’engagent auprès de la population et exécutent des mesures de prévention et de lutte contre l’infection</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21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ea typeface="Times New Roman"/>
              </a:rPr>
              <a:t>Équipe d’intervention rapide : composition</a:t>
            </a:r>
            <a:endParaRPr b="0" lang="en-US" sz="3400" spc="-1" strike="noStrike">
              <a:solidFill>
                <a:srgbClr val="000000"/>
              </a:solidFill>
              <a:latin typeface="Arial"/>
            </a:endParaRPr>
          </a:p>
        </p:txBody>
      </p:sp>
      <p:sp>
        <p:nvSpPr>
          <p:cNvPr id="105" name=""/>
          <p:cNvSpPr txBox="1"/>
          <p:nvPr/>
        </p:nvSpPr>
        <p:spPr>
          <a:xfrm>
            <a:off x="324000" y="1052640"/>
            <a:ext cx="4032000" cy="3744720"/>
          </a:xfrm>
          <a:prstGeom prst="rect">
            <a:avLst/>
          </a:prstGeom>
          <a:noFill/>
          <a:ln w="0">
            <a:noFill/>
          </a:ln>
        </p:spPr>
        <p:txBody>
          <a:bodyPr anchor="t">
            <a:normAutofit fontScale="99000"/>
          </a:bodyPr>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b0f0"/>
                </a:solidFill>
                <a:latin typeface="Arial"/>
                <a:ea typeface="Arial"/>
              </a:rPr>
              <a:t>Nationale </a:t>
            </a:r>
            <a:endParaRPr b="0" lang="en-US" sz="2000" spc="-1" strike="noStrike">
              <a:solidFill>
                <a:srgbClr val="000000"/>
              </a:solidFill>
              <a:latin typeface="Arial"/>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Arial"/>
                <a:ea typeface="Arial"/>
              </a:rPr>
              <a:t>2 cliniciens</a:t>
            </a:r>
            <a:endParaRPr b="0" lang="en-US" sz="2000" spc="-1" strike="noStrike">
              <a:solidFill>
                <a:srgbClr val="000000"/>
              </a:solidFill>
              <a:latin typeface="Arial"/>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Arial"/>
                <a:ea typeface="Arial"/>
              </a:rPr>
              <a:t>2 épidémiologistes</a:t>
            </a:r>
            <a:endParaRPr b="0" lang="en-US" sz="2000" spc="-1" strike="noStrike">
              <a:solidFill>
                <a:srgbClr val="000000"/>
              </a:solidFill>
              <a:latin typeface="Arial"/>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Arial"/>
                <a:ea typeface="Arial"/>
              </a:rPr>
              <a:t>1 expert des laboratoires </a:t>
            </a:r>
            <a:endParaRPr b="0" lang="en-US" sz="2000" spc="-1" strike="noStrike">
              <a:solidFill>
                <a:srgbClr val="000000"/>
              </a:solidFill>
              <a:latin typeface="Arial"/>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Arial"/>
                <a:ea typeface="Arial"/>
              </a:rPr>
              <a:t>1 anthropologue/mob sociale</a:t>
            </a:r>
            <a:endParaRPr b="0" lang="en-US" sz="2000" spc="-1" strike="noStrike">
              <a:solidFill>
                <a:srgbClr val="000000"/>
              </a:solidFill>
              <a:latin typeface="Arial"/>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Arial"/>
                <a:ea typeface="Arial"/>
              </a:rPr>
              <a:t>1 logisticien</a:t>
            </a:r>
            <a:endParaRPr b="0" lang="en-US" sz="2000" spc="-1" strike="noStrike">
              <a:solidFill>
                <a:srgbClr val="000000"/>
              </a:solidFill>
              <a:latin typeface="Arial"/>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Arial"/>
                <a:ea typeface="Arial"/>
              </a:rPr>
              <a:t>1 </a:t>
            </a:r>
            <a:r>
              <a:rPr b="1" lang="en-GB" sz="1900" spc="-1" strike="noStrike">
                <a:solidFill>
                  <a:srgbClr val="002060"/>
                </a:solidFill>
                <a:latin typeface="Arial"/>
                <a:ea typeface="Arial"/>
              </a:rPr>
              <a:t>expert en soutien psychosocial</a:t>
            </a:r>
            <a:endParaRPr b="0" lang="en-US" sz="1900" spc="-1" strike="noStrike">
              <a:solidFill>
                <a:srgbClr val="000000"/>
              </a:solidFill>
              <a:latin typeface="Arial"/>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Arial"/>
                <a:ea typeface="Arial"/>
              </a:rPr>
              <a:t>1 gestionnaire de données</a:t>
            </a:r>
            <a:endParaRPr b="0" lang="en-US" sz="2000" spc="-1" strike="noStrike">
              <a:solidFill>
                <a:srgbClr val="000000"/>
              </a:solidFill>
              <a:latin typeface="Arial"/>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Arial"/>
                <a:ea typeface="Arial"/>
              </a:rPr>
              <a:t>1 équipe chargée des inhumations : 7 personnes</a:t>
            </a:r>
            <a:endParaRPr b="0" lang="en-US" sz="2000" spc="-1" strike="noStrike">
              <a:solidFill>
                <a:srgbClr val="000000"/>
              </a:solidFill>
              <a:latin typeface="Arial"/>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Arial"/>
                <a:ea typeface="Arial"/>
              </a:rPr>
              <a:t>1 expert des médias</a:t>
            </a:r>
            <a:endParaRPr b="0" lang="en-US" sz="2000" spc="-1" strike="noStrike">
              <a:solidFill>
                <a:srgbClr val="000000"/>
              </a:solidFill>
              <a:latin typeface="Arial"/>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35480" indent="-28296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Content Placeholder 2"/>
          <p:cNvSpPr/>
          <p:nvPr/>
        </p:nvSpPr>
        <p:spPr>
          <a:xfrm>
            <a:off x="4356000" y="1052640"/>
            <a:ext cx="4537080" cy="345600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b0f0"/>
                </a:solidFill>
                <a:latin typeface="Arial"/>
                <a:ea typeface="Arial"/>
              </a:rPr>
              <a:t>Infranational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Arial"/>
                <a:ea typeface="Arial"/>
              </a:rPr>
              <a:t>2 clinicien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Arial"/>
                <a:ea typeface="Arial"/>
              </a:rPr>
              <a:t>2 épidémiologiste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Arial"/>
                <a:ea typeface="Arial"/>
              </a:rPr>
              <a:t>1 technicien de laboratoir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Arial"/>
                <a:ea typeface="Arial"/>
              </a:rPr>
              <a:t>1 anthropologue/mob social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Arial"/>
                <a:ea typeface="Arial"/>
              </a:rPr>
              <a:t>1 logisticien</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ea typeface="Arial"/>
              </a:rPr>
              <a:t>1 travailleur social/infirmier psychiatriqu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ea typeface="Arial"/>
              </a:rPr>
              <a:t>1 employé en charge des donnée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Arial"/>
                <a:ea typeface="Arial"/>
              </a:rPr>
              <a:t>1 équipe chargée des inhumations : 7 personne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ea typeface="Arial"/>
              </a:rPr>
              <a:t>1 responsable des médias locaux</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Content Placeholder 2"/>
          <p:cNvSpPr/>
          <p:nvPr/>
        </p:nvSpPr>
        <p:spPr>
          <a:xfrm>
            <a:off x="611280" y="5300640"/>
            <a:ext cx="8208720" cy="75420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2060"/>
                </a:solidFill>
                <a:latin typeface="Arial"/>
              </a:rPr>
              <a:t>Le nombre d’équipes infranationales  dépend de :  niveau de risque / disponibilité des ressources humaines / situation géographiqu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57200" y="1219320"/>
            <a:ext cx="8229600" cy="452592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Une au niveau national et au moins une au niveau infranational</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Former le personnel médical au module OMS-AFRO appliqué au Libéria (dont centre de traitement fictif d’Ebola)</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Cartographie des centres de santé et repérage des sites possibles de centres de traitement fictifs</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Former les bénévoles communautaires et les épidémiologistes des équipes infranationales (hotline 24h/24)</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Soutien financier d’ETF</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Exercice de simulation</a:t>
            </a:r>
            <a:endParaRPr b="0" lang="en-US" sz="2600" spc="-1" strike="noStrike">
              <a:solidFill>
                <a:srgbClr val="000000"/>
              </a:solidFill>
              <a:latin typeface="Arial"/>
            </a:endParaRPr>
          </a:p>
        </p:txBody>
      </p:sp>
      <p:sp>
        <p:nvSpPr>
          <p:cNvPr id="109" name="PlaceHolder 1"/>
          <p:cNvSpPr>
            <a:spLocks noGrp="1"/>
          </p:cNvSpPr>
          <p:nvPr>
            <p:ph type="title"/>
          </p:nvPr>
        </p:nvSpPr>
        <p:spPr>
          <a:xfrm>
            <a:off x="468360" y="21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ea typeface="Times New Roman"/>
              </a:rPr>
              <a:t>Équipe d’intervention rapide : rôle</a:t>
            </a:r>
            <a:r>
              <a:rPr b="0" lang="en-US" sz="4400" spc="-1" strike="noStrike">
                <a:solidFill>
                  <a:srgbClr val="000000"/>
                </a:solidFill>
                <a:latin typeface="Arial"/>
                <a:ea typeface="Times New Roman"/>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250920" y="1052640"/>
            <a:ext cx="8518320" cy="41767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1"/>
          <p:cNvSpPr>
            <a:spLocks noGrp="1"/>
          </p:cNvSpPr>
          <p:nvPr>
            <p:ph type="title"/>
          </p:nvPr>
        </p:nvSpPr>
        <p:spPr>
          <a:xfrm>
            <a:off x="468360" y="21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ea typeface="Times New Roman"/>
              </a:rPr>
              <a:t>Équipe d’intervention rapide : rôle (2)</a:t>
            </a:r>
            <a:r>
              <a:rPr b="0" lang="en-US" sz="4400" spc="-1" strike="noStrike">
                <a:solidFill>
                  <a:srgbClr val="000000"/>
                </a:solidFill>
                <a:latin typeface="Arial"/>
                <a:ea typeface="Times New Roman"/>
              </a:rPr>
              <a:t>  </a:t>
            </a:r>
            <a:endParaRPr b="0" lang="en-US" sz="4400" spc="-1" strike="noStrike">
              <a:solidFill>
                <a:srgbClr val="000000"/>
              </a:solidFill>
              <a:latin typeface="Arial"/>
            </a:endParaRPr>
          </a:p>
        </p:txBody>
      </p:sp>
      <p:sp>
        <p:nvSpPr>
          <p:cNvPr id="112" name="Rectangle 1"/>
          <p:cNvSpPr/>
          <p:nvPr/>
        </p:nvSpPr>
        <p:spPr>
          <a:xfrm>
            <a:off x="457200" y="1052640"/>
            <a:ext cx="8534520" cy="39333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oser des stratégies et des mesures appropriées (dont des activités de communication sur les risques) </a:t>
            </a:r>
            <a:endParaRPr b="0" lang="en-US" sz="2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éparer des rapports d’enquête détaillés </a:t>
            </a:r>
            <a:endParaRPr b="0" lang="en-US" sz="2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ibuer à l’évaluation finale de la riposte à la flambé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457200" y="1197000"/>
            <a:ext cx="8229600" cy="49291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quêter sur les rumeurs, les flambées signalées et autres urgences de santé publique</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ordonner les actions d’intervention rapide avec les partenaires et autres institutions</a:t>
            </a:r>
            <a:endParaRPr b="0" lang="en-US" sz="3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encer à appliquer les mesures de lutte proposées, dont le renforcement des capacité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1"/>
          <p:cNvSpPr>
            <a:spLocks noGrp="1"/>
          </p:cNvSpPr>
          <p:nvPr>
            <p:ph type="title"/>
          </p:nvPr>
        </p:nvSpPr>
        <p:spPr>
          <a:xfrm>
            <a:off x="468360" y="21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ea typeface="Times New Roman"/>
              </a:rPr>
              <a:t>Équipe d’intervention rapide : rôle (3)</a:t>
            </a:r>
            <a:r>
              <a:rPr b="0" lang="en-US" sz="4400" spc="-1" strike="noStrike">
                <a:solidFill>
                  <a:srgbClr val="000000"/>
                </a:solidFill>
                <a:latin typeface="Arial"/>
                <a:ea typeface="Times New Roman"/>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755640" y="24922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5400" spc="-1" strike="noStrike">
                <a:solidFill>
                  <a:srgbClr val="0000ff"/>
                </a:solidFill>
                <a:latin typeface="Arial"/>
              </a:rPr>
              <a:t>Merci</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Anna</cp:lastModifiedBy>
  <cp:lastPrinted>2013-10-01T07:19:12Z</cp:lastPrinted>
  <dcterms:modified xsi:type="dcterms:W3CDTF">2014-12-01T18:32:31Z</dcterms:modified>
  <cp:revision>166</cp:revision>
  <dc:subject/>
  <dc:title>DPC Training and Technical Update</dc:title>
</cp:coreProperties>
</file>