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A280-FE4C-4761-B3BA-7A645223A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A01A-F142-4CCA-B790-6A2514D5F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CD2B-F5A1-421B-8865-BD8C8FA6B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B000-071E-4BAF-B2FE-6179B4B95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D3C8-7348-4F44-858F-9B4FD66B7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C7DED55-EC93-4246-B7A3-1F487C6372F4}"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2876DB8-6FBE-43D3-BB9A-00FE4D9791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72E176E-4E8A-4216-BDDD-CE7246A99D05}"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CD6EA9F-E1C5-4584-9950-80353CDA61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D9A226-CBFD-49D0-9741-679C68E77BEB}" type="datetime3">
              <a:rPr b="0" lang="en-GB" sz="1200" spc="-1" strike="noStrike">
                <a:solidFill>
                  <a:srgbClr val="000000"/>
                </a:solidFill>
                <a:latin typeface="Arial"/>
                <a:ea typeface="Arial"/>
              </a:rPr>
              <a:t>29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23F983-5D99-48CB-8669-B795DBFC122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13D2EC-C0F0-4B74-9FBF-C8BE2B13B4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6E1F84-CDFF-4F0B-8D65-5D5A003B5DDD}"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79DF7D-0BA8-4A47-BCA0-FB6E12215983}"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2824285-4B1B-455B-AD7D-B6B2FF73353E}"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DE00A9-9310-4F83-A3BE-6D8AED135743}"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0263E8F-BFC4-49ED-A199-F42463982C8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51D5-E8E5-40C5-B631-82E1CDBE3F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D9C620-6839-4576-865A-903AFF028B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1B7E2A-F6C4-471E-AAA6-8F2620AC25CA}"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EA54-E474-46F0-AFE1-6ECAF26D46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24D4-D932-4175-AC34-8175A13EAD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42FF-D202-4FBD-8C22-1302DEF6C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6B92-C0D2-4AEE-BF41-4F4CE391BB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AA78F-9D87-4255-8B38-F88C188FD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EB1A-D5E6-4710-AD95-B9DAC3E1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0B115-E9D1-4124-AD7E-192316463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714A9-56A4-47CD-8920-964B4EEC8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1D59F-E653-4FC1-A13C-9BE71B0B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302B8-5656-49B1-8387-4B9EC3408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1027D-E48F-4A8C-84AF-8107A410D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83F6E-CC97-4302-86F5-FD8F97AE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0FB87-FFE5-4268-83B2-2F05DEB8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0851-AAC8-4EAC-9005-4A238E218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7849-22EF-4391-99BF-E2A86026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2C3B1-3CFE-4BC7-A444-0EF9BFDA7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12FD-5C41-4E88-BE96-B3736C7F9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EEB021-8405-4519-BA07-2FA2253AA7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DB22-5D0C-4A26-A7E0-DFE5C8BAEC6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5E5B-649C-474B-8879-0400D97416A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