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E126-E4C1-4FA6-AC98-7A4300671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C892D-3ABF-488D-9E0E-FC264A34D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20880" y="746280"/>
            <a:ext cx="4965480" cy="3725640"/>
          </a:xfrm>
          <a:prstGeom prst="rect">
            <a:avLst/>
          </a:prstGeom>
          <a:ln w="0">
            <a:noFill/>
          </a:ln>
        </p:spPr>
      </p:sp>
      <p:sp>
        <p:nvSpPr>
          <p:cNvPr id="14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9C593-BBDE-4418-A28A-9D410BD08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920880" y="746280"/>
            <a:ext cx="4965480" cy="3725640"/>
          </a:xfrm>
          <a:prstGeom prst="rect">
            <a:avLst/>
          </a:prstGeom>
          <a:ln w="0">
            <a:noFill/>
          </a:ln>
        </p:spPr>
      </p:sp>
      <p:sp>
        <p:nvSpPr>
          <p:cNvPr id="14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0295D-8271-4057-9992-BE07A8A42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920880" y="746280"/>
            <a:ext cx="4965480" cy="3725640"/>
          </a:xfrm>
          <a:prstGeom prst="rect">
            <a:avLst/>
          </a:prstGeom>
          <a:ln w="0">
            <a:noFill/>
          </a:ln>
        </p:spPr>
      </p:sp>
      <p:sp>
        <p:nvSpPr>
          <p:cNvPr id="14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450D-2A2C-48F0-AFCD-01A609C2D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20880" y="746280"/>
            <a:ext cx="4965480" cy="3725640"/>
          </a:xfrm>
          <a:prstGeom prst="rect">
            <a:avLst/>
          </a:prstGeom>
          <a:ln w="0">
            <a:noFill/>
          </a:ln>
        </p:spPr>
      </p:sp>
      <p:sp>
        <p:nvSpPr>
          <p:cNvPr id="1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1763-4599-41D3-95EA-6B5F10961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6CA5E-5556-498D-A487-90BFDC77B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D9DFF-5B3D-4EB9-BA0E-04E2BE873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4188C-9D2B-4B28-B423-FE31B1565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8571B-B5BF-4E2A-AC35-35553C8D6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9DC32B-0244-46FC-9E4C-6CD2C9C8F6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0E467-3CF5-4B18-8540-BEFE58913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D8414-BF7D-4CC1-A9BB-C0F302D2B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9D731-F3D8-42D0-8D73-D8A4CB32D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91CF5-5C17-4083-AEBA-56E402F89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21285-2D2F-4E1B-969D-844DD1524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A8B7D-8EF2-4E12-8E00-0D02D2AB6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0B306-902C-4D6A-AE9E-D60D3C469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4DD25-061E-49BB-9385-899DCA9C2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DC2CA-5514-4BB5-B367-415F3E1F9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D81BF-E515-45E5-8B2D-027A3A5EC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EA30AD-C55C-4363-8B22-350787208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1085C1-D409-4E40-AEDB-321762E27A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CC03D-ABC3-4128-80E0-C50D904D8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37037-D60E-4194-AF08-0E2DF2631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B6AC4-9493-4719-AEF2-C9927B4F7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B88EA-81DF-4EB7-8540-5E04CBACC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05556-F496-44F0-B661-528409BE2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B217F-0026-445F-B359-8FBF137BF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EF98D-C783-4611-B98E-807D41F1E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37491-B82D-4CAA-8DD1-4516EA0434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74BE196-58C7-48FE-8A33-89749207BC6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7506D93-E3A5-442E-B690-A213CBC390B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99AB-0769-4B27-BFFA-A5A9552F9D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2205000"/>
            <a:ext cx="9144000" cy="1657440"/>
          </a:xfrm>
          <a:prstGeom prst="rect">
            <a:avLst/>
          </a:prstGeom>
          <a:solidFill>
            <a:srgbClr val="00b0f0"/>
          </a:solidFill>
          <a:ln w="0">
            <a:noFill/>
          </a:ln>
        </p:spPr>
        <p:txBody>
          <a:bodyPr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Coordination </a:t>
            </a:r>
            <a:r>
              <a:rPr b="1" lang="fr-FR" sz="4800" spc="-1" strike="noStrike">
                <a:solidFill>
                  <a:srgbClr val="ffffff"/>
                </a:solidFill>
                <a:latin typeface="Arial"/>
                <a:ea typeface="Verdana"/>
              </a:rPr>
              <a:t>général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85899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ôle du comité national de coordination (3)</a:t>
            </a:r>
            <a:endParaRPr b="0" lang="en-US" sz="40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éterminer les canaux d’information au cours des opérations de riposte à l’épidémie </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uniquer régulièrement avec la presse nationale et internationale</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tre en place au niveau local, avec l’assistance des spartenaires internationaux, un comité de coordination technique et scientifique international chargé de coordonner les mesures de lutte et d’organiser les activités quotidiennes des équipes de terrai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er la réunion de coordination et le suivi des opé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er la coordination avec les services responsables de la santé des animaux sauvag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rcs nationaux</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vétérinair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iller au roulement régulier des effectifs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44920" y="2073240"/>
            <a:ext cx="4407120" cy="2940120"/>
          </a:xfrm>
          <a:prstGeom prst="rect">
            <a:avLst/>
          </a:prstGeom>
          <a:ln w="0">
            <a:noFill/>
          </a:ln>
        </p:spPr>
      </p:pic>
      <p:sp>
        <p:nvSpPr>
          <p:cNvPr id="120"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iter d’appliquer des mesures restrictives, conformément au RSI (2005)</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Préparer le rapport de fin de l’épidémi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spects technique,administratif, financier et logistiqu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aluer l’impact économique et social de l’épidémi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aluer la gestion de l’épidémie</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 </a:t>
            </a:r>
            <a:r>
              <a:rPr b="0" lang="en-US" sz="2500" spc="-1" strike="noStrike">
                <a:solidFill>
                  <a:srgbClr val="000000"/>
                </a:solidFill>
                <a:latin typeface="Arial"/>
                <a:ea typeface="Times New Roman"/>
              </a:rPr>
              <a:t>Sur la base de l’expérience acquise, faire des  recommandations pour la prévention et la gestion des épidémies à venir</a:t>
            </a:r>
            <a:endParaRPr b="0" lang="en-US" sz="2500" spc="-1" strike="noStrike">
              <a:solidFill>
                <a:srgbClr val="000000"/>
              </a:solidFill>
              <a:latin typeface="Arial"/>
            </a:endParaRPr>
          </a:p>
        </p:txBody>
      </p:sp>
      <p:sp>
        <p:nvSpPr>
          <p:cNvPr id="12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e de COU/IMC pour l’EVD</a:t>
            </a:r>
            <a:endParaRPr b="0" lang="en-US" sz="4000" spc="-1" strike="noStrike">
              <a:solidFill>
                <a:srgbClr val="000000"/>
              </a:solidFill>
              <a:latin typeface="Arial"/>
            </a:endParaRPr>
          </a:p>
        </p:txBody>
      </p:sp>
      <p:pic>
        <p:nvPicPr>
          <p:cNvPr id="124" name="" descr=""/>
          <p:cNvPicPr/>
          <p:nvPr/>
        </p:nvPicPr>
        <p:blipFill>
          <a:blip r:embed="rId1"/>
          <a:stretch/>
        </p:blipFill>
        <p:spPr>
          <a:xfrm>
            <a:off x="457200" y="1197000"/>
            <a:ext cx="8229600" cy="4929120"/>
          </a:xfrm>
          <a:prstGeom prst="rect">
            <a:avLst/>
          </a:prstGeom>
          <a:ln w="0">
            <a:noFill/>
          </a:ln>
        </p:spPr>
      </p:pic>
      <p:pic>
        <p:nvPicPr>
          <p:cNvPr id="125" name="Picture 2" descr=""/>
          <p:cNvPicPr/>
          <p:nvPr/>
        </p:nvPicPr>
        <p:blipFill>
          <a:blip r:embed="rId2"/>
          <a:stretch/>
        </p:blipFill>
        <p:spPr>
          <a:xfrm>
            <a:off x="365040" y="981000"/>
            <a:ext cx="7907400" cy="5181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e en place du COU/IMC</a:t>
            </a:r>
            <a:endParaRPr b="0" lang="en-US" sz="4000" spc="-1" strike="noStrike">
              <a:solidFill>
                <a:srgbClr val="000000"/>
              </a:solidFill>
              <a:latin typeface="Arial"/>
            </a:endParaRPr>
          </a:p>
        </p:txBody>
      </p:sp>
      <p:sp>
        <p:nvSpPr>
          <p:cNvPr id="127" name=""/>
          <p:cNvSpPr txBox="1"/>
          <p:nvPr/>
        </p:nvSpPr>
        <p:spPr>
          <a:xfrm>
            <a:off x="250920" y="1773000"/>
            <a:ext cx="8229600" cy="388764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et nommer le personnel pour les différents domaines thématiques</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sir un espace pour le COU</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parer des termes de référence et des activités prioritaires préparer pour orienter le travail de chaque domaine thématique (Groupe de travail contre Ebola: ETF) ;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le personnel, dresser la liste des besoins en matériel et financements, élaborer un plan d’opérations axé sur les résultats (groupes thématiqu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r et approuver les plans opérationnels (ETF) et les ressources nécessair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er les différents domaines thématiques aux partenaires techniques sur la base de leu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2708280"/>
            <a:ext cx="7772400" cy="1362240"/>
          </a:xfrm>
          <a:prstGeom prst="rect">
            <a:avLst/>
          </a:prstGeom>
          <a:solidFill>
            <a:srgbClr val="7575d1"/>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COMITÉ DE COORDINATION LOCAL (DISTRI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201600"/>
            <a:ext cx="8856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Structure du comité de coordination local (CCL)</a:t>
            </a:r>
            <a:endParaRPr b="0" lang="en-US" sz="4000" spc="-1" strike="noStrike">
              <a:solidFill>
                <a:srgbClr val="000000"/>
              </a:solidFill>
              <a:latin typeface="Arial"/>
            </a:endParaRPr>
          </a:p>
        </p:txBody>
      </p:sp>
      <p:sp>
        <p:nvSpPr>
          <p:cNvPr id="130" name=""/>
          <p:cNvSpPr txBox="1"/>
          <p:nvPr/>
        </p:nvSpPr>
        <p:spPr>
          <a:xfrm>
            <a:off x="457200" y="1600200"/>
            <a:ext cx="4038480" cy="4525920"/>
          </a:xfrm>
          <a:prstGeom prst="rect">
            <a:avLst/>
          </a:prstGeom>
          <a:noFill/>
          <a:ln w="0">
            <a:noFill/>
          </a:ln>
        </p:spPr>
        <p:txBody>
          <a:bodyPr anchor="t">
            <a:normAutofit fontScale="99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CCL est divisé en sous-comités reflétant les principes de base de la lutte contre l’EVD:</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coordina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surveillance et le laboratoire</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prise en charge des cas et la lutte contre l’infec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mobilisation sociale et la communica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soutien psychosocial;</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logistique et la sécurité</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35480" indent="-2829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35480" indent="-2829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31" name="Picture 2" descr="F:\Ebola July 2014 documents_YZ\SLE EBOLA RESPONSE PHOTO LIBRARY\12 WHO Mobile lab equipment for Kailahun ebola outbreak_WHO Saffea Gborie.jpg"/>
          <p:cNvPicPr/>
          <p:nvPr/>
        </p:nvPicPr>
        <p:blipFill>
          <a:blip r:embed="rId1"/>
          <a:stretch/>
        </p:blipFill>
        <p:spPr>
          <a:xfrm>
            <a:off x="4648320" y="227664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15920"/>
            <a:ext cx="8820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tion du comité de coordination local:</a:t>
            </a:r>
            <a:endParaRPr b="0" lang="en-US" sz="4000" spc="-1" strike="noStrike">
              <a:solidFill>
                <a:srgbClr val="000000"/>
              </a:solidFill>
              <a:latin typeface="Arial"/>
            </a:endParaRPr>
          </a:p>
        </p:txBody>
      </p:sp>
      <p:sp>
        <p:nvSpPr>
          <p:cNvPr id="133" name=""/>
          <p:cNvSpPr txBox="1"/>
          <p:nvPr/>
        </p:nvSpPr>
        <p:spPr>
          <a:xfrm>
            <a:off x="457200" y="1197000"/>
            <a:ext cx="8229600" cy="4929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président du conseil lo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médecin local / Équipe de gestion de la santé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seillers, les chefs de distri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hefs suprê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hefs de départ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directeurs des organismes de sécurité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représentants des organissations de la société civ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utorités religieus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organisations partenaires internationales, nationales et locales (OMS, CDC, MSF, ONG, OBC, etc.).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de coordination local</a:t>
            </a:r>
            <a:endParaRPr b="0" lang="en-US" sz="4000" spc="-1" strike="noStrike">
              <a:solidFill>
                <a:srgbClr val="000000"/>
              </a:solidFill>
              <a:latin typeface="Arial"/>
            </a:endParaRPr>
          </a:p>
        </p:txBody>
      </p:sp>
      <p:sp>
        <p:nvSpPr>
          <p:cNvPr id="135" name=""/>
          <p:cNvSpPr txBox="1"/>
          <p:nvPr/>
        </p:nvSpPr>
        <p:spPr>
          <a:xfrm>
            <a:off x="457200" y="1197000"/>
            <a:ext cx="8229600" cy="4929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oner tous les aspects opérational de la riposte sur le terrain, conformément aux directives du comité de coordination na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quer des réunions quotidiennes pour coordonner la riposte sur terrai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ser et allouer des ressources pour la riposte à l’épidém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ire des rapports de situation quotidiens et les communiquer au comité de coordination na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plir toute autre tâche à lui confiée par le comité de coordination nat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Merci</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7"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s ministres de la santé et autres responsables des questions de santé doivent jouer un rôle primordial en termes de leadership dans la coordination et la mise en oeuvre des mesures urgentes de riposte à la maladie à virus Ebol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éclaration du Directeur génaral de l’OMS, le 8 août 2014, lors de la réunion du Comité d’urgence du RSI relative à l’épidémie de maladie à virus Ebola de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101" name=""/>
          <p:cNvSpPr txBox="1"/>
          <p:nvPr/>
        </p:nvSpPr>
        <p:spPr>
          <a:xfrm>
            <a:off x="457200" y="1844640"/>
            <a:ext cx="8686800" cy="266400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 généra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 terme de la séance, les participants devraient maîtriser la coordination de la préparation et de la riposte à l’EV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 (2)</a:t>
            </a:r>
            <a:endParaRPr b="0" lang="en-US" sz="4200" spc="-1" strike="noStrike">
              <a:solidFill>
                <a:srgbClr val="000000"/>
              </a:solidFill>
              <a:latin typeface="Arial"/>
            </a:endParaRPr>
          </a:p>
        </p:txBody>
      </p:sp>
      <p:sp>
        <p:nvSpPr>
          <p:cNvPr id="103" name=""/>
          <p:cNvSpPr txBox="1"/>
          <p:nvPr/>
        </p:nvSpPr>
        <p:spPr>
          <a:xfrm>
            <a:off x="250560" y="1268280"/>
            <a:ext cx="8893080" cy="4392720"/>
          </a:xfrm>
          <a:prstGeom prst="rect">
            <a:avLst/>
          </a:prstGeom>
          <a:noFill/>
          <a:ln w="0">
            <a:noFill/>
          </a:ln>
        </p:spPr>
        <p:txBody>
          <a:bodyPr anchor="t">
            <a:norm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Objectifs intermédiaires</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ouligner le rôle du comité de coordination sur la préparation et la riposte à l’EVD</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écrire la composition et les termes de référence du comité de coordination</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xposer les grandes lignes des activités du comité de coordination au niveau du district (local)</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résenter un exemple de COU/IMC</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Coordination multisectorielle</a:t>
            </a:r>
            <a:endParaRPr b="0" lang="en-US" sz="30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ité de coordination national local</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tion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ôle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mple of de COU/IMC</a:t>
            </a:r>
            <a:endParaRPr b="0" lang="en-US" sz="26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ité de coordination local (distric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tion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ôle et tâches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0" lang="en-GB" sz="3200" spc="-1" strike="noStrike">
                <a:solidFill>
                  <a:srgbClr val="000000"/>
                </a:solidFill>
                <a:latin typeface="Arial"/>
                <a:ea typeface="Times New Roman"/>
              </a:rPr>
              <a:t>Coordination: stratégie multi-disciplinaire</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e du comité national de coordination (ETF)</a:t>
            </a:r>
            <a:endParaRPr b="0" lang="en-US" sz="4000" spc="-1" strike="noStrike">
              <a:solidFill>
                <a:srgbClr val="000000"/>
              </a:solidFill>
              <a:latin typeface="Arial"/>
            </a:endParaRPr>
          </a:p>
        </p:txBody>
      </p:sp>
      <p:pic>
        <p:nvPicPr>
          <p:cNvPr id="109" name="Content Placeholder 4" descr=""/>
          <p:cNvPicPr/>
          <p:nvPr/>
        </p:nvPicPr>
        <p:blipFill>
          <a:blip r:embed="rId1"/>
          <a:stretch/>
        </p:blipFill>
        <p:spPr>
          <a:xfrm>
            <a:off x="347760" y="1596960"/>
            <a:ext cx="8351640" cy="453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21960"/>
            <a:ext cx="8697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Composition du comité national de coordination:</a:t>
            </a:r>
            <a:endParaRPr b="0" lang="en-US" sz="40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lvl="1" marL="457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Le leadership national est primordial et la composition peut varier selon les pays, mais elle se présente essentiellement ainsi qu’il suit: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Cabinet du Président de la République,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Ministères de la Santé, des finances, de l’agriculture, de l’éducation, des affaires sociales, de la défense, chargé des services vétérinaires,  etc.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Partenaires internationaux et locaux (OMS, MSF, CDC, UNICEF, USAID, FAO, BIE, Croix rouge/Croissant rouge, FICR, etc.</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Groupes d’intérêts: industries extractives (mines, pétrole, bois) tourisme, compagnies aériennes, etc.</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Rôle du comité de coordination </a:t>
            </a:r>
            <a:endParaRPr b="0" lang="en-US" sz="4000" spc="-1" strike="noStrike">
              <a:solidFill>
                <a:srgbClr val="000000"/>
              </a:solidFill>
              <a:latin typeface="Arial"/>
            </a:endParaRPr>
          </a:p>
        </p:txBody>
      </p:sp>
      <p:sp>
        <p:nvSpPr>
          <p:cNvPr id="113" name=""/>
          <p:cNvSpPr txBox="1"/>
          <p:nvPr/>
        </p:nvSpPr>
        <p:spPr>
          <a:xfrm>
            <a:off x="457200" y="11970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e rôle du comité de coordination est d’assurer la coordination générale des opérations, des activités de prévention et de lutte contre l’épidémie et de la mobilisation des res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1)</a:t>
            </a:r>
            <a:endParaRPr b="0" lang="en-US" sz="40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opter les stratégies de lutte contre l’EVD  recommandées par l’OMS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Élaborer un plan d’action détaillé pour la riposte à l’EVD</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éfinir les responsabilités des différentes équipes sur le terrai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niser la mobilisation des ressources en collaboration avec les partenai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2-01T16:04:34Z</dcterms:modified>
  <cp:revision>254</cp:revision>
  <dc:subject/>
  <dc:title>DPC Training and Technical Update</dc:title>
</cp:coreProperties>
</file>