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28.jpeg" ContentType="image/jpeg"/>
  <Override PartName="/ppt/media/image27.jpeg" ContentType="image/jpeg"/>
  <Override PartName="/ppt/media/image6.jpeg" ContentType="image/jpeg"/>
  <Override PartName="/ppt/media/image7.wmf" ContentType="image/x-wmf"/>
  <Override PartName="/ppt/media/image13.png" ContentType="image/png"/>
  <Override PartName="/ppt/media/image12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25.png" ContentType="image/png"/>
  <Override PartName="/ppt/media/image32.jpeg" ContentType="image/jpeg"/>
  <Override PartName="/ppt/media/image33.png" ContentType="image/png"/>
  <Override PartName="/ppt/media/image16.wmf" ContentType="image/x-wmf"/>
  <Override PartName="/ppt/media/image9.jpeg" ContentType="image/jpeg"/>
  <Override PartName="/ppt/media/image11.png" ContentType="image/png"/>
  <Override PartName="/ppt/media/image34.wmf" ContentType="image/x-wmf"/>
  <Override PartName="/ppt/media/image35.wmf" ContentType="image/x-wmf"/>
  <Override PartName="/ppt/media/image36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3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4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B096-3CEA-4339-A5A5-3D4035F0C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13D4-E220-4772-91E6-A90022BA9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E3DA-33C2-4319-A0BD-74E39041C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06B7-961B-4BF7-8042-3211204D0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756A-1903-4066-9554-752C8BBDA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7704-7B31-4254-947B-DF097739C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2F00-6627-4429-8B09-9E6D2A64B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22B4-F925-4C32-8FAB-447CBC71A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8FC5-21F4-4C18-8035-3D406503D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B9E0-6AD3-4E95-91A0-EB85EA549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26FB-FF9F-4797-86BE-0FB4AD10E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91AC-EB82-4FE3-A764-031E4890F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4C34-374E-44CD-A043-82F59B6F1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5D2A-EDDB-4CC3-BAEE-9145A3160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406A-4756-49A9-86B9-5B07D808C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FE7D-9346-4B82-AAE1-FFFB6AEBA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1B56-67AF-4875-9658-5B74159AF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EAAB-AD4D-4E73-B0BA-28EBC35A1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6C20-14E2-48F1-9FCD-15F70435D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2189-1643-4266-9541-C42BF3EB2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A424-C56C-45E9-B8C5-B9CCADB28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6C35-3043-41FF-AB0A-B5B34CF95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281C-DE0D-4EF0-85D0-D4D605A0F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E173-A4BD-402F-A6FE-037DA1484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8F4D-52C3-4348-AC97-CB21700B3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411F-215C-42FE-8A9B-4299BF07E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0A53-5744-4B9F-AE4E-A9E34F20E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DFFE-59FB-4F83-935F-8E1901249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2E23-5CBC-4989-B58E-CFB0ECF47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91BA-C1C9-41B1-854D-2FBFA760F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0F2E-418A-4753-A8C1-84CF5C696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3C7C-FB94-4561-86F4-B135B2EA8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6623-9DBE-4BB9-B03E-FC830FA15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ACED-1797-4820-AF9B-7995E761E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B79E-EB82-4D49-B78D-E3E8EEBFB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3BED-4871-44F4-B877-EE361D93D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CC017-0FDE-44D7-BA41-A31E2903D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CECED-9018-4A55-A126-EBEA35811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F1489-AD8B-44A3-83A6-3D3CCBC50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1E704-6009-42A3-88AD-7DEA97529D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9F8E-A03B-4982-8F60-46FCBB7B61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C75D-3EE5-4050-BC59-EE2FB8C733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BA3D-F9B4-4C41-A6F1-19DC57B951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9FCF-8D65-4E9F-8226-D145808754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720A-D21F-419D-9381-452BE278CE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4633-2109-405D-80B2-BBE9363275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1C69-211B-4D56-A652-23E06D9878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790B8-61D3-4B3A-9697-9C81B22787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2F13-9E97-478F-A269-8FE547A1C4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6DFC-667D-4C2F-B990-1089F692F9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D7A1-6F98-4E06-A2F2-89A8026EAC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040B-DCE1-4EAD-AD2E-D097428D2E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D896-79E3-493E-8410-FE646D1DA7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667F6-DD8E-4036-85E9-E0EB66C44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5AE02-F115-4031-B7B9-D03C330B8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48872-3B58-4A58-B8A2-B185A71F7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D5C45-C63C-49B0-B9A7-435736BED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C42FE-5ECC-4120-8216-8DB56AC04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6C333-0A8E-4F0A-9CA1-232A015DA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62556-A4FC-4B4E-B1EB-A502A9400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358B-E8B4-41F3-B972-8801F8D812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1DFE-B4C6-43AE-8935-5AACD60BBE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image" Target="../media/image11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CD33-A886-4120-B94E-7B134098E8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ffffff"/>
                </a:solidFill>
                <a:latin typeface="Verdana"/>
              </a:rPr>
              <a:t>Évaluation : Audits</a:t>
            </a:r>
            <a:endParaRPr b="0" lang="en-US" sz="4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73A5-F8E2-4DC8-9ABF-23F5C21FF6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MCj04349290000[1]"/>
          <p:cNvPicPr/>
          <p:nvPr/>
        </p:nvPicPr>
        <p:blipFill>
          <a:blip r:embed="rId1"/>
          <a:stretch/>
        </p:blipFill>
        <p:spPr>
          <a:xfrm>
            <a:off x="205740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rcRect l="0" t="15625" r="0" b="0"/>
          <a:stretch/>
        </p:blipFill>
        <p:spPr>
          <a:xfrm>
            <a:off x="5029200" y="4819680"/>
            <a:ext cx="3220920" cy="2038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ueillir l’information su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ocessus et les procédures opérato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ersonnel, l’équipement, méthodes d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’environnement, la manipulation des échantill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contrôle de qualité et la vérification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atiques d’enregistrement et de rap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1D8E-6506-432E-8FB6-1AC95B9713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arer les résultants aux documents du système de gestion de la qualité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toute rupture ou déviation par rapport aux procédu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quelque chose des résultats d’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8ACC-4AF6-4F92-83C6-7CE1CEA139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178" name="Oval 5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Autorités de san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4724280" y="914400"/>
            <a:ext cx="441972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gence d’accrédi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5562720" y="4343400"/>
            <a:ext cx="358128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gramme de santé publ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Bailleurs</a:t>
            </a:r>
            <a:br>
              <a:rPr sz="3200"/>
            </a:b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de fo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urs extern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9" descr="lab_design"/>
          <p:cNvPicPr/>
          <p:nvPr/>
        </p:nvPicPr>
        <p:blipFill>
          <a:blip r:embed="rId2"/>
          <a:stretch/>
        </p:blipFill>
        <p:spPr>
          <a:xfrm>
            <a:off x="3048120" y="1981080"/>
            <a:ext cx="2593800" cy="3124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0"/>
          <p:cNvSpPr/>
          <p:nvPr/>
        </p:nvSpPr>
        <p:spPr>
          <a:xfrm>
            <a:off x="3124080" y="31240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E209-ADDC-4C47-9960-E3EBB02804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189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" name="Group 32"/>
          <p:cNvGrpSpPr/>
          <p:nvPr/>
        </p:nvGrpSpPr>
        <p:grpSpPr>
          <a:xfrm>
            <a:off x="533520" y="3581280"/>
            <a:ext cx="5234040" cy="2933640"/>
            <a:chOff x="533520" y="3581280"/>
            <a:chExt cx="5234040" cy="2933640"/>
          </a:xfrm>
        </p:grpSpPr>
        <p:pic>
          <p:nvPicPr>
            <p:cNvPr id="194" name="Picture 5" descr="j0213395"/>
            <p:cNvPicPr/>
            <p:nvPr/>
          </p:nvPicPr>
          <p:blipFill>
            <a:blip r:embed="rId1"/>
            <a:stretch/>
          </p:blipFill>
          <p:spPr>
            <a:xfrm>
              <a:off x="4114800" y="442332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3" descr="j0433934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6"/>
            <p:cNvSpPr/>
            <p:nvPr/>
          </p:nvSpPr>
          <p:spPr>
            <a:xfrm>
              <a:off x="1905120" y="4227120"/>
              <a:ext cx="23778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Avertir personnel, aménager emploi du temp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Rectangle 17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éparation d’un audit extern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4648320"/>
            <a:ext cx="350532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assembler les informations et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9" name="Group 31"/>
          <p:cNvGrpSpPr/>
          <p:nvPr/>
        </p:nvGrpSpPr>
        <p:grpSpPr>
          <a:xfrm>
            <a:off x="380880" y="1447920"/>
            <a:ext cx="3885480" cy="2361600"/>
            <a:chOff x="380880" y="1447920"/>
            <a:chExt cx="3885480" cy="2361600"/>
          </a:xfrm>
        </p:grpSpPr>
        <p:pic>
          <p:nvPicPr>
            <p:cNvPr id="200" name="Picture 27" descr="MCj03636380000[1]"/>
            <p:cNvPicPr/>
            <p:nvPr/>
          </p:nvPicPr>
          <p:blipFill>
            <a:blip r:embed="rId3"/>
            <a:stretch/>
          </p:blipFill>
          <p:spPr>
            <a:xfrm>
              <a:off x="380880" y="1447920"/>
              <a:ext cx="3650400" cy="236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29"/>
            <p:cNvSpPr/>
            <p:nvPr/>
          </p:nvSpPr>
          <p:spPr>
            <a:xfrm>
              <a:off x="1087200" y="2149920"/>
              <a:ext cx="317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ifier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A38C-BA80-42C1-8F8D-93126974C2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AutoShape 21"/>
          <p:cNvSpPr/>
          <p:nvPr/>
        </p:nvSpPr>
        <p:spPr>
          <a:xfrm rot="10800000">
            <a:off x="2438280" y="5409720"/>
            <a:ext cx="6400800" cy="8384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apport d’audit externe et plan d’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Identifiez manquements/non conformité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nregistrez les résultats et action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digez un ra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Planifiez des 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Développez un calendr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ttribuez les responsabilit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4495680" y="1066680"/>
            <a:ext cx="44197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Laboratoire revoit/ comprend les recomma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2914560" y="1219320"/>
            <a:ext cx="1524240" cy="76176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22"/>
          <p:cNvSpPr/>
          <p:nvPr/>
        </p:nvSpPr>
        <p:spPr>
          <a:xfrm rot="5400000">
            <a:off x="6705000" y="3276360"/>
            <a:ext cx="3657600" cy="7621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26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609480" y="1447920"/>
            <a:ext cx="2133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apport et résumé des auditeurs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8A40-A566-43C8-ACDB-03689E0423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86" descr="MCj04099450000[1]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3" descr="spy_guy_bck_col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6553080" y="914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9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0"/>
          <p:cNvSpPr/>
          <p:nvPr/>
        </p:nvSpPr>
        <p:spPr>
          <a:xfrm>
            <a:off x="6400800" y="3505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Moins coût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78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77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quis par standards I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régulièr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quand problèmes identifi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84"/>
          <p:cNvSpPr/>
          <p:nvPr/>
        </p:nvSpPr>
        <p:spPr>
          <a:xfrm>
            <a:off x="2895480" y="1293840"/>
            <a:ext cx="266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garder ses propres process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87" descr="bulles_CDC"/>
          <p:cNvPicPr/>
          <p:nvPr/>
        </p:nvPicPr>
        <p:blipFill>
          <a:blip r:embed="rId4"/>
          <a:stretch/>
        </p:blipFill>
        <p:spPr>
          <a:xfrm>
            <a:off x="228600" y="3670200"/>
            <a:ext cx="266688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A649-4116-45C0-9645-1D0E27F3DF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aleur des audits intern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préparer pour un audit exter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nsibiliser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’amélio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ctions préventives et correctiv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e form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ondre aux standards d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45C3-571A-45D6-BD45-1D9E5D7EEB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s Internes : Exigences IS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23"/>
          <p:cNvSpPr/>
          <p:nvPr/>
        </p:nvSpPr>
        <p:spPr>
          <a:xfrm>
            <a:off x="0" y="1752480"/>
            <a:ext cx="91440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me d’audit ex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édures document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diteurs indépendants de l’activ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ésultats rendus sous forme de rapport et revus par la directio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tion de suivi rap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D76C-8300-4359-ABA1-9112F22AC9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i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rc 5"/>
          <p:cNvSpPr/>
          <p:nvPr/>
        </p:nvSpPr>
        <p:spPr>
          <a:xfrm>
            <a:off x="7238880" y="22860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rc 6"/>
          <p:cNvSpPr/>
          <p:nvPr/>
        </p:nvSpPr>
        <p:spPr>
          <a:xfrm rot="5400000">
            <a:off x="5295960" y="2857680"/>
            <a:ext cx="129528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7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AutoShape 8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9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5257800" y="16002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ériolog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3581280" y="762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é a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dits inter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0" y="1981080"/>
            <a:ext cx="40384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 pas auditer votre propre travai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utr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B191-9F17-4C34-AA02-FC3C4457D8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1" name="Group 12"/>
          <p:cNvGrpSpPr/>
          <p:nvPr/>
        </p:nvGrpSpPr>
        <p:grpSpPr>
          <a:xfrm>
            <a:off x="152280" y="533520"/>
            <a:ext cx="8991000" cy="5790600"/>
            <a:chOff x="152280" y="533520"/>
            <a:chExt cx="8991000" cy="5790600"/>
          </a:xfrm>
        </p:grpSpPr>
        <p:sp>
          <p:nvSpPr>
            <p:cNvPr id="252" name="AutoShape 11"/>
            <p:cNvSpPr/>
            <p:nvPr/>
          </p:nvSpPr>
          <p:spPr>
            <a:xfrm>
              <a:off x="152280" y="533520"/>
              <a:ext cx="8991000" cy="57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réparer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listes de contrôle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lanifier 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réguliers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Programme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d’audit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interne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ttribuer </a:t>
              </a:r>
              <a:br>
                <a:rPr sz="25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responsabilité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0" name="Text Box 3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7" descr="j0432664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bs00272_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MCj04349290000[1]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head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FE64-A7B6-465C-918B-9B42C6ED5A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processus préparant le personnel à un audit ex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nifier et gérer un audit in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comment utiliser les résultats d’un aud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idoyer à propos de l’importance des mesures correctives à prend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A4F5-CBD0-4F9F-866D-F655799549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AutoShape 24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AutoShape 13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828800" y="7621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Directeur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066680" y="2362320"/>
            <a:ext cx="3048120" cy="1557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Détermine la ligne de conduit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68440" y="4843440"/>
            <a:ext cx="4038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Assigne responsabilités</a:t>
            </a: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pour le programme d’audit interne – </a:t>
            </a:r>
            <a:r>
              <a:rPr b="0" lang="fr-FR" sz="1800" spc="-1" strike="noStrike">
                <a:solidFill>
                  <a:srgbClr val="ff6600"/>
                </a:solidFill>
                <a:latin typeface="Verdana"/>
              </a:rPr>
              <a:t>responsable qualit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00800" y="2514600"/>
            <a:ext cx="20574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soutient les mesures d’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AutoShape 20"/>
          <p:cNvSpPr/>
          <p:nvPr/>
        </p:nvSpPr>
        <p:spPr>
          <a:xfrm rot="5400000">
            <a:off x="1943280" y="1333440"/>
            <a:ext cx="761760" cy="9907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AutoShape 21"/>
          <p:cNvSpPr/>
          <p:nvPr/>
        </p:nvSpPr>
        <p:spPr>
          <a:xfrm rot="5400000">
            <a:off x="1942560" y="3543120"/>
            <a:ext cx="914400" cy="114300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22"/>
          <p:cNvSpPr/>
          <p:nvPr/>
        </p:nvSpPr>
        <p:spPr>
          <a:xfrm rot="5400000">
            <a:off x="6819840" y="1485720"/>
            <a:ext cx="990720" cy="10670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AutoShape 23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26"/>
          <p:cNvSpPr/>
          <p:nvPr/>
        </p:nvSpPr>
        <p:spPr>
          <a:xfrm>
            <a:off x="1905120" y="5715000"/>
            <a:ext cx="761760" cy="5335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A460-B41C-43C3-B51E-610F08E63C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31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52280" y="457200"/>
            <a:ext cx="8686800" cy="16250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Responsabilité du Responsab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Créer et maintenir un systèm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200400" y="265284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oordonne le processus d’audit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Gérer</a:t>
            </a:r>
            <a:br>
              <a:rPr sz="2000"/>
            </a:b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17"/>
          <p:cNvSpPr/>
          <p:nvPr/>
        </p:nvSpPr>
        <p:spPr>
          <a:xfrm rot="5400000">
            <a:off x="4076640" y="1942920"/>
            <a:ext cx="609480" cy="8380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18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457200" y="2362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Établir un calendr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’audi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Oval 24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Oval 25"/>
          <p:cNvSpPr/>
          <p:nvPr/>
        </p:nvSpPr>
        <p:spPr>
          <a:xfrm>
            <a:off x="304920" y="4876920"/>
            <a:ext cx="2057400" cy="13716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333360" y="5032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e person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utoShape 14"/>
          <p:cNvSpPr/>
          <p:nvPr/>
        </p:nvSpPr>
        <p:spPr>
          <a:xfrm rot="11374200">
            <a:off x="2133000" y="256788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utoShape 23"/>
          <p:cNvSpPr/>
          <p:nvPr/>
        </p:nvSpPr>
        <p:spPr>
          <a:xfrm>
            <a:off x="5181480" y="5410080"/>
            <a:ext cx="144792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AutoShape 22"/>
          <p:cNvSpPr/>
          <p:nvPr/>
        </p:nvSpPr>
        <p:spPr>
          <a:xfrm rot="10800000">
            <a:off x="2209680" y="5333760"/>
            <a:ext cx="1371600" cy="53316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28"/>
          <p:cNvSpPr/>
          <p:nvPr/>
        </p:nvSpPr>
        <p:spPr>
          <a:xfrm>
            <a:off x="380880" y="3276720"/>
            <a:ext cx="1905120" cy="12189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29"/>
          <p:cNvSpPr/>
          <p:nvPr/>
        </p:nvSpPr>
        <p:spPr>
          <a:xfrm>
            <a:off x="457200" y="3276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Sélectionner et former des audite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30"/>
          <p:cNvSpPr/>
          <p:nvPr/>
        </p:nvSpPr>
        <p:spPr>
          <a:xfrm rot="9818400">
            <a:off x="2133000" y="327636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AutoShape 15"/>
          <p:cNvSpPr/>
          <p:nvPr/>
        </p:nvSpPr>
        <p:spPr>
          <a:xfrm rot="19251600">
            <a:off x="5257440" y="3733920"/>
            <a:ext cx="182880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553080" y="52768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a dir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0DC4-2FD2-4FDE-9078-BAB227C901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ner un audit inter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diger des listes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’ouver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cueillir et analyser les inform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e clô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4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289B-0338-453A-BE3D-435550B996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10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124080" y="3809880"/>
            <a:ext cx="2438640" cy="234000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96"/>
          <p:cNvGrpSpPr/>
          <p:nvPr/>
        </p:nvGrpSpPr>
        <p:grpSpPr>
          <a:xfrm>
            <a:off x="2639880" y="3657600"/>
            <a:ext cx="3228840" cy="2860560"/>
            <a:chOff x="2639880" y="3657600"/>
            <a:chExt cx="3228840" cy="2860560"/>
          </a:xfrm>
        </p:grpSpPr>
        <p:sp>
          <p:nvSpPr>
            <p:cNvPr id="313" name="AutoShape 95"/>
            <p:cNvSpPr/>
            <p:nvPr/>
          </p:nvSpPr>
          <p:spPr>
            <a:xfrm>
              <a:off x="2868480" y="3657600"/>
              <a:ext cx="27702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620643"/>
            <p:cNvSpPr/>
            <p:nvPr/>
          </p:nvSpPr>
          <p:spPr>
            <a:xfrm>
              <a:off x="3240720" y="3857400"/>
              <a:ext cx="2026440" cy="184032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_s620644"/>
            <p:cNvSpPr/>
            <p:nvPr/>
          </p:nvSpPr>
          <p:spPr>
            <a:xfrm rot="7200000">
              <a:off x="3610800" y="419868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_s620646"/>
            <p:cNvSpPr/>
            <p:nvPr/>
          </p:nvSpPr>
          <p:spPr>
            <a:xfrm rot="14400000">
              <a:off x="3057120" y="420120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_s620641"/>
            <p:cNvSpPr/>
            <p:nvPr/>
          </p:nvSpPr>
          <p:spPr>
            <a:xfrm>
              <a:off x="480888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_s620642"/>
            <p:cNvSpPr/>
            <p:nvPr/>
          </p:nvSpPr>
          <p:spPr>
            <a:xfrm>
              <a:off x="3847320" y="57067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620645"/>
            <p:cNvSpPr/>
            <p:nvPr/>
          </p:nvSpPr>
          <p:spPr>
            <a:xfrm>
              <a:off x="288576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réer un calendrier d’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ner des audits régulièr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dits plus fréquent en cas de problèmes ou de besoin d’améli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audits devraient au cours du temps revoir tous les points essentiels du système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B6F5-49AE-4E61-A794-2041442DF2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670536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ck-lists (listes de contrôle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formulaires pour les actions correctives et les rap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6094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CORRECTIVE ACTION FORM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15EF-FDCF-4C96-B25A-3EF442F586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8" descr="Untitled-7"/>
          <p:cNvPicPr/>
          <p:nvPr/>
        </p:nvPicPr>
        <p:blipFill>
          <a:blip r:embed="rId1"/>
          <a:stretch/>
        </p:blipFill>
        <p:spPr>
          <a:xfrm>
            <a:off x="685800" y="1143000"/>
            <a:ext cx="71629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D9C7-DF98-4B5C-B719-5F7DE0C273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2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 rot="5400000">
            <a:off x="1294920" y="3047760"/>
            <a:ext cx="1295280" cy="129564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audits doiven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AutoShape 8"/>
          <p:cNvSpPr/>
          <p:nvPr/>
        </p:nvSpPr>
        <p:spPr>
          <a:xfrm>
            <a:off x="5638680" y="13716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des 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AutoShape 7"/>
          <p:cNvSpPr/>
          <p:nvPr/>
        </p:nvSpPr>
        <p:spPr>
          <a:xfrm rot="20101800">
            <a:off x="3123720" y="3885840"/>
            <a:ext cx="3619800" cy="12952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4DE1-5F83-456A-A979-E3B9031D22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5" descr="j0435880"/>
          <p:cNvPicPr/>
          <p:nvPr/>
        </p:nvPicPr>
        <p:blipFill>
          <a:blip r:embed="rId1"/>
          <a:stretch/>
        </p:blipFill>
        <p:spPr>
          <a:xfrm>
            <a:off x="5486400" y="3166920"/>
            <a:ext cx="2819520" cy="2514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correctives et de rattrapag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es actions sont prises pour améliorer un processus ou corriger un problè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228600" y="3809880"/>
            <a:ext cx="5562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i est responsable?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8000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3EC0-C051-4B84-8D78-A6AD477A55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ntreprendre des actions correctiv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e équipe de résolution de problèm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ercher les causes premiè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commander l’action corrective approprié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ttre en oeuvre l’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bserver l’efficacité de l’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s actions et leurs résult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7650-C861-4AC4-8CF5-5EDB8154FF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Formulaire d’opportunité d’amélio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52" name="Picture 6" descr="CORRECTIVE ACTION FORM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53" name="ZoneTexte 5"/>
          <p:cNvSpPr/>
          <p:nvPr/>
        </p:nvSpPr>
        <p:spPr>
          <a:xfrm>
            <a:off x="3200400" y="1447920"/>
            <a:ext cx="2971800" cy="27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Formulaire d’action correcti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ZoneTexte 6"/>
          <p:cNvSpPr/>
          <p:nvPr/>
        </p:nvSpPr>
        <p:spPr>
          <a:xfrm>
            <a:off x="2362320" y="1963800"/>
            <a:ext cx="32004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ette action corrective est le résultat de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ZoneTexte 7"/>
          <p:cNvSpPr/>
          <p:nvPr/>
        </p:nvSpPr>
        <p:spPr>
          <a:xfrm>
            <a:off x="2819520" y="251460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in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ZoneTexte 8"/>
          <p:cNvSpPr/>
          <p:nvPr/>
        </p:nvSpPr>
        <p:spPr>
          <a:xfrm>
            <a:off x="2819520" y="28018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ex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ZoneTexte 9"/>
          <p:cNvSpPr/>
          <p:nvPr/>
        </p:nvSpPr>
        <p:spPr>
          <a:xfrm>
            <a:off x="5486400" y="220968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5486400" y="251460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ZoneTexte 11"/>
          <p:cNvSpPr/>
          <p:nvPr/>
        </p:nvSpPr>
        <p:spPr>
          <a:xfrm>
            <a:off x="5486400" y="281952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ZoneTexte 12"/>
          <p:cNvSpPr/>
          <p:nvPr/>
        </p:nvSpPr>
        <p:spPr>
          <a:xfrm>
            <a:off x="2362320" y="327672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Description du Problème ou du constat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il arrivé et Pourquoi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ZoneTexte 13"/>
          <p:cNvSpPr/>
          <p:nvPr/>
        </p:nvSpPr>
        <p:spPr>
          <a:xfrm>
            <a:off x="2362320" y="4781520"/>
            <a:ext cx="18288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apporté par: (Nom du personnel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ZoneTexte 14"/>
          <p:cNvSpPr/>
          <p:nvPr/>
        </p:nvSpPr>
        <p:spPr>
          <a:xfrm>
            <a:off x="2362320" y="541008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Action Corrective prise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ce qui a été fait pour prévenir la réapparition du problème)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ZoneTexte 15"/>
          <p:cNvSpPr/>
          <p:nvPr/>
        </p:nvSpPr>
        <p:spPr>
          <a:xfrm>
            <a:off x="2819520" y="22096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Consta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3B79-C056-445B-9E3E-2373A4AFF4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« Vous êtes le responsable qualité dans votre laboratoire et vous voulez organiser un audit interne. 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elles étapes allez vous suivre?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C9A4-D0E3-408B-99DA-FA9EBB4B9A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Le contrôle continu est l’élément clef du succès du systèm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32FD-868B-409B-8FE2-8D8246E352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92" descr="Untitled-9"/>
          <p:cNvPicPr/>
          <p:nvPr/>
        </p:nvPicPr>
        <p:blipFill>
          <a:blip r:embed="rId1"/>
          <a:stretch/>
        </p:blipFill>
        <p:spPr>
          <a:xfrm>
            <a:off x="304920" y="603360"/>
            <a:ext cx="83818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29B0-041A-4FD9-AAAF-8ED9F6B218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685800" y="1371600"/>
            <a:ext cx="7696080" cy="4725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e n’est pas ce que vous trouvez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’est ce que vous faîtes de ce que vous trouvez.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ABBD-F42D-4590-AA14-82FF6B48B1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évaluation est importante dans le contrôle de l’efficacité du système qualité du laboratoi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audits externes et internes fournissent des informations util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résultats de l’évaluation est de trouver les causes du problème et de prendre des mesures correctiv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7250-7160-4511-9AD5-40DD9E8BAF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s les laboratoires devraient établir un programme d’audit interne. Conduit régulièrement, il fournira des informations favorisant les améliorations continu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 deviennent alors des opportunités d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D498-3F48-4681-809D-4D3BFD56E2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14640" y="29714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8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2952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870C-93DD-436C-912B-4057F31EA4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8" name="Picture 27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952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3BD7-A818-4230-B7AB-A353C522D1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— 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alyse systématique de certaines (ou de toutes) parties du système de gestion de la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formité aux exig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spy_guy"/>
          <p:cNvPicPr/>
          <p:nvPr/>
        </p:nvPicPr>
        <p:blipFill>
          <a:blip r:embed="rId1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C:\Users\Laurence\AppData\Local\Temp\Rar$DI00.100\bulles_def.gif"/>
          <p:cNvPicPr/>
          <p:nvPr/>
        </p:nvPicPr>
        <p:blipFill>
          <a:blip r:embed="rId2"/>
          <a:stretch/>
        </p:blipFill>
        <p:spPr>
          <a:xfrm>
            <a:off x="4495680" y="3884760"/>
            <a:ext cx="198144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6ADF-7E82-42BE-AE94-E7F5DE772E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ubOvalCallout"/>
          <p:cNvSpPr/>
          <p:nvPr/>
        </p:nvSpPr>
        <p:spPr>
          <a:xfrm>
            <a:off x="228600" y="1143000"/>
            <a:ext cx="7086600" cy="541008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-ce qu’une évaluation 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Une personne dema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j0234625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19320" y="2209680"/>
            <a:ext cx="51814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Qu’est ce qui est fait 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Cela est il conforme aux lignes de conduite et aux procédur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EB6C-E2D2-4FF8-8492-424674D774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urquoi faire une évaluation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pprendre “ où nous en sommes ” en terme de gestion de la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 les écar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Besoin d’information pou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ifier, mettre en oeuv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MCBD19903_0000[1]"/>
          <p:cNvPicPr/>
          <p:nvPr/>
        </p:nvPicPr>
        <p:blipFill>
          <a:blip r:embed="rId1"/>
          <a:stretch/>
        </p:blipFill>
        <p:spPr>
          <a:xfrm>
            <a:off x="6934320" y="2362320"/>
            <a:ext cx="19047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B69C-1288-4180-A9D0-E220AE7CCC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24" descr="lab_design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5791320" y="2438280"/>
            <a:ext cx="335268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5943600" y="2971800"/>
            <a:ext cx="297180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oupe ou agences extérie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udit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udit ex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18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19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27"/>
          <p:cNvSpPr/>
          <p:nvPr/>
        </p:nvSpPr>
        <p:spPr>
          <a:xfrm rot="5400000">
            <a:off x="1523880" y="327636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28"/>
          <p:cNvSpPr/>
          <p:nvPr/>
        </p:nvSpPr>
        <p:spPr>
          <a:xfrm rot="13572000">
            <a:off x="3352680" y="487620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E7EC-E76D-47DA-A511-AE98D50C13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heminement du spécim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7" descr=""/>
          <p:cNvPicPr/>
          <p:nvPr/>
        </p:nvPicPr>
        <p:blipFill>
          <a:blip r:embed="rId1"/>
          <a:srcRect l="0" t="12742" r="0" b="0"/>
          <a:stretch/>
        </p:blipFill>
        <p:spPr>
          <a:xfrm>
            <a:off x="304920" y="1338120"/>
            <a:ext cx="83055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1:22:00Z</dcterms:created>
  <dc:creator>sam5</dc:creator>
  <dc:description/>
  <dc:language>en-US</dc:language>
  <cp:lastModifiedBy>dolmazonv</cp:lastModifiedBy>
  <dcterms:modified xsi:type="dcterms:W3CDTF">2010-04-07T17:06:09Z</dcterms:modified>
  <cp:revision>152</cp:revision>
  <dc:subject/>
  <dc:title>Slide 1</dc:title>
</cp:coreProperties>
</file>