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C8FF-D789-4283-8AEB-2F3988007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8D84-F8E7-46EE-BA06-3003A81A3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86A1-FA16-432B-805C-4A5B7F9D6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C539-B201-4514-9BF8-DAB22EB07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26E4-F4BA-4A33-AB19-49699B755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B164-BAB7-4ABB-BAFE-C540934B1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6937-E54C-404B-80C0-1BBF605E1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7206-6E7F-438C-A044-AB12371C7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8545-208F-4E65-8FC6-42129E918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C1C6-3620-4D28-858F-DC642CBA0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AEEF-ECF4-4653-9F8F-5DF621FBE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A58C-9646-4261-99B0-D640D5F55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442A-C610-4AD4-B81A-BDF6C8334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6749-6590-403D-89D3-F58A5F4FD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1800-688D-4DFE-8B35-7ABAF1F8D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3C1F-8A58-4158-8D8D-B5EA22E45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DBBA-C5BF-4AEC-B5DE-9409FC8BD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E3AA-4438-42D1-B191-EB45D238D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EA4E-C5B2-46AD-9023-10A45F8E5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E9C9-6B1B-46BD-8327-1E632E8CC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C96C-0D64-468C-9310-F47B62612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8DC2-E8B9-44D5-8109-A143907CE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78846-97B3-4229-BCED-0A6819C44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63CF0-0A06-4C6C-914D-3A43B477E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10108-2DB5-417D-AD91-209F73A1B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22652-6819-4CF7-8D4F-846C55C44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9FF8-103B-44B0-B2E3-4D62999F7C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9937-BB51-4F5A-83D3-9FA154DD18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0B66-205E-4BD8-8609-12801B450E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7503-3F2A-4027-AA35-2554223ECD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149E-D368-4512-8DF0-93F207FF89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5333-6D17-405E-A57D-8CED8F0C52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EF1D-4784-474E-8696-F60A8F91BD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F75D7-9E74-4036-A1CC-C8DE2A9E3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6D7F-283D-48AF-BF90-0A309E8C91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0A6-73A6-42CF-A574-AAFFB5E5CC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1C29-A62D-4C3A-B97E-6BC862B9A9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C4E9-2832-4548-89E4-6721269D2F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C182-B77A-4542-B329-BCC30980A8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F06B0-22CB-4DF5-B3BE-5BE702EC9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542F1-452D-47ED-8700-87271FB05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B1494-8E18-47EC-BBD5-DE93C533D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B7CDB-4529-42F2-B846-339935EE7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7E388-CF4A-4F91-89F5-820879F10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D67DE-6CD1-499C-9995-59E82B615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B974C-C02D-432F-8672-071CE624C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430B-757C-4C92-B211-BCDB1FB9BF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7369-6158-43EA-A064-D430A0C8D1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A6F2-1886-4763-BB8F-94FD1318E4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Qualité :  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6A1F-C124-48C0-A08E-7C3CD91A06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9EA1-21A5-427F-AA40-E003538293E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ltat négatif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9881-4E2E-4567-876A-C1DB793422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CDD0-0A09-4C3E-956B-79F4583D7BD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isques avec la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plupart des RT-PCR sont faîtes « sur place 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imers ne sont pas nécessairement optimisés pour le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posi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néga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prétation des tests a besoin d’être faite prudem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8431-276F-48B8-AB7C-624866F300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92EA-C943-45EC-A51F-9D405041C23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ue généra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Prélèvement, transport, et traitemen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ir l’intégrité des acides nucléique à travers tous le process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 de la 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un circuit unidirectionnel de la zone de préparation des réactifs (ADN free) à la zone de traitement de l’échantillon, à la zone d’amplification et de détec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s positif et nég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Référence: CLSI MM3-A (Méthode de diagnostic moléculaire pour les maladies infectieu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0E45-A7F5-476D-862D-0A1A358B8F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2CCB-739D-45F1-BE8E-1B8ABF931D1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: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D25D-1E8B-42A7-82A3-2D7568D31B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97B4-2FD5-4BCE-A6E7-D51773822C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8D10-DB32-4A3B-B11F-C8B06B8F82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53F1-696B-42B5-9A89-3D0F2053CF7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152280" y="1600200"/>
            <a:ext cx="14479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E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ible AN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amplifi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667D-C7EE-4D8B-8507-F319FE3963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D884-B6E9-42C6-B270-9A65EDD3632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actions d’amplif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Amplification /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412600" y="472428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AS d’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04F9-EA64-4121-9DBF-A173FB58B5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C607-09B6-4313-AA96-314B39D43D9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28600" y="13050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A81E-D782-4DB1-8C4B-C56DE0E4A8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8D45-38C0-45D6-8E91-B743CB388B8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259D-B5F8-498C-9994-967E3602A0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D56B-6891-4CFB-99A7-C584435DEE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dolmazonv</cp:lastModifiedBy>
  <dcterms:modified xsi:type="dcterms:W3CDTF">2010-04-08T14:42:55Z</dcterms:modified>
  <cp:revision>7</cp:revision>
  <dc:subject/>
  <dc:title>Quality Control:   Molecular Diagnostics</dc:title>
</cp:coreProperties>
</file>