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wmf" ContentType="image/x-wmf"/>
  <Override PartName="/ppt/media/image20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34.wmf" ContentType="image/x-wmf"/>
  <Override PartName="/ppt/media/image13.jpeg" ContentType="image/jpeg"/>
  <Override PartName="/ppt/media/image3.jpeg" ContentType="image/jpeg"/>
  <Override PartName="/ppt/media/image8.png" ContentType="image/png"/>
  <Override PartName="/ppt/media/image38.png" ContentType="image/png"/>
  <Override PartName="/ppt/media/image30.jpeg" ContentType="image/jpeg"/>
  <Override PartName="/ppt/media/image37.wmf" ContentType="image/x-wmf"/>
  <Override PartName="/ppt/media/image9.wmf" ContentType="image/x-wmf"/>
  <Override PartName="/ppt/media/image39.wmf" ContentType="image/x-wmf"/>
  <Override PartName="/ppt/media/image32.jpeg" ContentType="image/jpeg"/>
  <Override PartName="/ppt/media/image33.wmf" ContentType="image/x-wmf"/>
  <Override PartName="/ppt/media/image12.jpeg" ContentType="image/jpeg"/>
  <Override PartName="/ppt/media/image11.png" ContentType="image/png"/>
  <Override PartName="/ppt/media/image31.png" ContentType="image/png"/>
  <Override PartName="/ppt/media/image29.wmf" ContentType="image/x-wmf"/>
  <Override PartName="/ppt/media/image10.wmf" ContentType="image/x-wmf"/>
  <Override PartName="/ppt/media/image4.jpeg" ContentType="image/jpeg"/>
  <Override PartName="/ppt/media/image19.jpeg" ContentType="image/jpeg"/>
  <Override PartName="/ppt/media/image25.png" ContentType="image/png"/>
  <Override PartName="/ppt/media/image35.gif" ContentType="image/gif"/>
  <Override PartName="/ppt/media/image7.jpeg" ContentType="image/jpeg"/>
  <Override PartName="/ppt/media/image28.jpeg" ContentType="image/jpeg"/>
  <Override PartName="/ppt/media/image6.png" ContentType="image/png"/>
  <Override PartName="/ppt/media/image36.png" ContentType="image/png"/>
  <Override PartName="/ppt/media/image2.jpeg" ContentType="image/jpeg"/>
  <Override PartName="/ppt/media/image23.jpeg" ContentType="image/jpeg"/>
  <Override PartName="/ppt/media/image5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0DDC-BFCD-4F26-8E59-616CB03B4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A90A-A8D2-4AFD-9EF8-EF6863C8A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B7EC-2893-435A-A96C-B6968D8AB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4449-D670-4263-9168-C58960A2E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A848-C061-4E79-9F91-9470D9EA7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F46C-2F1F-4191-A615-9FE4A6547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6479-D16F-4AD2-894D-F98064537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B196-3939-40BA-9AD1-453A0356F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BE79-2C78-46E8-9C0F-3098F340D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8FCF-E7DE-455B-A673-8A110DB2D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1600-0CDE-46A4-8563-009BD7226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AC9B-9033-4A1E-878B-29DB92BA2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9833-F1D3-493E-AFC0-C0E3B908B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AA96-E824-4B47-B24A-46184B85F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28B2-9F5A-4780-9B61-1597127C9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21BE-DEA3-4155-ADBC-9AD42F5FB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756C-6F30-404C-B230-0694656E9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AAE3-6315-4685-B9C6-FCDFC6B90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0FA7-3E3B-4FA4-BFAB-C21C3F0A6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77FF2-F018-4A9E-ACCC-433BF2BE7D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B4E9C-3F11-4576-8D1C-7363F7BF72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F1E6E-3018-4128-BD54-C4006A9B68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337E2-D705-40D2-BB5B-AFFF096770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BE237-9936-4A47-815B-75EED463CB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69278-E3B3-429D-ABE8-978B2A60B4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76E4D-1E27-44CB-B95A-D546B49538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7D72E-F789-4742-8EE3-5F6FCE357D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F1418-4B14-45B5-9BEA-F56D7A4573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26026-76D8-47A1-872A-EA47D37E37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6A477-E6A9-42E2-A5A9-0C2015D97A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7E06E-B7D7-4B97-A0C4-F68878982A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3525-D2BC-4F2A-83E5-4FA937C215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6.png"/><Relationship Id="rId11" Type="http://schemas.openxmlformats.org/officeDocument/2006/relationships/image" Target="../media/image37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9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Gestion de l’in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AF1F-0435-4616-9059-8101388E8A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gistres/feuilles de travail et processus de vérific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8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0" descr="5_req_form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33"/>
          <p:cNvSpPr/>
          <p:nvPr/>
        </p:nvSpPr>
        <p:spPr>
          <a:xfrm rot="5400000">
            <a:off x="4419720" y="2666880"/>
            <a:ext cx="83808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5B7C-3797-4B57-855F-FA8941E875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tection des donné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685800" y="1600200"/>
            <a:ext cx="693432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pa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matériaux d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er les registres prop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informat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voir des sauvegardes régulières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7B94-86CD-46F0-92E9-C3408406A2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téger la confidentialité / sécur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1" name="Picture 19" descr="j0178425"/>
          <p:cNvPicPr/>
          <p:nvPr/>
        </p:nvPicPr>
        <p:blipFill>
          <a:blip r:embed="rId1"/>
          <a:stretch/>
        </p:blipFill>
        <p:spPr>
          <a:xfrm>
            <a:off x="3657600" y="4608360"/>
            <a:ext cx="2590920" cy="17528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1"/>
          <p:cNvSpPr/>
          <p:nvPr/>
        </p:nvSpPr>
        <p:spPr>
          <a:xfrm>
            <a:off x="533520" y="1219320"/>
            <a:ext cx="807696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irecteur de laboratoire est responsables de la mise en place de lignes de conduite et de procédures pour :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téger l’intimité des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confidentialité des donné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3" descr="j0409031"/>
          <p:cNvPicPr/>
          <p:nvPr/>
        </p:nvPicPr>
        <p:blipFill>
          <a:blip r:embed="rId2"/>
          <a:stretch/>
        </p:blipFill>
        <p:spPr>
          <a:xfrm>
            <a:off x="1295280" y="459756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6" descr="MCj02506500000[1]"/>
          <p:cNvPicPr/>
          <p:nvPr/>
        </p:nvPicPr>
        <p:blipFill>
          <a:blip r:embed="rId3"/>
          <a:stretch/>
        </p:blipFill>
        <p:spPr>
          <a:xfrm>
            <a:off x="5334120" y="4684680"/>
            <a:ext cx="17985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C16E-C167-4C73-A29D-CB4F3BC06A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s de compte rendu des résultats d’analys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AutoShape 13"/>
          <p:cNvSpPr/>
          <p:nvPr/>
        </p:nvSpPr>
        <p:spPr>
          <a:xfrm>
            <a:off x="38088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2666880" y="2590920"/>
            <a:ext cx="441972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ilement compréh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457200" y="3200400"/>
            <a:ext cx="1447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chantillon 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e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: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j0433870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8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resse: 1234 Littletown Road, Bergly Bay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7FF8-108A-4257-AF18-64E36FC055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j0422773"/>
          <p:cNvPicPr/>
          <p:nvPr/>
        </p:nvPicPr>
        <p:blipFill>
          <a:blip r:embed="rId1"/>
          <a:stretch/>
        </p:blipFill>
        <p:spPr>
          <a:xfrm>
            <a:off x="6248520" y="4724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3" descr="j0151699"/>
          <p:cNvPicPr/>
          <p:nvPr/>
        </p:nvPicPr>
        <p:blipFill>
          <a:blip r:embed="rId2"/>
          <a:stretch/>
        </p:blipFill>
        <p:spPr>
          <a:xfrm>
            <a:off x="7162920" y="184464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velopper un bon système pour communique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 sei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es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autre personnel soign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aboratoires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organismes offic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7086600" y="32925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Tekton Pro"/>
              </a:rPr>
              <a:t>Différentes équi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26BE-DBDB-46D1-80B8-90FAADA2A6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5"/>
          <p:cNvGrpSpPr/>
          <p:nvPr/>
        </p:nvGrpSpPr>
        <p:grpSpPr>
          <a:xfrm>
            <a:off x="380880" y="533520"/>
            <a:ext cx="8381880" cy="5757480"/>
            <a:chOff x="380880" y="533520"/>
            <a:chExt cx="8381880" cy="5757480"/>
          </a:xfrm>
        </p:grpSpPr>
        <p:sp>
          <p:nvSpPr>
            <p:cNvPr id="255" name="AutoShape 4"/>
            <p:cNvSpPr/>
            <p:nvPr/>
          </p:nvSpPr>
          <p:spPr>
            <a:xfrm>
              <a:off x="380880" y="533520"/>
              <a:ext cx="8381880" cy="57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ystèm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formatiqu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compatib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Erreurs d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transmis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 peu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organis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Archivag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médioc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inadéqua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suffi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complè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AutoShape 21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3124080" y="28954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Problèmes cou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C9C7-066B-423A-85C5-C15714B97A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6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0"/>
          <p:cNvSpPr/>
          <p:nvPr/>
        </p:nvSpPr>
        <p:spPr>
          <a:xfrm>
            <a:off x="457200" y="1219320"/>
            <a:ext cx="6095880" cy="60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equière des registres et des carnets bien conçu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s à utiliser et faciles à rempl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cilite la recherche de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i facilite la rédaction des compte-rendus et le résumé des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8" descr="j0408884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816B-C12B-4FB9-BFFA-8D356316EF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304920" y="33526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6324480" y="54864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Nom du vill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ans la colonne vil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457200" y="3049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trée des donné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CDAF-0D6A-48DB-A364-64531D5FD9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296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685800" y="304812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Illisible- l’encre a traversé de l’autre côté de la feu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3657600" y="3733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Écriture ill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5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2E9B-91E7-4902-A2DC-ED8434A7AC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mpte-rendu est le produit primaire – rendez le professi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esoin d’une copie pour les 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es registres dans un endroit sû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20CE-33A6-4D1E-BAA4-4D9FFD6AC6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 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éléments importants d’un système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quels sont les points à considérer lors de l’élaboration d’un système manuel d’information papier (non électroniq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avantages et les inconvénients d’un système informatisé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32B5-C8C9-4AFA-ADFE-DFE9D74BA1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ut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uver un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les problèm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ègles utile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garder tout pendant un certain tem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 un accès fac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 système logique de class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ter dans l’ordre chronolog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04920" y="45720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manuel basé sur papier –stock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3" descr="MCj02374610000[1]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14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EBB2-19B5-4BC6-BAF3-1BF66A76D6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stack of records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mouse_cdc_hantavirus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6"/>
          <p:cNvSpPr/>
          <p:nvPr/>
        </p:nvSpPr>
        <p:spPr>
          <a:xfrm>
            <a:off x="1447920" y="4114800"/>
            <a:ext cx="2209680" cy="1905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8896-515B-47B6-BCDF-0F543AAAF3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informatis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ptions de logici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veloppés localement sur la base de logiciels commercialement disponibles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jà développé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echercher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ance du système informatique, sauvegar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cur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è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fidentia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raça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itesse, flex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8" descr="j0285750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j0205466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_twirling"/>
          <p:cNvPicPr/>
          <p:nvPr/>
        </p:nvPicPr>
        <p:blipFill>
          <a:blip r:embed="rId3"/>
          <a:stretch/>
        </p:blipFill>
        <p:spPr>
          <a:xfrm>
            <a:off x="609588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_twirling"/>
          <p:cNvPicPr/>
          <p:nvPr/>
        </p:nvPicPr>
        <p:blipFill>
          <a:blip r:embed="rId4"/>
          <a:stretch/>
        </p:blipFill>
        <p:spPr>
          <a:xfrm>
            <a:off x="8229600" y="43434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77F1-1204-4FC9-BB66-2B7F358F0D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2"/>
          <p:cNvGrpSpPr/>
          <p:nvPr/>
        </p:nvGrpSpPr>
        <p:grpSpPr>
          <a:xfrm>
            <a:off x="533520" y="609480"/>
            <a:ext cx="8304840" cy="5668560"/>
            <a:chOff x="533520" y="609480"/>
            <a:chExt cx="8304840" cy="5668560"/>
          </a:xfrm>
        </p:grpSpPr>
        <p:sp>
          <p:nvSpPr>
            <p:cNvPr id="331" name="AutoShape 3"/>
            <p:cNvSpPr/>
            <p:nvPr/>
          </p:nvSpPr>
          <p:spPr>
            <a:xfrm>
              <a:off x="533520" y="609480"/>
              <a:ext cx="8304840" cy="56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tégr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vec autr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es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financiè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ntrô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accè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nalys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enda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 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rend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nd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isib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étaill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extrac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e données</a:t>
              </a: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é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d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rreurs 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Picture 29" descr="j0205582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Text Box 13"/>
          <p:cNvSpPr/>
          <p:nvPr/>
        </p:nvSpPr>
        <p:spPr>
          <a:xfrm>
            <a:off x="304920" y="4572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B161-9456-437F-A7B8-B3D1D88B0F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2"/>
          <p:cNvGrpSpPr/>
          <p:nvPr/>
        </p:nvGrpSpPr>
        <p:grpSpPr>
          <a:xfrm>
            <a:off x="380880" y="533520"/>
            <a:ext cx="8457480" cy="5703480"/>
            <a:chOff x="380880" y="533520"/>
            <a:chExt cx="8457480" cy="5703480"/>
          </a:xfrm>
        </p:grpSpPr>
        <p:sp>
          <p:nvSpPr>
            <p:cNvPr id="356" name="AutoShape 3"/>
            <p:cNvSpPr/>
            <p:nvPr/>
          </p:nvSpPr>
          <p:spPr>
            <a:xfrm>
              <a:off x="380880" y="533520"/>
              <a:ext cx="8457480" cy="57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uvegarde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qui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ûts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chat et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dapt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à un nouvea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ystè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Formation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emp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t arg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14" descr="MCj00787140000[1]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Text Box 13"/>
          <p:cNvSpPr/>
          <p:nvPr/>
        </p:nvSpPr>
        <p:spPr>
          <a:xfrm>
            <a:off x="228600" y="5335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convén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7" descr="j0205582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9238-CA6C-4FD4-998C-FF59970D59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pour gérer les données entrantes et sortan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basé sur papier ou informatis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requièrent un cadre similaire, identifiants uniques, formulaires, registres et feuilles de travai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ût est un élément majeur du système informatisé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B587-045B-4B19-832C-A6499E5C68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bon système de gestion de l’information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que toutes les données – produit final du laboratoire – sont bien gér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visagera, lors de la planification, toutes les modalités d’utilisation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’accessibilité, l’exactitude, l’à propos et la sécurité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a confidentialité des données et l’intimité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5355-5CE8-41D5-B8F1-C4458DC0AE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486040" y="1980720"/>
            <a:ext cx="3505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63" descr="bulles_def"/>
          <p:cNvPicPr/>
          <p:nvPr/>
        </p:nvPicPr>
        <p:blipFill>
          <a:blip r:embed="rId1"/>
          <a:stretch/>
        </p:blipFill>
        <p:spPr>
          <a:xfrm>
            <a:off x="4572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DCF6-B782-4F5D-AE74-7EDF6317B5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Vous gérez un laboratoire pour un hôpital de 300 lits et l’administrateur vous a informé que des fonds étaient disponibles pour acheter un système de gestion de laboratoire informatisé. 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mment évalueriez vous la pertinence d’un tel système pour le laboratoire?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4765-5231-4F21-82EE-B9E8601FDE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9" name="Picture 145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2FC2-FC5A-4F21-818A-3BCF252D73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ôle dans 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533520" y="12952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  <a:ea typeface="SimSun"/>
              </a:rPr>
              <a:t>Le résultat d’analyse est le produit final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1447920" y="40384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752480" y="48006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compte-rendu de la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j0433870"/>
          <p:cNvPicPr/>
          <p:nvPr/>
        </p:nvPicPr>
        <p:blipFill>
          <a:blip r:embed="rId1"/>
          <a:stretch/>
        </p:blipFill>
        <p:spPr>
          <a:xfrm>
            <a:off x="1828800" y="4267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4290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3"/>
          <p:cNvSpPr/>
          <p:nvPr/>
        </p:nvSpPr>
        <p:spPr>
          <a:xfrm>
            <a:off x="4038480" y="4876920"/>
            <a:ext cx="2514600" cy="9144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E80D-DF23-414F-BD70-A18CA74E8E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8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e l’inform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8" descr="MCj01885290000[1]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0" descr="MCj01885270000[1]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1"/>
          <p:cNvSpPr/>
          <p:nvPr/>
        </p:nvSpPr>
        <p:spPr>
          <a:xfrm>
            <a:off x="609480" y="2438280"/>
            <a:ext cx="1600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asé sur pa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2"/>
          <p:cNvSpPr/>
          <p:nvPr/>
        </p:nvSpPr>
        <p:spPr>
          <a:xfrm>
            <a:off x="457200" y="58672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lectro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4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tablir des processus pour gérer les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9"/>
          <p:cNvSpPr/>
          <p:nvPr/>
        </p:nvSpPr>
        <p:spPr>
          <a:xfrm>
            <a:off x="2438280" y="3701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Information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0"/>
          <p:cNvSpPr/>
          <p:nvPr/>
        </p:nvSpPr>
        <p:spPr>
          <a:xfrm rot="5400000">
            <a:off x="-1486440" y="2933640"/>
            <a:ext cx="4038840" cy="76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1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2"/>
          <p:cNvSpPr/>
          <p:nvPr/>
        </p:nvSpPr>
        <p:spPr>
          <a:xfrm>
            <a:off x="5257800" y="3429000"/>
            <a:ext cx="3124080" cy="35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û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fident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i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3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4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6" descr="j0433870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847F-2E9F-4BAD-B856-F169AC332E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8"/>
          <p:cNvGrpSpPr/>
          <p:nvPr/>
        </p:nvGrpSpPr>
        <p:grpSpPr>
          <a:xfrm>
            <a:off x="228600" y="609480"/>
            <a:ext cx="8686440" cy="5714640"/>
            <a:chOff x="228600" y="609480"/>
            <a:chExt cx="8686440" cy="5714640"/>
          </a:xfrm>
        </p:grpSpPr>
        <p:sp>
          <p:nvSpPr>
            <p:cNvPr id="170" name="AutoShape 7"/>
            <p:cNvSpPr/>
            <p:nvPr/>
          </p:nvSpPr>
          <p:spPr>
            <a:xfrm>
              <a:off x="228600" y="609480"/>
              <a:ext cx="8686440" cy="57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br>
                <a:rPr sz="2100"/>
              </a:b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efficac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Système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compte rendu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effica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Confidentie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tection des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donné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cessu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vérifica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Registres,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feuille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travai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Formulaire 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deman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standardis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Identifiant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patients,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échantillon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un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26"/>
          <p:cNvSpPr/>
          <p:nvPr/>
        </p:nvSpPr>
        <p:spPr>
          <a:xfrm>
            <a:off x="3124080" y="2590920"/>
            <a:ext cx="312444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Éléments Impor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99F3-EBA9-4566-83C7-5BCE54F918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dentifiants un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3352680"/>
            <a:ext cx="91440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laboratoires doivent assigner des identifiants uniques aux échantillon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de: AAMMJJXXXX - 0905120047 signifie échantillon n° 47 reçu le 12 mai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12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Test_Bracket_patient-safety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4"/>
          <p:cNvSpPr/>
          <p:nvPr/>
        </p:nvSpPr>
        <p:spPr>
          <a:xfrm>
            <a:off x="2819520" y="1523880"/>
            <a:ext cx="243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8B22-65C4-4AD5-B61E-674A78AA26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1" descr="5_sample_reqs"/>
          <p:cNvPicPr/>
          <p:nvPr/>
        </p:nvPicPr>
        <p:blipFill>
          <a:blip r:embed="rId1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rmulaire de 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2" name="Group 19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03" name="Group 20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04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5" name="Group 22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06" name="Line 23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24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25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26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Text Box 27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8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29"/>
          <p:cNvSpPr/>
          <p:nvPr/>
        </p:nvSpPr>
        <p:spPr>
          <a:xfrm>
            <a:off x="5791320" y="4343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xigence I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0" descr="5_req_form"/>
          <p:cNvPicPr/>
          <p:nvPr/>
        </p:nvPicPr>
        <p:blipFill>
          <a:blip r:embed="rId3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5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51:51Z</dcterms:modified>
  <cp:revision>110</cp:revision>
  <dc:subject/>
  <dc:title>Slide 1</dc:title>
</cp:coreProperties>
</file>