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AF86-8114-4C36-A44F-4C9DEC4AB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D68E-276F-4FC8-8E4A-721CDB131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E5E1-2CCA-4348-B8D7-ACD0647CD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4CC6-EB82-4419-89E2-91ECC1F6C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F346-0416-4B79-B482-895AD6359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2B13-08ED-4886-AE69-B2E136787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8654-BF6B-4533-9BEB-B55D1A236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0DDC-9E0A-4693-9BD1-9C46E544F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8E92-5254-438B-BAFB-0497F07D3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EF4C-BD49-40A4-A7E4-356BA98F6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6FEA-7387-42E4-B320-9173E3E44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C7C8-38F6-4E65-8F86-BFD74D89F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438C-A2D2-4348-864D-72EB724FC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2CEA-97C9-4285-8F51-FE7982E44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928F-D8BD-4949-AF11-4DAECC23A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8B17-9489-48F0-B28E-5A9E9DBCC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38CE-C9BD-4940-92E2-AB03F5177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092F-E540-41AD-AF3C-7613E4B2A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C9F9-3AA0-4AB7-A2E1-08759025E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9FF-50F5-4ECD-A88A-DDE2F0D5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D556-5791-4CCE-AC12-9A5D1FCB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A836-659C-45B0-8E52-F592AD58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3457-12C6-4ADE-A5C1-A7C94A5A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FF68-4A68-4FB7-A25C-3AD1C300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CD9A-07EF-4D58-AC1D-FFAD9A98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5E5A-06A5-4EF4-82EA-1F80831C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43A4-938D-4258-9797-F08AC38C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7A63-F6FC-44A8-8D10-9ADE0554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037C-6D5F-4DD9-B941-DAB3BDB7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9B2-D609-4CD4-8E9B-92719F45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D2C-6905-4F2D-934F-169E27FB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FAE1-6894-4482-8D0B-10611A692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rôler l’équipement utilisé au laboratoire en microbiolog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443D-9413-4767-A5D5-AD6A0D011C4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86F0-82BC-499B-801F-65CFE77A72E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ipement - 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r les températures 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ub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rig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gélateu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e fonctionnement 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d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les regi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A937-E49E-49B1-847E-245A987362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2763-54FE-4474-A200-27BE84AE3C1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84560" y="1295280"/>
            <a:ext cx="131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Stériles</a:t>
            </a: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7520" y="4800600"/>
            <a:ext cx="186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É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sécur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es déch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échets contami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0FC1-F8A7-405D-832B-E0DFEE8BD2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ux niveaux de contrôl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chim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bactér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es produits stér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 de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7AFD-C4BD-413E-8B80-534175C343E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A5B8-7F61-472C-9600-55FE1C668A4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ateurs chim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 de stérilisation est vérifiée.  Ne contrôle ni le temps ni la 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8080"/>
                </a:solidFill>
                <a:latin typeface="Arial"/>
              </a:rPr>
              <a:t>Indicateur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, le temps et la pression sont vérifi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indicateur ne garantit pas la stérilisation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autoclave est trop remp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es volumes de bouillon sont trop g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2AF3-6D1B-4E6E-9121-865D6DEFC33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gistr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4CF1-F82E-4C79-A4DE-3DE3083F5D0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763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00400" y="1677960"/>
            <a:ext cx="5562720" cy="3751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Garder les optiques pro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Avoir au moins une optique à immersion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Utiliser les lentilles montées sur res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mettre d’huile sur les opt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permettre à l’échantillon de migrer au dessus de l’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ff32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aff32"/>
                </a:solidFill>
                <a:latin typeface="Arial Narrow"/>
              </a:rPr>
              <a:t>Maintenir le réglage de Köh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dolmazonv</cp:lastModifiedBy>
  <dcterms:modified xsi:type="dcterms:W3CDTF">2010-04-07T14:19:03Z</dcterms:modified>
  <cp:revision>9</cp:revision>
  <dc:subject/>
  <dc:title>Slide 1</dc:title>
</cp:coreProperties>
</file>