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5.png" ContentType="image/png"/>
  <Override PartName="/ppt/media/image12.wmf" ContentType="image/x-wmf"/>
  <Override PartName="/ppt/media/image54.jpeg" ContentType="image/jpeg"/>
  <Override PartName="/ppt/media/image28.jpeg" ContentType="image/jpeg"/>
  <Override PartName="/ppt/media/image23.wmf" ContentType="image/x-wmf"/>
  <Override PartName="/ppt/media/image51.jpeg" ContentType="image/jpeg"/>
  <Override PartName="/ppt/media/image6.png" ContentType="image/png"/>
  <Override PartName="/ppt/media/image29.png" ContentType="image/png"/>
  <Override PartName="/ppt/media/image4.jpeg" ContentType="image/jpeg"/>
  <Override PartName="/ppt/media/image61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26.wmf" ContentType="image/x-wmf"/>
  <Override PartName="/ppt/media/image49.jpeg" ContentType="image/jpeg"/>
  <Override PartName="/ppt/media/image56.wmf" ContentType="image/x-wmf"/>
  <Override PartName="/ppt/media/image22.wmf" ContentType="image/x-wmf"/>
  <Override PartName="/ppt/media/image59.wmf" ContentType="image/x-wmf"/>
  <Override PartName="/ppt/media/image60.png" ContentType="image/png"/>
  <Override PartName="/ppt/media/image21.wmf" ContentType="image/x-wmf"/>
  <Override PartName="/ppt/media/image24.wmf" ContentType="image/x-wmf"/>
  <Override PartName="/ppt/media/image19.wmf" ContentType="image/x-wmf"/>
  <Override PartName="/ppt/media/image17.jpeg" ContentType="image/jpeg"/>
  <Override PartName="/ppt/media/image32.jpeg" ContentType="image/jpeg"/>
  <Override PartName="/ppt/media/image63.png" ContentType="image/png"/>
  <Override PartName="/ppt/media/image20.wmf" ContentType="image/x-wmf"/>
  <Override PartName="/ppt/media/image57.png" ContentType="image/png"/>
  <Override PartName="/ppt/media/image2.jpeg" ContentType="image/jpeg"/>
  <Override PartName="/ppt/media/image36.jpeg" ContentType="image/jpeg"/>
  <Override PartName="/ppt/media/image16.png" ContentType="image/png"/>
  <Override PartName="/ppt/media/image7.jpeg" ContentType="image/jpeg"/>
  <Override PartName="/ppt/media/image38.jpeg" ContentType="image/jpeg"/>
  <Override PartName="/ppt/media/image11.png" ContentType="image/png"/>
  <Override PartName="/ppt/media/image9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8.jpeg" ContentType="image/jpeg"/>
  <Override PartName="/ppt/media/image39.jpeg" ContentType="image/jpeg"/>
  <Override PartName="/ppt/media/image41.wmf" ContentType="image/x-wmf"/>
  <Override PartName="/ppt/media/image62.jpeg" ContentType="image/jpeg"/>
  <Override PartName="/ppt/media/image27.jpeg" ContentType="image/jpeg"/>
  <Override PartName="/ppt/media/image5.wmf" ContentType="image/x-wmf"/>
  <Override PartName="/ppt/media/image10.jpeg" ContentType="image/jpeg"/>
  <Override PartName="/ppt/media/image18.wmf" ContentType="image/x-wmf"/>
  <Override PartName="/ppt/media/image30.jpeg" ContentType="image/jpeg"/>
  <Override PartName="/ppt/media/image31.jpeg" ContentType="image/jpeg"/>
  <Override PartName="/ppt/media/image33.jpeg" ContentType="image/jpeg"/>
  <Override PartName="/ppt/media/image34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6.wmf" ContentType="image/x-wmf"/>
  <Override PartName="/ppt/media/image48.jpeg" ContentType="image/jpeg"/>
  <Override PartName="/ppt/media/image25.wmf" ContentType="image/x-wmf"/>
  <Override PartName="/ppt/media/image47.jpeg" ContentType="image/jpeg"/>
  <Override PartName="/ppt/media/image52.jpeg" ContentType="image/jpeg"/>
  <Override PartName="/ppt/media/image5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6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7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8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C340-9C31-4107-A856-FA5720C45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D992-7901-4F3D-A96B-5368BF484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D1D2-5D5F-49E9-BF90-FB5BD7E5B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69440" y="4175280"/>
            <a:ext cx="644868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DEA6-FF70-4C2A-A8DB-02B1A9A79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6DE3-9DC3-4C99-B93E-773D309F4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502E-BC97-4C1B-9B37-DC256E022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5EDA-2AE5-4150-AA14-3B7B23E95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FBD5-95B8-40C3-AF2B-E1C25B045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8EB2-63D8-4509-9C3F-B4931025E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09EF-3B35-4C81-8C9F-FFB44D9A7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5C9D-44EA-48F5-9BAA-80C2E0374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1832-487F-447E-B43D-50C2424F3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3B4E-89BD-4620-8697-BC1169ACD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5977-F51A-4E4C-B511-6E72DD277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867B-7104-4BE4-9377-FB488FAAB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8438-95FF-4580-81A4-DFFE66822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1C38-DC41-40E2-BA84-1AB232674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0CF8-3CE5-4B06-8CCE-D19D5F9A4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2902-484B-44A4-A869-44C72AE1B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AFBF-EC04-4630-98FB-B06002DF5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4AB9-A359-40B3-B362-23D33976F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3B4D-4A3B-4C08-96FB-4C90D3DC3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0ED8-56E3-4BD7-B26E-83CAFCF12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8286-11F2-40CC-B444-D32107056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167E-C08A-4664-9FB5-E9B4F23B6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F162-0221-44C8-B7B8-E8637B3F3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887E-DF0B-41B7-8463-E46C7CA0E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E2E6-88F0-46BC-841F-A92470734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F650-57C5-45ED-AE05-9856044D6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C5D9-C594-42B2-A788-508B3637F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4F58F-1267-40E7-810C-A902456F74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685F0-0FE2-46D7-A6D7-972D4E9099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2C6C3-3959-47C5-A08C-CF1BCED595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F03D8-85C3-43C2-9C0C-4ABA3635EB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426454-13CB-407D-9779-59D1D98D2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1A8DBF-4FCE-42D8-8B9B-155CE3DE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FD11C-DB86-425F-831B-492E525C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DE6C75-006D-468F-8318-44872C0C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19334-8DA1-4E56-AC77-BAAD87C5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6ABFA-D571-4B69-BC1E-CFC5BB32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860BB8-C5F0-444A-BE98-FBF64BA9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3317D-9B3C-48C8-B46D-616BB25F19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3D93E-4950-48CA-BFAF-6D11FD71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D550E-CFB9-433A-9746-28AE2E41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13EA5F-3EA8-426E-AA52-383E9B4D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B90C2-2359-465C-975A-A19DAC03D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F5B45-E4C1-4720-A521-DF52CBD7F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03CD4-BAA9-44BB-87EF-353D59DEAD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2269B-A8F8-42CF-934B-C87F6EA89C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EEF5D-9449-4E05-B629-3B70E09640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DBA08-8923-4C6C-8F45-B637F1E325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93CA8-59EF-4F16-9A62-ECC531C78A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5105B-35DD-4F16-A035-9E5862B0AA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4127C-D1FF-48DB-976B-E3A00CF09A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22E3-FFF2-4C74-AE8B-008BB2A403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8BBA-02BE-40D5-95EB-EAC1A0AAD0DE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CBCC-41C9-47B2-843B-49F0771551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0.jpeg"/><Relationship Id="rId3" Type="http://schemas.openxmlformats.org/officeDocument/2006/relationships/image" Target="../media/image10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15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17.jpeg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17.jpeg"/><Relationship Id="rId14" Type="http://schemas.openxmlformats.org/officeDocument/2006/relationships/image" Target="../media/image24.wmf"/><Relationship Id="rId15" Type="http://schemas.openxmlformats.org/officeDocument/2006/relationships/image" Target="../media/image25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16"/>
          <p:cNvSpPr/>
          <p:nvPr/>
        </p:nvSpPr>
        <p:spPr>
          <a:xfrm>
            <a:off x="2895480" y="1752480"/>
            <a:ext cx="685800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Verdana"/>
              </a:rPr>
              <a:t>Contrôle des processus:</a:t>
            </a:r>
            <a:br>
              <a:rPr sz="44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Gestion de l’échantil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Espace réservé du pied de page 4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Espace réservé du numéro de diapositive 5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E928-DC60-4CE2-AA61-3F6BA5FCC1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5_collection"/>
          <p:cNvPicPr/>
          <p:nvPr/>
        </p:nvPicPr>
        <p:blipFill>
          <a:blip r:embed="rId1"/>
          <a:stretch/>
        </p:blipFill>
        <p:spPr>
          <a:xfrm>
            <a:off x="2286000" y="2666880"/>
            <a:ext cx="1752480" cy="15242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j0409709"/>
          <p:cNvPicPr/>
          <p:nvPr/>
        </p:nvPicPr>
        <p:blipFill>
          <a:blip r:embed="rId2"/>
          <a:srcRect l="23062" t="0" r="0" b="0"/>
          <a:stretch/>
        </p:blipFill>
        <p:spPr>
          <a:xfrm>
            <a:off x="685800" y="2666880"/>
            <a:ext cx="1752480" cy="151776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6"/>
          <p:cNvSpPr/>
          <p:nvPr/>
        </p:nvSpPr>
        <p:spPr>
          <a:xfrm>
            <a:off x="6400800" y="4343400"/>
            <a:ext cx="251460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Définit un bon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système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d’étique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457200" y="4724280"/>
            <a:ext cx="40384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Vérifie tous</a:t>
            </a:r>
            <a:br>
              <a:rPr sz="2400"/>
            </a:b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 les échantillons -</a:t>
            </a:r>
            <a:br>
              <a:rPr sz="2400"/>
            </a:b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Pré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9"/>
          <p:cNvSpPr/>
          <p:nvPr/>
        </p:nvSpPr>
        <p:spPr>
          <a:xfrm>
            <a:off x="609480" y="1295280"/>
            <a:ext cx="327672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Fournit une information</a:t>
            </a:r>
            <a:br>
              <a:rPr sz="1800"/>
            </a:b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 sur le prélèvement</a:t>
            </a:r>
            <a:br>
              <a:rPr sz="1600"/>
            </a:br>
            <a:r>
              <a:rPr b="1" lang="fr-FR" sz="2000" spc="-1" strike="noStrike">
                <a:solidFill>
                  <a:srgbClr val="ffd911"/>
                </a:solidFill>
                <a:latin typeface="Arial"/>
              </a:rPr>
              <a:t>Quoi- Quand- Com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3"/>
          <a:srcRect l="33286" t="0" r="12802" b="0"/>
          <a:stretch/>
        </p:blipFill>
        <p:spPr>
          <a:xfrm>
            <a:off x="4572000" y="4343400"/>
            <a:ext cx="1657440" cy="1905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3" descr="6215_lores"/>
          <p:cNvPicPr/>
          <p:nvPr/>
        </p:nvPicPr>
        <p:blipFill>
          <a:blip r:embed="rId4"/>
          <a:srcRect l="54291" t="67985" r="18571" b="6579"/>
          <a:stretch/>
        </p:blipFill>
        <p:spPr>
          <a:xfrm>
            <a:off x="4495680" y="2590920"/>
            <a:ext cx="2057400" cy="15238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4"/>
          <p:cNvSpPr/>
          <p:nvPr/>
        </p:nvSpPr>
        <p:spPr>
          <a:xfrm>
            <a:off x="609480" y="53352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s responsabilité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5"/>
          <p:cNvSpPr/>
          <p:nvPr/>
        </p:nvSpPr>
        <p:spPr>
          <a:xfrm rot="10800000">
            <a:off x="3428640" y="5714640"/>
            <a:ext cx="3048120" cy="609480"/>
          </a:xfrm>
          <a:prstGeom prst="rightArrow">
            <a:avLst>
              <a:gd name="adj1" fmla="val 50000"/>
              <a:gd name="adj2" fmla="val 125030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7"/>
          <p:cNvSpPr/>
          <p:nvPr/>
        </p:nvSpPr>
        <p:spPr>
          <a:xfrm>
            <a:off x="4876920" y="1219320"/>
            <a:ext cx="3962160" cy="137160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Fournit des récipient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et consommable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appropri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3733920" y="2286000"/>
            <a:ext cx="1981080" cy="609480"/>
          </a:xfrm>
          <a:prstGeom prst="rightArrow">
            <a:avLst>
              <a:gd name="adj1" fmla="val 50000"/>
              <a:gd name="adj2" fmla="val 81261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9" descr="5_containers"/>
          <p:cNvPicPr/>
          <p:nvPr/>
        </p:nvPicPr>
        <p:blipFill>
          <a:blip r:embed="rId5"/>
          <a:stretch/>
        </p:blipFill>
        <p:spPr>
          <a:xfrm>
            <a:off x="6248520" y="2590920"/>
            <a:ext cx="928440" cy="1523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0" descr="5_swab_packaging"/>
          <p:cNvPicPr/>
          <p:nvPr/>
        </p:nvPicPr>
        <p:blipFill>
          <a:blip r:embed="rId6"/>
          <a:stretch/>
        </p:blipFill>
        <p:spPr>
          <a:xfrm>
            <a:off x="7162920" y="2590920"/>
            <a:ext cx="1218960" cy="152388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16"/>
          <p:cNvSpPr/>
          <p:nvPr/>
        </p:nvSpPr>
        <p:spPr>
          <a:xfrm rot="5400000">
            <a:off x="7505280" y="331488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D207-E42E-40B6-BEDE-E0F3DA836F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5_form"/>
          <p:cNvPicPr/>
          <p:nvPr/>
        </p:nvPicPr>
        <p:blipFill>
          <a:blip r:embed="rId1"/>
          <a:srcRect l="0" t="0" r="1067" b="0"/>
          <a:stretch/>
        </p:blipFill>
        <p:spPr>
          <a:xfrm>
            <a:off x="4114800" y="838080"/>
            <a:ext cx="4718160" cy="563904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mande d’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dentification du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s demand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eure et date du recueil de l’échantill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ource de l’échantillon, si appropri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onnées cliniques, quand indiqu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ordonnées du personnel de soin demandant l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1453-7E48-494B-BA6D-B193F14505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396120" cy="5715000"/>
          </a:xfrm>
          <a:prstGeom prst="rect">
            <a:avLst/>
          </a:prstGeom>
          <a:ln w="0">
            <a:noFill/>
          </a:ln>
        </p:spPr>
      </p:pic>
      <p:sp>
        <p:nvSpPr>
          <p:cNvPr id="237" name="ZoneTexte 4"/>
          <p:cNvSpPr/>
          <p:nvPr/>
        </p:nvSpPr>
        <p:spPr>
          <a:xfrm>
            <a:off x="2286000" y="457200"/>
            <a:ext cx="4952880" cy="520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Formulaire de collection de données du ter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ZoneTexte 5"/>
          <p:cNvSpPr/>
          <p:nvPr/>
        </p:nvSpPr>
        <p:spPr>
          <a:xfrm>
            <a:off x="685800" y="762120"/>
            <a:ext cx="3581280" cy="176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Information générale du pati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Nom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Adress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Pay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Région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Ville/villag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Date du début de la pathologie </a:t>
            </a: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(jj/mm/aa)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ZoneTexte 6"/>
          <p:cNvSpPr/>
          <p:nvPr/>
        </p:nvSpPr>
        <p:spPr>
          <a:xfrm>
            <a:off x="4800600" y="1143000"/>
            <a:ext cx="2590920" cy="1098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N° d’enregistremen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Date de naissance (jj/mm/aa)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Sexe: M ( ) F 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Nationalité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Emploi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ZoneTexte 7"/>
          <p:cNvSpPr/>
          <p:nvPr/>
        </p:nvSpPr>
        <p:spPr>
          <a:xfrm>
            <a:off x="3657600" y="2209680"/>
            <a:ext cx="1905120" cy="246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Spécimens clin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ZoneTexte 8"/>
          <p:cNvSpPr/>
          <p:nvPr/>
        </p:nvSpPr>
        <p:spPr>
          <a:xfrm>
            <a:off x="3276720" y="3792600"/>
            <a:ext cx="25146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Spécimens post-mor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Date du décès (jj/mm/aa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ZoneTexte 9"/>
          <p:cNvSpPr/>
          <p:nvPr/>
        </p:nvSpPr>
        <p:spPr>
          <a:xfrm>
            <a:off x="609480" y="5540400"/>
            <a:ext cx="3581640" cy="85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Nom de la personne remplissant le formulair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Affiliation institutionnel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Coordonnées pour contac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Date (jj/mm/aa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978D-915B-4FE5-8714-106EC8A7E0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xigences pour le prélèv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paration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cation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’échantillon requ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e récipient nécessa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iquetag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ment spécif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cautions de sécur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8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5257800" y="3921120"/>
            <a:ext cx="3886200" cy="18972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410080" y="1295280"/>
            <a:ext cx="3505320" cy="1533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50" name="Picture 12" descr="Test_Bracket_patient-safety"/>
          <p:cNvPicPr/>
          <p:nvPr/>
        </p:nvPicPr>
        <p:blipFill>
          <a:blip r:embed="rId4"/>
          <a:stretch/>
        </p:blipFill>
        <p:spPr>
          <a:xfrm>
            <a:off x="6095880" y="2209680"/>
            <a:ext cx="27432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B928-78A8-4292-8388-5BD3E361B7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1760" y="1219320"/>
            <a:ext cx="3886200" cy="3200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d911"/>
                </a:solidFill>
                <a:latin typeface="Verdana"/>
              </a:rPr>
              <a:t>Donnez des informations sur le prélèvement d’échantill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762120" y="457200"/>
            <a:ext cx="7619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9" descr="5_finger_prick_job_aid"/>
          <p:cNvPicPr/>
          <p:nvPr/>
        </p:nvPicPr>
        <p:blipFill>
          <a:blip r:embed="rId1"/>
          <a:stretch/>
        </p:blipFill>
        <p:spPr>
          <a:xfrm>
            <a:off x="4419720" y="533520"/>
            <a:ext cx="41018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E59D-A675-4D27-8FEC-82365F77E9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87040" y="457200"/>
            <a:ext cx="74055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iquet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Chaque échantillon doit être étiqueté avec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numéro unique d’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nalyse demandé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Heure date d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prélè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itiales de la personn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qui prélè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5943600" y="2895480"/>
            <a:ext cx="3159000" cy="20574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8"/>
          <p:cNvSpPr/>
          <p:nvPr/>
        </p:nvSpPr>
        <p:spPr>
          <a:xfrm>
            <a:off x="380880" y="5486400"/>
            <a:ext cx="7391520" cy="914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Utilisez si possible des codes généré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par informat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" descr="5_label_computer"/>
          <p:cNvPicPr/>
          <p:nvPr/>
        </p:nvPicPr>
        <p:blipFill>
          <a:blip r:embed="rId2"/>
          <a:stretch/>
        </p:blipFill>
        <p:spPr>
          <a:xfrm rot="18014400">
            <a:off x="6765840" y="2835000"/>
            <a:ext cx="8701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4DC8-853D-499E-B2B5-8726B7A629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6" name="AutoShape 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5"/>
            <p:cNvSpPr/>
            <p:nvPr/>
          </p:nvSpPr>
          <p:spPr>
            <a:xfrm>
              <a:off x="12672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uvais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groupag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6"/>
            <p:cNvSpPr/>
            <p:nvPr/>
          </p:nvSpPr>
          <p:spPr>
            <a:xfrm>
              <a:off x="1523880" y="3030480"/>
              <a:ext cx="114264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Test cross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tch mal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étiqueté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7"/>
            <p:cNvSpPr/>
            <p:nvPr/>
          </p:nvSpPr>
          <p:spPr>
            <a:xfrm>
              <a:off x="6095880" y="4146480"/>
              <a:ext cx="1142640" cy="960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tervertion de l’ordre d’admiss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8"/>
            <p:cNvSpPr/>
            <p:nvPr/>
          </p:nvSpPr>
          <p:spPr>
            <a:xfrm>
              <a:off x="304776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9"/>
            <p:cNvSpPr/>
            <p:nvPr/>
          </p:nvSpPr>
          <p:spPr>
            <a:xfrm>
              <a:off x="7492680" y="54226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10"/>
            <p:cNvSpPr/>
            <p:nvPr/>
          </p:nvSpPr>
          <p:spPr>
            <a:xfrm>
              <a:off x="4572000" y="1276200"/>
              <a:ext cx="1143000" cy="959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firmier peu familier de la tâ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11"/>
            <p:cNvSpPr/>
            <p:nvPr/>
          </p:nvSpPr>
          <p:spPr>
            <a:xfrm>
              <a:off x="5968800" y="477720"/>
              <a:ext cx="114264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firmier d’un service différ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12"/>
            <p:cNvSpPr/>
            <p:nvPr/>
          </p:nvSpPr>
          <p:spPr>
            <a:xfrm>
              <a:off x="457200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Instructions verbales fourn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13"/>
            <p:cNvSpPr/>
            <p:nvPr/>
          </p:nvSpPr>
          <p:spPr>
            <a:xfrm>
              <a:off x="5968800" y="3030480"/>
              <a:ext cx="114264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nuel de labo peu facile à trouv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14"/>
            <p:cNvSpPr/>
            <p:nvPr/>
          </p:nvSpPr>
          <p:spPr>
            <a:xfrm>
              <a:off x="5968800" y="1595520"/>
              <a:ext cx="114264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sonnel régulier malade ou abs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15"/>
            <p:cNvSpPr/>
            <p:nvPr/>
          </p:nvSpPr>
          <p:spPr>
            <a:xfrm>
              <a:off x="7365600" y="4146480"/>
              <a:ext cx="12445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élai dans le service d’admis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6"/>
            <p:cNvSpPr/>
            <p:nvPr/>
          </p:nvSpPr>
          <p:spPr>
            <a:xfrm>
              <a:off x="736560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éorganisation des services infirmi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17"/>
            <p:cNvSpPr/>
            <p:nvPr/>
          </p:nvSpPr>
          <p:spPr>
            <a:xfrm>
              <a:off x="6095880" y="5422680"/>
              <a:ext cx="1142640" cy="111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ff0000"/>
                  </a:solidFill>
                  <a:latin typeface="Arial"/>
                </a:rPr>
                <a:t>Échantillons apportés aux infirmi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18"/>
            <p:cNvSpPr/>
            <p:nvPr/>
          </p:nvSpPr>
          <p:spPr>
            <a:xfrm>
              <a:off x="4572000" y="446544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Deux patients prélevé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9"/>
            <p:cNvSpPr/>
            <p:nvPr/>
          </p:nvSpPr>
          <p:spPr>
            <a:xfrm>
              <a:off x="127008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0"/>
            <p:cNvSpPr/>
            <p:nvPr/>
          </p:nvSpPr>
          <p:spPr>
            <a:xfrm>
              <a:off x="266688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1"/>
            <p:cNvSpPr/>
            <p:nvPr/>
          </p:nvSpPr>
          <p:spPr>
            <a:xfrm>
              <a:off x="419076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2"/>
            <p:cNvSpPr/>
            <p:nvPr/>
          </p:nvSpPr>
          <p:spPr>
            <a:xfrm flipV="1">
              <a:off x="4317840" y="1753560"/>
              <a:ext cx="0" cy="1754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3"/>
            <p:cNvSpPr/>
            <p:nvPr/>
          </p:nvSpPr>
          <p:spPr>
            <a:xfrm>
              <a:off x="4317840" y="17539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4"/>
            <p:cNvSpPr/>
            <p:nvPr/>
          </p:nvSpPr>
          <p:spPr>
            <a:xfrm>
              <a:off x="5842080" y="3508200"/>
              <a:ext cx="1080" cy="1276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5"/>
            <p:cNvSpPr/>
            <p:nvPr/>
          </p:nvSpPr>
          <p:spPr>
            <a:xfrm>
              <a:off x="5842080" y="4784760"/>
              <a:ext cx="2538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6"/>
            <p:cNvSpPr/>
            <p:nvPr/>
          </p:nvSpPr>
          <p:spPr>
            <a:xfrm>
              <a:off x="57150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7"/>
            <p:cNvSpPr/>
            <p:nvPr/>
          </p:nvSpPr>
          <p:spPr>
            <a:xfrm>
              <a:off x="71118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28"/>
            <p:cNvSpPr/>
            <p:nvPr/>
          </p:nvSpPr>
          <p:spPr>
            <a:xfrm>
              <a:off x="5842080" y="957240"/>
              <a:ext cx="0" cy="1116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29"/>
            <p:cNvSpPr/>
            <p:nvPr/>
          </p:nvSpPr>
          <p:spPr>
            <a:xfrm>
              <a:off x="5715000" y="159552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30"/>
            <p:cNvSpPr/>
            <p:nvPr/>
          </p:nvSpPr>
          <p:spPr>
            <a:xfrm>
              <a:off x="5842080" y="957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31"/>
            <p:cNvSpPr/>
            <p:nvPr/>
          </p:nvSpPr>
          <p:spPr>
            <a:xfrm>
              <a:off x="5842080" y="2073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32"/>
            <p:cNvSpPr/>
            <p:nvPr/>
          </p:nvSpPr>
          <p:spPr>
            <a:xfrm>
              <a:off x="4317840" y="3508200"/>
              <a:ext cx="0" cy="1435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33"/>
            <p:cNvSpPr/>
            <p:nvPr/>
          </p:nvSpPr>
          <p:spPr>
            <a:xfrm>
              <a:off x="4317840" y="49435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34"/>
            <p:cNvSpPr/>
            <p:nvPr/>
          </p:nvSpPr>
          <p:spPr>
            <a:xfrm>
              <a:off x="7238880" y="4624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35"/>
            <p:cNvSpPr/>
            <p:nvPr/>
          </p:nvSpPr>
          <p:spPr>
            <a:xfrm>
              <a:off x="5079960" y="5422680"/>
              <a:ext cx="0" cy="47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36"/>
            <p:cNvSpPr/>
            <p:nvPr/>
          </p:nvSpPr>
          <p:spPr>
            <a:xfrm>
              <a:off x="5079960" y="5900760"/>
              <a:ext cx="1015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37"/>
            <p:cNvSpPr/>
            <p:nvPr/>
          </p:nvSpPr>
          <p:spPr>
            <a:xfrm>
              <a:off x="7238880" y="590076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AutoShape 38"/>
          <p:cNvSpPr/>
          <p:nvPr/>
        </p:nvSpPr>
        <p:spPr>
          <a:xfrm>
            <a:off x="304920" y="403848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Réacti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ransfusionell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aje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39"/>
          <p:cNvSpPr/>
          <p:nvPr/>
        </p:nvSpPr>
        <p:spPr>
          <a:xfrm>
            <a:off x="4648320" y="5334120"/>
            <a:ext cx="0" cy="91440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40"/>
          <p:cNvSpPr/>
          <p:nvPr/>
        </p:nvSpPr>
        <p:spPr>
          <a:xfrm>
            <a:off x="4114800" y="388620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41"/>
          <p:cNvSpPr/>
          <p:nvPr/>
        </p:nvSpPr>
        <p:spPr>
          <a:xfrm>
            <a:off x="4724280" y="6400800"/>
            <a:ext cx="266724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42"/>
          <p:cNvSpPr/>
          <p:nvPr/>
        </p:nvSpPr>
        <p:spPr>
          <a:xfrm>
            <a:off x="990720" y="4038480"/>
            <a:ext cx="38088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43"/>
          <p:cNvSpPr/>
          <p:nvPr/>
        </p:nvSpPr>
        <p:spPr>
          <a:xfrm>
            <a:off x="5105520" y="5410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5"/>
          <p:cNvSpPr/>
          <p:nvPr/>
        </p:nvSpPr>
        <p:spPr>
          <a:xfrm>
            <a:off x="2743200" y="2971800"/>
            <a:ext cx="1600200" cy="1465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chantillonsnon étiquetés au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ied du 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6"/>
          <p:cNvSpPr/>
          <p:nvPr/>
        </p:nvSpPr>
        <p:spPr>
          <a:xfrm>
            <a:off x="7467480" y="5410080"/>
            <a:ext cx="1524240" cy="85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903"/>
                </a:solidFill>
                <a:latin typeface="Verdana"/>
              </a:rPr>
              <a:t>Mélange des échantill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304920" y="76212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 d’erreur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d’étiquetage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d’échantill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06" descr="test tube with blood"/>
          <p:cNvPicPr/>
          <p:nvPr/>
        </p:nvPicPr>
        <p:blipFill>
          <a:blip r:embed="rId3"/>
          <a:stretch/>
        </p:blipFill>
        <p:spPr>
          <a:xfrm>
            <a:off x="3413160" y="4267080"/>
            <a:ext cx="406440" cy="19051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07" descr="test tube with blood"/>
          <p:cNvPicPr/>
          <p:nvPr/>
        </p:nvPicPr>
        <p:blipFill>
          <a:blip r:embed="rId4"/>
          <a:stretch/>
        </p:blipFill>
        <p:spPr>
          <a:xfrm>
            <a:off x="3886200" y="4572000"/>
            <a:ext cx="406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7D43-E697-41CE-AB81-33EF57E5E7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ésultat d’un mauvais prélè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tards dans le rendu d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itions d’analyses non nécessair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minution de la satisfaction du cl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gmentation des coû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uvais diagnostic/trai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lessur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or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BB2F-50C0-4A2D-BB3C-E0A475F2ED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s pré analyti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6400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Vérif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complétude de la fiche de demande d’analy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 l’échantillon est appropri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informations de l’étiquet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mplir les regist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ppliquer les critères d’acceptation de l’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8" descr="5_label_computer"/>
          <p:cNvPicPr/>
          <p:nvPr/>
        </p:nvPicPr>
        <p:blipFill>
          <a:blip r:embed="rId1"/>
          <a:stretch/>
        </p:blipFill>
        <p:spPr>
          <a:xfrm>
            <a:off x="7238880" y="1219320"/>
            <a:ext cx="990720" cy="37335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j0434713"/>
          <p:cNvPicPr/>
          <p:nvPr/>
        </p:nvPicPr>
        <p:blipFill>
          <a:blip r:embed="rId2"/>
          <a:stretch/>
        </p:blipFill>
        <p:spPr>
          <a:xfrm>
            <a:off x="6781680" y="396252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81B1-1A34-48DB-B108-60DB94D4A5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5_packaging_good"/>
          <p:cNvPicPr/>
          <p:nvPr/>
        </p:nvPicPr>
        <p:blipFill>
          <a:blip r:embed="rId1"/>
          <a:stretch/>
        </p:blipFill>
        <p:spPr>
          <a:xfrm>
            <a:off x="457200" y="914400"/>
            <a:ext cx="4400640" cy="361944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6"/>
          <p:cNvSpPr/>
          <p:nvPr/>
        </p:nvSpPr>
        <p:spPr>
          <a:xfrm>
            <a:off x="4952880" y="4800600"/>
            <a:ext cx="381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ine renversée, une cause de re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457200" y="4724280"/>
            <a:ext cx="4495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chantillons étique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iches de demande complè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8" descr="5_packaging_bad"/>
          <p:cNvPicPr/>
          <p:nvPr/>
        </p:nvPicPr>
        <p:blipFill>
          <a:blip r:embed="rId2"/>
          <a:stretch/>
        </p:blipFill>
        <p:spPr>
          <a:xfrm>
            <a:off x="5181480" y="990720"/>
            <a:ext cx="3353040" cy="3581280"/>
          </a:xfrm>
          <a:prstGeom prst="rect">
            <a:avLst/>
          </a:prstGeom>
          <a:ln w="0">
            <a:noFill/>
          </a:ln>
        </p:spPr>
      </p:pic>
      <p:sp>
        <p:nvSpPr>
          <p:cNvPr id="327" name="Oval 10"/>
          <p:cNvSpPr/>
          <p:nvPr/>
        </p:nvSpPr>
        <p:spPr>
          <a:xfrm>
            <a:off x="6934320" y="3276720"/>
            <a:ext cx="1600200" cy="12189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1997-2BF6-48C6-939A-712BA5D669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A l’issue de cette activité les participants seront en mesure d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Nommer les principales erreurs de recueil des échantillons pouvant conduire à des résultats erroné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ister les informations que devrait contenir le manuel à l’attention de ceux qui recueillent les échantillons en dehors du laboratoi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Fournir les raisons de rejeter les échantillons insatisfaisa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écrire un système de traitement de l’échantillon incluant son recueil, son transport, son stockage et son élimin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Expliquer l’importance de la conservation correcte des échantillons, et de s’assurer que toutes les règles et les exigences liées à son transport sont respecté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5FFC-8CBF-4CBF-ABE7-91A8009054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6" descr="face_phone_results"/>
          <p:cNvPicPr/>
          <p:nvPr/>
        </p:nvPicPr>
        <p:blipFill>
          <a:blip r:embed="rId1"/>
          <a:stretch/>
        </p:blipFill>
        <p:spPr>
          <a:xfrm>
            <a:off x="6781680" y="1173240"/>
            <a:ext cx="2057400" cy="1569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ctions à faire lors du rejet d’un échantill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2" name="Picture 5" descr="5_quanitity_too_low"/>
          <p:cNvPicPr/>
          <p:nvPr/>
        </p:nvPicPr>
        <p:blipFill>
          <a:blip r:embed="rId2"/>
          <a:srcRect l="35893" t="0" r="10768" b="0"/>
          <a:stretch/>
        </p:blipFill>
        <p:spPr>
          <a:xfrm>
            <a:off x="6705720" y="2438280"/>
            <a:ext cx="1800000" cy="38102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FIL19"/>
          <p:cNvPicPr/>
          <p:nvPr/>
        </p:nvPicPr>
        <p:blipFill>
          <a:blip r:embed="rId3"/>
          <a:stretch/>
        </p:blipFill>
        <p:spPr>
          <a:xfrm>
            <a:off x="6858000" y="5029200"/>
            <a:ext cx="2133720" cy="131904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6781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former les personnes autoris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mander un nouvel 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le rej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erver finalement l’échantillon rejeté, en se basant sur des critères pré-établ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façon extraordinaire, analyser les échantillons rejeté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ZoneTexte 8"/>
          <p:cNvSpPr/>
          <p:nvPr/>
        </p:nvSpPr>
        <p:spPr>
          <a:xfrm>
            <a:off x="7848720" y="3429000"/>
            <a:ext cx="114300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E3EC-04AF-41AA-8235-190770D5F2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gistr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9" name="Picture 3" descr="slide 10"/>
          <p:cNvPicPr/>
          <p:nvPr/>
        </p:nvPicPr>
        <p:blipFill>
          <a:blip r:embed="rId1"/>
          <a:srcRect l="0" t="20116" r="0" b="14698"/>
          <a:stretch/>
        </p:blipFill>
        <p:spPr>
          <a:xfrm>
            <a:off x="6019920" y="1523880"/>
            <a:ext cx="2862000" cy="29149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4"/>
          <p:cNvSpPr/>
          <p:nvPr/>
        </p:nvSpPr>
        <p:spPr>
          <a:xfrm>
            <a:off x="380880" y="1379520"/>
            <a:ext cx="693432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registre devrait inclu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et heure de prélè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te heure de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’échantil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 du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dresse, si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cation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sts à effectu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D88B-4DCB-4AA2-A257-8E96D431FB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Manuel de suivi manuel des échantillo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firme la réception des échantillons, inclure date et he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tiqueter correctement, garder les feuilles de demande jusqu’à l’attribution du numéro du lab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ivre les aliquots depuis l’échantillon primai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" name="Picture 9" descr="5_sample_reqs"/>
          <p:cNvPicPr/>
          <p:nvPr/>
        </p:nvPicPr>
        <p:blipFill>
          <a:blip r:embed="rId1"/>
          <a:srcRect l="3908" t="4808" r="10746" b="4808"/>
          <a:stretch/>
        </p:blipFill>
        <p:spPr>
          <a:xfrm>
            <a:off x="4876920" y="3505320"/>
            <a:ext cx="3406680" cy="29318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5_req_form"/>
          <p:cNvPicPr/>
          <p:nvPr/>
        </p:nvPicPr>
        <p:blipFill>
          <a:blip r:embed="rId2"/>
          <a:stretch/>
        </p:blipFill>
        <p:spPr>
          <a:xfrm>
            <a:off x="1143000" y="3962520"/>
            <a:ext cx="2448000" cy="21351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5" descr="5_date_stamp"/>
          <p:cNvPicPr/>
          <p:nvPr/>
        </p:nvPicPr>
        <p:blipFill>
          <a:blip r:embed="rId3"/>
          <a:srcRect l="25601" t="0" r="17067" b="0"/>
          <a:stretch/>
        </p:blipFill>
        <p:spPr>
          <a:xfrm>
            <a:off x="3657600" y="3657600"/>
            <a:ext cx="10652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A939-391B-49E6-B7AC-0AE53C0D0A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uivi électroniqu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champs de la base de donnée incluent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uméro d’ident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formation sur le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et heure de prélèv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ype d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sts à effectu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du prescript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ocalisation du patient (service, unité, extern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ésultats des tests diagnos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et heure de production du compte-rend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444600" y="6192720"/>
            <a:ext cx="84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15F3-7CBA-4786-94D3-392FBE004D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11" descr="5730_lores"/>
          <p:cNvPicPr/>
          <p:nvPr/>
        </p:nvPicPr>
        <p:blipFill>
          <a:blip r:embed="rId1"/>
          <a:stretch/>
        </p:blipFill>
        <p:spPr>
          <a:xfrm>
            <a:off x="2057400" y="2286000"/>
            <a:ext cx="4229280" cy="31608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761760" y="13716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anipuler les échantillons comme si potentiellement infectie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228600" y="6094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ipulation des échantill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9" descr="bio_hazrd_red_blk_cdc"/>
          <p:cNvPicPr/>
          <p:nvPr/>
        </p:nvPicPr>
        <p:blipFill>
          <a:blip r:embed="rId2"/>
          <a:stretch/>
        </p:blipFill>
        <p:spPr>
          <a:xfrm>
            <a:off x="5105520" y="3581280"/>
            <a:ext cx="2895480" cy="2257560"/>
          </a:xfrm>
          <a:prstGeom prst="rect">
            <a:avLst/>
          </a:prstGeom>
          <a:ln w="0">
            <a:noFill/>
          </a:ln>
        </p:spPr>
      </p:pic>
      <p:sp>
        <p:nvSpPr>
          <p:cNvPr id="359" name="WordArt 15"/>
          <p:cNvSpPr txBox="1"/>
          <p:nvPr/>
        </p:nvSpPr>
        <p:spPr>
          <a:xfrm>
            <a:off x="1371600" y="2209680"/>
            <a:ext cx="5943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récautions universelles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D789-91EA-44F2-86EC-D012C17B27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7" descr="storage_fridge"/>
          <p:cNvPicPr/>
          <p:nvPr/>
        </p:nvPicPr>
        <p:blipFill>
          <a:blip r:embed="rId1"/>
          <a:srcRect l="22116" t="14895" r="33173" b="14895"/>
          <a:stretch/>
        </p:blipFill>
        <p:spPr>
          <a:xfrm>
            <a:off x="5791320" y="4286160"/>
            <a:ext cx="2130480" cy="248436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tockage des échantillons : lignes de conduit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t les échantillons à conserv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 le temps de conserv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 le lie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t les bonnes condi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tablit une méthode de rangement des échantill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FB13-A1F0-4E82-91F1-48FCC12E77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5790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9680" indent="-3196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er les lignes de conduite pour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uivre les échantillons stockés, incluant la congélation/décongé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intenir un système organisé et acces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 calendrier de suivi des échantill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des procédures de suiv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9" name="Picture 4" descr="freezer2"/>
          <p:cNvPicPr/>
          <p:nvPr/>
        </p:nvPicPr>
        <p:blipFill>
          <a:blip r:embed="rId1"/>
          <a:stretch/>
        </p:blipFill>
        <p:spPr>
          <a:xfrm>
            <a:off x="5873760" y="1981080"/>
            <a:ext cx="31161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60FB-4F71-4F36-A209-F3D564A36A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férer un échantill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registr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échantillons référé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date de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nom de la personne à qui on a référé l’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ivre et enregistr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délai de rendu du résult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remise des résultats (du laboratoire de référence, au prescripteu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problèmes liés à la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4" name="Picture 5" descr="4_log_book"/>
          <p:cNvPicPr/>
          <p:nvPr/>
        </p:nvPicPr>
        <p:blipFill>
          <a:blip r:embed="rId1"/>
          <a:stretch/>
        </p:blipFill>
        <p:spPr>
          <a:xfrm>
            <a:off x="5943600" y="380880"/>
            <a:ext cx="289548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B25A-CA58-4A69-AB02-2BAF9D234A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5867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limination des déche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des lignes de conduites pour l’élimination des déch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 accord avec les régulations locales et nation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de désinf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5" descr="biohazard_bag"/>
          <p:cNvPicPr/>
          <p:nvPr/>
        </p:nvPicPr>
        <p:blipFill>
          <a:blip r:embed="rId1"/>
          <a:stretch/>
        </p:blipFill>
        <p:spPr>
          <a:xfrm>
            <a:off x="3657600" y="4267080"/>
            <a:ext cx="2286000" cy="20653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autoclave_cdc"/>
          <p:cNvPicPr/>
          <p:nvPr/>
        </p:nvPicPr>
        <p:blipFill>
          <a:blip r:embed="rId2"/>
          <a:srcRect l="20571" t="0" r="5143" b="12552"/>
          <a:stretch/>
        </p:blipFill>
        <p:spPr>
          <a:xfrm>
            <a:off x="609480" y="4191120"/>
            <a:ext cx="2667240" cy="21430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8" descr="MCj03266380000[1]"/>
          <p:cNvPicPr/>
          <p:nvPr/>
        </p:nvPicPr>
        <p:blipFill>
          <a:blip r:embed="rId3"/>
          <a:stretch/>
        </p:blipFill>
        <p:spPr>
          <a:xfrm>
            <a:off x="6019920" y="4267080"/>
            <a:ext cx="250488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9DF4-4A82-46E9-8839-732828F8DF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ransport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1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ir l’intégrité des échantillons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mpératu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ervation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ainers spéciaux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imitations de duré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specter les régulation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e sécur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6" name="Picture 4" descr="5_sample_transport_priority"/>
          <p:cNvPicPr/>
          <p:nvPr/>
        </p:nvPicPr>
        <p:blipFill>
          <a:blip r:embed="rId1"/>
          <a:srcRect l="0" t="0" r="0" b="7285"/>
          <a:stretch/>
        </p:blipFill>
        <p:spPr>
          <a:xfrm>
            <a:off x="6019920" y="3886200"/>
            <a:ext cx="23540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5B39-1C2B-4B3B-83C9-9DFD58FABA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09320" y="4495680"/>
            <a:ext cx="6782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Qu’allez vous vérifier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Que ferez vou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9" descr="MCj04377970000[1]"/>
          <p:cNvPicPr/>
          <p:nvPr/>
        </p:nvPicPr>
        <p:blipFill>
          <a:blip r:embed="rId1"/>
          <a:stretch/>
        </p:blipFill>
        <p:spPr>
          <a:xfrm>
            <a:off x="609480" y="4267080"/>
            <a:ext cx="1981440" cy="17827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0"/>
          <p:cNvSpPr/>
          <p:nvPr/>
        </p:nvSpPr>
        <p:spPr>
          <a:xfrm>
            <a:off x="380880" y="457200"/>
            <a:ext cx="8610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cénario: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Votre laboratoire a réalisé des PCR sur des échantillons de la clinique A pour détecter le virus grippal. La plupart des tests sont négatifs. Le personnel de la clinique A vous dit que leurs patients présentent les signes cliniques de la grippe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30FE-8CD6-4B2E-A756-020F55C4AC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"/>
          <p:cNvSpPr/>
          <p:nvPr/>
        </p:nvSpPr>
        <p:spPr>
          <a:xfrm>
            <a:off x="380880" y="533520"/>
            <a:ext cx="81536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égulation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D’ou proviennent-ell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Qui les développ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-99720" y="2971800"/>
            <a:ext cx="7986240" cy="2439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Régulations nationale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Régulations ICAO/IATA (a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Agences pour rail, route et 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Services post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Courriers priv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387C-8BC0-4C8F-9670-31D21FE762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380880" y="533520"/>
            <a:ext cx="8153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gulations de trans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457200" y="1219320"/>
            <a:ext cx="8381880" cy="4876200"/>
            <a:chOff x="457200" y="1219320"/>
            <a:chExt cx="8381880" cy="4876200"/>
          </a:xfrm>
        </p:grpSpPr>
        <p:sp>
          <p:nvSpPr>
            <p:cNvPr id="395" name="AutoShape 4"/>
            <p:cNvSpPr/>
            <p:nvPr/>
          </p:nvSpPr>
          <p:spPr>
            <a:xfrm>
              <a:off x="457200" y="1219320"/>
              <a:ext cx="8381880" cy="48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6" name="_s178188"/>
            <p:cNvCxnSpPr>
              <a:stCxn id="397" idx="1"/>
              <a:endCxn id="398" idx="2"/>
            </p:cNvCxnSpPr>
            <p:nvPr/>
          </p:nvCxnSpPr>
          <p:spPr>
            <a:xfrm rot="10800000">
              <a:off x="2971080" y="2106000"/>
              <a:ext cx="838800" cy="35463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399" name="_s178187"/>
            <p:cNvCxnSpPr>
              <a:stCxn id="400" idx="1"/>
              <a:endCxn id="398" idx="2"/>
            </p:cNvCxnSpPr>
            <p:nvPr/>
          </p:nvCxnSpPr>
          <p:spPr>
            <a:xfrm rot="10800000">
              <a:off x="2971080" y="2106000"/>
              <a:ext cx="838800" cy="22154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01" name="_s178186"/>
            <p:cNvCxnSpPr>
              <a:stCxn id="402" idx="1"/>
              <a:endCxn id="398" idx="2"/>
            </p:cNvCxnSpPr>
            <p:nvPr/>
          </p:nvCxnSpPr>
          <p:spPr>
            <a:xfrm rot="10800000">
              <a:off x="2971080" y="2106000"/>
              <a:ext cx="838800" cy="88632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398" name="_s178182"/>
            <p:cNvSpPr/>
            <p:nvPr/>
          </p:nvSpPr>
          <p:spPr>
            <a:xfrm>
              <a:off x="457200" y="1219320"/>
              <a:ext cx="5029200" cy="887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Respect obligatoi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_s178183"/>
            <p:cNvSpPr/>
            <p:nvPr/>
          </p:nvSpPr>
          <p:spPr>
            <a:xfrm>
              <a:off x="3809880" y="2549880"/>
              <a:ext cx="5029200" cy="88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Viol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_s178184"/>
            <p:cNvSpPr/>
            <p:nvPr/>
          </p:nvSpPr>
          <p:spPr>
            <a:xfrm>
              <a:off x="3809880" y="3879000"/>
              <a:ext cx="5029200" cy="88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But : réduire les risqu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’accident/de renver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_s178185"/>
            <p:cNvSpPr/>
            <p:nvPr/>
          </p:nvSpPr>
          <p:spPr>
            <a:xfrm>
              <a:off x="3809880" y="5208120"/>
              <a:ext cx="5029200" cy="887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Sécurité du courrier, du labo,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es employés, passagers, etc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3" name="Picture 17" descr="bio_hazrd_red_cdc"/>
            <p:cNvPicPr/>
            <p:nvPr/>
          </p:nvPicPr>
          <p:blipFill>
            <a:blip r:embed="rId1"/>
            <a:stretch/>
          </p:blipFill>
          <p:spPr>
            <a:xfrm>
              <a:off x="3048120" y="4647240"/>
              <a:ext cx="761760" cy="7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4" name="AutoShape 13"/>
          <p:cNvSpPr/>
          <p:nvPr/>
        </p:nvSpPr>
        <p:spPr>
          <a:xfrm>
            <a:off x="5715000" y="2666880"/>
            <a:ext cx="838080" cy="6858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14" descr="j0424198"/>
          <p:cNvPicPr/>
          <p:nvPr/>
        </p:nvPicPr>
        <p:blipFill>
          <a:blip r:embed="rId2"/>
          <a:stretch/>
        </p:blipFill>
        <p:spPr>
          <a:xfrm>
            <a:off x="6705720" y="2133720"/>
            <a:ext cx="22096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7D6C-06A6-4164-A593-697B801C5B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228600" y="45720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lassification des substances infectie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-334800" y="1371600"/>
            <a:ext cx="93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ouvelle Classification en 2005, basée sur deux catégori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228600" y="1981080"/>
            <a:ext cx="876312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Catégorie A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ubstance infectieuses capables de cause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n handicap perma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s maladies menaçant la vie des humains et des anima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mballag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: triple emballage de très bonne qualité, et la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ocumentation complète de transport de marchandises dangere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rmation du personnel d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83DC-656D-41DE-A0A1-ECA7043A6D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380880" y="4572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Arial"/>
              </a:rPr>
              <a:t>Classification des substances infectie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533520" y="1752480"/>
            <a:ext cx="8305560" cy="44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</a:rPr>
              <a:t>Catégorie B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ubstances infectieuses non inclues dans la catégori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iple emballage moins dras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 de documentation liée aux marchandises dangereuses n’est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C7B8-75D9-467F-A1D9-4598E26DCE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"/>
          <p:cNvSpPr/>
          <p:nvPr/>
        </p:nvSpPr>
        <p:spPr>
          <a:xfrm>
            <a:off x="0" y="6019920"/>
            <a:ext cx="917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7d"/>
                </a:solidFill>
                <a:latin typeface="Verdana"/>
              </a:rPr>
              <a:t>14</a:t>
            </a:r>
            <a:r>
              <a:rPr b="1" lang="fr-FR" sz="1400" spc="-1" strike="noStrike" baseline="30000">
                <a:solidFill>
                  <a:srgbClr val="00007d"/>
                </a:solidFill>
                <a:latin typeface="Verdana"/>
              </a:rPr>
              <a:t>th</a:t>
            </a:r>
            <a:r>
              <a:rPr b="1" lang="fr-FR" sz="1400" spc="-1" strike="noStrike">
                <a:solidFill>
                  <a:srgbClr val="00007d"/>
                </a:solidFill>
                <a:latin typeface="Verdana"/>
              </a:rPr>
              <a:t> ed (rev) of UN Model Regulations for the Transport of Infectious Substances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"/>
          <p:cNvSpPr/>
          <p:nvPr/>
        </p:nvSpPr>
        <p:spPr>
          <a:xfrm>
            <a:off x="762120" y="609480"/>
            <a:ext cx="52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457200" y="1447920"/>
            <a:ext cx="84582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ne contenant pas de substances infectie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contenant des organismes non pathogè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contenant des pathogènes neutralisés ou inactiv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chantillons environnementaux ne posant pas de risques infecti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ang ou composant sanguins prélevés pour transf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issus ou organes prélevés pour transpla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ests de dépistage sur sang ou selles séch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échets médicaux décontamin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8048-69D1-4D9C-B44A-E52FF4F5FD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609480" y="0"/>
            <a:ext cx="67834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riple emballage (UN 200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"/>
          <p:cNvSpPr/>
          <p:nvPr/>
        </p:nvSpPr>
        <p:spPr>
          <a:xfrm>
            <a:off x="2455920" y="2921040"/>
            <a:ext cx="739800" cy="81288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355680" y="2030400"/>
            <a:ext cx="268272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s pression 95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rig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de chute 9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pénétration 7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rquage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ocumentation DG complè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3440160" y="2030400"/>
            <a:ext cx="2732040" cy="37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s pression 95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rig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de chute 1,2 mè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étiquette 33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6" descr="UNMARK98"/>
          <p:cNvPicPr/>
          <p:nvPr/>
        </p:nvPicPr>
        <p:blipFill>
          <a:blip r:embed="rId1"/>
          <a:stretch/>
        </p:blipFill>
        <p:spPr>
          <a:xfrm>
            <a:off x="1600200" y="5867280"/>
            <a:ext cx="1481040" cy="324000"/>
          </a:xfrm>
          <a:prstGeom prst="rect">
            <a:avLst/>
          </a:prstGeom>
          <a:ln w="0">
            <a:noFill/>
          </a:ln>
        </p:spPr>
      </p:pic>
      <p:sp>
        <p:nvSpPr>
          <p:cNvPr id="429" name="Line 7"/>
          <p:cNvSpPr/>
          <p:nvPr/>
        </p:nvSpPr>
        <p:spPr>
          <a:xfrm>
            <a:off x="3354480" y="1368360"/>
            <a:ext cx="0" cy="4227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8"/>
          <p:cNvSpPr/>
          <p:nvPr/>
        </p:nvSpPr>
        <p:spPr>
          <a:xfrm>
            <a:off x="415800" y="2081160"/>
            <a:ext cx="82663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9"/>
          <p:cNvSpPr/>
          <p:nvPr/>
        </p:nvSpPr>
        <p:spPr>
          <a:xfrm>
            <a:off x="-23760" y="1454040"/>
            <a:ext cx="33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tégorie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3497400" y="1459080"/>
            <a:ext cx="241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tégori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1"/>
          <p:cNvSpPr/>
          <p:nvPr/>
        </p:nvSpPr>
        <p:spPr>
          <a:xfrm>
            <a:off x="5105520" y="5334120"/>
            <a:ext cx="741240" cy="81252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2"/>
          <p:cNvSpPr/>
          <p:nvPr/>
        </p:nvSpPr>
        <p:spPr>
          <a:xfrm>
            <a:off x="5083920" y="4700520"/>
            <a:ext cx="63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UN 337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3" descr="biohazard symbol II"/>
          <p:cNvPicPr/>
          <p:nvPr/>
        </p:nvPicPr>
        <p:blipFill>
          <a:blip r:embed="rId2"/>
          <a:stretch/>
        </p:blipFill>
        <p:spPr>
          <a:xfrm>
            <a:off x="2738520" y="2948040"/>
            <a:ext cx="183960" cy="19836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4"/>
          <p:cNvSpPr/>
          <p:nvPr/>
        </p:nvSpPr>
        <p:spPr>
          <a:xfrm>
            <a:off x="2719080" y="33526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5"/>
          <p:cNvSpPr/>
          <p:nvPr/>
        </p:nvSpPr>
        <p:spPr>
          <a:xfrm>
            <a:off x="6246720" y="1366920"/>
            <a:ext cx="0" cy="4227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6"/>
          <p:cNvSpPr/>
          <p:nvPr/>
        </p:nvSpPr>
        <p:spPr>
          <a:xfrm>
            <a:off x="6401520" y="1403280"/>
            <a:ext cx="260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pécimens humain ou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animaux exonér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7"/>
          <p:cNvSpPr/>
          <p:nvPr/>
        </p:nvSpPr>
        <p:spPr>
          <a:xfrm>
            <a:off x="6370560" y="2031840"/>
            <a:ext cx="2617920" cy="37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adap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5742-9BB5-47DF-B12E-9F31A7C1B7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atégorie 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43" name="Picture 3" descr="5_packaging_category_a_infectious_substances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523880" y="762120"/>
            <a:ext cx="7086600" cy="5629320"/>
          </a:xfrm>
          <a:prstGeom prst="rect">
            <a:avLst/>
          </a:prstGeom>
          <a:ln w="0">
            <a:noFill/>
          </a:ln>
        </p:spPr>
      </p:pic>
      <p:sp>
        <p:nvSpPr>
          <p:cNvPr id="444" name="ZoneTexte 5"/>
          <p:cNvSpPr/>
          <p:nvPr/>
        </p:nvSpPr>
        <p:spPr>
          <a:xfrm>
            <a:off x="4800600" y="97308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ZoneTexte 6"/>
          <p:cNvSpPr/>
          <p:nvPr/>
        </p:nvSpPr>
        <p:spPr>
          <a:xfrm>
            <a:off x="4876920" y="1295280"/>
            <a:ext cx="17524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tériel absorbant (pour les liquid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ZoneTexte 7"/>
          <p:cNvSpPr/>
          <p:nvPr/>
        </p:nvSpPr>
        <p:spPr>
          <a:xfrm>
            <a:off x="4800600" y="2573280"/>
            <a:ext cx="1066680" cy="246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Couver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ZoneTexte 8"/>
          <p:cNvSpPr/>
          <p:nvPr/>
        </p:nvSpPr>
        <p:spPr>
          <a:xfrm>
            <a:off x="4952880" y="3809880"/>
            <a:ext cx="1067040" cy="70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rque d’orientation du paqu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ZoneTexte 9"/>
          <p:cNvSpPr/>
          <p:nvPr/>
        </p:nvSpPr>
        <p:spPr>
          <a:xfrm>
            <a:off x="4800600" y="4495680"/>
            <a:ext cx="10666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rqua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U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ZoneTexte 10"/>
          <p:cNvSpPr/>
          <p:nvPr/>
        </p:nvSpPr>
        <p:spPr>
          <a:xfrm>
            <a:off x="4343400" y="5334120"/>
            <a:ext cx="1066680" cy="85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Identification de l’expéditeur et recev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ZoneTexte 11"/>
          <p:cNvSpPr/>
          <p:nvPr/>
        </p:nvSpPr>
        <p:spPr>
          <a:xfrm>
            <a:off x="1981080" y="5105520"/>
            <a:ext cx="106704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Nom du transporteur et n° 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ZoneTexte 12"/>
          <p:cNvSpPr/>
          <p:nvPr/>
        </p:nvSpPr>
        <p:spPr>
          <a:xfrm>
            <a:off x="1905120" y="4398840"/>
            <a:ext cx="1066680" cy="70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Etiquette de 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ZoneTexte 13"/>
          <p:cNvSpPr/>
          <p:nvPr/>
        </p:nvSpPr>
        <p:spPr>
          <a:xfrm>
            <a:off x="1447920" y="396252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Paquet rigide exter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ZoneTexte 14"/>
          <p:cNvSpPr/>
          <p:nvPr/>
        </p:nvSpPr>
        <p:spPr>
          <a:xfrm>
            <a:off x="1371600" y="2725560"/>
            <a:ext cx="19810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Paquet secondaire étanc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ZoneTexte 15"/>
          <p:cNvSpPr/>
          <p:nvPr/>
        </p:nvSpPr>
        <p:spPr>
          <a:xfrm>
            <a:off x="380880" y="1352520"/>
            <a:ext cx="304812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Réceptacle primaire étanche Verre, métal ou plast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ZoneTexte 16"/>
          <p:cNvSpPr/>
          <p:nvPr/>
        </p:nvSpPr>
        <p:spPr>
          <a:xfrm>
            <a:off x="6095880" y="2514600"/>
            <a:ext cx="152424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Section 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sagittale</a:t>
            </a: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 du paqu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ZoneTexte 17"/>
          <p:cNvSpPr/>
          <p:nvPr/>
        </p:nvSpPr>
        <p:spPr>
          <a:xfrm>
            <a:off x="7467480" y="434340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ZoneTexte 18"/>
          <p:cNvSpPr/>
          <p:nvPr/>
        </p:nvSpPr>
        <p:spPr>
          <a:xfrm>
            <a:off x="7467480" y="5238720"/>
            <a:ext cx="83844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térie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absorba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ZoneTexte 19"/>
          <p:cNvSpPr/>
          <p:nvPr/>
        </p:nvSpPr>
        <p:spPr>
          <a:xfrm>
            <a:off x="7620120" y="4724280"/>
            <a:ext cx="99036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Etiquette ID spéci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ZoneTexte 20"/>
          <p:cNvSpPr/>
          <p:nvPr/>
        </p:nvSpPr>
        <p:spPr>
          <a:xfrm>
            <a:off x="7543800" y="3809880"/>
            <a:ext cx="10666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Fermeture hermét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77D4-B40E-49D2-800F-8B7D41A650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Gestion du transport des échantillo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specter toutes les régul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ormer le personnel pour toutes les procé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’échantillon est protégé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mpératu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urée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mballage et conser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5155-E85C-4524-B7DA-B77C024CCD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ournir un manuel de prélèvement du laboratoire incluant l’information sur les prélèv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sséder un système de suivi des échantillons dans le labora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et mettre en place une ligne de conduite pour le stockage et l’élimination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intenir l’intégrité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du respect de toutes les régulations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0000"/>
                </a:solidFill>
                <a:latin typeface="Verdana"/>
              </a:rPr>
              <a:t>Toujours suivre les précautions universel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AB44-0469-473A-A949-E04F38F475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laboratoire doit obtenir de bons échantillons afin d’assurer justesse et fiabilité des tests et la confiance dans l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qualité de la gestion des échantillons affecte directement la santé des 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EC01-4FE4-4854-9177-326DC1107C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4" name="Picture 14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2514600" y="137160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8C03-DBB3-40AF-A3E2-6E6E28C76E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409720" y="457200"/>
            <a:ext cx="350532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75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533520" y="1066680"/>
            <a:ext cx="464796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9DF3-4EE3-43B1-9A30-EACC198C63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52280" y="533520"/>
            <a:ext cx="876312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 qualité du résultat d’analyse dépend de la qualité de l’échantillon reçu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33520" y="60948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828800" y="56386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j0177963"/>
          <p:cNvPicPr/>
          <p:nvPr/>
        </p:nvPicPr>
        <p:blipFill>
          <a:blip r:embed="rId1"/>
          <a:stretch/>
        </p:blipFill>
        <p:spPr>
          <a:xfrm>
            <a:off x="4800600" y="27432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j0400583"/>
          <p:cNvPicPr/>
          <p:nvPr/>
        </p:nvPicPr>
        <p:blipFill>
          <a:blip r:embed="rId2"/>
          <a:stretch/>
        </p:blipFill>
        <p:spPr>
          <a:xfrm>
            <a:off x="1447920" y="2362320"/>
            <a:ext cx="249552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EF10-FC0C-4DDA-879B-FE18385009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228600" y="533520"/>
            <a:ext cx="8915040" cy="5866920"/>
            <a:chOff x="228600" y="533520"/>
            <a:chExt cx="8915040" cy="5866920"/>
          </a:xfrm>
        </p:grpSpPr>
        <p:sp>
          <p:nvSpPr>
            <p:cNvPr id="155" name="AutoShape 4"/>
            <p:cNvSpPr/>
            <p:nvPr/>
          </p:nvSpPr>
          <p:spPr>
            <a:xfrm>
              <a:off x="228600" y="533520"/>
              <a:ext cx="8915040" cy="58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9" descr="elderly_patient_doc"/>
            <p:cNvPicPr/>
            <p:nvPr/>
          </p:nvPicPr>
          <p:blipFill>
            <a:blip r:embed="rId1"/>
            <a:stretch/>
          </p:blipFill>
          <p:spPr>
            <a:xfrm>
              <a:off x="6094800" y="4114080"/>
              <a:ext cx="1852560" cy="22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48" descr="blood_collection"/>
            <p:cNvPicPr/>
            <p:nvPr/>
          </p:nvPicPr>
          <p:blipFill>
            <a:blip r:embed="rId2"/>
            <a:stretch/>
          </p:blipFill>
          <p:spPr>
            <a:xfrm>
              <a:off x="988920" y="1219320"/>
              <a:ext cx="2394720" cy="163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_s112681"/>
            <p:cNvSpPr/>
            <p:nvPr/>
          </p:nvSpPr>
          <p:spPr>
            <a:xfrm flipH="1">
              <a:off x="253152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12653"/>
            <p:cNvSpPr/>
            <p:nvPr/>
          </p:nvSpPr>
          <p:spPr>
            <a:xfrm>
              <a:off x="383760" y="2764080"/>
              <a:ext cx="2150640" cy="1409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fluenc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’efficacité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u laboratoi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12680"/>
            <p:cNvSpPr/>
            <p:nvPr/>
          </p:nvSpPr>
          <p:spPr>
            <a:xfrm>
              <a:off x="4686120" y="4171680"/>
              <a:ext cx="0" cy="707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112651"/>
            <p:cNvSpPr/>
            <p:nvPr/>
          </p:nvSpPr>
          <p:spPr>
            <a:xfrm>
              <a:off x="3611520" y="4879440"/>
              <a:ext cx="215136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ffec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irectement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es soi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au pati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112679"/>
            <p:cNvSpPr/>
            <p:nvPr/>
          </p:nvSpPr>
          <p:spPr>
            <a:xfrm>
              <a:off x="576036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12649"/>
            <p:cNvSpPr/>
            <p:nvPr/>
          </p:nvSpPr>
          <p:spPr>
            <a:xfrm>
              <a:off x="6840360" y="2764080"/>
              <a:ext cx="2151360" cy="1409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fluenc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es décisio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thérapeutiqu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12678"/>
            <p:cNvSpPr/>
            <p:nvPr/>
          </p:nvSpPr>
          <p:spPr>
            <a:xfrm flipV="1">
              <a:off x="4686120" y="2056320"/>
              <a:ext cx="0" cy="7074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12647"/>
            <p:cNvSpPr/>
            <p:nvPr/>
          </p:nvSpPr>
          <p:spPr>
            <a:xfrm>
              <a:off x="3611520" y="648720"/>
              <a:ext cx="2151360" cy="14094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Essentiel pour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 un diagnostic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 exac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12646"/>
            <p:cNvSpPr/>
            <p:nvPr/>
          </p:nvSpPr>
          <p:spPr>
            <a:xfrm>
              <a:off x="3611520" y="2764080"/>
              <a:ext cx="2151360" cy="14094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Good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ample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Rectangle 46"/>
          <p:cNvSpPr/>
          <p:nvPr/>
        </p:nvSpPr>
        <p:spPr>
          <a:xfrm>
            <a:off x="3048120" y="2514600"/>
            <a:ext cx="3276360" cy="1905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7"/>
          <p:cNvSpPr/>
          <p:nvPr/>
        </p:nvSpPr>
        <p:spPr>
          <a:xfrm>
            <a:off x="3352680" y="2743200"/>
            <a:ext cx="2895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d911"/>
                </a:solidFill>
                <a:latin typeface="Verdana"/>
              </a:rPr>
              <a:t>Une bonne gestion de l’échantil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52FF-B462-438F-8DF0-2974DCBBE9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7" descr="j0404235"/>
          <p:cNvPicPr/>
          <p:nvPr/>
        </p:nvPicPr>
        <p:blipFill>
          <a:blip r:embed="rId1"/>
          <a:stretch/>
        </p:blipFill>
        <p:spPr>
          <a:xfrm>
            <a:off x="5562720" y="5486400"/>
            <a:ext cx="1044360" cy="1141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4" descr="5-sample_containers"/>
          <p:cNvPicPr/>
          <p:nvPr/>
        </p:nvPicPr>
        <p:blipFill>
          <a:blip r:embed="rId2"/>
          <a:srcRect l="0" t="27693" r="0" b="0"/>
          <a:stretch/>
        </p:blipFill>
        <p:spPr>
          <a:xfrm>
            <a:off x="5638680" y="838080"/>
            <a:ext cx="1536840" cy="1193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5" descr="6216_thumb"/>
          <p:cNvPicPr/>
          <p:nvPr/>
        </p:nvPicPr>
        <p:blipFill>
          <a:blip r:embed="rId3"/>
          <a:stretch/>
        </p:blipFill>
        <p:spPr>
          <a:xfrm>
            <a:off x="7315200" y="1447920"/>
            <a:ext cx="1398600" cy="9093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posant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6" descr="5_req_form"/>
          <p:cNvPicPr/>
          <p:nvPr/>
        </p:nvPicPr>
        <p:blipFill>
          <a:blip r:embed="rId4"/>
          <a:stretch/>
        </p:blipFill>
        <p:spPr>
          <a:xfrm>
            <a:off x="533520" y="1219320"/>
            <a:ext cx="1676160" cy="146340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8"/>
          <p:cNvGrpSpPr/>
          <p:nvPr/>
        </p:nvGrpSpPr>
        <p:grpSpPr>
          <a:xfrm>
            <a:off x="1066680" y="762120"/>
            <a:ext cx="7626600" cy="5663880"/>
            <a:chOff x="1066680" y="762120"/>
            <a:chExt cx="7626600" cy="5663880"/>
          </a:xfrm>
        </p:grpSpPr>
        <p:sp>
          <p:nvSpPr>
            <p:cNvPr id="178" name="AutoShape 7"/>
            <p:cNvSpPr/>
            <p:nvPr/>
          </p:nvSpPr>
          <p:spPr>
            <a:xfrm>
              <a:off x="1066680" y="762120"/>
              <a:ext cx="7619760" cy="56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Picture 48" descr="universal biohazard symbol"/>
            <p:cNvPicPr/>
            <p:nvPr/>
          </p:nvPicPr>
          <p:blipFill>
            <a:blip r:embed="rId5"/>
            <a:srcRect l="6982" t="0" r="0" b="0"/>
            <a:stretch/>
          </p:blipFill>
          <p:spPr>
            <a:xfrm rot="21392400">
              <a:off x="7696800" y="2743560"/>
              <a:ext cx="968040" cy="9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_s9256"/>
            <p:cNvSpPr/>
            <p:nvPr/>
          </p:nvSpPr>
          <p:spPr>
            <a:xfrm flipH="1" flipV="1">
              <a:off x="3309840" y="292284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9255"/>
            <p:cNvSpPr/>
            <p:nvPr/>
          </p:nvSpPr>
          <p:spPr>
            <a:xfrm>
              <a:off x="1622160" y="19191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200"/>
              </a:br>
              <a:r>
                <a:rPr b="0" lang="fr-FR" sz="2200" spc="-1" strike="noStrike">
                  <a:solidFill>
                    <a:srgbClr val="ffd911"/>
                  </a:solidFill>
                  <a:latin typeface="Verdana"/>
                </a:rPr>
                <a:t> </a:t>
              </a:r>
              <a:r>
                <a:rPr b="0" lang="fr-FR" sz="2200" spc="-1" strike="noStrike">
                  <a:solidFill>
                    <a:srgbClr val="00007d"/>
                  </a:solidFill>
                  <a:latin typeface="Verdana"/>
                </a:rPr>
                <a:t>Information </a:t>
              </a:r>
              <a:br>
                <a:rPr sz="2200"/>
              </a:br>
              <a:r>
                <a:rPr b="0" lang="fr-FR" sz="2200" spc="-1" strike="noStrike">
                  <a:solidFill>
                    <a:srgbClr val="00007d"/>
                  </a:solidFill>
                  <a:latin typeface="Verdana"/>
                </a:rPr>
                <a:t>nécessaire</a:t>
              </a:r>
              <a:r>
                <a:rPr b="0" lang="fr-FR" sz="2200" spc="-1" strike="noStrike">
                  <a:solidFill>
                    <a:srgbClr val="ffd911"/>
                  </a:solidFill>
                  <a:latin typeface="Verdana"/>
                </a:rPr>
                <a:t> </a:t>
              </a:r>
              <a:br>
                <a:rPr sz="2200"/>
              </a:b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9254"/>
            <p:cNvSpPr/>
            <p:nvPr/>
          </p:nvSpPr>
          <p:spPr>
            <a:xfrm flipH="1">
              <a:off x="3309840" y="39279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9236"/>
            <p:cNvSpPr/>
            <p:nvPr/>
          </p:nvSpPr>
          <p:spPr>
            <a:xfrm>
              <a:off x="1622160" y="39279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7d"/>
                  </a:solidFill>
                  <a:latin typeface="Verdana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9253"/>
            <p:cNvSpPr/>
            <p:nvPr/>
          </p:nvSpPr>
          <p:spPr>
            <a:xfrm>
              <a:off x="4876560" y="426276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9234"/>
            <p:cNvSpPr/>
            <p:nvPr/>
          </p:nvSpPr>
          <p:spPr>
            <a:xfrm>
              <a:off x="3971520" y="49323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Conserv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stockag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élimin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9252"/>
            <p:cNvSpPr/>
            <p:nvPr/>
          </p:nvSpPr>
          <p:spPr>
            <a:xfrm>
              <a:off x="5659560" y="39279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9232"/>
            <p:cNvSpPr/>
            <p:nvPr/>
          </p:nvSpPr>
          <p:spPr>
            <a:xfrm>
              <a:off x="6321240" y="39279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Évaluer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traiter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trac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9251"/>
            <p:cNvSpPr/>
            <p:nvPr/>
          </p:nvSpPr>
          <p:spPr>
            <a:xfrm flipV="1">
              <a:off x="5659560" y="29253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9229"/>
            <p:cNvSpPr/>
            <p:nvPr/>
          </p:nvSpPr>
          <p:spPr>
            <a:xfrm>
              <a:off x="6321240" y="192132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7d"/>
                  </a:solidFill>
                  <a:latin typeface="Verdana"/>
                </a:rPr>
                <a:t>Étiquet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9250"/>
            <p:cNvSpPr/>
            <p:nvPr/>
          </p:nvSpPr>
          <p:spPr>
            <a:xfrm flipV="1">
              <a:off x="4876560" y="225576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9226"/>
            <p:cNvSpPr/>
            <p:nvPr/>
          </p:nvSpPr>
          <p:spPr>
            <a:xfrm>
              <a:off x="3971520" y="916560"/>
              <a:ext cx="1809360" cy="1339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prélèvement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préserv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9225"/>
            <p:cNvSpPr/>
            <p:nvPr/>
          </p:nvSpPr>
          <p:spPr>
            <a:xfrm>
              <a:off x="3971520" y="292572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Picture 53" descr="autoclave_cdc"/>
            <p:cNvPicPr/>
            <p:nvPr/>
          </p:nvPicPr>
          <p:blipFill>
            <a:blip r:embed="rId6"/>
            <a:srcRect l="46291" t="0" r="0" b="0"/>
            <a:stretch/>
          </p:blipFill>
          <p:spPr>
            <a:xfrm>
              <a:off x="3429360" y="5563080"/>
              <a:ext cx="658440" cy="83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2" descr="bd09830_"/>
            <p:cNvPicPr/>
            <p:nvPr/>
          </p:nvPicPr>
          <p:blipFill>
            <a:blip r:embed="rId7"/>
            <a:stretch/>
          </p:blipFill>
          <p:spPr>
            <a:xfrm>
              <a:off x="1066680" y="4953600"/>
              <a:ext cx="9658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1" descr=""/>
            <p:cNvPicPr/>
            <p:nvPr/>
          </p:nvPicPr>
          <p:blipFill>
            <a:blip r:embed="rId8"/>
            <a:srcRect l="0" t="0" r="21428" b="0"/>
            <a:stretch/>
          </p:blipFill>
          <p:spPr>
            <a:xfrm>
              <a:off x="7620120" y="4953600"/>
              <a:ext cx="1065960" cy="98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9" descr=""/>
            <p:cNvPicPr/>
            <p:nvPr/>
          </p:nvPicPr>
          <p:blipFill>
            <a:blip r:embed="rId9"/>
            <a:srcRect l="0" t="0" r="27150" b="0"/>
            <a:stretch/>
          </p:blipFill>
          <p:spPr>
            <a:xfrm>
              <a:off x="7239240" y="3352320"/>
              <a:ext cx="838440" cy="7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13" descr=""/>
            <p:cNvPicPr/>
            <p:nvPr/>
          </p:nvPicPr>
          <p:blipFill>
            <a:blip r:embed="rId10"/>
            <a:srcRect l="0" t="0" r="0" b="21661"/>
            <a:stretch/>
          </p:blipFill>
          <p:spPr>
            <a:xfrm>
              <a:off x="1066680" y="3581280"/>
              <a:ext cx="1071360" cy="8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7" descr=""/>
            <p:cNvPicPr/>
            <p:nvPr/>
          </p:nvPicPr>
          <p:blipFill>
            <a:blip r:embed="rId11"/>
            <a:srcRect l="0" t="0" r="12122" b="0"/>
            <a:stretch/>
          </p:blipFill>
          <p:spPr>
            <a:xfrm>
              <a:off x="2817720" y="1294200"/>
              <a:ext cx="1293840" cy="103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14" descr=""/>
            <p:cNvPicPr/>
            <p:nvPr/>
          </p:nvPicPr>
          <p:blipFill>
            <a:blip r:embed="rId12"/>
            <a:stretch/>
          </p:blipFill>
          <p:spPr>
            <a:xfrm>
              <a:off x="5561640" y="4495680"/>
              <a:ext cx="1142640" cy="9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52" descr="autoclave_cdc"/>
            <p:cNvPicPr/>
            <p:nvPr/>
          </p:nvPicPr>
          <p:blipFill>
            <a:blip r:embed="rId13"/>
            <a:srcRect l="46291" t="0" r="0" b="0"/>
            <a:stretch/>
          </p:blipFill>
          <p:spPr>
            <a:xfrm>
              <a:off x="4275720" y="2831400"/>
              <a:ext cx="1200960" cy="152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Text Box 41"/>
          <p:cNvSpPr/>
          <p:nvPr/>
        </p:nvSpPr>
        <p:spPr>
          <a:xfrm>
            <a:off x="3657600" y="2666880"/>
            <a:ext cx="2286000" cy="2410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Manuel de prélèvement du laboratoire</a:t>
            </a:r>
            <a:br>
              <a:rPr sz="2400"/>
            </a:br>
            <a:r>
              <a:rPr b="0" lang="fr-FR" sz="2400" spc="-1" strike="noStrike">
                <a:solidFill>
                  <a:srgbClr val="ffd911"/>
                </a:solidFill>
                <a:latin typeface="Verdana"/>
              </a:rPr>
              <a:t>Lignes de conduite &amp; Pra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" descr=""/>
          <p:cNvPicPr/>
          <p:nvPr/>
        </p:nvPicPr>
        <p:blipFill>
          <a:blip r:embed="rId14"/>
          <a:stretch/>
        </p:blipFill>
        <p:spPr>
          <a:xfrm>
            <a:off x="2209680" y="5562720"/>
            <a:ext cx="838440" cy="547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8" descr="j0205510"/>
          <p:cNvPicPr/>
          <p:nvPr/>
        </p:nvPicPr>
        <p:blipFill>
          <a:blip r:embed="rId15"/>
          <a:stretch/>
        </p:blipFill>
        <p:spPr>
          <a:xfrm>
            <a:off x="380880" y="4114800"/>
            <a:ext cx="121932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9E38-D4C8-410B-9BDD-323E5929FB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manuel de prélèvement du laboratoir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ient les informations nécessaires à ceux qui prélèvent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t disponible dans tous les lieux de prélè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oit être compris par tout le personnel du labora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t référencé dans le manuel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6" descr="j0359051"/>
          <p:cNvPicPr/>
          <p:nvPr/>
        </p:nvPicPr>
        <p:blipFill>
          <a:blip r:embed="rId1"/>
          <a:stretch/>
        </p:blipFill>
        <p:spPr>
          <a:xfrm>
            <a:off x="6553080" y="4208400"/>
            <a:ext cx="242424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2968-6096-4FCF-8EFC-588389E60D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enus du manuel de prélè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et adresse d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ordonnées et numéro de téléph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oraires d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ste des analyses qui peuvent être demand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cédures de prélèvement d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cédures de transport de l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lai de rendu des résult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ment les demandes urgentes sont trait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8:14:03Z</dcterms:created>
  <dc:creator>sam5</dc:creator>
  <dc:description/>
  <dc:language>en-US</dc:language>
  <cp:lastModifiedBy>dolmazonv</cp:lastModifiedBy>
  <dcterms:modified xsi:type="dcterms:W3CDTF">2010-04-07T16:38:36Z</dcterms:modified>
  <cp:revision>191</cp:revision>
  <dc:subject/>
  <dc:title>Slide 1</dc:title>
</cp:coreProperties>
</file>