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5AAD1-EF4B-4958-968F-3321190913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895E6-BE16-46B6-BE1C-A9DD1FC9B7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B94FC-A721-4381-AF73-59136777A1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86DDB-D4BB-4613-8721-E305FB58CA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E8219-3AE8-403D-A9EA-3A9F760031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707ED-D8FD-4B20-AC18-1927E74279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6845E-3F58-4812-A2ED-439F1819EE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94B0D-BC36-4AA4-9F31-1AB7388B56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4293FB-41C8-46A6-91DD-8C50FF3D5E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9ED993-AA45-45EC-ADFE-A58AB32FAE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8CF31D-3B69-457D-967A-3D8FB177BE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7D20E9-4DEC-4626-85B6-B6481FF6F67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EC14EA-867B-467F-AF60-63958235D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A609FB-4ABE-46E7-BFEC-F23143F6A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E3A95F-9592-45B3-ABE5-6B766AF86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96A774-D6C6-40F6-8EA3-2B66159C6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F9D045-22D2-4802-913C-DD28CC8A7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533520" y="2286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48897A-E232-4643-8971-4E2103556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7EF487-74DD-4621-9390-D85A9C93C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41C861-EF8E-4964-92A2-0105DB524C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E3BADA-5E6C-4430-B67A-7A27963C0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7CB9FE-D3BF-496D-8EBD-D7960B27A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AAB5CD-7245-4B95-9742-DD79500A3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EEB7A6-F177-4C2E-9B13-814CC8A39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EF2EB1-3889-4A75-AF3E-E6E77BEE6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3EFF22-B3FE-409C-A065-5E8AA80C49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2FC842-8DB9-4639-894A-8832374FA7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4AD871-EDD0-4D91-8CA9-948267DE3A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33520" y="2286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498D32-072E-44DD-ADCB-D63B8D753D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E533A9-8447-4CB9-9A85-C1113F453F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420841-C914-4C9C-A434-DBA6EE3364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8EC585-4788-4EF6-B6A2-E0D40AB414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520" y="6172200"/>
            <a:ext cx="4953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sual A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34E82-8441-46FE-B728-CAC957F130A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982800" indent="-196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375920" indent="-196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69040" indent="-196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982800" indent="-196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375920" indent="-196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69040" indent="-196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sual A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7DA9D-12F8-4FE1-AEE8-7F468D8E071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Espace réservé du pied de page 3"/>
          <p:cNvSpPr/>
          <p:nvPr/>
        </p:nvSpPr>
        <p:spPr>
          <a:xfrm>
            <a:off x="380880" y="6172200"/>
            <a:ext cx="495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sual A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4DFCE-0F4F-4F2E-BD22-B3E1FC300AB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9520" y="1904760"/>
            <a:ext cx="4876920" cy="190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Verdana"/>
              </a:rPr>
              <a:t>Quality Manual Structure and Cont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5" name="Picture 11" descr="HHS-Logo-blue"/>
          <p:cNvPicPr/>
          <p:nvPr/>
        </p:nvPicPr>
        <p:blipFill>
          <a:blip r:embed="rId1"/>
          <a:stretch/>
        </p:blipFill>
        <p:spPr>
          <a:xfrm>
            <a:off x="41148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7" descr="2BSLATH"/>
          <p:cNvPicPr/>
          <p:nvPr/>
        </p:nvPicPr>
        <p:blipFill>
          <a:blip r:embed="rId2"/>
          <a:stretch/>
        </p:blipFill>
        <p:spPr>
          <a:xfrm>
            <a:off x="4876920" y="6172200"/>
            <a:ext cx="761760" cy="5493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6" descr="WHO-EN-C-H"/>
          <p:cNvPicPr/>
          <p:nvPr/>
        </p:nvPicPr>
        <p:blipFill>
          <a:blip r:embed="rId3"/>
          <a:stretch/>
        </p:blipFill>
        <p:spPr>
          <a:xfrm>
            <a:off x="5715000" y="6172200"/>
            <a:ext cx="1828800" cy="560520"/>
          </a:xfrm>
          <a:prstGeom prst="rect">
            <a:avLst/>
          </a:prstGeom>
          <a:ln w="0">
            <a:noFill/>
          </a:ln>
        </p:spPr>
      </p:pic>
      <p:grpSp>
        <p:nvGrpSpPr>
          <p:cNvPr id="118" name="Group 7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9" name="Rectangle 8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9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1" name="Group 10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22" name="Rectangle 11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Rectangle 12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Rectangle 13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Rectangle 14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Rectangle 15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16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Rectangle 17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Rectangle 18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Rectangle 19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Rectangle 20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Text Box 21"/>
          <p:cNvSpPr/>
          <p:nvPr/>
        </p:nvSpPr>
        <p:spPr>
          <a:xfrm>
            <a:off x="3581280" y="1828800"/>
            <a:ext cx="495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Verdana"/>
              </a:rPr>
              <a:t>Aides visuel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22" descr="CLSI_WHO_Blue_CMYK1"/>
          <p:cNvPicPr/>
          <p:nvPr/>
        </p:nvPicPr>
        <p:blipFill>
          <a:blip r:embed="rId4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Espace réservé du pied de page 1"/>
          <p:cNvSpPr/>
          <p:nvPr/>
        </p:nvSpPr>
        <p:spPr>
          <a:xfrm>
            <a:off x="380880" y="6172200"/>
            <a:ext cx="495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ides visuel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574C6-62A0-421C-BDCF-3204C3D826B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2" descr="visual_sop"/>
          <p:cNvPicPr/>
          <p:nvPr/>
        </p:nvPicPr>
        <p:blipFill>
          <a:blip r:embed="rId1"/>
          <a:srcRect l="51824" t="0" r="0" b="0"/>
          <a:stretch/>
        </p:blipFill>
        <p:spPr>
          <a:xfrm>
            <a:off x="4724280" y="946080"/>
            <a:ext cx="4025880" cy="496584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4"/>
          <p:cNvSpPr/>
          <p:nvPr/>
        </p:nvSpPr>
        <p:spPr>
          <a:xfrm>
            <a:off x="533520" y="1549440"/>
            <a:ext cx="3886200" cy="3951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« Une image vaut 1000 mots »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Penser aux </a:t>
            </a:r>
            <a:r>
              <a:rPr b="0" lang="fr-FR" sz="2800" spc="-1" strike="noStrike">
                <a:solidFill>
                  <a:srgbClr val="9999ff"/>
                </a:solidFill>
                <a:latin typeface="Arial"/>
              </a:rPr>
              <a:t>aides visuelles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afin d’aider à renforcer la conformité aux nouvelles procéd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ZoneTexte 5"/>
          <p:cNvSpPr/>
          <p:nvPr/>
        </p:nvSpPr>
        <p:spPr>
          <a:xfrm>
            <a:off x="6781680" y="2133720"/>
            <a:ext cx="2362320" cy="8240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S’assurer que l’étiquet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est juste en dessous du capuch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ZoneTexte 6"/>
          <p:cNvSpPr/>
          <p:nvPr/>
        </p:nvSpPr>
        <p:spPr>
          <a:xfrm>
            <a:off x="6781680" y="2819520"/>
            <a:ext cx="2362320" cy="1006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Cette étiquette est presque droite, a un code bar propre et aucun surplus ne dépasse le tour du tub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ZoneTexte 7"/>
          <p:cNvSpPr/>
          <p:nvPr/>
        </p:nvSpPr>
        <p:spPr>
          <a:xfrm>
            <a:off x="6781680" y="4611600"/>
            <a:ext cx="2362320" cy="8240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Cette étiquette ne s’étend pas jusqu’à l’extrémité inférieur du tu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ZoneTexte 8"/>
          <p:cNvSpPr/>
          <p:nvPr/>
        </p:nvSpPr>
        <p:spPr>
          <a:xfrm>
            <a:off x="4952880" y="5667480"/>
            <a:ext cx="2362320" cy="307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Etiquette correc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1DD5A-2593-49F8-B4E8-C1CDBD61B3E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5" name="Picture 4" descr="specimen_visual_aid"/>
          <p:cNvPicPr/>
          <p:nvPr/>
        </p:nvPicPr>
        <p:blipFill>
          <a:blip r:embed="rId1"/>
          <a:stretch/>
        </p:blipFill>
        <p:spPr>
          <a:xfrm>
            <a:off x="203040" y="546120"/>
            <a:ext cx="8737920" cy="576576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5"/>
          <p:cNvSpPr/>
          <p:nvPr/>
        </p:nvSpPr>
        <p:spPr>
          <a:xfrm>
            <a:off x="0" y="716040"/>
            <a:ext cx="9144000" cy="42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Aide visuelle permettant de déterminer le volume suffisant de séru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6"/>
          <p:cNvSpPr/>
          <p:nvPr/>
        </p:nvSpPr>
        <p:spPr>
          <a:xfrm>
            <a:off x="3429000" y="1295280"/>
            <a:ext cx="5715000" cy="502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La mesure visuelle, afin de déterminer si le spécimen est au dessous de la limite de 2,5 c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Tenir le spécimen contre la carte visuelle de mes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Aligner le gel séparateur a la ligne du b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En utilisant la ligne du haut, déterminer s’il y a plus ou moins 2,5 c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Espace réservé du pied de page 1"/>
          <p:cNvSpPr/>
          <p:nvPr/>
        </p:nvSpPr>
        <p:spPr>
          <a:xfrm>
            <a:off x="380880" y="6172200"/>
            <a:ext cx="495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ides visuel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ZoneTexte 8"/>
          <p:cNvSpPr/>
          <p:nvPr/>
        </p:nvSpPr>
        <p:spPr>
          <a:xfrm>
            <a:off x="1981080" y="3581280"/>
            <a:ext cx="838440" cy="307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2,5 c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E90B2-088A-4F8F-856A-521F1FE91F6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3" name="Picture 4" descr="sample_management_1"/>
          <p:cNvPicPr/>
          <p:nvPr/>
        </p:nvPicPr>
        <p:blipFill>
          <a:blip r:embed="rId1"/>
          <a:stretch/>
        </p:blipFill>
        <p:spPr>
          <a:xfrm>
            <a:off x="190440" y="635040"/>
            <a:ext cx="8763120" cy="558792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5"/>
          <p:cNvSpPr/>
          <p:nvPr/>
        </p:nvSpPr>
        <p:spPr>
          <a:xfrm>
            <a:off x="0" y="533520"/>
            <a:ext cx="91440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Aide visuelle déterminant l’acceptabilité du spéci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6"/>
          <p:cNvSpPr/>
          <p:nvPr/>
        </p:nvSpPr>
        <p:spPr>
          <a:xfrm>
            <a:off x="457200" y="1523880"/>
            <a:ext cx="3429000" cy="106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S’il y a 2,5 cm ou plus de sérum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7"/>
          <p:cNvSpPr/>
          <p:nvPr/>
        </p:nvSpPr>
        <p:spPr>
          <a:xfrm>
            <a:off x="4191120" y="1371600"/>
            <a:ext cx="4724280" cy="155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Emballer le spécimen et le transporter comme d’habitu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Espace réservé du pied de page 1"/>
          <p:cNvSpPr/>
          <p:nvPr/>
        </p:nvSpPr>
        <p:spPr>
          <a:xfrm>
            <a:off x="380880" y="6172200"/>
            <a:ext cx="495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ides visuel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ZoneTexte 9"/>
          <p:cNvSpPr/>
          <p:nvPr/>
        </p:nvSpPr>
        <p:spPr>
          <a:xfrm>
            <a:off x="3505320" y="3882960"/>
            <a:ext cx="838080" cy="307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2,5 c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2B354-3B2F-4CD5-90B8-4115FDE43ED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2" name="Picture 4" descr="sample_management_acceptability_2"/>
          <p:cNvPicPr/>
          <p:nvPr/>
        </p:nvPicPr>
        <p:blipFill>
          <a:blip r:embed="rId1"/>
          <a:stretch/>
        </p:blipFill>
        <p:spPr>
          <a:xfrm>
            <a:off x="138240" y="550800"/>
            <a:ext cx="8866080" cy="575460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5"/>
          <p:cNvSpPr/>
          <p:nvPr/>
        </p:nvSpPr>
        <p:spPr>
          <a:xfrm>
            <a:off x="0" y="1447920"/>
            <a:ext cx="4038480" cy="106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Mais, s’il y a moins de 2,5 cm de sér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6"/>
          <p:cNvSpPr/>
          <p:nvPr/>
        </p:nvSpPr>
        <p:spPr>
          <a:xfrm>
            <a:off x="4038480" y="1219320"/>
            <a:ext cx="5105520" cy="20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Marquer le haut du tube avec un X et emballer le spécimen dans une boîte priorita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7"/>
          <p:cNvSpPr/>
          <p:nvPr/>
        </p:nvSpPr>
        <p:spPr>
          <a:xfrm>
            <a:off x="0" y="533520"/>
            <a:ext cx="91440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Aide visuelle déterminant l’acceptabilité du spéci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Espace réservé du pied de page 1"/>
          <p:cNvSpPr/>
          <p:nvPr/>
        </p:nvSpPr>
        <p:spPr>
          <a:xfrm>
            <a:off x="380880" y="6172200"/>
            <a:ext cx="495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des visuel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ZoneTexte 9"/>
          <p:cNvSpPr/>
          <p:nvPr/>
        </p:nvSpPr>
        <p:spPr>
          <a:xfrm>
            <a:off x="3124080" y="3882960"/>
            <a:ext cx="838440" cy="307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2,5 c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17BE5-5270-4BA4-9BAE-159248A864F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2" descr="5_finger_prick_job_aid"/>
          <p:cNvPicPr/>
          <p:nvPr/>
        </p:nvPicPr>
        <p:blipFill>
          <a:blip r:embed="rId1"/>
          <a:stretch/>
        </p:blipFill>
        <p:spPr>
          <a:xfrm>
            <a:off x="1781280" y="0"/>
            <a:ext cx="523692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Espace réservé du pied de page 1"/>
          <p:cNvSpPr/>
          <p:nvPr/>
        </p:nvSpPr>
        <p:spPr>
          <a:xfrm>
            <a:off x="380880" y="6172200"/>
            <a:ext cx="495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ides visuel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821F8-4467-4B3C-9526-E55FF690A15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2" descr="5_venipuncture_cdc_who"/>
          <p:cNvPicPr/>
          <p:nvPr/>
        </p:nvPicPr>
        <p:blipFill>
          <a:blip r:embed="rId1"/>
          <a:stretch/>
        </p:blipFill>
        <p:spPr>
          <a:xfrm>
            <a:off x="1733400" y="0"/>
            <a:ext cx="5289840" cy="6858000"/>
          </a:xfrm>
          <a:prstGeom prst="rect">
            <a:avLst/>
          </a:prstGeom>
          <a:ln w="0">
            <a:noFill/>
          </a:ln>
        </p:spPr>
      </p:pic>
      <p:sp>
        <p:nvSpPr>
          <p:cNvPr id="173" name="Espace réservé du pied de page 1"/>
          <p:cNvSpPr/>
          <p:nvPr/>
        </p:nvSpPr>
        <p:spPr>
          <a:xfrm>
            <a:off x="380880" y="6172200"/>
            <a:ext cx="495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ides visuel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2T22:26:15Z</dcterms:created>
  <dc:creator>Robin Barteluk</dc:creator>
  <dc:description/>
  <dc:language>en-US</dc:language>
  <cp:lastModifiedBy>dolmazonv</cp:lastModifiedBy>
  <dcterms:modified xsi:type="dcterms:W3CDTF">2010-04-08T14:53:07Z</dcterms:modified>
  <cp:revision>9</cp:revision>
  <dc:subject/>
  <dc:title>Quality Manual Structure and Contents</dc:title>
</cp:coreProperties>
</file>