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26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8.jpeg" ContentType="image/jpeg"/>
  <Override PartName="/ppt/media/image43.jpeg" ContentType="image/jpeg"/>
  <Override PartName="/ppt/media/image5.png" ContentType="image/png"/>
  <Override PartName="/ppt/media/image30.wmf" ContentType="image/x-wmf"/>
  <Override PartName="/ppt/media/image6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jpeg" ContentType="image/jpeg"/>
  <Override PartName="/ppt/media/image44.jpeg" ContentType="image/jpeg"/>
  <Override PartName="/ppt/media/image36.wmf" ContentType="image/x-wmf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3.wmf" ContentType="image/x-wmf"/>
  <Override PartName="/ppt/media/image28.jpeg" ContentType="image/jpeg"/>
  <Override PartName="/ppt/media/image38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23F96-8B2D-4D0F-AB50-1E32D33F1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034B7-9E09-4A72-847B-0C1FDC713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E0EBF-7ADB-4995-BB9D-CD226CFCD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96EA4-B85A-430A-A49D-AAC9C17E1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CD729-4C59-4C99-8B12-1F4A02A6F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3B700-8177-44F8-9E8A-C20C1115F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473FE-89B7-493D-9377-58E49EE0B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CED3E-65FF-49B0-A947-E0455B50D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11ED5-6D6C-40A9-AE1A-A45CBA935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11545-9011-489B-99EC-4AC5B3BFA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6ED4E-8531-4D89-B2CE-FFAF0B6B9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D74AD-438D-499F-B7E2-502F77646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78973-25D2-46AD-A8D0-E8E45C260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CE562-9304-49F5-A56F-FDFD8A6B3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04B84-C49A-4C5D-8956-0AAA68436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69B69-7C84-4B3A-BBC2-05841BD7A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892E7-0922-4C5D-B597-4FF8AA51D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65BE2-6065-4D05-BA84-9201E4B18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11B55-B951-48E0-B0AA-DACC0114E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B6CC6-2FAB-4A13-A199-296A95D81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D93B5-3A6A-4213-AEFD-99248B25A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065ED-F93C-4E42-8F8C-1DEE59648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CFAB9-CB45-4DA9-9F06-0B84661AF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5D4CC-3A03-438B-9089-F9793054D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7C5756-869A-4333-A34C-E4282397E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60423-315D-4AA1-AB14-C58B7A8CB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C5185-73E4-4016-ACCC-53BCBD5FA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455C1-1BD6-4C71-918A-EFB1D4554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A40D7-D570-4E99-8FF8-091F0210E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4078-E79D-4127-8A7C-7E85B7A091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A341-1DA1-4702-BFC0-BFB99A5514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EDA1-B789-4BBE-9191-28C7920F79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F1ED-E097-4A47-8329-0CDF715AF1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AB5-B140-417D-B4FD-AE8EA79A57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7791-0170-4DC3-A68C-8E2A39F0CE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047-205C-4B0B-9C20-D92678B880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75B98-0FC2-4BCD-B61C-5BFE3269F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0E8D-D837-44E5-A2E7-CEF79B3351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5B96-D89E-4C6B-AC97-A5D214DB22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A20-E3A8-4C9A-9341-4DB2A6F23C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FA72-FFDF-45C2-8753-4A8427C75A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4A7-43C7-491E-A340-453AB5ED89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17284-9492-4F7C-B2C0-2E3F7EE81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81CCD-2E19-404E-9AB5-7D31FD8E7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6D491-B325-4D5E-AC07-B327B181E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4153B-8CA6-40BD-8FB8-6D4CC0577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E9B82-71A9-4C76-80CC-D9B5B2660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35C62-213A-4EC4-AB5B-5B44201BA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B235E-B28D-48E2-BC56-0BA8C620D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61FC-6DA2-4C8D-8380-9D23551E1A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F38F-90B6-4758-966A-328AF1B367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Organ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88FB-B6D7-4091-846E-EBF9920D36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0492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Cheminement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apture3"/>
          <p:cNvPicPr/>
          <p:nvPr/>
        </p:nvPicPr>
        <p:blipFill>
          <a:blip r:embed="rId1"/>
          <a:srcRect l="0" t="16987" r="0" b="0"/>
          <a:stretch/>
        </p:blipFill>
        <p:spPr>
          <a:xfrm>
            <a:off x="228600" y="1523880"/>
            <a:ext cx="838188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F05D-A640-47E8-A787-09DF3A81B3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Organization Chart 3"/>
          <p:cNvGrpSpPr/>
          <p:nvPr/>
        </p:nvGrpSpPr>
        <p:grpSpPr>
          <a:xfrm>
            <a:off x="380880" y="1935000"/>
            <a:ext cx="6172200" cy="3773520"/>
            <a:chOff x="380880" y="1935000"/>
            <a:chExt cx="6172200" cy="3773520"/>
          </a:xfrm>
        </p:grpSpPr>
        <p:sp>
          <p:nvSpPr>
            <p:cNvPr id="205" name="AutoShape 4"/>
            <p:cNvSpPr/>
            <p:nvPr/>
          </p:nvSpPr>
          <p:spPr>
            <a:xfrm>
              <a:off x="380880" y="1935000"/>
              <a:ext cx="617220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_s1029"/>
            <p:cNvCxnSpPr>
              <a:stCxn id="207" idx="1"/>
              <a:endCxn id="208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09" name="_s1031"/>
            <p:cNvCxnSpPr>
              <a:stCxn id="210" idx="3"/>
              <a:endCxn id="208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1" name="_s1032"/>
            <p:cNvCxnSpPr>
              <a:stCxn id="208" idx="0"/>
              <a:endCxn id="212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3" name="_s1034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6" name="_s1035"/>
            <p:cNvCxnSpPr>
              <a:stCxn id="212" idx="0"/>
              <a:endCxn id="215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15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Directeur</a:t>
              </a:r>
              <a:br>
                <a:rPr sz="2200"/>
              </a:b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 laboratoi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Biologis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 respons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Responsable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 qualité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en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 surve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Directeur d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E402-A5DC-48FB-873D-CD7799E177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igence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responsabilité et l’autorité pour supervis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e directement aux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j0240719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7B67-94CF-4FA9-AB0B-43EEDB3382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u 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ur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oir tous les regi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et coordonner l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rcher les défi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former les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3FBB-A6FC-4B62-ACC7-9E529BE9BB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approches vari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elon la situation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nombreux fact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luencent le poi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lure tous les élém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ut être mis en oeuv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r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MCBD07022_0000[1]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B127-2B58-46C2-92E6-12171678D4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MCj00905430000[1]"/>
          <p:cNvPicPr/>
          <p:nvPr/>
        </p:nvPicPr>
        <p:blipFill>
          <a:blip r:embed="rId1"/>
          <a:srcRect l="45571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ardez à l’esp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, soyez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échéanc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ai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objectif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 et mes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priorités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er par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F47D-AB9C-4CE1-AEC0-556BC93069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2666880"/>
            <a:ext cx="3733920" cy="2880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5960" y="1371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r les carences en utilisant une check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e list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des prior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bord ce qui peu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être résolu rapi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ce qu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ra le plus d’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duire une analyse des carences (Gap analysis)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87692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nalyse des carenc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5C2D-77ED-45A1-9C7D-201F13C416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 des ca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blèmes couramment identifi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mande d’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’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iveau de formation d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cessus analy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registrement et compte-rend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réactifs et de l’équipement demande 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398387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0967-ABDC-43A5-A3CC-394D9FD61E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daction du plan qui devrait conteni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 qui devrait être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i ser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and (calendr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source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points de ré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04920" y="5105520"/>
            <a:ext cx="868680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doit être disponible pour tout le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7A4E-6F3B-4D44-A420-48006CC824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MCj0432552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3352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engager à term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parer une mise en oeuvre par é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s ressources sont dispon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un 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chacun connait s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uis a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124080" y="6156360"/>
            <a:ext cx="350532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comme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EF89-7FA2-4CA2-A7EA-32C06282E0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 les participants seront en mesure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rire les éléments organisationnels nécessaires à un système de gestion de la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uter  les rôles et les responsabilités dans un systèm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e processus de conception, de mise en œuvre, de maintenance et d’amélioration du système qualité au labor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’intérêt d’un 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3D8F-8F04-4D3D-B496-A87B16FF11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19_gnatt_chart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F121-927E-4A12-A1C4-2C90E3202E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urnir des res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igences financière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soin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sonnel supplément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étences, formation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stallations, équipement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,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j0195384"/>
          <p:cNvPicPr/>
          <p:nvPr/>
        </p:nvPicPr>
        <p:blipFill>
          <a:blip r:embed="rId3"/>
          <a:stretch/>
        </p:blipFill>
        <p:spPr>
          <a:xfrm>
            <a:off x="5867280" y="4419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BA0B-C2D9-4D52-8166-707785838E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j0386161"/>
          <p:cNvPicPr/>
          <p:nvPr/>
        </p:nvPicPr>
        <p:blipFill>
          <a:blip r:embed="rId1"/>
          <a:stretch/>
        </p:blipFill>
        <p:spPr>
          <a:xfrm>
            <a:off x="6915240" y="1905120"/>
            <a:ext cx="2228760" cy="335268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conform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igner l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indicate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r un système de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d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MCj02120510000[1]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9864-45DD-47D1-87B5-7E79EA13A9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meeting_asia_1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A702-3F4B-4238-8F5C-D4FC46C0BE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685800" y="457200"/>
            <a:ext cx="6705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e manuel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ument qui décrit entièrement le système de gestion de la qualité d’une 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pe ess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onsabilité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manuals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191A-8762-4F2B-A1C0-655B095B69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unique l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rt de cadre pour répondre aux exigences du 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montre l’engagement de la direction dans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14FB-38B9-4A20-8019-2B3533FDB8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MCPE07250_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nir à jour le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unique les lignes de cond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oit être approuvé par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quiert un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se j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MCj0409945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07BC-2DD5-43DF-88EC-DA65C7EF88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ne mise en oeuvre réussie requi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l’engagement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comprendre les bénéfices d’un système de gestion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engager le personnel à tous les ni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ayer d’améliorer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n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des attent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2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73B1-42D1-4874-8D7A-7BD96F03CD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0" descr="MCDD01419_0000[1]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23"/>
          <p:cNvGrpSpPr/>
          <p:nvPr/>
        </p:nvGrpSpPr>
        <p:grpSpPr>
          <a:xfrm>
            <a:off x="4800600" y="2133720"/>
            <a:ext cx="4800600" cy="4390920"/>
            <a:chOff x="4800600" y="2133720"/>
            <a:chExt cx="4800600" cy="4390920"/>
          </a:xfrm>
        </p:grpSpPr>
        <p:sp>
          <p:nvSpPr>
            <p:cNvPr id="317" name="AutoShape 22"/>
            <p:cNvSpPr/>
            <p:nvPr/>
          </p:nvSpPr>
          <p:spPr>
            <a:xfrm>
              <a:off x="4800600" y="2133720"/>
              <a:ext cx="480060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195610"/>
            <p:cNvSpPr/>
            <p:nvPr/>
          </p:nvSpPr>
          <p:spPr>
            <a:xfrm>
              <a:off x="6339600" y="2752200"/>
              <a:ext cx="1722960" cy="2397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195611"/>
            <p:cNvSpPr/>
            <p:nvPr/>
          </p:nvSpPr>
          <p:spPr>
            <a:xfrm rot="7200000">
              <a:off x="6238080" y="3655800"/>
              <a:ext cx="2397600" cy="17233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195613"/>
            <p:cNvSpPr/>
            <p:nvPr/>
          </p:nvSpPr>
          <p:spPr>
            <a:xfrm rot="14400000">
              <a:off x="5767200" y="3658680"/>
              <a:ext cx="2397600" cy="1722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4" descr="bd20208_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6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8"/>
          <p:cNvSpPr/>
          <p:nvPr/>
        </p:nvSpPr>
        <p:spPr>
          <a:xfrm>
            <a:off x="152280" y="5335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1CC9-C317-4DD0-B9DD-23CD95A100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igner la responsabilité de la mise en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ouer des ressour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r et distribuer un manuel qualit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cer la mise en place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r la conformité à la politique qualité et aux exigences du système de gestion de la qual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D384-401E-4AF4-BD48-128065AE77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D936-A68C-41D4-A16F-C58962806C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MCj03963580000[1]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appelez 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Qualité n’est pas une science, c’est une manière de pen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temps investi aujourd’hui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ermettra d’obt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ésultats de quali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efficacité cer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satisfaction personnelle et professionnelle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onnaissance de vos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0E58-520A-445C-9EF8-9FA6FA561D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i est responsable de la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uniocular_mic_cdc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hacu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D5FD-0C6E-4834-BEDF-9ED2C7AE10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5" descr="bulles_def"/>
          <p:cNvPicPr/>
          <p:nvPr/>
        </p:nvPicPr>
        <p:blipFill>
          <a:blip r:embed="rId1"/>
          <a:stretch/>
        </p:blipFill>
        <p:spPr>
          <a:xfrm>
            <a:off x="380880" y="1066680"/>
            <a:ext cx="4867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75E9-C6DB-4BE7-AD89-3339C130EB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3657600" y="3581280"/>
            <a:ext cx="3962520" cy="2079360"/>
            <a:chOff x="3657600" y="3581280"/>
            <a:chExt cx="3962520" cy="2079360"/>
          </a:xfrm>
        </p:grpSpPr>
        <p:sp>
          <p:nvSpPr>
            <p:cNvPr id="140" name="AutoShape 18"/>
            <p:cNvSpPr/>
            <p:nvPr/>
          </p:nvSpPr>
          <p:spPr>
            <a:xfrm>
              <a:off x="3657600" y="3581280"/>
              <a:ext cx="39625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_s719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7193"/>
            <p:cNvCxnSpPr>
              <a:stCxn id="145" idx="0"/>
              <a:endCxn id="14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_s719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ssentiel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24080" y="12952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gagement pour une gestion soigneuse du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structure organisée conçue pour atteindre les objectifs de qua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7350000[1]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0987-8165-48EC-89FD-5DB14B650F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ise en 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trô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 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 rot="5400000">
            <a:off x="1218600" y="2286000"/>
            <a:ext cx="1523880" cy="7621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4114800" y="2743200"/>
            <a:ext cx="914400" cy="9907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 rot="5400000">
            <a:off x="6858000" y="2514600"/>
            <a:ext cx="1981440" cy="91440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1"/>
          <p:cNvGrpSpPr/>
          <p:nvPr/>
        </p:nvGrpSpPr>
        <p:grpSpPr>
          <a:xfrm>
            <a:off x="685800" y="3505320"/>
            <a:ext cx="2590920" cy="2361240"/>
            <a:chOff x="685800" y="3505320"/>
            <a:chExt cx="2590920" cy="2361240"/>
          </a:xfrm>
        </p:grpSpPr>
        <p:sp>
          <p:nvSpPr>
            <p:cNvPr id="160" name="AutoShape 30"/>
            <p:cNvSpPr/>
            <p:nvPr/>
          </p:nvSpPr>
          <p:spPr>
            <a:xfrm>
              <a:off x="685800" y="3505320"/>
              <a:ext cx="2590920" cy="23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_s8230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8229"/>
            <p:cNvCxnSpPr>
              <a:stCxn id="165" idx="0"/>
              <a:endCxn id="163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822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irection, Rôle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tructur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organis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3"/>
          <p:cNvSpPr/>
          <p:nvPr/>
        </p:nvSpPr>
        <p:spPr>
          <a:xfrm rot="5400000">
            <a:off x="5520960" y="1946160"/>
            <a:ext cx="838080" cy="75564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4"/>
          <p:cNvSpPr/>
          <p:nvPr/>
        </p:nvSpPr>
        <p:spPr>
          <a:xfrm rot="5400000">
            <a:off x="4495680" y="4495680"/>
            <a:ext cx="1143000" cy="175248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9B6A-59BA-4F4B-B1D3-20EE5AB1D2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ptitude à dir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exerçant un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torité responsab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motivan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 donnant un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influençant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courageant 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rsonnel pour d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onnes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10031_lores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12F3-0F4A-4B54-BE64-FA0627EACD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es dirige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se en oeuvre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mélioration continu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u système de gestion de la quali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cumenter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uniquer à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nir u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a_19"/>
          <p:cNvPicPr/>
          <p:nvPr/>
        </p:nvPicPr>
        <p:blipFill>
          <a:blip r:embed="rId1"/>
          <a:stretch/>
        </p:blipFill>
        <p:spPr>
          <a:xfrm>
            <a:off x="3733920" y="266688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DCC4-DAF5-4E24-B70F-894A159670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gagement de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Ministère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181480" y="1219320"/>
            <a:ext cx="3276720" cy="82548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PubOvalCallout"/>
          <p:cNvSpPr/>
          <p:nvPr/>
        </p:nvSpPr>
        <p:spPr>
          <a:xfrm rot="16200000">
            <a:off x="4038480" y="3885840"/>
            <a:ext cx="205740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unions du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A767-43E0-49C9-9D40-31468C9053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Organisat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9480" y="144792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e structure de travail qui assure un flux suffisant dans toutes les partie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igner rôles et respons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organi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igner un responsabl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uer des ressources suffi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3:01:43Z</dcterms:modified>
  <cp:revision>132</cp:revision>
  <dc:subject/>
  <dc:title>Slide 1</dc:title>
</cp:coreProperties>
</file>