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7DED-5626-46EF-9C1E-811DD7527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D890-DEB2-42B5-A407-2CA13D092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5151-FAD7-4066-9208-34C86BFCB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6E81-6795-4328-867C-4D6B4837F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C480-15D1-4CD6-87CA-2055F9C27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37AF-368F-4231-97F7-B5A55A224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423C-951B-44C1-9C3D-43FC5DF5C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3A3F-6324-4C98-8186-4572EAB22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6DFF-2A34-41DE-BA28-10646C100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7813-D561-406C-ABAD-3EF089B38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0438-8942-4A15-9CBD-76614455E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0A39-3679-4BBC-A218-9F99E051F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6BFA-673D-4CA8-93BB-537FE3853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02C7-73E6-4595-B50A-5CF4CC17D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F5A0-DC91-49DE-9D50-0A626AF90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3507-5082-4043-99A9-39AEF4D12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3EE1-62B5-4479-AC4C-EA68B2302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FE15-6A09-4B6F-B5EE-C38C58B64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9546-2B37-47C8-8F38-5B674A347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C939-9B5D-424A-864F-4E28941C0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4CBB-3B58-43D7-8389-75213C6B5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E69B-6510-43DB-8200-4800C35BA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4913-121A-4989-9F37-AA752B315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4483-9F60-4AE6-AE23-8BAAD1BED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542A-3D93-4093-A1E0-F9AF0B693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CC02-8C90-4BCC-92F1-43D10A87D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3BB6-FF41-4AC9-B668-32C452F39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0329-15F6-48C6-9E5A-01B916C2A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D21E-BB63-40C6-8817-4EA86D83A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6793-7218-4ECC-AB4D-A708E1B5B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63EB-2A9E-4502-983D-731874A53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5CD6-F20A-46AF-BE39-669EB201C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627DA-E62D-4E1A-8D9B-A5EDBFC2B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921ED-35AB-4F44-ABED-AEA073130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AA4BC-1C02-40F7-B1BE-5248A33FD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EE5DF-36C0-4F97-8B61-6B7764A24E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24DA-856A-465C-BC98-C3E4832DB4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E9F2-8CF9-443E-9902-97292D4D65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D0D8-5E4A-40E9-8FB7-62367E1709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65FA-7B14-49E2-98B2-58A57E7FFC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A6FA-715D-453C-859E-29C75B55D1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8BE5-39AF-4F0B-B044-22E87FE24D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EDF5-16A8-4BDF-B566-EB22415269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208AA-E8D4-458A-9AF7-1D045AE3D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0381-D30C-48D3-BB4E-B3630C7FAE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5305-B902-4EE2-A6D8-71504ACAEB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95A-C74A-488C-B87B-9F65F0D830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5610-2971-4521-918B-3ABD1CCF26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2637-0324-4608-957E-9D282D621C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F0C4C-1B69-41F1-B167-E46FCAAE34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62976-AC5D-4815-B2EC-057A67C0E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79B55-C4C8-44CB-8329-5092020A5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41E23-CC99-41A6-9F75-DE0A1FE050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737B3-5400-48D1-9032-BCC255DB9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9BF57-EC5B-436E-B7BD-57EF91017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D471F-D104-4E5D-9B01-584F0C4C6B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1F9E-6422-407D-9452-F2B14B28F6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BA6E-7615-4BA0-88E5-F47E54C486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4573-8FB6-4306-B4EB-3D0121B3B7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de qualité des 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8D38-A170-41BB-8084-1A65038CFA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’une colonie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EB1D-44AA-4708-9B4C-C0656EF057A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A2C4-6F0E-4149-BF1D-5DBA984FCF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cFarland 0.5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juster la suspension bactér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AB17-88FF-41CB-B63A-BC9DFFFF13C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3CFD-5E39-45C4-AAFC-CBAB6AFB55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F7C8-CB30-4C23-BFBD-EAFC139978C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er des distributeurs de disqu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es, rapi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gmentent la reproduct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isqu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minuent les capacités personnelles de ju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2F1F-50A6-45E3-846B-4370B7F458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15A9-45B6-4018-8557-49322D81DC9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196" name="ZoneTexte 7"/>
          <p:cNvSpPr/>
          <p:nvPr/>
        </p:nvSpPr>
        <p:spPr>
          <a:xfrm>
            <a:off x="685800" y="53341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8"/>
          <p:cNvSpPr/>
          <p:nvPr/>
        </p:nvSpPr>
        <p:spPr>
          <a:xfrm>
            <a:off x="5105520" y="5334120"/>
            <a:ext cx="36576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Inoculum trop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28FF-C03B-4A33-B3A4-235428BECE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1" name="Picture 5" descr="Disk moved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981320"/>
          </a:xfrm>
          <a:prstGeom prst="rect">
            <a:avLst/>
          </a:prstGeom>
          <a:ln w="0">
            <a:noFill/>
          </a:ln>
        </p:spPr>
      </p:pic>
      <p:sp>
        <p:nvSpPr>
          <p:cNvPr id="202" name="ZoneTexte 5"/>
          <p:cNvSpPr/>
          <p:nvPr/>
        </p:nvSpPr>
        <p:spPr>
          <a:xfrm>
            <a:off x="685800" y="53737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6"/>
          <p:cNvSpPr/>
          <p:nvPr/>
        </p:nvSpPr>
        <p:spPr>
          <a:xfrm>
            <a:off x="5638680" y="5400720"/>
            <a:ext cx="30481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Zones non régulière car le disque n’a pas été appliqué correc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F413-7C0C-4023-AC3D-7914B90083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E70B-A7BB-4D7F-9E15-4D864FBCC50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9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6522480" y="4038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è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809000" y="4114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ied à coul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04920" y="4572000"/>
            <a:ext cx="8458200" cy="1905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cture avec une lumière suffisante et à l’arrière 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boî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zone lue est spécifique à un médica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loupe peut a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millimètres comp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BC72-AF38-4633-8CDF-26A37790A1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test – méthode par gradient de concent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DBFA-2EA5-4CEE-A831-B3265A7FD9C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564D-9CBA-4880-81AB-D6C95DE9F8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ésultats peuvent être incorrects si 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organisme n’a pas été bien identif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rreur de transcri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x inapproprié d’antibiot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testé du patient n’était pas le b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nalyse demandée n’était pas la bo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n’a pas été conservé correct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C7C2-EFC2-40A4-9786-F7B53041E5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025B-B45B-430C-B47C-D3F6E576BEA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5640" y="4568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6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1"/>
          <p:cNvSpPr/>
          <p:nvPr/>
        </p:nvSpPr>
        <p:spPr>
          <a:xfrm>
            <a:off x="174240" y="4114800"/>
            <a:ext cx="700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ssent des inform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our sélectionner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tibiothérapie appropr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544F-95A8-46A5-AB09-6300511E0B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interpré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éthode des disq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t des résultats qualitatifs interprétables : sensibles, intermédiaires et résist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crodilution et diffusion en aga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fournissent un résultat quantitatif, une concentration minimum inhibitr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2699-C15A-48C8-9F07-AEA126ACC0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éth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6"/>
          <p:cNvSpPr/>
          <p:nvPr/>
        </p:nvSpPr>
        <p:spPr>
          <a:xfrm>
            <a:off x="5029200" y="1752480"/>
            <a:ext cx="388620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tests de sensibilité déterminent si la bactérie peut être inhibée par un antibiotiq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a susceptibilité est basée sur la concentration requise pour réduire la pousse sous le niveau visible (voir CI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8"/>
          <p:cNvSpPr/>
          <p:nvPr/>
        </p:nvSpPr>
        <p:spPr>
          <a:xfrm>
            <a:off x="2362320" y="289080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Concentr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Inhibit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inim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9"/>
          <p:cNvSpPr/>
          <p:nvPr/>
        </p:nvSpPr>
        <p:spPr>
          <a:xfrm>
            <a:off x="380880" y="2666880"/>
            <a:ext cx="190512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Tubes avec milieu de culture, bactéries, et des quantité croissante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0"/>
          <p:cNvSpPr/>
          <p:nvPr/>
        </p:nvSpPr>
        <p:spPr>
          <a:xfrm>
            <a:off x="5791320" y="3657600"/>
            <a:ext cx="2057400" cy="215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Sensi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bactérie est dite sensible à un antibiotique si la pousse est inhibée par une concentration qui est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FACILEMENT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et en toute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SECURITE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obtenue dans la circulation sanguine du pati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réponse clinique positive pour le patient est anticipé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Résist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L’opposé de sensibl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11"/>
          <p:cNvSpPr/>
          <p:nvPr/>
        </p:nvSpPr>
        <p:spPr>
          <a:xfrm>
            <a:off x="685800" y="3429000"/>
            <a:ext cx="12952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Boîte d’agar avec un tapis de pousse bactérien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2"/>
          <p:cNvSpPr/>
          <p:nvPr/>
        </p:nvSpPr>
        <p:spPr>
          <a:xfrm>
            <a:off x="2514600" y="4648320"/>
            <a:ext cx="106668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Zone d’inhibition de la pousse bactérien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13"/>
          <p:cNvSpPr/>
          <p:nvPr/>
        </p:nvSpPr>
        <p:spPr>
          <a:xfrm>
            <a:off x="1600200" y="502452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Disque imprégné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4"/>
          <p:cNvSpPr/>
          <p:nvPr/>
        </p:nvSpPr>
        <p:spPr>
          <a:xfrm>
            <a:off x="2743200" y="5562720"/>
            <a:ext cx="5335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5"/>
          <p:cNvSpPr/>
          <p:nvPr/>
        </p:nvSpPr>
        <p:spPr>
          <a:xfrm rot="5400000">
            <a:off x="3169800" y="3823920"/>
            <a:ext cx="914400" cy="27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6"/>
          <p:cNvSpPr/>
          <p:nvPr/>
        </p:nvSpPr>
        <p:spPr>
          <a:xfrm>
            <a:off x="4191120" y="4540320"/>
            <a:ext cx="457200" cy="18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C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7"/>
          <p:cNvSpPr/>
          <p:nvPr/>
        </p:nvSpPr>
        <p:spPr>
          <a:xfrm>
            <a:off x="4267080" y="3581280"/>
            <a:ext cx="13716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Note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En mesurant la taille de la zone, on peut calculer la CIM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Plus la zone est petite, plus la CIM est élevé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8"/>
          <p:cNvSpPr/>
          <p:nvPr/>
        </p:nvSpPr>
        <p:spPr>
          <a:xfrm>
            <a:off x="3276720" y="2666880"/>
            <a:ext cx="152388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lution de milieu de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9"/>
          <p:cNvSpPr/>
          <p:nvPr/>
        </p:nvSpPr>
        <p:spPr>
          <a:xfrm>
            <a:off x="3809880" y="5486400"/>
            <a:ext cx="152424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ffusion de dis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FDE8-7514-4D6B-9E95-830B46117E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CC8B-59F2-44D2-9317-848C3F9C329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6" name="Text Box 3"/>
          <p:cNvSpPr/>
          <p:nvPr/>
        </p:nvSpPr>
        <p:spPr>
          <a:xfrm>
            <a:off x="304920" y="1295280"/>
            <a:ext cx="807696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linical and Laboratory Standards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ciété française de microb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8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Text Box 8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fé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9636-1CCA-4C2D-B553-00BE2D4B3F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Exemple d’un extrait de référence :</a:t>
            </a:r>
            <a:br>
              <a:rPr sz="28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u médicament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3F6B-689C-4A61-BB99-33D002C13C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4EB1-C837-4ED0-A5CC-1B97C9E6A4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CECF-A99D-4103-9CEB-13336336350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d des erreurs surviennent dans le test de susceptibilit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li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tibiotiqu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quipement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terpré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88BC-F917-4624-9A13-BB6E74C0D5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F44D-85CF-4755-B275-76669E1B39C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 d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lieu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      Mueller Hinto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4 mm épaisseu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tibioti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fr-FR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 mi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ubateur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8BCE-3A7B-4FF8-91A4-EAD46FF224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485C-A794-4A31-BA83-237D4D8DA33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uches de coll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85800" y="388620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souches de CQ doivent provenir d‘organisations réputé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souches spécifiques pour tester différentes combinaisons de médic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00:58Z</dcterms:created>
  <dc:creator>Robin Barteluk</dc:creator>
  <dc:description/>
  <dc:language>en-US</dc:language>
  <cp:lastModifiedBy>dolmazonv</cp:lastModifiedBy>
  <dcterms:modified xsi:type="dcterms:W3CDTF">2010-04-08T14:40:14Z</dcterms:modified>
  <cp:revision>17</cp:revision>
  <dc:subject/>
  <dc:title>Microbiology QC</dc:title>
</cp:coreProperties>
</file>