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2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9.png" ContentType="image/png"/>
  <Override PartName="/ppt/media/image21.wmf" ContentType="image/x-wmf"/>
  <Override PartName="/ppt/media/image6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28.png" ContentType="image/png"/>
  <Override PartName="/ppt/media/image38.jpeg" ContentType="image/jpeg"/>
  <Override PartName="/ppt/media/image9.png" ContentType="image/png"/>
  <Override PartName="/ppt/media/image1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7.wmf" ContentType="image/x-wmf"/>
  <Override PartName="/ppt/media/image31.jpeg" ContentType="image/jpeg"/>
  <Override PartName="/ppt/media/image4.jpeg" ContentType="image/jpeg"/>
  <Override PartName="/ppt/media/image41.png" ContentType="image/png"/>
  <Override PartName="/ppt/media/image13.jpeg" ContentType="image/jpeg"/>
  <Override PartName="/ppt/media/image23.png" ContentType="image/png"/>
  <Override PartName="/ppt/media/image40.wmf" ContentType="image/x-wmf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5.jpeg" ContentType="image/jpeg"/>
  <Override PartName="/ppt/media/image32.png" ContentType="image/png"/>
  <Override PartName="/ppt/media/image11.jpeg" ContentType="image/jpeg"/>
  <Override PartName="/ppt/media/image30.png" ContentType="image/png"/>
  <Override PartName="/ppt/media/image3.jpeg" ContentType="image/jpeg"/>
  <Override PartName="/ppt/media/image14.jpeg" ContentType="image/jpeg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D6A3-B6BB-4803-9F86-D97159CC0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05BA-FC4A-4F92-BB30-D88BE5729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6CFE-A055-49FC-9C36-8F3BDFE68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A842-E999-4D70-9306-9390CA1ED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0680-3862-420E-BD73-738B1AA10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223C-E928-497E-88B9-D855858D5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A8EC-44BB-4AB5-B67E-6E4546C8C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B25F-E0E1-4CB4-BCEE-01C4723FC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389E-F0B1-46B6-A376-929250F06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1E89-D6B8-4636-AD86-5A6F07378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00FE-1065-4DB4-A9C5-14B626EBC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5051-2DA0-44DE-8A8F-0B0FDBC6A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0B04-2BFF-4581-875F-612FDF27E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E756-C4FF-4E43-918D-BE9C661EA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36C1-BA10-4125-A830-4F9573C98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DE12E-DD02-4749-BDCB-A2853ACE90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2DD07-DAA4-4C30-97D1-5A101E5EF3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858CE-4639-40AA-B096-2D043581CD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49E68-14FE-435E-8F34-5F7AC528BA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786E-69D8-48B5-AEF9-592BE960D7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B0FE-86BC-478E-9405-54AF4E79DC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57EE-64D6-4608-BF17-F87EA3A866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5CA4-E2FD-4827-9B71-F008DE6BD2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FE9D-4DD9-4153-B364-66F19CC867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5DCD-5438-462E-855B-BF13AE19D1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C873-B42F-441A-820F-2219CF687C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A737D-B8A3-4507-827F-791DFB6AD8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2EAD-0425-416C-BF28-0D4A519EA2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90B5-AE67-4D63-95A5-0C450B5A06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4DB7-98BD-4CE3-9395-7933F8B490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F249-BD0C-4221-8AB2-DF8F70509B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7072-85C9-402C-AB31-6312A5D99E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B3C07-3A86-44B8-9083-ADBB5B801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0EA1A-9104-43F3-9FDF-8B17BC7D30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B1D3F-A778-450D-ABAF-2D64D6EF6D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85823-A4C9-40BC-B593-9129814AD3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1B2A0-98D2-4B7D-ACE8-0BD44CA2DE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8330A-F627-4B01-A7FE-E5EA68EF9D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16BDD-AE99-4478-9EC6-623149C4C1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4381-549F-41B7-AB4B-BDED09E6F4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60C4-F313-4D9B-887F-2FE9C85129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7AF2-0E98-4626-A917-E86E18BA35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3200400" y="220968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Processus d’améli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62F6-9403-4DE4-AF10-79564B7016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j0399245"/>
          <p:cNvPicPr/>
          <p:nvPr/>
        </p:nvPicPr>
        <p:blipFill>
          <a:blip r:embed="rId1"/>
          <a:stretch/>
        </p:blipFill>
        <p:spPr>
          <a:xfrm>
            <a:off x="4495680" y="121932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lab pic"/>
          <p:cNvPicPr/>
          <p:nvPr/>
        </p:nvPicPr>
        <p:blipFill>
          <a:blip r:embed="rId2"/>
          <a:stretch/>
        </p:blipFill>
        <p:spPr>
          <a:xfrm>
            <a:off x="1219320" y="1219320"/>
            <a:ext cx="3289320" cy="2349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Equipment_3"/>
          <p:cNvPicPr/>
          <p:nvPr/>
        </p:nvPicPr>
        <p:blipFill>
          <a:blip r:embed="rId3"/>
          <a:srcRect l="0" t="0" r="16286" b="0"/>
          <a:stretch/>
        </p:blipFill>
        <p:spPr>
          <a:xfrm>
            <a:off x="4114800" y="3276720"/>
            <a:ext cx="3733920" cy="30477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1"/>
          <p:cNvSpPr/>
          <p:nvPr/>
        </p:nvSpPr>
        <p:spPr>
          <a:xfrm>
            <a:off x="1143000" y="3200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533520" y="1219320"/>
            <a:ext cx="2286000" cy="703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9"/>
          <p:cNvGrpSpPr/>
          <p:nvPr/>
        </p:nvGrpSpPr>
        <p:grpSpPr>
          <a:xfrm>
            <a:off x="2209680" y="2057400"/>
            <a:ext cx="4876920" cy="3206880"/>
            <a:chOff x="2209680" y="2057400"/>
            <a:chExt cx="4876920" cy="3206880"/>
          </a:xfrm>
        </p:grpSpPr>
        <p:sp>
          <p:nvSpPr>
            <p:cNvPr id="193" name="AutoShape 18"/>
            <p:cNvSpPr/>
            <p:nvPr/>
          </p:nvSpPr>
          <p:spPr>
            <a:xfrm>
              <a:off x="2209680" y="2057400"/>
              <a:ext cx="4876920" cy="32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06518"/>
            <p:cNvSpPr/>
            <p:nvPr/>
          </p:nvSpPr>
          <p:spPr>
            <a:xfrm>
              <a:off x="3865320" y="2508840"/>
              <a:ext cx="1566360" cy="1566360"/>
            </a:xfrm>
            <a:prstGeom prst="pie">
              <a:avLst/>
            </a:pr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06524"/>
            <p:cNvSpPr/>
            <p:nvPr/>
          </p:nvSpPr>
          <p:spPr>
            <a:xfrm rot="5400000">
              <a:off x="4233960" y="2877840"/>
              <a:ext cx="1566360" cy="1566360"/>
            </a:xfrm>
            <a:prstGeom prst="pie">
              <a:avLst/>
            </a:pr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06519"/>
            <p:cNvSpPr/>
            <p:nvPr/>
          </p:nvSpPr>
          <p:spPr>
            <a:xfrm rot="10800000">
              <a:off x="3864960" y="3246120"/>
              <a:ext cx="1566360" cy="156636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106521"/>
            <p:cNvSpPr/>
            <p:nvPr/>
          </p:nvSpPr>
          <p:spPr>
            <a:xfrm rot="16200000">
              <a:off x="3496680" y="2877480"/>
              <a:ext cx="1566360" cy="1566360"/>
            </a:xfrm>
            <a:prstGeom prst="pie">
              <a:avLst/>
            </a:prstGeom>
            <a:solidFill>
              <a:srgbClr val="8a8ae6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06516"/>
            <p:cNvSpPr/>
            <p:nvPr/>
          </p:nvSpPr>
          <p:spPr>
            <a:xfrm>
              <a:off x="5065920" y="26528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106517"/>
            <p:cNvSpPr/>
            <p:nvPr/>
          </p:nvSpPr>
          <p:spPr>
            <a:xfrm>
              <a:off x="3642480" y="40795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06520"/>
            <p:cNvSpPr/>
            <p:nvPr/>
          </p:nvSpPr>
          <p:spPr>
            <a:xfrm>
              <a:off x="3640320" y="26546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106523"/>
            <p:cNvSpPr/>
            <p:nvPr/>
          </p:nvSpPr>
          <p:spPr>
            <a:xfrm>
              <a:off x="5066640" y="40777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29"/>
          <p:cNvSpPr/>
          <p:nvPr/>
        </p:nvSpPr>
        <p:spPr>
          <a:xfrm>
            <a:off x="228600" y="4572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Nouvelles tendances – outil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219320" y="3429000"/>
            <a:ext cx="2895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ptimisation d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’espac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du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emp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et de l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’activité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ans le but d’améliorer les circuits du flux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C62F-2306-4531-A45A-BAB041A2A7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lean_5_spag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800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lean_4_spag"/>
          <p:cNvPicPr/>
          <p:nvPr/>
        </p:nvPicPr>
        <p:blipFill>
          <a:blip r:embed="rId2"/>
          <a:stretch/>
        </p:blipFill>
        <p:spPr>
          <a:xfrm>
            <a:off x="5335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533520" y="533520"/>
            <a:ext cx="83818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Flux de travail et maintenance par les techniciens d’hémo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533520" y="1143000"/>
            <a:ext cx="8381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0000ff"/>
                </a:solidFill>
                <a:latin typeface="Verdana"/>
              </a:rPr>
              <a:t>Pre Lean                               Post 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F7AE-A701-4F7A-A69A-E6DF4482AB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Nouvelles tendances – outils  d’améli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Méthodologie planifiant un projet en vue de mettre en œuvre des changements et des améliorations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six-sigma"/>
          <p:cNvPicPr/>
          <p:nvPr/>
        </p:nvPicPr>
        <p:blipFill>
          <a:blip r:embed="rId1"/>
          <a:stretch/>
        </p:blipFill>
        <p:spPr>
          <a:xfrm>
            <a:off x="3886200" y="4649760"/>
            <a:ext cx="2305080" cy="1541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EB42-498C-4CD6-B17C-620D02F622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Six Sigma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essus organisés pour aider à la prise de décision pour l’amélioration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éfin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esu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naly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mélio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six_sigma_idea"/>
          <p:cNvPicPr/>
          <p:nvPr/>
        </p:nvPicPr>
        <p:blipFill>
          <a:blip r:embed="rId1"/>
          <a:stretch/>
        </p:blipFill>
        <p:spPr>
          <a:xfrm>
            <a:off x="5276880" y="2666880"/>
            <a:ext cx="3570120" cy="358164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6"/>
          <p:cNvSpPr/>
          <p:nvPr/>
        </p:nvSpPr>
        <p:spPr>
          <a:xfrm rot="16863600">
            <a:off x="2857320" y="3085560"/>
            <a:ext cx="4343400" cy="213336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285840 h 2133360"/>
              <a:gd name="textAreaBottom" fmla="*/ 18475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101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F56F-C8DA-4A6F-8872-9DA0C65400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Qu’est ce que la qualité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57200" y="16765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« la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onformité aux exigences,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non pas ce qui est bon ou beau »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Philip Crosby photo"/>
          <p:cNvPicPr/>
          <p:nvPr/>
        </p:nvPicPr>
        <p:blipFill>
          <a:blip r:embed="rId1"/>
          <a:stretch/>
        </p:blipFill>
        <p:spPr>
          <a:xfrm>
            <a:off x="533520" y="3200400"/>
            <a:ext cx="1993680" cy="25909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2590920" y="3657600"/>
            <a:ext cx="624816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 Absolutes of Quality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632E-4CB9-49F0-A90F-A8A3EBC87B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Arial"/>
              </a:rPr>
              <a:t>éfinition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s indicateurs de qualité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Les mesures établies utilisées pour déterminer à quel point une organisation répond aux besoins et aux attentes opérationnelles et de perfor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9001:2000 (5.4.1; 8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15189:2007 (4.12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C6DA-95D6-46D7-ABAE-617479E502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Donc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es indicateurs de qualité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onnent une information sur la performance des proces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terminent la qualité de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ettent en avant les points qui peuvent être préoccu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dentifient les domaines dans lesquels une investigation supplémentaire est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istent les changements dans le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0909-8463-421E-9EDA-1F59E9A1C2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urer la performanc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ins d’indicateurs, c’est mieux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lier les indicateurs aux facteurs nécessaires pour réuss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sures basées sur les besoins des clients et des différentes parties pren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s les niveaux du laboratoire sont concernés - commencer par le ha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r en fonction des évolutions de stratégie et de l’environn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voir des cibles et objectifs établis sur la base de recherches plutôt que sur une estimation arbitraire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6D36-D438-448C-B113-3C877CFD2F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1" descr="j0427771"/>
          <p:cNvPicPr/>
          <p:nvPr/>
        </p:nvPicPr>
        <p:blipFill>
          <a:blip r:embed="rId1"/>
          <a:stretch/>
        </p:blipFill>
        <p:spPr>
          <a:xfrm>
            <a:off x="5497560" y="1676520"/>
            <a:ext cx="3570120" cy="441936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Huit étapes pour développer de bon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54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vi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thodolog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’accept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terpré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e l’indic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s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’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e sor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E85A-EC1D-4457-BECA-988214B02C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SECRET d’une équipe d’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572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ngagez les personnes qui font le travail car elles savent ce qu’elles fon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laboratory_botswana"/>
          <p:cNvPicPr/>
          <p:nvPr/>
        </p:nvPicPr>
        <p:blipFill>
          <a:blip r:embed="rId1"/>
          <a:srcRect l="0" t="0" r="30479" b="0"/>
          <a:stretch/>
        </p:blipFill>
        <p:spPr>
          <a:xfrm>
            <a:off x="5029200" y="1981080"/>
            <a:ext cx="3578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E9DA-12E6-4096-8454-16644063BF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, les participants seront en mesu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historique des processu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importance des processus d’amélioration dans le maintien de la qualit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pliquer la nécessité d’avoir des outils pour contrôler les processus de laboratoire afin de pouvoir identifier les problèmes et les résou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BBA5-FED1-49EB-B2F6-621DFD4AB5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aractéris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3" descr="Untitled-27"/>
          <p:cNvPicPr/>
          <p:nvPr/>
        </p:nvPicPr>
        <p:blipFill>
          <a:blip r:embed="rId1"/>
          <a:stretch/>
        </p:blipFill>
        <p:spPr>
          <a:xfrm>
            <a:off x="838080" y="1447920"/>
            <a:ext cx="723924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491A-C9C5-4BB4-92FC-FD7BE3AC78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gard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839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« Beaucoup d’organisations passent des milliers d’heures à collecter et interpréter des données. Cependant, beaucoup de ces heures ne sont rien de plus qu’une perte de temps car elles analysent de mauvaises mesures, conduisant à prendre des décisions erronées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1143000" y="4876920"/>
            <a:ext cx="7620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br>
              <a:rPr sz="2400"/>
            </a:br>
            <a:r>
              <a:rPr b="0" i="1" lang="fr-FR" sz="2000" spc="-1" strike="noStrike">
                <a:solidFill>
                  <a:srgbClr val="000000"/>
                </a:solidFill>
                <a:latin typeface="Verdana"/>
              </a:rPr>
              <a:t>Using the Right Metrics to Drive World Class Performance</a:t>
            </a:r>
            <a:br>
              <a:rPr sz="20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43AD-77EF-49BF-AAC8-3B3B938364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Indicateurs dénués de s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j0290897[1]"/>
          <p:cNvPicPr/>
          <p:nvPr/>
        </p:nvPicPr>
        <p:blipFill>
          <a:blip r:embed="rId1"/>
          <a:stretch/>
        </p:blipFill>
        <p:spPr>
          <a:xfrm rot="20365800">
            <a:off x="685440" y="2209320"/>
            <a:ext cx="3962520" cy="3730680"/>
          </a:xfrm>
          <a:prstGeom prst="rect">
            <a:avLst/>
          </a:prstGeom>
          <a:ln w="0">
            <a:noFill/>
          </a:ln>
        </p:spPr>
      </p:pic>
      <p:grpSp>
        <p:nvGrpSpPr>
          <p:cNvPr id="262" name="Group 4"/>
          <p:cNvGrpSpPr/>
          <p:nvPr/>
        </p:nvGrpSpPr>
        <p:grpSpPr>
          <a:xfrm>
            <a:off x="2665800" y="1447920"/>
            <a:ext cx="5682960" cy="1156320"/>
            <a:chOff x="2665800" y="1447920"/>
            <a:chExt cx="5682960" cy="1156320"/>
          </a:xfrm>
        </p:grpSpPr>
        <p:sp>
          <p:nvSpPr>
            <p:cNvPr id="263" name="Text Box 5"/>
            <p:cNvSpPr/>
            <p:nvPr/>
          </p:nvSpPr>
          <p:spPr>
            <a:xfrm>
              <a:off x="2665800" y="1447920"/>
              <a:ext cx="461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culture urine] * [glucose] * [INR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6"/>
            <p:cNvSpPr/>
            <p:nvPr/>
          </p:nvSpPr>
          <p:spPr>
            <a:xfrm>
              <a:off x="2819520" y="2057400"/>
              <a:ext cx="426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7"/>
            <p:cNvSpPr/>
            <p:nvPr/>
          </p:nvSpPr>
          <p:spPr>
            <a:xfrm>
              <a:off x="2743200" y="2133720"/>
              <a:ext cx="441972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NUPA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hr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 * [Téléphone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minutes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7377120" y="1743120"/>
              <a:ext cx="9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Times New Roman"/>
                </a:rPr>
                <a:t>X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9"/>
          <p:cNvSpPr/>
          <p:nvPr/>
        </p:nvSpPr>
        <p:spPr>
          <a:xfrm>
            <a:off x="4952880" y="3352680"/>
            <a:ext cx="3733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Lucida Calligraphy"/>
              </a:rPr>
              <a:t>Ce n’est pas parce qu’un ordinateur peut calculer une valeur qu’il devrait le fa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FF2F-8EA8-40E0-A617-81E151A4EC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s d’indicateurs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80880" y="933480"/>
          <a:ext cx="8153640" cy="5481720"/>
        </p:xfrm>
        <a:graphic>
          <a:graphicData uri="http://schemas.openxmlformats.org/drawingml/2006/table">
            <a:tbl>
              <a:tblPr/>
              <a:tblGrid>
                <a:gridCol w="2019600"/>
                <a:gridCol w="1790640"/>
                <a:gridCol w="2466720"/>
                <a:gridCol w="18766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è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é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Analyse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st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84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Demande d’analyse exacte et approprié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Identification adéquate du pat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Exactitude des tests rapi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Valeurs critiques rend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emps nécessaire pour premiers résult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Exactitude de l’information sur échantill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corrélation cytologie/biopsie cervic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rôle du diabète </a:t>
                      </a:r>
                      <a:br>
                        <a:rPr sz="1600"/>
                      </a:b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recherche d’ hyperlipidém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amination hémocul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BB0F-ACCC-4448-9109-415AE27A8A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2438280" y="4572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762120" y="5791320"/>
            <a:ext cx="77724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Reference: Hilborne L. Developing a core set of laboratory based quality indicators. IQLM Conference; 2005 Apr 29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3" descr="Untitled-26"/>
          <p:cNvPicPr/>
          <p:nvPr/>
        </p:nvPicPr>
        <p:blipFill>
          <a:blip r:embed="rId1"/>
          <a:stretch/>
        </p:blipFill>
        <p:spPr>
          <a:xfrm>
            <a:off x="685800" y="685800"/>
            <a:ext cx="678168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C0D5-BB20-460E-800E-DBBE9C9535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Verdana"/>
              </a:rPr>
              <a:t>Prudence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4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héoriquement, le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 de résultat pour le pati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évaluent mieux la qualité, mais son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plus difficiles à mesurer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p d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nt un grand nombre de 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écessitent des périodes de recueil étend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09480" y="4952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vid H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dicare Quality Improvement Bad Apples or Bad System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AMA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2003;289:354-35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5588-1E70-4A03-8F7B-87757048F8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9"/>
          <p:cNvSpPr/>
          <p:nvPr/>
        </p:nvSpPr>
        <p:spPr>
          <a:xfrm>
            <a:off x="4952880" y="1849320"/>
            <a:ext cx="3962520" cy="3733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22"/>
          <p:cNvGrpSpPr/>
          <p:nvPr/>
        </p:nvGrpSpPr>
        <p:grpSpPr>
          <a:xfrm>
            <a:off x="4674240" y="1620720"/>
            <a:ext cx="4464720" cy="4572000"/>
            <a:chOff x="4674240" y="1620720"/>
            <a:chExt cx="4464720" cy="4572000"/>
          </a:xfrm>
        </p:grpSpPr>
        <p:sp>
          <p:nvSpPr>
            <p:cNvPr id="286" name="AutoShape 21"/>
            <p:cNvSpPr/>
            <p:nvPr/>
          </p:nvSpPr>
          <p:spPr>
            <a:xfrm>
              <a:off x="4876920" y="1620720"/>
              <a:ext cx="4057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39289"/>
            <p:cNvSpPr/>
            <p:nvPr/>
          </p:nvSpPr>
          <p:spPr>
            <a:xfrm>
              <a:off x="5595120" y="1963440"/>
              <a:ext cx="2621520" cy="2954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39290"/>
            <p:cNvSpPr/>
            <p:nvPr/>
          </p:nvSpPr>
          <p:spPr>
            <a:xfrm rot="7200000">
              <a:off x="5787720" y="2828160"/>
              <a:ext cx="2954160" cy="26218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39292"/>
            <p:cNvSpPr/>
            <p:nvPr/>
          </p:nvSpPr>
          <p:spPr>
            <a:xfrm rot="14400000">
              <a:off x="5070240" y="2831040"/>
              <a:ext cx="2954520" cy="2621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39287"/>
            <p:cNvSpPr/>
            <p:nvPr/>
          </p:nvSpPr>
          <p:spPr>
            <a:xfrm>
              <a:off x="762408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39288"/>
            <p:cNvSpPr/>
            <p:nvPr/>
          </p:nvSpPr>
          <p:spPr>
            <a:xfrm>
              <a:off x="6379920" y="493236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39291"/>
            <p:cNvSpPr/>
            <p:nvPr/>
          </p:nvSpPr>
          <p:spPr>
            <a:xfrm>
              <a:off x="513576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70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essentiels pour la 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457200" y="154476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1"/>
          <p:cNvSpPr/>
          <p:nvPr/>
        </p:nvSpPr>
        <p:spPr>
          <a:xfrm>
            <a:off x="5029200" y="27637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Amélioration conti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9"/>
          <p:cNvSpPr/>
          <p:nvPr/>
        </p:nvSpPr>
        <p:spPr>
          <a:xfrm>
            <a:off x="152280" y="1620720"/>
            <a:ext cx="4800600" cy="4496040"/>
          </a:xfrm>
          <a:prstGeom prst="rightArrowCallout">
            <a:avLst>
              <a:gd name="adj1" fmla="val 25002"/>
              <a:gd name="adj2" fmla="val 25000"/>
              <a:gd name="adj3" fmla="val 17796"/>
              <a:gd name="adj4" fmla="val 6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0"/>
          <p:cNvSpPr/>
          <p:nvPr/>
        </p:nvSpPr>
        <p:spPr>
          <a:xfrm>
            <a:off x="0" y="1925640"/>
            <a:ext cx="342900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Plan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La direction Participation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4B3B-3324-4D3B-A978-C9167C2B9F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4038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tebulb"/>
          <p:cNvSpPr/>
          <p:nvPr/>
        </p:nvSpPr>
        <p:spPr>
          <a:xfrm>
            <a:off x="4952880" y="838080"/>
            <a:ext cx="4038840" cy="52578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0" y="1219320"/>
            <a:ext cx="6629400" cy="59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tudie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uses primair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 l’err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estion du ri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éfaillances, défaillances potentielles et approximation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, bénéfices, e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 pri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 de l’in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6248520" y="1066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rreur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5181480" y="19051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faillan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2" descr="j0424784"/>
          <p:cNvPicPr/>
          <p:nvPr/>
        </p:nvPicPr>
        <p:blipFill>
          <a:blip r:embed="rId6"/>
          <a:stretch/>
        </p:blipFill>
        <p:spPr>
          <a:xfrm>
            <a:off x="5334120" y="2362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13"/>
          <p:cNvSpPr/>
          <p:nvPr/>
        </p:nvSpPr>
        <p:spPr>
          <a:xfrm>
            <a:off x="6553080" y="1523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Bénéfi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7086600" y="2362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iorité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609480" y="22096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2DBF-B1D7-4D4E-BAC2-7343ED1690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a Direction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bonne direction favorise la culture de l’amélioration 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uvert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s autres ont aussi de bonnes id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ngagem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de parvenir à l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pportunité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 personnel peut partici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10031_lores"/>
          <p:cNvPicPr/>
          <p:nvPr/>
        </p:nvPicPr>
        <p:blipFill>
          <a:blip r:embed="rId1"/>
          <a:srcRect l="4686" t="0" r="0" b="0"/>
          <a:stretch/>
        </p:blipFill>
        <p:spPr>
          <a:xfrm>
            <a:off x="6172200" y="1371600"/>
            <a:ext cx="280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1AB7-82B6-4F90-B1E7-FD91337A41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responsables ne savent pas toujours ce que les employé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av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élioration continue requiert la participation de la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direction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de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’équ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7" descr="j0216070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495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PHIL_2104_lores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7E25-48A1-4B70-9D3D-36601FD40E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Scén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ous avez mis en œuvre au laboratoire un nouveau test pour la détermination des CD4. Votre personnel est formé et utilise aisément ce test. Il a été validé, des résultats ont été rendus et il semble bien fonctio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57200" y="4038480"/>
            <a:ext cx="8305920" cy="23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mment êtes vous certain que le test fonctionne bien maintenant, et continuera à bien fonctionner dans le futur ?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F5A6-DD26-48C4-AE46-D9A592480C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685800" y="149400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jet tous les 6 mo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 calendrier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7" descr="Untitled-24"/>
          <p:cNvPicPr/>
          <p:nvPr/>
        </p:nvPicPr>
        <p:blipFill>
          <a:blip r:embed="rId1"/>
          <a:stretch/>
        </p:blipFill>
        <p:spPr>
          <a:xfrm>
            <a:off x="838080" y="2971800"/>
            <a:ext cx="73630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A0AA-254E-4915-A9B2-A61A4E8731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8" descr="5721_lores"/>
          <p:cNvPicPr/>
          <p:nvPr/>
        </p:nvPicPr>
        <p:blipFill>
          <a:blip r:embed="rId1"/>
          <a:srcRect l="26742" t="0" r="0" b="0"/>
          <a:stretch/>
        </p:blipFill>
        <p:spPr>
          <a:xfrm>
            <a:off x="4724280" y="2666880"/>
            <a:ext cx="3930840" cy="354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meeting_africa"/>
          <p:cNvPicPr/>
          <p:nvPr/>
        </p:nvPicPr>
        <p:blipFill>
          <a:blip r:embed="rId2"/>
          <a:srcRect l="28138" t="0" r="0" b="0"/>
          <a:stretch/>
        </p:blipFill>
        <p:spPr>
          <a:xfrm>
            <a:off x="1143000" y="2666880"/>
            <a:ext cx="3724200" cy="35816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600200" y="1566720"/>
            <a:ext cx="6095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Utiliser une approche d’équ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Impliquer le personnel technique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FB48-CCE3-46F1-9124-DB24B4A2D4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7" descr="j0316798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30430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5"/>
          <p:cNvSpPr/>
          <p:nvPr/>
        </p:nvSpPr>
        <p:spPr>
          <a:xfrm>
            <a:off x="1828800" y="137160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Utiliser des outil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838080" y="2286000"/>
            <a:ext cx="3429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u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v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586E-0E76-499B-A88A-02D3671F19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0" descr=""/>
          <p:cNvPicPr/>
          <p:nvPr/>
        </p:nvPicPr>
        <p:blipFill>
          <a:blip r:embed="rId1"/>
          <a:srcRect l="16994" t="4707" r="0" b="14122"/>
          <a:stretch/>
        </p:blipFill>
        <p:spPr>
          <a:xfrm>
            <a:off x="609480" y="1828800"/>
            <a:ext cx="3657600" cy="27795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3" descr="manuals"/>
          <p:cNvPicPr/>
          <p:nvPr/>
        </p:nvPicPr>
        <p:blipFill>
          <a:blip r:embed="rId2"/>
          <a:srcRect l="63519" t="15741" r="0" b="15741"/>
          <a:stretch/>
        </p:blipFill>
        <p:spPr>
          <a:xfrm>
            <a:off x="4800600" y="3809880"/>
            <a:ext cx="1996920" cy="23878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457200" y="914400"/>
            <a:ext cx="80773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riger ou prévenir les pratiques médioc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ndre compte des progrè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x responsables et 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17" descr="5749_thumb"/>
          <p:cNvPicPr/>
          <p:nvPr/>
        </p:nvPicPr>
        <p:blipFill>
          <a:blip r:embed="rId3"/>
          <a:stretch/>
        </p:blipFill>
        <p:spPr>
          <a:xfrm>
            <a:off x="6553080" y="190512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12"/>
          <p:cNvSpPr/>
          <p:nvPr/>
        </p:nvSpPr>
        <p:spPr>
          <a:xfrm>
            <a:off x="4038480" y="1905120"/>
            <a:ext cx="2819520" cy="20574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0"/>
          <p:cNvSpPr/>
          <p:nvPr/>
        </p:nvSpPr>
        <p:spPr>
          <a:xfrm>
            <a:off x="2514600" y="2666880"/>
            <a:ext cx="1523880" cy="16002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4FBC-514C-48CA-AA25-E4420A2892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9" descr="6216_thumb"/>
          <p:cNvPicPr/>
          <p:nvPr/>
        </p:nvPicPr>
        <p:blipFill>
          <a:blip r:embed="rId1"/>
          <a:stretch/>
        </p:blipFill>
        <p:spPr>
          <a:xfrm>
            <a:off x="6858000" y="5105520"/>
            <a:ext cx="1905120" cy="12380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j0409007"/>
          <p:cNvPicPr/>
          <p:nvPr/>
        </p:nvPicPr>
        <p:blipFill>
          <a:blip r:embed="rId2"/>
          <a:stretch/>
        </p:blipFill>
        <p:spPr>
          <a:xfrm>
            <a:off x="5334120" y="4495680"/>
            <a:ext cx="1322280" cy="198144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’information disponible pour étud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ggestions ou plaintes des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les erreurs provenant du programme de gestion des problè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blèmes identifiés lors d’audits inter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11"/>
          <p:cNvSpPr txBox="1"/>
          <p:nvPr/>
        </p:nvSpPr>
        <p:spPr>
          <a:xfrm>
            <a:off x="5638680" y="5410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6059-ACA3-4028-AB9E-17BB58590C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 possible concevez une étude dont les résultats seront statistiquement mesurables.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4495680" y="1752480"/>
          <a:ext cx="4089600" cy="27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752480"/>
                    <a:ext cx="4089600" cy="27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9" name="Picture 11" descr="lean_6_pre"/>
          <p:cNvPicPr/>
          <p:nvPr/>
        </p:nvPicPr>
        <p:blipFill>
          <a:blip r:embed="rId3"/>
          <a:stretch/>
        </p:blipFill>
        <p:spPr>
          <a:xfrm>
            <a:off x="1447920" y="2438280"/>
            <a:ext cx="2958840" cy="29718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2" descr="lean_7_post"/>
          <p:cNvPicPr/>
          <p:nvPr/>
        </p:nvPicPr>
        <p:blipFill>
          <a:blip r:embed="rId4"/>
          <a:stretch/>
        </p:blipFill>
        <p:spPr>
          <a:xfrm>
            <a:off x="5029200" y="2468520"/>
            <a:ext cx="2971800" cy="29066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14"/>
          <p:cNvSpPr/>
          <p:nvPr/>
        </p:nvSpPr>
        <p:spPr>
          <a:xfrm>
            <a:off x="7621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e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48769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ost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9C61-85A7-4C62-B02E-B215C6B90C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7" descr="j0157047"/>
          <p:cNvPicPr/>
          <p:nvPr/>
        </p:nvPicPr>
        <p:blipFill>
          <a:blip r:embed="rId1"/>
          <a:stretch/>
        </p:blipFill>
        <p:spPr>
          <a:xfrm>
            <a:off x="5334120" y="1447920"/>
            <a:ext cx="2838240" cy="4800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urée des 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632448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Utiliser un indicateur tant qu’il donne une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information utile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78840" y="4495680"/>
            <a:ext cx="59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Ne restez pas bloqué</a:t>
            </a:r>
            <a:br>
              <a:rPr sz="3600"/>
            </a:b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 avec vo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BE0D-2E37-4298-8488-F59A7E1EF4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"/>
          <p:cNvSpPr/>
          <p:nvPr/>
        </p:nvSpPr>
        <p:spPr>
          <a:xfrm>
            <a:off x="990720" y="2209680"/>
            <a:ext cx="3657600" cy="3429000"/>
          </a:xfrm>
          <a:prstGeom prst="ellips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4"/>
          <p:cNvSpPr/>
          <p:nvPr/>
        </p:nvSpPr>
        <p:spPr>
          <a:xfrm>
            <a:off x="1981080" y="1523880"/>
            <a:ext cx="160020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lanif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5"/>
          <p:cNvSpPr/>
          <p:nvPr/>
        </p:nvSpPr>
        <p:spPr>
          <a:xfrm>
            <a:off x="3429000" y="3048120"/>
            <a:ext cx="152388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F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6"/>
          <p:cNvSpPr/>
          <p:nvPr/>
        </p:nvSpPr>
        <p:spPr>
          <a:xfrm>
            <a:off x="30492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Ag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1447920" y="4343400"/>
            <a:ext cx="2590560" cy="2209680"/>
          </a:xfrm>
          <a:custGeom>
            <a:avLst/>
            <a:gdLst>
              <a:gd name="textAreaLeft" fmla="*/ 693720 w 2590560"/>
              <a:gd name="textAreaRight" fmla="*/ 1896840 w 2590560"/>
              <a:gd name="textAreaTop" fmla="*/ 591480 h 2209680"/>
              <a:gd name="textAreaBottom" fmla="*/ 16182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ubRRectCallout"/>
          <p:cNvSpPr/>
          <p:nvPr/>
        </p:nvSpPr>
        <p:spPr>
          <a:xfrm>
            <a:off x="5257800" y="1143000"/>
            <a:ext cx="3581280" cy="2590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haque étape est essentielle pour conserver la qualité du cycl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" descr="head"/>
          <p:cNvPicPr/>
          <p:nvPr/>
        </p:nvPicPr>
        <p:blipFill>
          <a:blip r:embed="rId1"/>
          <a:stretch/>
        </p:blipFill>
        <p:spPr>
          <a:xfrm>
            <a:off x="4572000" y="3657600"/>
            <a:ext cx="202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424D-F80D-4D84-9B6C-819233A23E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qualité comp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mélioration continue est le coeur de la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714D-09ED-457A-84ED-E74A424187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181120" y="1523880"/>
            <a:ext cx="3962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estions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63" descr="bulles_def"/>
          <p:cNvPicPr/>
          <p:nvPr/>
        </p:nvPicPr>
        <p:blipFill>
          <a:blip r:embed="rId1"/>
          <a:stretch/>
        </p:blipFill>
        <p:spPr>
          <a:xfrm>
            <a:off x="228600" y="114300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AF4A-CC67-4794-B0D6-BCF2024E80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7E27-C256-4059-A602-B42FD5C65B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W. Edwards Deming</a:t>
            </a:r>
            <a:br>
              <a:rPr sz="4400"/>
            </a:br>
            <a:r>
              <a:rPr b="0" lang="fr-FR" sz="4400" spc="-1" strike="noStrike">
                <a:solidFill>
                  <a:srgbClr val="00007d"/>
                </a:solidFill>
                <a:latin typeface="Arial"/>
              </a:rPr>
              <a:t>14 points pour la qualité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32000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Garder en permanence à l’esprit l’objectif d’améliora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méliorer toujours et consta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Deming"/>
          <p:cNvPicPr/>
          <p:nvPr/>
        </p:nvPicPr>
        <p:blipFill>
          <a:blip r:embed="rId1"/>
          <a:stretch/>
        </p:blipFill>
        <p:spPr>
          <a:xfrm>
            <a:off x="7162920" y="533520"/>
            <a:ext cx="1666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8" name="Text Box 7"/>
          <p:cNvSpPr/>
          <p:nvPr/>
        </p:nvSpPr>
        <p:spPr>
          <a:xfrm>
            <a:off x="380880" y="190512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ux points abordent l’amélioration continu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C2C5-D195-45FE-B6AB-F08C14DCE5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Cycle de De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352440" y="269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352440" y="269892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8"/>
          <p:cNvSpPr/>
          <p:nvPr/>
        </p:nvSpPr>
        <p:spPr>
          <a:xfrm>
            <a:off x="-1371600" y="492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9" descr="Untitled-22"/>
          <p:cNvPicPr/>
          <p:nvPr/>
        </p:nvPicPr>
        <p:blipFill>
          <a:blip r:embed="rId1"/>
          <a:stretch/>
        </p:blipFill>
        <p:spPr>
          <a:xfrm>
            <a:off x="1295280" y="1217520"/>
            <a:ext cx="58676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8CA3-D834-4148-84DE-83205D3B89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Amélioration continue</a:t>
            </a:r>
            <a:br>
              <a:rPr sz="3600"/>
            </a:b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(ISO15189: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5715000" y="1371600"/>
            <a:ext cx="3048120" cy="1828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velopp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un plan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our un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amél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0" y="1752480"/>
            <a:ext cx="3886200" cy="312444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Identifier l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sourc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d’erreur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potentielle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6248520" y="3429000"/>
            <a:ext cx="2361960" cy="1295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ettre e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euv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6095880" y="4800600"/>
            <a:ext cx="2514600" cy="1752480"/>
          </a:xfrm>
          <a:prstGeom prst="flowChartPunchedTap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voir l’efficacité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de l’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3124080" y="3581280"/>
            <a:ext cx="2895840" cy="26672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juster l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plan d’actio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et modifi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le systè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 rot="20602200">
            <a:off x="2824200" y="1784160"/>
            <a:ext cx="3116160" cy="11430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2"/>
          <p:cNvGrpSpPr/>
          <p:nvPr/>
        </p:nvGrpSpPr>
        <p:grpSpPr>
          <a:xfrm>
            <a:off x="5116320" y="3429000"/>
            <a:ext cx="2341080" cy="2209680"/>
            <a:chOff x="5116320" y="3429000"/>
            <a:chExt cx="2341080" cy="2209680"/>
          </a:xfrm>
        </p:grpSpPr>
        <p:sp>
          <p:nvSpPr>
            <p:cNvPr id="168" name="AutoShape 11"/>
            <p:cNvSpPr/>
            <p:nvPr/>
          </p:nvSpPr>
          <p:spPr>
            <a:xfrm>
              <a:off x="5181480" y="3429000"/>
              <a:ext cx="221004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89455"/>
            <p:cNvSpPr/>
            <p:nvPr/>
          </p:nvSpPr>
          <p:spPr>
            <a:xfrm>
              <a:off x="5572800" y="359460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89456"/>
            <p:cNvSpPr/>
            <p:nvPr/>
          </p:nvSpPr>
          <p:spPr>
            <a:xfrm rot="7200000">
              <a:off x="5767920" y="3931920"/>
              <a:ext cx="1427760" cy="142812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89458"/>
            <p:cNvSpPr/>
            <p:nvPr/>
          </p:nvSpPr>
          <p:spPr>
            <a:xfrm rot="14400000">
              <a:off x="5377320" y="393372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89453"/>
            <p:cNvSpPr/>
            <p:nvPr/>
          </p:nvSpPr>
          <p:spPr>
            <a:xfrm>
              <a:off x="667764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89454"/>
            <p:cNvSpPr/>
            <p:nvPr/>
          </p:nvSpPr>
          <p:spPr>
            <a:xfrm>
              <a:off x="6000120" y="502956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89457"/>
            <p:cNvSpPr/>
            <p:nvPr/>
          </p:nvSpPr>
          <p:spPr>
            <a:xfrm>
              <a:off x="532260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AutoShape 19"/>
          <p:cNvSpPr/>
          <p:nvPr/>
        </p:nvSpPr>
        <p:spPr>
          <a:xfrm flipH="1" rot="16200000">
            <a:off x="7657920" y="3009600"/>
            <a:ext cx="1066680" cy="53352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3298-354F-4BAC-B1F2-84E44072BD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utils conventionnels d’améli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s inter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Évaluation externe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 externe et accréd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Opportunités d’amélio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dicateur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6D9D-0140-4EE6-8B07-9C36F09858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r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4" descr="Untitled-28"/>
          <p:cNvPicPr/>
          <p:nvPr/>
        </p:nvPicPr>
        <p:blipFill>
          <a:blip r:embed="rId1"/>
          <a:stretch/>
        </p:blipFill>
        <p:spPr>
          <a:xfrm>
            <a:off x="609480" y="1422360"/>
            <a:ext cx="739152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2:11:17Z</dcterms:modified>
  <cp:revision>140</cp:revision>
  <dc:subject/>
  <dc:title>Slide 1</dc:title>
</cp:coreProperties>
</file>