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41.png" ContentType="image/png"/>
  <Override PartName="/ppt/media/image13.jpeg" ContentType="image/jpeg"/>
  <Override PartName="/ppt/media/image23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5.jpeg" ContentType="image/jpeg"/>
  <Override PartName="/ppt/media/image32.png" ContentType="image/png"/>
  <Override PartName="/ppt/media/image1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9AA2-D911-4A6C-930A-1E93150A7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48AA-3AF9-46C8-A29D-725B8B7CB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AF3E-B82F-4CAF-8F01-117973C45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2723-8E2F-4A9A-A873-2E8420490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B937-B78A-4C17-A12C-1062C9E69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641C-2B65-40C9-B4A4-D150FFA09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BCD8-7472-4AAF-86BE-9837A3E3A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8F43-2019-4CA2-88D1-3D028FCCE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FB29-6B4C-49F3-B328-F05B3B10F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6A08-0241-4D3E-8BC5-B7925037D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634F-6D03-4687-AF74-DC94B70D8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FC8B-320B-47DC-B7B3-14A035E49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15EC-0C49-4EBB-B214-72BE23754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F2FF-77FB-4A34-96EC-921E6A7A5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8745-EC10-4718-8AED-888DACF9F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A0936-13A0-4475-8970-5789A0144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010B9-09E4-431B-B461-5F7E26391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51F95-13AD-4187-A9A1-44087097A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6AC0C-E90E-48A4-AF45-1AD66674C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444C-85AC-4697-8C2C-E90699095A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AE88-A24D-44FB-AD93-A04504C343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6944-7000-43B1-8C0F-A8A4E0B047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4502-3E9D-47DF-A607-698759E2A3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E148-3F8D-4EA0-8A5D-BADBCDE336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4B00-1F3B-4E86-AE20-070592EA64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3A85-728D-45A6-A35D-DA4F072418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4DC64-D301-485D-9CA3-1C8192DFB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ABD-539B-4F95-9D1D-CC2E2BF2B3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D8C8-208B-499A-8D50-E84EF87F2C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746-D19E-476C-B811-729DDA53F1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CB8-6EDF-4CE5-96AF-426BB371D1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931C-D2FD-4FF8-8D90-0ED574A8AC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7F332-0483-480A-858E-E4A69A644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5ED0B-083A-4E83-990A-6C107EF51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133E8-1EAE-479C-ACC1-3FB7F3BEE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8631F-78E4-4814-8067-32241B8EA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AE20D-D2F7-448B-BEBE-B49F4EC92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05F88-3824-4944-9554-75AA3E45A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64601-1882-4A90-8D99-D9FC84C34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CFD8-1AEE-4656-96DA-9FD2C22E68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1801-ED56-491F-8219-39588C0368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1489-D681-4780-863B-2791CF7953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3200400" y="22096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Processus d’améli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5D20-407A-4C4C-9491-94900B4C82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1219320"/>
            <a:ext cx="2286000" cy="7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2209680" y="2057400"/>
            <a:ext cx="4876920" cy="3206880"/>
            <a:chOff x="2209680" y="2057400"/>
            <a:chExt cx="4876920" cy="3206880"/>
          </a:xfrm>
        </p:grpSpPr>
        <p:sp>
          <p:nvSpPr>
            <p:cNvPr id="193" name="AutoShape 18"/>
            <p:cNvSpPr/>
            <p:nvPr/>
          </p:nvSpPr>
          <p:spPr>
            <a:xfrm>
              <a:off x="2209680" y="2057400"/>
              <a:ext cx="48769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6518"/>
            <p:cNvSpPr/>
            <p:nvPr/>
          </p:nvSpPr>
          <p:spPr>
            <a:xfrm>
              <a:off x="3865320" y="2508840"/>
              <a:ext cx="1566360" cy="1566360"/>
            </a:xfrm>
            <a:prstGeom prst="pi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6524"/>
            <p:cNvSpPr/>
            <p:nvPr/>
          </p:nvSpPr>
          <p:spPr>
            <a:xfrm rot="5400000">
              <a:off x="4233960" y="2877840"/>
              <a:ext cx="1566360" cy="1566360"/>
            </a:xfrm>
            <a:prstGeom prst="pi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6519"/>
            <p:cNvSpPr/>
            <p:nvPr/>
          </p:nvSpPr>
          <p:spPr>
            <a:xfrm rot="10800000">
              <a:off x="3864960" y="3246120"/>
              <a:ext cx="1566360" cy="156636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6521"/>
            <p:cNvSpPr/>
            <p:nvPr/>
          </p:nvSpPr>
          <p:spPr>
            <a:xfrm rot="16200000">
              <a:off x="3496680" y="2877480"/>
              <a:ext cx="1566360" cy="1566360"/>
            </a:xfrm>
            <a:prstGeom prst="pie">
              <a:avLst/>
            </a:pr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6516"/>
            <p:cNvSpPr/>
            <p:nvPr/>
          </p:nvSpPr>
          <p:spPr>
            <a:xfrm>
              <a:off x="5065920" y="26528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6517"/>
            <p:cNvSpPr/>
            <p:nvPr/>
          </p:nvSpPr>
          <p:spPr>
            <a:xfrm>
              <a:off x="3642480" y="40795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6520"/>
            <p:cNvSpPr/>
            <p:nvPr/>
          </p:nvSpPr>
          <p:spPr>
            <a:xfrm>
              <a:off x="3640320" y="26546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6523"/>
            <p:cNvSpPr/>
            <p:nvPr/>
          </p:nvSpPr>
          <p:spPr>
            <a:xfrm>
              <a:off x="5066640" y="40777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9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Nouvelles tendances – outil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219320" y="342900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timisation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espa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d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mp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l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’activ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ans le but d’améliorer les circuits du flux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F70A-8891-4484-B6C0-311F0E9767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Flux de travail et maintenance par les techniciens d’hém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ff"/>
                </a:solidFill>
                <a:latin typeface="Verdana"/>
              </a:rPr>
              <a:t>Pre Lean                               Post 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04B9-1E2C-4C7C-BF02-73E9FEF34E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Nouvelles tendances – outils  d’améli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éthodologie planifiant un projet en vue de mettre en œuvre des changements et des améliorations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six-sigma"/>
          <p:cNvPicPr/>
          <p:nvPr/>
        </p:nvPicPr>
        <p:blipFill>
          <a:blip r:embed="rId1"/>
          <a:stretch/>
        </p:blipFill>
        <p:spPr>
          <a:xfrm>
            <a:off x="3886200" y="4649760"/>
            <a:ext cx="23050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88CB-5BCA-4F9C-819E-B10429499F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Six Sigma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essus organisés pour aider à la prise de décision pour l’amélior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fin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aly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méli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666880"/>
            <a:ext cx="3570120" cy="3581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 rot="16863600">
            <a:off x="2857320" y="3085560"/>
            <a:ext cx="4343400" cy="213336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360"/>
              <a:gd name="textAreaBottom" fmla="*/ 18475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1439-B6E3-43BA-A4A2-5C0BCFEC26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Qu’est ce que la qualité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76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« la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formité aux exigenc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non pas ce qui est bon ou beau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2004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590920" y="3657600"/>
            <a:ext cx="62481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 Absolutes of Quality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BB27-8AED-41BD-95B9-9F9534D9E8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Arial"/>
              </a:rPr>
              <a:t>éfinition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s indicateurs de qualit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Les mesures établies utilisées pour déterminer à quel point une organisation répond aux besoins et aux attentes opérationnelles et 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9001:2000 (5.4.1; 8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15189:2007 (4.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B759-F583-4F47-B486-6784A743AB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Don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es indicateurs de qu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nt une information sur la performance des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nt la qualité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tent en avant les points qui peuvent être pré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nt les domaines dans lesquels une investigation supplémentaire 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nt les changements dans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FDCF-BC73-40E5-A90F-FD6ECCAD8B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urer la perform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ins d’indicateurs, c’est mieux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lier les indicateurs aux facteurs nécessaires pour réuss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sures basées sur les besoins des clients et des différentes parties pre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niveaux du laboratoire sont concernés - commencer par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r en fonction des évolutions de stratégie et de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oir des cibles et objectifs établis sur la base de recherches plutôt que sur une estimation arbitraire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FBE8-A751-4253-AB3D-C8A5AAE854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j0427771"/>
          <p:cNvPicPr/>
          <p:nvPr/>
        </p:nvPicPr>
        <p:blipFill>
          <a:blip r:embed="rId1"/>
          <a:stretch/>
        </p:blipFill>
        <p:spPr>
          <a:xfrm>
            <a:off x="5497560" y="1676520"/>
            <a:ext cx="357012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Huit étapes pour développer de bon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4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v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hod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’accept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erpré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e l’indic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e sor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35D8-5287-4C6E-805B-DBDF3869B4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SECRET d’une équipe d’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ngagez les personnes qui font le travail car elles savent ce qu’elles fo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198108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C7D4-7383-4135-BB9A-7DA6308EAA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, les participants seront en mesu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historique des processu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importance des processus d’amélioration dans le maintien de la qua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quer la nécessité d’avoir des outils pour contrôler les processus de laboratoire afin de pouvoir identifier les problèmes et les résou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7694-B0AD-4956-9A60-9A6B07A534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ractéris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3" descr="Untitled-27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B071-6307-4153-9541-1A5CE5D44D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gar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Beaucoup d’organisations passent des milliers d’heures à collecter et interpréter des données. Cependant, beaucoup de ces heures ne sont rien de plus qu’une perte de temps car elles analysent de mauvaises mesures, conduisant à prendre des décisions erronées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876920"/>
            <a:ext cx="7620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Using the Right Metrics to Drive World Class Performance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1058-58C4-4739-848D-F9FDAAF2E3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ndicateurs dénués de s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j0290897[1]"/>
          <p:cNvPicPr/>
          <p:nvPr/>
        </p:nvPicPr>
        <p:blipFill>
          <a:blip r:embed="rId1"/>
          <a:stretch/>
        </p:blipFill>
        <p:spPr>
          <a:xfrm rot="20365800">
            <a:off x="685440" y="2209320"/>
            <a:ext cx="396252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4"/>
          <p:cNvGrpSpPr/>
          <p:nvPr/>
        </p:nvGrpSpPr>
        <p:grpSpPr>
          <a:xfrm>
            <a:off x="2665800" y="1447920"/>
            <a:ext cx="5682960" cy="1156320"/>
            <a:chOff x="2665800" y="1447920"/>
            <a:chExt cx="5682960" cy="1156320"/>
          </a:xfrm>
        </p:grpSpPr>
        <p:sp>
          <p:nvSpPr>
            <p:cNvPr id="263" name="Text Box 5"/>
            <p:cNvSpPr/>
            <p:nvPr/>
          </p:nvSpPr>
          <p:spPr>
            <a:xfrm>
              <a:off x="2665800" y="1447920"/>
              <a:ext cx="46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culture urine] * [glucose] * [INR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2819520" y="205740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2743200" y="2133720"/>
              <a:ext cx="44197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NUPA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hr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 * [Téléphone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minute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7377120" y="17431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imes New Roman"/>
                </a:rPr>
                <a:t>X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"/>
          <p:cNvSpPr/>
          <p:nvPr/>
        </p:nvSpPr>
        <p:spPr>
          <a:xfrm>
            <a:off x="4952880" y="335268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Lucida Calligraphy"/>
              </a:rPr>
              <a:t>Ce n’est pas parce qu’un ordinateur peut calculer une valeur qu’il devrait le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F072-39D5-4AB9-AAEB-E221255B56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’indicateurs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933480"/>
          <a:ext cx="8153640" cy="5481720"/>
        </p:xfrm>
        <a:graphic>
          <a:graphicData uri="http://schemas.openxmlformats.org/drawingml/2006/table">
            <a:tbl>
              <a:tblPr/>
              <a:tblGrid>
                <a:gridCol w="2019600"/>
                <a:gridCol w="1790640"/>
                <a:gridCol w="2466720"/>
                <a:gridCol w="1876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è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é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Analys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t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Demande d’analyse exacte et approprié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dentification adéquate du pat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xactitude des 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Valeurs critiques rend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mps nécessaire pour premier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Exactitude de l’information sur échantil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orrélation cytologie/biopsie cervic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rôle du diabèt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recherche d’ hyperlipidé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amination hémo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880F-6117-408C-BD81-18102042F9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762120" y="5791320"/>
            <a:ext cx="7772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ference: Hilborne L. Developing a core set of laboratory based quality indicators. IQLM Conference; 2005 Apr 29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Untitled-26"/>
          <p:cNvPicPr/>
          <p:nvPr/>
        </p:nvPicPr>
        <p:blipFill>
          <a:blip r:embed="rId1"/>
          <a:stretch/>
        </p:blipFill>
        <p:spPr>
          <a:xfrm>
            <a:off x="685800" y="685800"/>
            <a:ext cx="6781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B42E-48F8-48C7-A5E3-E3C1D76F35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Verdana"/>
              </a:rPr>
              <a:t>Prudenc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quement, le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 de résultat pour le pati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évaluent mieux la qualité, mais son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plus difficiles à mesure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 grand nombre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écessitent des périodes de recueil étend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 Quality Improvement Bad Apples or Bad System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0147-5C5C-4D2B-87EB-01B0AD54B8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4952880" y="184932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2"/>
          <p:cNvGrpSpPr/>
          <p:nvPr/>
        </p:nvGrpSpPr>
        <p:grpSpPr>
          <a:xfrm>
            <a:off x="4674240" y="1620720"/>
            <a:ext cx="4464720" cy="4572000"/>
            <a:chOff x="4674240" y="1620720"/>
            <a:chExt cx="4464720" cy="4572000"/>
          </a:xfrm>
        </p:grpSpPr>
        <p:sp>
          <p:nvSpPr>
            <p:cNvPr id="286" name="AutoShape 21"/>
            <p:cNvSpPr/>
            <p:nvPr/>
          </p:nvSpPr>
          <p:spPr>
            <a:xfrm>
              <a:off x="4876920" y="162072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39289"/>
            <p:cNvSpPr/>
            <p:nvPr/>
          </p:nvSpPr>
          <p:spPr>
            <a:xfrm>
              <a:off x="5595120" y="1963440"/>
              <a:ext cx="2621520" cy="2954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39290"/>
            <p:cNvSpPr/>
            <p:nvPr/>
          </p:nvSpPr>
          <p:spPr>
            <a:xfrm rot="7200000">
              <a:off x="5787720" y="2828160"/>
              <a:ext cx="2954160" cy="26218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39292"/>
            <p:cNvSpPr/>
            <p:nvPr/>
          </p:nvSpPr>
          <p:spPr>
            <a:xfrm rot="14400000">
              <a:off x="5070240" y="2831040"/>
              <a:ext cx="2954520" cy="2621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39287"/>
            <p:cNvSpPr/>
            <p:nvPr/>
          </p:nvSpPr>
          <p:spPr>
            <a:xfrm>
              <a:off x="762408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39288"/>
            <p:cNvSpPr/>
            <p:nvPr/>
          </p:nvSpPr>
          <p:spPr>
            <a:xfrm>
              <a:off x="6379920" y="493236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39291"/>
            <p:cNvSpPr/>
            <p:nvPr/>
          </p:nvSpPr>
          <p:spPr>
            <a:xfrm>
              <a:off x="513576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0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essentiels pour la 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57200" y="154476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29200" y="2763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mélioration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9"/>
          <p:cNvSpPr/>
          <p:nvPr/>
        </p:nvSpPr>
        <p:spPr>
          <a:xfrm>
            <a:off x="152280" y="1620720"/>
            <a:ext cx="4800600" cy="4496040"/>
          </a:xfrm>
          <a:prstGeom prst="rightArrowCallout">
            <a:avLst>
              <a:gd name="adj1" fmla="val 25002"/>
              <a:gd name="adj2" fmla="val 25000"/>
              <a:gd name="adj3" fmla="val 17796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0" y="1925640"/>
            <a:ext cx="34290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Plan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La direction Participation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2845-D405-466E-92FA-90C1DC6F1F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tebulb"/>
          <p:cNvSpPr/>
          <p:nvPr/>
        </p:nvSpPr>
        <p:spPr>
          <a:xfrm>
            <a:off x="4952880" y="838080"/>
            <a:ext cx="4038840" cy="5257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0" y="1219320"/>
            <a:ext cx="6629400" cy="59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tudi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uses primair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’err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stion du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éfaillances, défaillances potentielles et approxima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, bénéfices,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 de l’in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248520" y="1066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rreur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181480" y="1905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faillan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3"/>
          <p:cNvSpPr/>
          <p:nvPr/>
        </p:nvSpPr>
        <p:spPr>
          <a:xfrm>
            <a:off x="65530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énéfi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086600" y="2362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iorité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609480" y="2209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B632-F6CC-4623-929E-8351A16D19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a Direction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bonne direction favorise la culture de l’amélioration 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uvert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s autres ont aussi de bonnes id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gagem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e parvenir à l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pportun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 personnel peut partic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F073-F865-4BAC-BAAC-171D87DCA2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esponsables ne savent pas toujours ce que les employé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v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élioration continue requiert la participation de la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irectio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de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’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2B99-5FF3-4399-9028-77018998C0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Scé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ez mis en œuvre au laboratoire un nouveau test pour la détermination des CD4. Votre personnel est formé et utilise aisément ce test. Il a été validé, des résultats ont été rendus et il semble bien fonctio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4038480"/>
            <a:ext cx="83059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ment êtes vous certain que le test fonctionne bien maintenant, et continuera à bien fonctionner dans le futur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72E3-2DDF-4E11-BF0B-0D0FC6F1C6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85800" y="14940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jet tous les 6 m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Untitled-24"/>
          <p:cNvPicPr/>
          <p:nvPr/>
        </p:nvPicPr>
        <p:blipFill>
          <a:blip r:embed="rId1"/>
          <a:stretch/>
        </p:blipFill>
        <p:spPr>
          <a:xfrm>
            <a:off x="838080" y="2971800"/>
            <a:ext cx="7363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0469-AFF7-4D48-9DAA-023E8F7B93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600200" y="156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tiliser une approche d’équ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mpliquer le personnel techniqu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67C4-D13D-4679-89E2-99144C2104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828800" y="1371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Utiliser des outil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838080" y="2286000"/>
            <a:ext cx="3429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v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3582-83A3-40B9-9342-B1909C8B59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rcRect l="16994" t="4707" r="0" b="14122"/>
          <a:stretch/>
        </p:blipFill>
        <p:spPr>
          <a:xfrm>
            <a:off x="609480" y="182880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manuals"/>
          <p:cNvPicPr/>
          <p:nvPr/>
        </p:nvPicPr>
        <p:blipFill>
          <a:blip r:embed="rId2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457200" y="914400"/>
            <a:ext cx="8077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riger ou prévenir les pratiques médio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ndre compte des progrè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x responsables et 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2"/>
          <p:cNvSpPr/>
          <p:nvPr/>
        </p:nvSpPr>
        <p:spPr>
          <a:xfrm>
            <a:off x="4038480" y="1905120"/>
            <a:ext cx="2819520" cy="20574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2514600" y="266688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D577-98A3-4D13-8612-43DAF921FC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6216_thumb"/>
          <p:cNvPicPr/>
          <p:nvPr/>
        </p:nvPicPr>
        <p:blipFill>
          <a:blip r:embed="rId1"/>
          <a:stretch/>
        </p:blipFill>
        <p:spPr>
          <a:xfrm>
            <a:off x="6858000" y="510552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j0409007"/>
          <p:cNvPicPr/>
          <p:nvPr/>
        </p:nvPicPr>
        <p:blipFill>
          <a:blip r:embed="rId2"/>
          <a:stretch/>
        </p:blipFill>
        <p:spPr>
          <a:xfrm>
            <a:off x="5334120" y="4495680"/>
            <a:ext cx="1322280" cy="1981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’information disponible pour étud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ggestions ou plaintes 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erreurs provenant du programme de gestion des probl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blèmes identifiés lors d’audits in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1"/>
          <p:cNvSpPr txBox="1"/>
          <p:nvPr/>
        </p:nvSpPr>
        <p:spPr>
          <a:xfrm>
            <a:off x="563868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8DFA-4AB0-4FF0-83C5-53AF4F1A4A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possible concevez une étude dont les résultats seront statistiquement mesurables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95680" y="1752480"/>
          <a:ext cx="408960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752480"/>
                    <a:ext cx="40896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lean_6_pre"/>
          <p:cNvPicPr/>
          <p:nvPr/>
        </p:nvPicPr>
        <p:blipFill>
          <a:blip r:embed="rId3"/>
          <a:stretch/>
        </p:blipFill>
        <p:spPr>
          <a:xfrm>
            <a:off x="1447920" y="243828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lean_7_post"/>
          <p:cNvPicPr/>
          <p:nvPr/>
        </p:nvPicPr>
        <p:blipFill>
          <a:blip r:embed="rId4"/>
          <a:stretch/>
        </p:blipFill>
        <p:spPr>
          <a:xfrm>
            <a:off x="5029200" y="2468520"/>
            <a:ext cx="2971800" cy="2906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4"/>
          <p:cNvSpPr/>
          <p:nvPr/>
        </p:nvSpPr>
        <p:spPr>
          <a:xfrm>
            <a:off x="7621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e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8769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ost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9DA4-8A87-44C0-B45A-78DBFCD051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j0157047"/>
          <p:cNvPicPr/>
          <p:nvPr/>
        </p:nvPicPr>
        <p:blipFill>
          <a:blip r:embed="rId1"/>
          <a:stretch/>
        </p:blipFill>
        <p:spPr>
          <a:xfrm>
            <a:off x="5334120" y="1447920"/>
            <a:ext cx="2838240" cy="4800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urée des 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32448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Utiliser un indicateur tant qu’il donne une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information util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8840" y="449568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Ne restez pas bloqué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 avec vo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64E2-6AD2-4E70-8179-007B2E39C5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99072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1981080" y="152388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lani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429000" y="3048120"/>
            <a:ext cx="15238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F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0492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447920" y="4343400"/>
            <a:ext cx="2590560" cy="2209680"/>
          </a:xfrm>
          <a:custGeom>
            <a:avLst/>
            <a:gdLst>
              <a:gd name="textAreaLeft" fmla="*/ 693720 w 2590560"/>
              <a:gd name="textAreaRight" fmla="*/ 1896840 w 2590560"/>
              <a:gd name="textAreaTop" fmla="*/ 591480 h 2209680"/>
              <a:gd name="textAreaBottom" fmla="*/ 16182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haque étape est essentielle pour conserver la qualité du cycl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ead"/>
          <p:cNvPicPr/>
          <p:nvPr/>
        </p:nvPicPr>
        <p:blipFill>
          <a:blip r:embed="rId1"/>
          <a:stretch/>
        </p:blipFill>
        <p:spPr>
          <a:xfrm>
            <a:off x="457200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9EFB-5705-462B-8E0B-5938D98025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mélioration continue est le coeur de la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EB8E-1A58-49D0-8D45-79D87B5F87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81120" y="15238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3" descr="bulles_def"/>
          <p:cNvPicPr/>
          <p:nvPr/>
        </p:nvPicPr>
        <p:blipFill>
          <a:blip r:embed="rId1"/>
          <a:stretch/>
        </p:blipFill>
        <p:spPr>
          <a:xfrm>
            <a:off x="2286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9537-087E-4CA6-AE48-6DD91A54B8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0089-29E4-4614-B3CF-0E56640346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W. Edwards Deming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14 points pour la qualité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2000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der en permanence à l’esprit l’objectif d’amélior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méliorer toujours et consta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Text Box 7"/>
          <p:cNvSpPr/>
          <p:nvPr/>
        </p:nvSpPr>
        <p:spPr>
          <a:xfrm>
            <a:off x="380880" y="19051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points abordent l’amélioration continu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0DAB-CB8C-44F4-9999-9CCD2F2DC6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Cycle de D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5244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52440" y="26989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9" descr="Untitled-22"/>
          <p:cNvPicPr/>
          <p:nvPr/>
        </p:nvPicPr>
        <p:blipFill>
          <a:blip r:embed="rId1"/>
          <a:stretch/>
        </p:blipFill>
        <p:spPr>
          <a:xfrm>
            <a:off x="1295280" y="1217520"/>
            <a:ext cx="5867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6792-B775-4696-9541-919F238176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mélioration continue</a:t>
            </a:r>
            <a:br>
              <a:rPr sz="3600"/>
            </a:b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(ISO15189: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velopp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un pla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our un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0" y="1752480"/>
            <a:ext cx="3886200" cy="31244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Identifier l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sourc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d’err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potentiel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ettre e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euv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95880" y="4800600"/>
            <a:ext cx="251460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voir l’efficacit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de l’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juster 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plan d’acti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et modifi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le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rot="20602200">
            <a:off x="2824200" y="1784160"/>
            <a:ext cx="3116160" cy="11430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5116320" y="3429000"/>
            <a:ext cx="2341080" cy="2209680"/>
            <a:chOff x="5116320" y="3429000"/>
            <a:chExt cx="2341080" cy="2209680"/>
          </a:xfrm>
        </p:grpSpPr>
        <p:sp>
          <p:nvSpPr>
            <p:cNvPr id="168" name="AutoShape 11"/>
            <p:cNvSpPr/>
            <p:nvPr/>
          </p:nvSpPr>
          <p:spPr>
            <a:xfrm>
              <a:off x="5181480" y="3429000"/>
              <a:ext cx="221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89455"/>
            <p:cNvSpPr/>
            <p:nvPr/>
          </p:nvSpPr>
          <p:spPr>
            <a:xfrm>
              <a:off x="5572800" y="359460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89456"/>
            <p:cNvSpPr/>
            <p:nvPr/>
          </p:nvSpPr>
          <p:spPr>
            <a:xfrm rot="7200000">
              <a:off x="5767920" y="3931920"/>
              <a:ext cx="1427760" cy="142812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89458"/>
            <p:cNvSpPr/>
            <p:nvPr/>
          </p:nvSpPr>
          <p:spPr>
            <a:xfrm rot="14400000">
              <a:off x="5377320" y="393372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89453"/>
            <p:cNvSpPr/>
            <p:nvPr/>
          </p:nvSpPr>
          <p:spPr>
            <a:xfrm>
              <a:off x="667764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89454"/>
            <p:cNvSpPr/>
            <p:nvPr/>
          </p:nvSpPr>
          <p:spPr>
            <a:xfrm>
              <a:off x="6000120" y="502956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89457"/>
            <p:cNvSpPr/>
            <p:nvPr/>
          </p:nvSpPr>
          <p:spPr>
            <a:xfrm>
              <a:off x="532260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AutoShape 19"/>
          <p:cNvSpPr/>
          <p:nvPr/>
        </p:nvSpPr>
        <p:spPr>
          <a:xfrm flipH="1" rot="16200000">
            <a:off x="7657920" y="3009600"/>
            <a:ext cx="1066680" cy="53352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CA0E-9DE2-4ABA-B065-22C6AC0F8C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utils conventionnels d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s 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valuation extern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 externe et accré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pportunités d’amélio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dicateur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3BDB-87A0-441A-B848-D6FAAA155D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r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4" descr="Untitled-28"/>
          <p:cNvPicPr/>
          <p:nvPr/>
        </p:nvPicPr>
        <p:blipFill>
          <a:blip r:embed="rId1"/>
          <a:stretch/>
        </p:blipFill>
        <p:spPr>
          <a:xfrm>
            <a:off x="609480" y="1422360"/>
            <a:ext cx="73915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11:17Z</dcterms:modified>
  <cp:revision>140</cp:revision>
  <dc:subject/>
  <dc:title>Slide 1</dc:title>
</cp:coreProperties>
</file>