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jpeg" ContentType="image/jpeg"/>
  <Override PartName="/ppt/media/image24.wmf" ContentType="image/x-wmf"/>
  <Override PartName="/ppt/media/image21.png" ContentType="image/png"/>
  <Override PartName="/ppt/media/image23.png" ContentType="image/png"/>
  <Override PartName="/ppt/media/image6.wmf" ContentType="image/x-wmf"/>
  <Override PartName="/ppt/media/image19.jpeg" ContentType="image/jpeg"/>
  <Override PartName="/ppt/media/image29.wmf" ContentType="image/x-wmf"/>
  <Override PartName="/ppt/media/image11.wmf" ContentType="image/x-wmf"/>
  <Override PartName="/ppt/media/image18.png" ContentType="image/png"/>
  <Override PartName="/ppt/media/image31.wmf" ContentType="image/x-wmf"/>
  <Override PartName="/ppt/media/image7.jpeg" ContentType="image/jpeg"/>
  <Override PartName="/ppt/media/image25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30.wmf" ContentType="image/x-wmf"/>
  <Override PartName="/ppt/media/image33.png" ContentType="image/png"/>
  <Override PartName="/ppt/media/image34.png" ContentType="image/png"/>
  <Override PartName="/ppt/media/image15.png" ContentType="image/png"/>
  <Override PartName="/ppt/media/image36.jpeg" ContentType="image/jpeg"/>
  <Override PartName="/ppt/media/image2.jpeg" ContentType="image/jpeg"/>
  <Override PartName="/ppt/media/image35.png" ContentType="image/png"/>
  <Override PartName="/ppt/media/image5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3.png" ContentType="image/png"/>
  <Override PartName="/ppt/media/image2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C0B3-BBD2-4911-BC8C-6E02303EA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DB8F-FA4C-42FD-AF68-3571DA154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61A2-50FA-4295-8490-76C1D0EA3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84BA-81EA-4D9C-9DFC-8BAAA3758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E433-0B21-4F96-8AC7-C2903B686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B58A-05BB-41FB-A546-E3F9B84B5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CF0D-D9B0-4947-9763-9943DCB6E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C95D-39D9-4256-A2C2-39A9ABF7B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7769-12D8-4A40-B9CC-9DBE8C748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3770-B780-4BA0-9461-D1F39A524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47B2-0D78-44EA-AF50-E497D13FC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4E8E-1364-4EA8-A4EE-620BE6338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B4F5-33B1-4B3A-A136-CF159A411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E354-09DA-4854-AFEA-0F5780F74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F455-1574-4AA3-A00A-E9B9AE356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65EA-9CFD-4DC0-8DC8-9337B54D7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966E-31FC-4B4B-866F-91EE66499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EF8A-7143-46E3-AFCD-43507DBD9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C9DA-3A48-4857-9FB3-6B8D1F21A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7C0B-12B8-4808-BAF7-931FE0CD2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ED220-FB5B-42FE-91BB-3244C364A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0716C-9489-4857-91C8-9A3CCB130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DA730-CA56-45D9-9519-772C0390D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C8B20-E8B9-4006-86F5-6009ADCE2A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1001-C8A3-4A9D-A313-2499B88D85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02BA-89BA-4D44-84B6-1A47FF4FFF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7651-560A-4A97-8F08-66161B9BA1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2F6A-F38C-4CB8-861F-B48939135E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A2B3-8BE3-4C7D-AE7B-CFA10F4CF4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B659-C888-4C82-B884-E04AF04214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5523-EEC1-4C18-A238-E643E9F4AD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22871-24D9-4407-B8B4-6F77B0EFA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04FD-BF33-48D8-B319-150C79B9D2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AEE9-E044-4932-89DA-A6362CEB4E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D1BD-682A-4C6B-8BCE-F4D2BCBA1B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3FCC-638F-4EEA-9480-D8D5E51F8B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B200-143B-4FA9-9073-122324C11E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3B2C-36B5-4961-8A5C-8E1AD6CE1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1D5F1-8BD1-4162-AC5F-084BAC336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4F53D-8714-4BCE-B81E-517B8F083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20A0D-DFF1-4BA6-97F9-347F8B505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BB825-E3C0-4112-9836-5CB603D09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0D2DD-67A8-438F-A396-A655726AC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5E62C-0024-4685-994E-BFEB086A0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3FA2-B9AD-4247-B3BB-3B1748BCD2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2D02-0CBB-46DF-85B5-2C664695F0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A8CF-6171-44BB-90FF-5F65E24584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362320" y="1600200"/>
            <a:ext cx="73152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Approvisionnement et gestion des st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855C-B6AE-4572-A0A6-30CA487E33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 mettre en place un 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124080" y="2895480"/>
            <a:ext cx="3124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ssigner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629400" y="2133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alyse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des be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les besoins minim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3429000" y="5257800"/>
            <a:ext cx="2514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évelopper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rmulaires et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685800" y="449568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systèm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our recevoir et sto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85800" y="2057400"/>
            <a:ext cx="2666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aintenir 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système de gestion de stock dans toutes les zones de sto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6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CE02-E297-4EB6-BC4D-C36AB76B4B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r les beso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une analyse des besoins en consommables et réactifs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stant toutes les analys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les consommables nécessaires pour chaque 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ant l’information disponible pour estime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E191-6033-4E78-9847-7E6EA71665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nalyse des besoins : Information Req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80880" y="1295280"/>
            <a:ext cx="8534520" cy="5045040"/>
            <a:chOff x="380880" y="1295280"/>
            <a:chExt cx="8534520" cy="5045040"/>
          </a:xfrm>
        </p:grpSpPr>
        <p:sp>
          <p:nvSpPr>
            <p:cNvPr id="222" name="AutoShape 4"/>
            <p:cNvSpPr/>
            <p:nvPr/>
          </p:nvSpPr>
          <p:spPr>
            <a:xfrm>
              <a:off x="380880" y="1295280"/>
              <a:ext cx="8534520" cy="50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98691"/>
            <p:cNvSpPr/>
            <p:nvPr/>
          </p:nvSpPr>
          <p:spPr>
            <a:xfrm flipH="1" flipV="1">
              <a:off x="2616120" y="3436560"/>
              <a:ext cx="1022400" cy="1904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98685"/>
            <p:cNvSpPr/>
            <p:nvPr/>
          </p:nvSpPr>
          <p:spPr>
            <a:xfrm>
              <a:off x="542880" y="2631960"/>
              <a:ext cx="213192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Espac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stockage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98690"/>
            <p:cNvSpPr/>
            <p:nvPr/>
          </p:nvSpPr>
          <p:spPr>
            <a:xfrm flipH="1">
              <a:off x="3393720" y="4313160"/>
              <a:ext cx="630360" cy="505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98672"/>
            <p:cNvSpPr/>
            <p:nvPr/>
          </p:nvSpPr>
          <p:spPr>
            <a:xfrm>
              <a:off x="1704960" y="4699080"/>
              <a:ext cx="2131920" cy="1231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pou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mman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98689"/>
            <p:cNvSpPr/>
            <p:nvPr/>
          </p:nvSpPr>
          <p:spPr>
            <a:xfrm>
              <a:off x="5272200" y="4313160"/>
              <a:ext cx="635040" cy="503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98670"/>
            <p:cNvSpPr/>
            <p:nvPr/>
          </p:nvSpPr>
          <p:spPr>
            <a:xfrm>
              <a:off x="5465880" y="4699080"/>
              <a:ext cx="2131920" cy="1231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Niveau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priorité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98688"/>
            <p:cNvSpPr/>
            <p:nvPr/>
          </p:nvSpPr>
          <p:spPr>
            <a:xfrm flipV="1">
              <a:off x="5657760" y="3435120"/>
              <a:ext cx="1022400" cy="191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98667"/>
            <p:cNvSpPr/>
            <p:nvPr/>
          </p:nvSpPr>
          <p:spPr>
            <a:xfrm>
              <a:off x="6248520" y="2631960"/>
              <a:ext cx="25128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Consommation/mois       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98687"/>
            <p:cNvSpPr/>
            <p:nvPr/>
          </p:nvSpPr>
          <p:spPr>
            <a:xfrm flipV="1">
              <a:off x="4648320" y="2583000"/>
              <a:ext cx="0" cy="620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98665"/>
            <p:cNvSpPr/>
            <p:nvPr/>
          </p:nvSpPr>
          <p:spPr>
            <a:xfrm>
              <a:off x="3276720" y="1352520"/>
              <a:ext cx="243972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Unité de 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conditionnement      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98662"/>
            <p:cNvSpPr/>
            <p:nvPr/>
          </p:nvSpPr>
          <p:spPr>
            <a:xfrm>
              <a:off x="3584520" y="3203640"/>
              <a:ext cx="228132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br>
                <a:rPr sz="3000"/>
              </a:b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'un article 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5F5D-ECF6-468F-987E-D5ADECE2D9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533520"/>
            <a:ext cx="8077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a quantifica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1905120"/>
            <a:ext cx="7848720" cy="25311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La quantification</a:t>
            </a:r>
            <a:r>
              <a:rPr b="0" lang="fr-FR" sz="3200" spc="-1" strike="noStrike">
                <a:solidFill>
                  <a:srgbClr val="ffcc00"/>
                </a:solidFill>
                <a:latin typeface="Verdana"/>
              </a:rPr>
              <a:t> est un processus pour calculer la quantité requise d’un article pour une période donn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B33E-C09D-407E-85E0-DB80F6473F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fr-FR" sz="3600" spc="-1" strike="noStrike">
                <a:solidFill>
                  <a:srgbClr val="e40202"/>
                </a:solidFill>
                <a:latin typeface="Verdana"/>
              </a:rPr>
              <a:t>quan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 partie de la planification ann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ise en œuvre d’un nouveau programm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préparation à une épidémie potentielle ou identif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AC0F-BAB1-4082-8AF0-AA85193DB1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Comm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consom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morbid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5B08-D302-48D3-A1D1-729B516FAB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antification: basée su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asée sur la consommation ré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prendre en comp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réellement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gaspillés périmés ou abîm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en rupture de stock plus de 15 jours sur l’a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Untitled-43"/>
          <p:cNvPicPr/>
          <p:nvPr/>
        </p:nvPicPr>
        <p:blipFill>
          <a:blip r:embed="rId1"/>
          <a:stretch/>
        </p:blipFill>
        <p:spPr>
          <a:xfrm>
            <a:off x="5638680" y="2695680"/>
            <a:ext cx="35053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B3A9-B589-4AB9-89B3-0343345060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Untitled-42"/>
          <p:cNvPicPr/>
          <p:nvPr/>
        </p:nvPicPr>
        <p:blipFill>
          <a:blip r:embed="rId1"/>
          <a:stretch/>
        </p:blipFill>
        <p:spPr>
          <a:xfrm>
            <a:off x="5105520" y="2395440"/>
            <a:ext cx="4038480" cy="2557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: basée sur la morbid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sée sur le nombre réel d’é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prendre en compt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il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idence mala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actitude donné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morbid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gnes de conduit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ndardisées de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BE8C-6BAC-4FE3-A7BF-AF8D2E2FA5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es registr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 de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itères de refus ou d’acceptation des produ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’utilisation/sortis du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peut être utile de garder les registres sur le lieu de stoc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storage_shelves"/>
          <p:cNvPicPr/>
          <p:nvPr/>
        </p:nvPicPr>
        <p:blipFill>
          <a:blip r:embed="rId1"/>
          <a:stretch/>
        </p:blipFill>
        <p:spPr>
          <a:xfrm>
            <a:off x="6647040" y="533520"/>
            <a:ext cx="2116080" cy="2133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gestion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 stock 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j0234700"/>
          <p:cNvPicPr/>
          <p:nvPr/>
        </p:nvPicPr>
        <p:blipFill>
          <a:blip r:embed="rId2"/>
          <a:stretch/>
        </p:blipFill>
        <p:spPr>
          <a:xfrm rot="2522400">
            <a:off x="7559280" y="3511440"/>
            <a:ext cx="16002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619C-A374-4E74-A72F-1E42CCA131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Quant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alance du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tre inform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étag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st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;og_book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41D0-2823-4ECF-A657-D37DE8394E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es étapes nécessaires pour mettre en œuvre un programme de contrôle et d’inventaire des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mmer les facteurs à considérer avant d’acheter des consomm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velopper un plan de contrôle du système de gestion des stocks et des inv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scuter l’importance de la documentation concernant l’approvisionnement et la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303C-7786-4040-ABB5-50BE78AAA3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specter les commandes au moment de la liv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s cont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’intég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récep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ur chaque pro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nger les nouveaux articles derrière ceux en st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ou mettre à jour des regi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FIL15003"/>
          <p:cNvPicPr/>
          <p:nvPr/>
        </p:nvPicPr>
        <p:blipFill>
          <a:blip r:embed="rId1"/>
          <a:stretch/>
        </p:blipFill>
        <p:spPr>
          <a:xfrm>
            <a:off x="6781680" y="4495680"/>
            <a:ext cx="2076480" cy="1860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pe01495_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799D-4E53-49DC-91CC-67DA37D947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rganis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erm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ien ventil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soleil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gères sol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les à portée de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écautions de sécurité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/>
          <p:cNvSpPr/>
          <p:nvPr/>
        </p:nvSpPr>
        <p:spPr>
          <a:xfrm>
            <a:off x="6019920" y="3962520"/>
            <a:ext cx="213336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j0434713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E9D2-8E86-4182-ACDA-80EFAC2F29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Rayonn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7"/>
          <p:cNvSpPr/>
          <p:nvPr/>
        </p:nvSpPr>
        <p:spPr>
          <a:xfrm>
            <a:off x="685800" y="533412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ivre les précautions de sécu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4572000" y="4343400"/>
            <a:ext cx="213372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D257-FB86-4874-8334-AD26909EEF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la “perte” d’un prod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onomise du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se l’espac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uméroter chambres froide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frigérateur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congélateur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étiqueter les ray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refrigerator_storage_cdc"/>
          <p:cNvPicPr/>
          <p:nvPr/>
        </p:nvPicPr>
        <p:blipFill>
          <a:blip r:embed="rId1"/>
          <a:srcRect l="0" t="0" r="0" b="25408"/>
          <a:stretch/>
        </p:blipFill>
        <p:spPr>
          <a:xfrm>
            <a:off x="4495680" y="4800600"/>
            <a:ext cx="3246480" cy="1701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ganisation des rayonn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tock_room"/>
          <p:cNvPicPr/>
          <p:nvPr/>
        </p:nvPicPr>
        <p:blipFill>
          <a:blip r:embed="rId2"/>
          <a:stretch/>
        </p:blipFill>
        <p:spPr>
          <a:xfrm>
            <a:off x="5791320" y="1716120"/>
            <a:ext cx="32004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D90E-B4A9-4C1F-888F-8A96A413BF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tiliser des étiquettes avec des dates clairement visib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’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e pére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6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BB84-4CE3-4AC6-9100-3EDD59185F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 continu de la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6" descr="Untitled-41"/>
          <p:cNvPicPr/>
          <p:nvPr/>
        </p:nvPicPr>
        <p:blipFill>
          <a:blip r:embed="rId1"/>
          <a:stretch/>
        </p:blipFill>
        <p:spPr>
          <a:xfrm>
            <a:off x="457200" y="1050840"/>
            <a:ext cx="82296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E8C7-1EDB-4696-9CC3-129A485A90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Gestion informatis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at exact du stock, classification des 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dates de pére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tatistique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planifier les ordres d’a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a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âches de gestion de stock facili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convéni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dinateur sur place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quiert un personnel form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713040"/>
            <a:ext cx="2667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BE2D-1691-42AE-9E04-FDC6C5B552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laboratoire bien géré possèdera un système d’approvisionnement et de gestion de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requière de planifier et contrôler: analyser les besoins, développer des formulaires et procédures, maintenir un inventaire. Le laboratoire devra maintenir un système de gestion de stock pour tous les réactifs et consommables utilisés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9BDF-4A1D-44EF-A684-74DCD644EA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gestion de stock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gmente l’efficience et l’efficacité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ondra aux besoins des patients et du personnel de s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 la disponibilité des produits quand nécess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177D-ED75-4D1E-88CE-F3A751E9E7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5812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2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7FF5-C8F5-477F-BFAD-92C9D16054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n demande à votre laboratoire de se préparer en vue d’une épidémie de grippe potent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sont les différents facteurs à étudier en planifiant ce process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problèmes seriez vous susceptibles de rencontrer lors de la planification et de la mise en oeuv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E6F1-37A5-41AF-AC80-B13F783923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CEB9-A9A4-46F7-AF8C-9D6E85D1C9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Bénéfices d’un programme</a:t>
            </a:r>
            <a:br>
              <a:rPr sz="3200"/>
            </a:b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9480" y="335268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urnitures et réactifs toujours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43600" y="3200400"/>
            <a:ext cx="2819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oins de gaspill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Budget respec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j0424198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5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maint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153" name="Line 19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70B1-5757-4559-A6F4-D026EECC2A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quilibre entre disponibilité du stock et dates de péremption des produits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urée de vie des réactif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va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actifs RIA : 3 à 8 se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Kits API : 4 à 1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tisérums : 1 à 4 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sques antibiotiques : 2 à 3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prêt à l’emploi : 1 à 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déshydraté : 3 à 5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FIL738"/>
          <p:cNvPicPr/>
          <p:nvPr/>
        </p:nvPicPr>
        <p:blipFill>
          <a:blip r:embed="rId1"/>
          <a:stretch/>
        </p:blipFill>
        <p:spPr>
          <a:xfrm>
            <a:off x="5410080" y="2514600"/>
            <a:ext cx="3429000" cy="28875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éfis de la gestion de st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791320" y="3657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467480" y="3352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ér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4262-9140-42E7-A261-E8671ACE87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princip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6" descr="Untitled-46"/>
          <p:cNvPicPr/>
          <p:nvPr/>
        </p:nvPicPr>
        <p:blipFill>
          <a:blip r:embed="rId1"/>
          <a:stretch/>
        </p:blipFill>
        <p:spPr>
          <a:xfrm>
            <a:off x="228600" y="1438200"/>
            <a:ext cx="86868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7617-FD61-454D-BC6A-F0A98936ED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pour qualifier et sélectionner des vend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critères de sélection pour les consommables ou réactifs à ach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des informations auprès d’autres labora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avant l’approvisionnement et après la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2F6D-E4B0-4D61-95DC-7CDB512A00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sidé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terminer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alité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 pa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457200" y="1143000"/>
            <a:ext cx="5409720" cy="2971080"/>
            <a:chOff x="457200" y="1143000"/>
            <a:chExt cx="5409720" cy="2971080"/>
          </a:xfrm>
        </p:grpSpPr>
        <p:sp>
          <p:nvSpPr>
            <p:cNvPr id="177" name="AutoShape 9"/>
            <p:cNvSpPr/>
            <p:nvPr/>
          </p:nvSpPr>
          <p:spPr>
            <a:xfrm>
              <a:off x="457200" y="1143000"/>
              <a:ext cx="540972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Négocier les pr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R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contr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7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609480" y="1295280"/>
            <a:ext cx="5105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Comprendre les exigences du gouver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3" descr="j0412568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4" descr="j0311860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5" descr="j0185303"/>
          <p:cNvPicPr/>
          <p:nvPr/>
        </p:nvPicPr>
        <p:blipFill>
          <a:blip r:embed="rId3"/>
          <a:stretch/>
        </p:blipFill>
        <p:spPr>
          <a:xfrm>
            <a:off x="6705720" y="5029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6"/>
          <p:cNvSpPr/>
          <p:nvPr/>
        </p:nvSpPr>
        <p:spPr>
          <a:xfrm>
            <a:off x="5638680" y="37339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urer disponibilité et livr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2:07:52Z</dcterms:created>
  <dc:creator>sam5</dc:creator>
  <dc:description/>
  <dc:language>en-US</dc:language>
  <cp:lastModifiedBy>dolmazonv</cp:lastModifiedBy>
  <dcterms:modified xsi:type="dcterms:W3CDTF">2010-04-07T15:05:22Z</dcterms:modified>
  <cp:revision>130</cp:revision>
  <dc:subject/>
  <dc:title>Slide 1</dc:title>
</cp:coreProperties>
</file>