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png" ContentType="image/png"/>
  <Override PartName="/ppt/media/image8.png" ContentType="image/png"/>
  <Override PartName="/ppt/media/image10.wmf" ContentType="image/x-wmf"/>
  <Override PartName="/ppt/media/image4.jpeg" ContentType="image/jpeg"/>
  <Override PartName="/ppt/media/image25.jpeg" ContentType="image/jpeg"/>
  <Override PartName="/ppt/media/image7.jpeg" ContentType="image/jpeg"/>
  <Override PartName="/ppt/media/image15.gif" ContentType="image/gif"/>
  <Override PartName="/ppt/media/image18.png" ContentType="image/png"/>
  <Override PartName="/ppt/media/image12.png" ContentType="image/png"/>
  <Override PartName="/ppt/media/image20.jpeg" ContentType="image/jpeg"/>
  <Override PartName="/ppt/media/image23.wmf" ContentType="image/x-wmf"/>
  <Override PartName="/ppt/media/image6.wmf" ContentType="image/x-wmf"/>
  <Override PartName="/ppt/media/image5.png" ContentType="image/png"/>
  <Override PartName="/ppt/media/image21.wmf" ContentType="image/x-wmf"/>
  <Override PartName="/ppt/media/image19.wmf" ContentType="image/x-wmf"/>
  <Override PartName="/ppt/media/image16.jpeg" ContentType="image/jpeg"/>
  <Override PartName="/ppt/media/image14.wmf" ContentType="image/x-wmf"/>
  <Override PartName="/ppt/media/image1.jpeg" ContentType="image/jpeg"/>
  <Override PartName="/ppt/media/image22.jpeg" ContentType="image/jpeg"/>
  <Override PartName="/ppt/media/image11.wmf" ContentType="image/x-wmf"/>
  <Override PartName="/ppt/media/image17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A969-180A-4125-A2A6-7E9A1D457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C51C-DA1E-4CDD-B92F-1C9795352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2BF96F8-50D7-430A-95C8-4024158D2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69DC240-4DEF-4868-9DC5-133D17C16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F4FB46E-17C5-42EB-AE73-0BE258262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74FD526-586D-4F2B-B8AC-BC3D2D79A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6C9463C-3315-4E09-B459-80CCEC8D9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199F-ED3C-46CE-99D9-FA55D8B6F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0E20E5E-64F6-47D6-92D2-2AFA45B25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58B3-FD69-45F9-B0E9-C1FA5E0A8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9A1C958-BCA0-457F-A8D1-6DDC45592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89B461B-A6DE-4571-8FD6-8D869F00F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0C281B6-8584-4B5E-BDC8-0020239B5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88DEA51-F13C-4509-8225-45FDC8000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FAEF09D-F8D5-46EB-BDB9-1C18DFCD1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6B0083E-DF8F-4E46-B496-22271A1DE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37D9-2AA8-4F83-B9A3-BC44851ED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849F-B695-4E47-83E5-13EDCCBFF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DE4D2FD-1B27-49C7-9655-84A3F550E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984639B-DC9A-46EB-998D-EA348CC3D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509510B-3E60-4D81-BCFB-C98A39003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AFF8001-C873-4BEF-AD33-8D0535D3F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JM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341C53B-502A-49B0-8473-4C44EC9F1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E61CCE7-D415-4107-860E-CDB0A1F7D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E3D7091-FE11-4D06-BDC8-EB8F350C7CE3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AFD44C4-E8E2-473E-9D7D-35A3692B0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1CBC54E-5810-41FD-AAAD-93935EC63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C0B4-0872-44B6-889B-528831732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55452CF-59D9-449F-BF6E-E073F69EFAA2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0DA4416-3CCA-4B22-977A-3F9429167FAF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28ADC97-7605-430C-8004-28C12EFE9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6EC5-1494-430A-A746-6EAE9A2C2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9B66186-6C6A-4649-A046-C677C8E26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9F3D74A-EA92-4BD9-BD13-09335E424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674E26E-8F9C-46D6-8BC0-CEE294512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6337FAA-990F-4E6A-9FF3-B70815EE6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B8F9A2C-B364-4C5A-B2EF-374BC4C8F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6B3A-CA1A-4F28-A231-8D88E7776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6F52-0E76-4ED7-A892-34A442E34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465B229-72DD-4C83-969A-A12A2B2F7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27D7-2119-4866-B682-627613057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12C3D-EE3D-4EC6-BCCB-604A7AFA2D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F4245-DA87-4059-B6B3-D5AE52E6B7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46FB7-774C-4285-B723-0702CDB0A7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F38C9-EEA0-417D-82AD-ED5A905B15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43EB9-82F1-451F-BA81-7EE356335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5E3084-AFBA-48F5-9CD5-52162A5F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A028C0-1302-46DC-BD94-FB3B2691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52F08F-A35E-4CFA-A589-AAB85917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2C030F-93A9-4550-B458-B2553BC2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C68528-879D-465B-92C3-766D5CED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9E616-0B3B-4C0B-8230-B7963C4A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CC95A-7156-41C9-8C45-7F2772F207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46757D-FCA0-4A45-A469-04849250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5E164-D53F-4076-867E-A016CE31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3CB99-9F9B-4AAE-ABFC-27F3B6EE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916799-1606-4D3A-A7CD-FAAF78662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1B1115-08EC-44FF-B8E3-9FFE3FD23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A3C21-42DE-452E-850D-CDB505231F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8A09C-F959-4976-8C45-9B0B627A9D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925A9-4E3D-4AA6-93C3-90929E017E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92E94-863B-4A8A-8CA4-7B570F174D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77235-F974-47F1-A4E4-51717D68FE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2F3FE-AE27-46D4-9422-E9D336C77A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51FC9-B1C3-4EBF-B800-F5273C83E9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C24A-2810-4F91-89CB-471DFF9DC1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4FC6-DEED-45F6-9087-D5250CBAFA22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7FDD6-6708-4805-8B87-EA2940D8AD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image" Target="../media/image11.wmf"/><Relationship Id="rId16" Type="http://schemas.openxmlformats.org/officeDocument/2006/relationships/image" Target="../media/image11.wmf"/><Relationship Id="rId17" Type="http://schemas.openxmlformats.org/officeDocument/2006/relationships/image" Target="../media/image11.wmf"/><Relationship Id="rId18" Type="http://schemas.openxmlformats.org/officeDocument/2006/relationships/image" Target="../media/image11.wmf"/><Relationship Id="rId19" Type="http://schemas.openxmlformats.org/officeDocument/2006/relationships/image" Target="../media/image11.wmf"/><Relationship Id="rId20" Type="http://schemas.openxmlformats.org/officeDocument/2006/relationships/image" Target="../media/image11.wmf"/><Relationship Id="rId21" Type="http://schemas.openxmlformats.org/officeDocument/2006/relationships/image" Target="../media/image11.wmf"/><Relationship Id="rId22" Type="http://schemas.openxmlformats.org/officeDocument/2006/relationships/image" Target="../media/image11.wmf"/><Relationship Id="rId23" Type="http://schemas.openxmlformats.org/officeDocument/2006/relationships/image" Target="../media/image11.wmf"/><Relationship Id="rId24" Type="http://schemas.openxmlformats.org/officeDocument/2006/relationships/image" Target="../media/image11.wmf"/><Relationship Id="rId25" Type="http://schemas.openxmlformats.org/officeDocument/2006/relationships/image" Target="../media/image11.wmf"/><Relationship Id="rId26" Type="http://schemas.openxmlformats.org/officeDocument/2006/relationships/image" Target="../media/image11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11.wmf"/><Relationship Id="rId31" Type="http://schemas.openxmlformats.org/officeDocument/2006/relationships/image" Target="../media/image11.wmf"/><Relationship Id="rId32" Type="http://schemas.openxmlformats.org/officeDocument/2006/relationships/image" Target="../media/image11.wmf"/><Relationship Id="rId33" Type="http://schemas.openxmlformats.org/officeDocument/2006/relationships/image" Target="../media/image11.wmf"/><Relationship Id="rId34" Type="http://schemas.openxmlformats.org/officeDocument/2006/relationships/image" Target="../media/image11.wmf"/><Relationship Id="rId35" Type="http://schemas.openxmlformats.org/officeDocument/2006/relationships/image" Target="../media/image11.wmf"/><Relationship Id="rId36" Type="http://schemas.openxmlformats.org/officeDocument/2006/relationships/image" Target="../media/image11.wmf"/><Relationship Id="rId37" Type="http://schemas.openxmlformats.org/officeDocument/2006/relationships/image" Target="../media/image11.wmf"/><Relationship Id="rId38" Type="http://schemas.openxmlformats.org/officeDocument/2006/relationships/image" Target="../media/image11.wmf"/><Relationship Id="rId39" Type="http://schemas.openxmlformats.org/officeDocument/2006/relationships/image" Target="../media/image11.wmf"/><Relationship Id="rId40" Type="http://schemas.openxmlformats.org/officeDocument/2006/relationships/image" Target="../media/image11.wmf"/><Relationship Id="rId41" Type="http://schemas.openxmlformats.org/officeDocument/2006/relationships/image" Target="../media/image11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Text Box 16"/>
          <p:cNvSpPr/>
          <p:nvPr/>
        </p:nvSpPr>
        <p:spPr>
          <a:xfrm>
            <a:off x="2666880" y="1905120"/>
            <a:ext cx="7086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Contrôle des processus :</a:t>
            </a:r>
            <a:br>
              <a:rPr sz="4800"/>
            </a:b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 Qualité pour les tests quantitat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15A7-74CE-48F4-B708-EC19A9A3DE0B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DD09-8979-49CB-863C-EDB8FB21A5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ypes de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vent être congelés, lyophilisés, ou conservés chimiqu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nt une reconstitution très exacte si cette étape est nécessa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Picture 4" descr="pipetting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35DA-199C-4CD6-9C22-5B39F2BD49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Origines des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ercialement préparés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ts sur pla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tenus auprès d’un autre laboratoire, en général laboratoire central ou de référ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AFEA-3DF4-4934-BF87-AF2F1E0FC2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28600" y="1219320"/>
          <a:ext cx="8610480" cy="466560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s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cible prédéterminée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érifier puis utilis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 dos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ble non prédéterminée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ôle total exigé avant utilis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 Maison 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érums maison mélangés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ôle total et valid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88F5-2C6E-4889-9C84-14B33F6344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hoisir les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aleurs proches des niveaux pour lesquels une décision médicale est pri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milaires aux échantillons de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Généralement disponibles en valeur normale, pathologique haute et pathologique bas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Picture 7" descr="Untitled-3"/>
          <p:cNvPicPr/>
          <p:nvPr/>
        </p:nvPicPr>
        <p:blipFill>
          <a:blip r:embed="rId1"/>
          <a:stretch/>
        </p:blipFill>
        <p:spPr>
          <a:xfrm>
            <a:off x="3048120" y="3456000"/>
            <a:ext cx="46479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3DB1-7C33-41ED-911E-DCF658DF22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Préparation et stockage des contrôle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dhérer aux instructions du fabric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arder la quantité adéquate du même numéro de lo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correc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Picture 183" descr="Bottle"/>
          <p:cNvPicPr/>
          <p:nvPr/>
        </p:nvPicPr>
        <p:blipFill>
          <a:blip r:embed="rId1"/>
          <a:stretch/>
        </p:blipFill>
        <p:spPr>
          <a:xfrm>
            <a:off x="5486400" y="4876920"/>
            <a:ext cx="896760" cy="1523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7"/>
          <p:cNvSpPr/>
          <p:nvPr/>
        </p:nvSpPr>
        <p:spPr>
          <a:xfrm rot="18999600">
            <a:off x="5790960" y="4114440"/>
            <a:ext cx="1098360" cy="533520"/>
          </a:xfrm>
          <a:prstGeom prst="pi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87DF-05DC-4066-93DC-A1CD82A5A1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Étapes de la mise en oeuvre du CQ quantitatif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Obtenir le matériel de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ster le contrôle 20 fois sur 30 jou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alculer la moyenne , l’écart type et 1S, 2S, 3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1" name="Group 61"/>
          <p:cNvGrpSpPr/>
          <p:nvPr/>
        </p:nvGrpSpPr>
        <p:grpSpPr>
          <a:xfrm>
            <a:off x="4724280" y="1828800"/>
            <a:ext cx="4054680" cy="4835880"/>
            <a:chOff x="4724280" y="1828800"/>
            <a:chExt cx="4054680" cy="4835880"/>
          </a:xfrm>
        </p:grpSpPr>
        <p:sp>
          <p:nvSpPr>
            <p:cNvPr id="222" name="Line 23"/>
            <p:cNvSpPr/>
            <p:nvPr/>
          </p:nvSpPr>
          <p:spPr>
            <a:xfrm>
              <a:off x="727488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4"/>
            <p:cNvSpPr/>
            <p:nvPr/>
          </p:nvSpPr>
          <p:spPr>
            <a:xfrm>
              <a:off x="699912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5"/>
            <p:cNvSpPr/>
            <p:nvPr/>
          </p:nvSpPr>
          <p:spPr>
            <a:xfrm>
              <a:off x="699912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6"/>
            <p:cNvSpPr/>
            <p:nvPr/>
          </p:nvSpPr>
          <p:spPr>
            <a:xfrm>
              <a:off x="699912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33"/>
            <p:cNvSpPr/>
            <p:nvPr/>
          </p:nvSpPr>
          <p:spPr>
            <a:xfrm>
              <a:off x="7692840" y="4967280"/>
              <a:ext cx="108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Moyen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732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5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3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60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2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30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61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88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7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248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Line 56"/>
            <p:cNvSpPr/>
            <p:nvPr/>
          </p:nvSpPr>
          <p:spPr>
            <a:xfrm>
              <a:off x="699912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57"/>
            <p:cNvSpPr/>
            <p:nvPr/>
          </p:nvSpPr>
          <p:spPr>
            <a:xfrm>
              <a:off x="699912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58"/>
            <p:cNvSpPr/>
            <p:nvPr/>
          </p:nvSpPr>
          <p:spPr>
            <a:xfrm>
              <a:off x="699912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59"/>
            <p:cNvSpPr/>
            <p:nvPr/>
          </p:nvSpPr>
          <p:spPr>
            <a:xfrm>
              <a:off x="699912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3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8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36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60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56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84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732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8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60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48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3000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84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36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36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3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2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2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Text Box 85"/>
            <p:cNvSpPr/>
            <p:nvPr/>
          </p:nvSpPr>
          <p:spPr>
            <a:xfrm>
              <a:off x="7752240" y="445788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91"/>
            <p:cNvSpPr/>
            <p:nvPr/>
          </p:nvSpPr>
          <p:spPr>
            <a:xfrm>
              <a:off x="7752240" y="55382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92"/>
            <p:cNvSpPr/>
            <p:nvPr/>
          </p:nvSpPr>
          <p:spPr>
            <a:xfrm>
              <a:off x="7752240" y="408348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93"/>
            <p:cNvSpPr/>
            <p:nvPr/>
          </p:nvSpPr>
          <p:spPr>
            <a:xfrm>
              <a:off x="7752240" y="35744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94"/>
            <p:cNvSpPr/>
            <p:nvPr/>
          </p:nvSpPr>
          <p:spPr>
            <a:xfrm>
              <a:off x="7752240" y="59018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5"/>
            <p:cNvSpPr/>
            <p:nvPr/>
          </p:nvSpPr>
          <p:spPr>
            <a:xfrm>
              <a:off x="7752240" y="626580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19E2-6606-4E4A-8BD0-68B89E41CD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ure de la fluctu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15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 fluctuation est un évènement normal quand un contrôle est testé de façon répété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ffectée par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6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533520" y="3048120"/>
            <a:ext cx="228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chnique  opératoir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2819520" y="28954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ditions  environne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6114960" y="297180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aractéristiques des performances de l’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Verdana"/>
              </a:rPr>
              <a:t>Le but est de différencier la fluctuation due au hasard de celle due à une erre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A0AD-580C-4B16-A691-0AF7221CD2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ures d’une distribution norma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ensemble des données est distribué autour d’une valeur centra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294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e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EA0F-4A20-409F-B624-80B5C60920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Mesures d’une distribution normal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609480" y="1676520"/>
          <a:ext cx="8153640" cy="3825720"/>
        </p:xfrm>
        <a:graphic>
          <a:graphicData uri="http://schemas.openxmlformats.org/drawingml/2006/table">
            <a:tbl>
              <a:tblPr/>
              <a:tblGrid>
                <a:gridCol w="1981440"/>
                <a:gridCol w="617220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qui a le plus grand effecti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62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édi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qui permet de partager la série en deux parties de même nombre d'élé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yen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yenne arithmétique des résult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6C07-B979-4239-987C-1F74FBDB6E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Ces valeurs ne sont pas toutes les même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03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4268880" y="1676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5"/>
          <p:cNvSpPr/>
          <p:nvPr/>
        </p:nvSpPr>
        <p:spPr>
          <a:xfrm>
            <a:off x="4560840" y="23432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édi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7"/>
          <p:cNvSpPr/>
          <p:nvPr/>
        </p:nvSpPr>
        <p:spPr>
          <a:xfrm>
            <a:off x="2338560" y="16002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oy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3490920" y="60958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e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A772-BBA3-4AFF-9CD7-2E5A9434E8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, les participants seront en mesure de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fférencier justesse/exactitude et préci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lectionner le matériel de contrôle pour le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des limites acceptables de contrôle pour une méthode lorsque seulement un niveau de matériel de contrôle est disponi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pliquer l’utilisation des diagrammes de Levey-Jenn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comment corriger les problèmes apparaissant « en dehors de tout contrôle 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B4E0-8555-4997-B697-07BFC0CACD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Symboles utilisé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mme 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=nombre de mes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fr-FR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fr-FR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= toutes les mesures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(1 à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X  représente la moyen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943B-AC89-4AC2-8869-A644E6FBEE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cul de la moyenn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0" name="Rectangle 4"/>
          <p:cNvSpPr/>
          <p:nvPr/>
        </p:nvSpPr>
        <p:spPr>
          <a:xfrm>
            <a:off x="0" y="2881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  = Moye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= Premièr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= Second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= Dernièr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= Nombre total de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4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FF8D-6BA2-4B4B-A4C5-FFED88C768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Verdana"/>
              </a:rPr>
              <a:t>Exemple</a:t>
            </a:r>
            <a:br>
              <a:rPr sz="1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cul de la moyenne: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Tests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ELISA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stez le contrôle 20 fois sur 30 jours. Enregistrer les valeurs de DO et les valeurs des cut off pour chaque mesur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visez la DO par la CO (OD/CO) pour chaque point ou observation. Cela standardise les donné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dditionnez les ratios et divisez par le nombre de mesures pour obtenir la moyenn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22D7-2AAE-4106-A657-02F59A7A99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onnées présentant une valeur aberrante ou “outlier”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495320" y="15235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4055-BA83-49D8-9E34-B36E73209E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istribution norma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stribution symétrique de toutes les valeurs autour de la moyenn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rme en cloche caractéristiq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sumée pour toutes les statistiques du contrôl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Group 8"/>
          <p:cNvGrpSpPr/>
          <p:nvPr/>
        </p:nvGrpSpPr>
        <p:grpSpPr>
          <a:xfrm>
            <a:off x="5562720" y="3962520"/>
            <a:ext cx="3276360" cy="2286000"/>
            <a:chOff x="5562720" y="3962520"/>
            <a:chExt cx="3276360" cy="2286000"/>
          </a:xfrm>
        </p:grpSpPr>
        <p:sp>
          <p:nvSpPr>
            <p:cNvPr id="339" name="Freeform 9"/>
            <p:cNvSpPr/>
            <p:nvPr/>
          </p:nvSpPr>
          <p:spPr>
            <a:xfrm>
              <a:off x="5564520" y="3962520"/>
              <a:ext cx="3271320" cy="217116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10"/>
            <p:cNvSpPr/>
            <p:nvPr/>
          </p:nvSpPr>
          <p:spPr>
            <a:xfrm>
              <a:off x="5562720" y="6118200"/>
              <a:ext cx="32763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1"/>
            <p:cNvSpPr/>
            <p:nvPr/>
          </p:nvSpPr>
          <p:spPr>
            <a:xfrm>
              <a:off x="7200360" y="4070520"/>
              <a:ext cx="720" cy="2178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 Box 12"/>
          <p:cNvSpPr/>
          <p:nvPr/>
        </p:nvSpPr>
        <p:spPr>
          <a:xfrm rot="16200000">
            <a:off x="4109040" y="4881960"/>
            <a:ext cx="205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réqu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6553080" y="6172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oy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7FD0-CF8B-41E2-BA04-26CE7C3B19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Qu’est ce que l’exactitude et la précision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533520" y="609480"/>
            <a:ext cx="8076960" cy="21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e contrôle qualité est utilisé pour vérifier l’exactitude et la précision d’une analy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4" descr="MCDD00744_0000[1]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E2AC-6A5E-4A24-9F91-6904056151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é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533520" y="1676520"/>
          <a:ext cx="8229600" cy="423072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ctitu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ésultat de mesure qui est le plus proche de la valeur vrai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éc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Écart (fluctuation) des valeurs entre ell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80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Différence entre le résultat attendu de l’analyse et une valeur de référence acceptée.</a:t>
                      </a: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118D-A5D2-447B-8C4F-90FC3B8EAF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Exactitude et Pré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57" name="Picture 59" descr="Untitled-2"/>
          <p:cNvPicPr/>
          <p:nvPr/>
        </p:nvPicPr>
        <p:blipFill>
          <a:blip r:embed="rId1"/>
          <a:stretch/>
        </p:blipFill>
        <p:spPr>
          <a:xfrm>
            <a:off x="457200" y="1446120"/>
            <a:ext cx="80010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9E1F-D770-4D49-93B0-FD7301CE1F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Écart-type et probabilité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orsque les mesures sont normalement distribuées (distribution normale des valeurs), une valeur tombera dans l’intervalle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1S : 68.3% du temps</a:t>
            </a:r>
            <a:br>
              <a:rPr sz="2400"/>
            </a:br>
            <a:br>
              <a:rPr sz="2400"/>
            </a:b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2S : 95.5% du temps</a:t>
            </a:r>
            <a:br>
              <a:rPr sz="2400"/>
            </a:br>
            <a:br>
              <a:rPr sz="2400"/>
            </a:b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3S : 99.7% du tem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364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365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366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67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400" spc="-1" strike="noStrike">
                  <a:solidFill>
                    <a:srgbClr val="000099"/>
                  </a:solidFill>
                  <a:latin typeface="Arial"/>
                </a:rPr>
                <a:t>Fréqu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-    2s     -1s       Moyenne  +1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4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D357-2C52-4613-B51E-C166C01647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Ecart type (S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2306520" y="3124080"/>
                <a:ext cx="387360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89" name="Rectangle 6"/>
          <p:cNvSpPr/>
          <p:nvPr/>
        </p:nvSpPr>
        <p:spPr>
          <a:xfrm>
            <a:off x="304920" y="14479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 est la mesure principale de la dispersion utilisée a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Écart-type – Formule statis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95C5-8D96-48E3-980D-651CDAB3D2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9" name="Picture 65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E2FA-CA1A-4164-85D1-B1A65C6AEF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oefficient de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oefficient de variation (CV) est le S exprimé en pourcentage de la moyenn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utilisé pour contrôler la pré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utilisé pour comparer des métho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idéalement inférieur à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4"/>
              <p:cNvSpPr txBox="1"/>
              <p:nvPr/>
            </p:nvSpPr>
            <p:spPr>
              <a:xfrm>
                <a:off x="1752480" y="2514600"/>
                <a:ext cx="558972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oyenne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D6CE-C619-4BCF-8359-4A7FED8CDB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9" name="Text Box 118"/>
          <p:cNvSpPr/>
          <p:nvPr/>
        </p:nvSpPr>
        <p:spPr>
          <a:xfrm>
            <a:off x="685800" y="13716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Représentation graphique des intervalles des valeurs du contrôle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618C-7F87-4B4F-9D75-C34D4917C5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Statistiques pour le CQ Quantitatif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5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35900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228600" y="1676520"/>
            <a:ext cx="861048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sez le contrôle au moins 20 fois sur 20 à 30 j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’assurer que les variations liées aux fluctuations sont représent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lculez la moyenne et </a:t>
            </a:r>
            <a:r>
              <a:rPr b="0" lang="fr-FR" sz="32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+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1, 2 et 3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21C8-542F-4ACB-BBFF-8FF769A05C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Tracer des lignes pour la moyenne et les écarts types</a:t>
            </a:r>
            <a:br>
              <a:rPr sz="2800"/>
            </a:br>
            <a:r>
              <a:rPr b="0" lang="fr-FR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fr-FR" sz="1600" spc="-1" strike="noStrike">
                <a:solidFill>
                  <a:srgbClr val="000099"/>
                </a:solidFill>
                <a:latin typeface="Verdana"/>
              </a:rPr>
              <a:t>calculés à partir de 20 mesures</a:t>
            </a:r>
            <a:r>
              <a:rPr b="0" lang="fr-FR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1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25"/>
          <p:cNvSpPr/>
          <p:nvPr/>
        </p:nvSpPr>
        <p:spPr>
          <a:xfrm flipH="1">
            <a:off x="228600" y="16002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om du diagram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26"/>
          <p:cNvSpPr/>
          <p:nvPr/>
        </p:nvSpPr>
        <p:spPr>
          <a:xfrm>
            <a:off x="4952880" y="16002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uméro de lo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131D-42F2-4404-AD08-A869D82EEA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39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40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43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4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756"/>
          <p:cNvSpPr/>
          <p:nvPr/>
        </p:nvSpPr>
        <p:spPr>
          <a:xfrm>
            <a:off x="8367480" y="329256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57"/>
          <p:cNvSpPr/>
          <p:nvPr/>
        </p:nvSpPr>
        <p:spPr>
          <a:xfrm>
            <a:off x="8367480" y="282420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758"/>
          <p:cNvSpPr/>
          <p:nvPr/>
        </p:nvSpPr>
        <p:spPr>
          <a:xfrm>
            <a:off x="8367480" y="404352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759"/>
          <p:cNvSpPr/>
          <p:nvPr/>
        </p:nvSpPr>
        <p:spPr>
          <a:xfrm>
            <a:off x="8367480" y="457668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765"/>
          <p:cNvSpPr/>
          <p:nvPr/>
        </p:nvSpPr>
        <p:spPr>
          <a:xfrm>
            <a:off x="8367480" y="503388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766"/>
          <p:cNvSpPr/>
          <p:nvPr/>
        </p:nvSpPr>
        <p:spPr>
          <a:xfrm>
            <a:off x="8367480" y="236700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23"/>
          <p:cNvSpPr/>
          <p:nvPr/>
        </p:nvSpPr>
        <p:spPr>
          <a:xfrm>
            <a:off x="4038120" y="615312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55"/>
          <p:cNvSpPr/>
          <p:nvPr/>
        </p:nvSpPr>
        <p:spPr>
          <a:xfrm>
            <a:off x="685800" y="1447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r les résultats des contrôles quotidi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2916-3DC4-4FEC-AA50-4D332CC401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Nombre de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interprétation dépend du nombre de contrôles passés avec les échantillons de pati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Bon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Si un niveau de contrôle 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cceptez les résultats si le contrôle est dans ± 2SD à moins d’un déplacement ou d’une tend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ieux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Si deux niveaux de contrôle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ppliquez le système multi règles de Westg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5F94-08B7-44D9-B962-F320A20FC8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étection d’erreu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rreur aléatoire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 dispersion des résultats de CQ sans motif – une seule cause de rejection si en dehors de 2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rreur systématique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pas acceptable,  corriger la source de l’err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emples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placement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– contrôle du même côté de la moyenne 6 jours consécutif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Tendance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– contrôle se déplaçant dans une direction – se dirige vers une val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D73F-E89A-46E6-BED2-DD92702DDC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1200"/>
            </a:b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Déplacem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8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2DC3-A04F-4094-A9EE-DB6D3979EF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Tend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4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EA1E-9AF6-4744-93EE-CECC5D4849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Mesure de l’incertitud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tervalle de valeur dans lequel la valeur vraie peut raisonnablement se trouv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stimée à un niveau de confiance de 95%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lus la méthode est précise, plus faible est la quantité de dispersion dans l’intervalle de 95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ns la plupart des cas, un intervalle de +/- 2S est accepté comme mesure de l’incertitude, expliqué par la fluctuation aléatoire.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24A0-EB6D-421B-85B0-1C0582CC6B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ests Quantitatif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esurent la quantité d’une substance particulière dans un échantillon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contrôle qualité pour les tests quantitatifs est conçu pour s’assurer que les résultats sont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xac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iab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A3A1-24CF-4CD9-9F2F-A9C3203D09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Si CQ hors contrô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Verdana"/>
              </a:rPr>
              <a:t>Arrêtez les analy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z et corrigez le problè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passez les échantillons de patients et les contrôles après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as de compte-rendu des résultats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ant que le problème n’est pas résolu et que les contrôles ne sont pas corrects.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4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3171-6959-45C2-9152-9E2742B1A8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soudre les problèm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les problème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référer aux lignes de conduite et procédures pour les actions de corre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9" name="Picture 4" descr="spy_guy"/>
          <p:cNvPicPr/>
          <p:nvPr/>
        </p:nvPicPr>
        <p:blipFill>
          <a:blip r:embed="rId1"/>
          <a:stretch/>
        </p:blipFill>
        <p:spPr>
          <a:xfrm>
            <a:off x="6400800" y="68580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" descr="4_log_book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C1DF-0679-4D73-861A-E968751E60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Problèmes possib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gradation des réactifs ou des ki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gradation du matériel de contrô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rreur de manipulation de l’opérat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aut dans le suivi des instructions du fabrica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nuel de procédure dépassé, obsolèt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aut de l’équip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rreur de calibr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7452-35EA-4712-93B3-C12BD0DA48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Un programme de contrôle qualité des tests quantitatifs est essentiel. Il devrait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rôler touts les tests quantitatif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osséder des lignes de conduite et procédures écrites suivies par le personn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voir un responsable qualité contrôlant et révisant les données du C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er une analyse statistique, conserver de bons enregistrements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ener à bien des actions correctives et de résolution de problè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Espace réservé du pied de page 3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8401-8E0F-45CC-AC7E-A01761CDCF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gramme de CQ permet au laboratoire de différencier les fluctuations normales des erreu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gramme CQ contrôle l’exactitude et la précision des analyses du laboratoir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résultats des patients ne devraient jamais être rendus si les résultats du contrôle qualité pour l’analyse en cours ne correspondent pas aux valeurs cibles du laboratoire.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3723-F9F8-4A1F-A559-01F3D9DE02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714640" y="2133720"/>
            <a:ext cx="3429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616" name="Picture 12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04920" y="927000"/>
            <a:ext cx="518148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43F1-0B33-45DA-9749-B2366DDD85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Étapes de la mise en oeuvre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294920"/>
            <a:ext cx="85341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réer des lignes de conduite et des procédur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ttribuer les responsabilités, former le personn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lectionner du bon matériel de contrô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des intervalles et limites de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velopper des graphiques pour relever les valeurs du contrôle - diagrammes de Levey-Jenn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rôler les valeurs du contrô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toutes les actions entrepris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6179-E9F4-48DF-BFEF-368985414E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Qu’est ce qu’un contrôle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qui contient la substance à analys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s sont testés en même temps que les échantillons de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é pour valider la fiabilité du système d’analys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sé après la calibration de l’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sé périodiquement pendant l’analy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E740-16DB-4F18-9BC6-7A7AF8932B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ibrateurs ou Contrôles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56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5B32-CE13-4646-A383-1F49F162E4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Verdana"/>
              </a:rPr>
              <a:t>Calibrateurs</a:t>
            </a: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Substance avec une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concentration spécifique. 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Utilisés pour calibrer les 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points de mesure sur une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échel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Contrôles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Substance similaire aux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s de patient, à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ne concentration établie 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tilisés pour s’assurer que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 procédure fonctionne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orrect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162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1213560" y="3897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168660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0"/>
            <p:cNvSpPr/>
            <p:nvPr/>
          </p:nvSpPr>
          <p:spPr>
            <a:xfrm>
              <a:off x="214380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22"/>
            <p:cNvSpPr/>
            <p:nvPr/>
          </p:nvSpPr>
          <p:spPr>
            <a:xfrm>
              <a:off x="267696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3"/>
            <p:cNvSpPr/>
            <p:nvPr/>
          </p:nvSpPr>
          <p:spPr>
            <a:xfrm>
              <a:off x="3362760" y="3885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175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A804-7A0F-4922-AF4A-49D13BCC41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ractéristiques des contrôle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appropriés pour le test cibl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aleurs proches des niveaux pour lesquels une décision médicale est pri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imilaires aux échantillons de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sponibles en grande quantité, idéalement suffisamment pour 1 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euvent être stockés dans de petits aliquo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05:59:41Z</dcterms:created>
  <dc:creator>exw2</dc:creator>
  <dc:description/>
  <dc:language>en-US</dc:language>
  <cp:lastModifiedBy>dolmazonv</cp:lastModifiedBy>
  <dcterms:modified xsi:type="dcterms:W3CDTF">2010-04-07T16:49:58Z</dcterms:modified>
  <cp:revision>621</cp:revision>
  <dc:subject/>
  <dc:title>Slide 1</dc:title>
</cp:coreProperties>
</file>