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316B-70A1-45AE-8035-9B3D9C4E3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C349-C6F2-4640-A60D-16F779479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9A52-FCD7-4C84-9B62-F93BB45E2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4DA7-5A4F-4BF8-88F4-F454227DE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C218-6D86-4584-BF57-67125F257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505B-7005-4D58-8686-B000C6144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CAD9-70C9-4D46-B131-37BAA6A85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1613-B55E-44F9-B674-D75B693D9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C91F-4C92-462D-A8A4-C5D67B926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3BC8-7824-4A1B-98FE-70AF87B50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731C-79F3-4DE4-80CC-FE0C1524C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C140-6FFC-4B2E-BB03-A0DC85EC4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AC8F-9E88-49C9-97CC-AEC9436B3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41D0-DE07-4BA5-8212-5B05A5F47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45BD6-B67F-4E47-B4E9-B90EF26B7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E8C98-BC04-40E0-B508-5ACFB0A88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3EE31-F182-4F0D-B7A2-3FB2CFC9C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2E765-FD9D-4B70-80F5-7C937C77F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F7D-775C-4810-BC9E-1A4B4E43D8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CBB3-9EE3-468A-902B-198B433C78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8EBD-0828-4FF3-9FAF-6B24C643DC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2455-AFCE-4EE6-8E2F-0457069E4B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0E8F-B44C-4916-BFA5-6D323CD1B6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7A2B-0AA0-45C6-9207-3DA6E3D732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2F84-CCA3-4701-AFA8-6CB41A7259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A3E7D-1D50-4E86-8D1A-98ED55AFD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BDC-AB43-4860-A5B6-301AEDE0AB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9D10-1AAB-4EAC-8F65-FC7BCDC70C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713-DAB7-47EB-A9D2-0D4ABF8F9D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819F-8495-4C37-833E-555BB6D47D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1A39-09F1-4FF6-996D-9F4DBC8261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6F1F3-9A8E-4051-8E54-1C2156A91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7A105-C27C-47C4-83A7-C000BB278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43639-DF03-44BF-A9C4-90DA39897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1ADF6-6937-4A2E-8004-A754BCCC3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6C3B4-92B0-49CD-951A-1B87E6C50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09257-32F0-4E49-80EF-674DAA246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3233A-E8F5-49C9-AE82-B1AF39D4C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964F-E573-45E2-89D2-3FFE510EE3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88D2-3B4E-4439-91DD-259A02CE12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DD11-409C-486D-91B0-94C4ED5017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5" name="Text Box 16"/>
          <p:cNvSpPr/>
          <p:nvPr/>
        </p:nvSpPr>
        <p:spPr>
          <a:xfrm>
            <a:off x="2971800" y="1600200"/>
            <a:ext cx="617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des processus : Contrôle qualité des procédures qualitatives et semi quantitativ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1448-87D9-4342-977E-35FC19C068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ation de contrôles traditionnel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és comm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un contrôle positif et néga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faiblement positif pour les procédures immun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sissez des contrôles positifs proches des valeurs limites (cut-off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pour contrôler la phase d’ex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A773-C4E1-4477-836D-182B2CEEAFE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6229-5CDE-44BC-BA75-F8EE7326CC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0" descr="qc_bacteria"/>
          <p:cNvPicPr/>
          <p:nvPr/>
        </p:nvPicPr>
        <p:blipFill>
          <a:blip r:embed="rId1"/>
          <a:stretch/>
        </p:blipFill>
        <p:spPr>
          <a:xfrm>
            <a:off x="6248520" y="2897280"/>
            <a:ext cx="2666880" cy="229716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9A2F-8170-4E2C-B02F-C9888BCAAC2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ultures de collection pour le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« maison 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ons prévisib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milieux, les réactifs et les consommables fonctionnent comme prév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7" descr="qc_growth_poor_growth_cdc"/>
          <p:cNvPicPr/>
          <p:nvPr/>
        </p:nvPicPr>
        <p:blipFill>
          <a:blip r:embed="rId2"/>
          <a:stretch/>
        </p:blipFill>
        <p:spPr>
          <a:xfrm>
            <a:off x="4419720" y="4919760"/>
            <a:ext cx="28954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78DF-0529-499C-8BAF-70B47CC34F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igines des souches de référenc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ATCC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 American Type Culture Collection (USA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TCC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ational Type Culture Collection (UK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IP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llection de l’Institut Pasteur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6BAB-1271-4EC0-BB8D-23216C47616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0BC1-4855-4C1C-8F81-8F962EE0B2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9010-91B9-4875-AF86-BE24F10722F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colorants sont importants—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enez soin d’eux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89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"/>
          <p:cNvSpPr/>
          <p:nvPr/>
        </p:nvSpPr>
        <p:spPr>
          <a:xfrm>
            <a:off x="5531760" y="5257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as de soi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07960" y="5257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Verdana"/>
              </a:rPr>
              <a:t>Attention Contin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C6EF-E536-4879-905A-6B6B2C46BA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47DC-15DC-4592-971D-A394F418E9F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estion des color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la procédure établie pour les préparer ou les reconstitu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te : contenu, concentration, date de préparation et de première utilisation, de péremption, initiales du prépar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age appropr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EFC6-9AF2-4369-84C7-0461436A1C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6B27-EF42-448F-9359-8BDD63C30A9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 des souch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pproprié pour des souches particuliè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cation avec des organismes conn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pour vérifier si précipitation ou crista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si contaminants tels que bactéries et champign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hematol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657600" y="441972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auch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Wright 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roit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Gram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5" name="Picture 8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3B80-F5B6-4736-8FE8-BFC959627B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85EC-F40F-4D54-9334-5AC3B19024D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loration de Gram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0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38088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Verdana"/>
              </a:rPr>
              <a:t>Bonne Qualité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647240" y="50292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alité médiocr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5BD6-B248-494C-939C-D4A0F3C795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4953-4739-4050-A44E-5FF5BD280B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C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érifier la performance de tous les mil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« maison » : tous les l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du commerce : seulement nouveau l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10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2"/>
          <p:cNvSpPr/>
          <p:nvPr/>
        </p:nvSpPr>
        <p:spPr>
          <a:xfrm>
            <a:off x="3429000" y="3505320"/>
            <a:ext cx="2438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Q MacConkey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che: lactose -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oite: lactose +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47B4-11CF-48E2-8CC7-D10AA75291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9480" y="3200400"/>
            <a:ext cx="8229600" cy="3933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Le sang humai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ne devrait pas être utilisé car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tion entre les lo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contenir des substances inhibitrices, y compris des antibiotiqu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être dangereux (par exemple virus de l’hépatit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Picture 39" descr="bio_hazrd_red_blk_cdc"/>
          <p:cNvPicPr/>
          <p:nvPr/>
        </p:nvPicPr>
        <p:blipFill>
          <a:blip r:embed="rId1"/>
          <a:stretch/>
        </p:blipFill>
        <p:spPr>
          <a:xfrm>
            <a:off x="5562720" y="5931000"/>
            <a:ext cx="1189080" cy="9270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C6CB-0854-44E2-900B-1F2A8ED8DB8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milieux à év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8" name="Group 7"/>
          <p:cNvGrpSpPr/>
          <p:nvPr/>
        </p:nvGrpSpPr>
        <p:grpSpPr>
          <a:xfrm>
            <a:off x="4114800" y="1143000"/>
            <a:ext cx="2514600" cy="914400"/>
            <a:chOff x="4114800" y="1143000"/>
            <a:chExt cx="2514600" cy="914400"/>
          </a:xfrm>
        </p:grpSpPr>
        <p:sp>
          <p:nvSpPr>
            <p:cNvPr id="229" name="AutoShape 8"/>
            <p:cNvSpPr/>
            <p:nvPr/>
          </p:nvSpPr>
          <p:spPr>
            <a:xfrm>
              <a:off x="4193280" y="160020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AutoShape 9"/>
            <p:cNvSpPr/>
            <p:nvPr/>
          </p:nvSpPr>
          <p:spPr>
            <a:xfrm>
              <a:off x="4114800" y="11430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3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3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4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4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4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50" name="Text Box 32"/>
          <p:cNvSpPr/>
          <p:nvPr/>
        </p:nvSpPr>
        <p:spPr>
          <a:xfrm>
            <a:off x="782280" y="1523880"/>
            <a:ext cx="26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érim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hydrat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miné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11A8-4A51-4EDD-87AB-BFC3E7884D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3" name="Picture 7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3094-6BB2-42E0-8B6B-66E67C55C95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qualité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ervez un enregistrement des milieux préparés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nregistrez les résultats dans un registre dédié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H, stérilité, fertilité avec cultures de collection, réponse biochimique des cultures de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réquenc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nalyser chaque nouveau lot ou numéro de 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6B9C-8013-43FE-987D-B4127E53B9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04F5-EDA3-4BC7-B037-F4AE3609897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aire la différence entre les contrôles intégrés et les autres contrô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utiliser les souches de contrôle pour le contrôle qualité en microbiolog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cuter l’utilisation du contrôle qualité pour les colorants utilisés lors d’examens microscop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méthodes pour vérifier la performance des milieux microbiologiqu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7807-D058-4BC6-88D4-D268E652F7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D7AD-A58A-43D1-9187-F9BB7DBA03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tests qualitatifs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onnent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a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e résultat numériqu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Test semi quantitatifs donnent une est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réer un programme de CQ pour les test qualitatifs et semi quantitati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CC0B-34EE-402F-86E2-BE994217AC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 de CQ suivies par TOUT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jours enregistrer les résultats du CQ et les actions corr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i résultats de CQ pas acceptables, PAS de compte rend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DE38-28CE-4429-B754-C5951196E63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u pied de page 3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0D17-4D6F-4716-B818-AB4917F5EA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11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631800"/>
            <a:ext cx="53337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E46F-93B2-4BA0-BB22-077BA8AA69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 laboratoire A fait une culture et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est identifié 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mesures de CQ pouvez vous utiliser pour confirmer que la souche a bien été identifiée 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E02B-9A5E-4C4F-B733-582D2F1FDC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6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5029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B81B-D8EC-47E5-AA97-134394E06D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e tests qualitatifs ou semi quantita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amens microscop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ndelett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sér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microbi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te réaction qui ne donne pas de résultat numér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D7DD-326C-4D6B-9723-954901B4005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Picture 7" descr="micro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gglut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ttp://www.academic.marist.edu/~jzmz/methods/wbcrbc.jpg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93EA-F0FB-4B32-A33A-A8C443D0D7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cepts import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 l’échantill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étence du personn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ance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de contrô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s colorants, milieux et réa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servation des regist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3572-1803-4D11-A690-BD9D18EA0A4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488D-9EA7-4BB6-A1C6-DEB94E4284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qui imitent les échantillons de pati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ultures de colle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A9AB-A422-4617-922F-1833710469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égrés dans le kit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ssés automatiquement avec chaque 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certains aspects de la performance du k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’évaluent pas tout le processus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4074-D084-47FE-BF4B-5375E0D1EA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traditionne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nt une réactivité con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itent les échantillons de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l’intégrité de tout le système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dolmazonv</cp:lastModifiedBy>
  <dcterms:modified xsi:type="dcterms:W3CDTF">2010-04-07T17:00:08Z</dcterms:modified>
  <cp:revision>479</cp:revision>
  <dc:subject/>
  <dc:title>Slide 1</dc:title>
</cp:coreProperties>
</file>