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6E66-77DE-4E27-818A-6DA61DBB4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E6FC-168D-4F0E-8F81-92B92E3CA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596D-867D-4BDB-A2F3-23D4CC789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33365-C119-4ACF-B6A9-186FD71B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6855E-0118-4890-8A55-91939EFF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97869-6BDC-408C-ABBF-9051010D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E1720-20F3-41C7-9FA7-9C1AE7F4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6CA9-2FA4-464E-A1B6-BF731F99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F660-088A-4615-BCD0-BBB2B1DC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1EEB-46A3-444C-8CF1-64FA32E6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7BC3-4D4F-4C21-95E5-6BEDF544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A321-2A71-43CE-B685-BFF7BC5D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CE6F-6ACA-4F3A-922F-B749D64D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E87A-5928-4001-93C5-2E652551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77C0F-4BDB-4E4E-8663-49C8E149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EEEF-F5CA-4C2D-A0D2-4646E2D2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2704-FA2D-466C-AEBC-524E3722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FA5A-42D8-4954-BFC6-F3AE86AE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B5E6-288C-436E-ADFD-6253724F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1A91-14F8-444F-967B-8DAD1B0A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5F3D2-F1CD-4BF4-8D94-B9170FCC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04767-A4FB-4CA8-90C4-B12E1E86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EDB96-ACF5-417C-8AA7-3845F34A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D3090-0895-4494-BC19-ADC2C4EC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A85D0-EF30-41C9-9319-152BB495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4964F-FEA3-481B-ADAA-327E3793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ECEB2-6B9E-4DEE-8622-93C552D4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EF98-BB42-43EF-8D4E-9F11FEC6EB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B396-4021-4F2D-921A-7DF7935A480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7735-B8FF-48D0-AC7A-D961C8BFA35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F2E4-CDDA-4952-9E9A-3F5934BB7D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BD66-C8DE-4E85-A666-B1A7D29B98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Verdana"/>
              </a:rPr>
              <a:t>Checklist d’orie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r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roduction à la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vue technique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gnes de conduite clefs du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ème de gestion de la qualité a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criptif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te de débu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ITION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SPONSABL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282E-A358-43A4-86B0-F77F94629B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762120" y="1066680"/>
            <a:ext cx="80010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99"/>
                </a:solidFill>
                <a:latin typeface="Verdana"/>
              </a:rPr>
              <a:t>L’évaluation des performances peut plus mettre en lumière les opportunités d’amélioration pour le laboratoire que pour l’employ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Cj04260720000[1]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06BD-B2DA-41B8-9E9F-C8473C1BC5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alifications et descriptif de po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3520" y="1219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« La direction du laboratoire devrait avoir des descriptifs de  poste qui définissent les qualifications et les fonctions de tout le personnel. 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SO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2120" y="2819520"/>
            <a:ext cx="40384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éducation requ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ertificat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iplôme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expé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mpétences requ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a hiérarc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es responsabili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ô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fo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ponsabi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structures d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762120" y="2438280"/>
            <a:ext cx="40384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scriptif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D6C1-29DB-46FB-B875-46952111B6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 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ha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981080"/>
          <a:ext cx="8229600" cy="4543560"/>
        </p:xfrm>
        <a:graphic>
          <a:graphicData uri="http://schemas.openxmlformats.org/drawingml/2006/table">
            <a:tbl>
              <a:tblPr/>
              <a:tblGrid>
                <a:gridCol w="2743200"/>
                <a:gridCol w="1066680"/>
                <a:gridCol w="304920"/>
                <a:gridCol w="533520"/>
                <a:gridCol w="609480"/>
                <a:gridCol w="29718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 technic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édur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ément de procé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u le manuel de procéd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du 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quipement dispon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 de travail pro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paration réac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correct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opportuné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6DAA-3AF2-47C8-A54A-E6ED85F899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</a:t>
            </a:r>
            <a:r>
              <a:rPr b="0" lang="fr-FR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(b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752480"/>
          <a:ext cx="8229600" cy="445464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182520"/>
                <a:gridCol w="731880"/>
                <a:gridCol w="182520"/>
                <a:gridCol w="655560"/>
                <a:gridCol w="2819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umé d’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formation requise pour combler les défaillanc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és recommandé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_____ j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ien éval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137B-5500-4855-9D8E-57864CB664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Évaluation des compé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228600" y="1676520"/>
            <a:ext cx="8610480" cy="464796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920" y="1143000"/>
          <a:ext cx="8610480" cy="510840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447560"/>
                <a:gridCol w="1295640"/>
                <a:gridCol w="1218960"/>
                <a:gridCol w="2590920"/>
              </a:tblGrid>
              <a:tr h="835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e d’évaluation des compé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pital principal – Laboratoire de Microbiolo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â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ation 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des disques trop proches. Ré évaluation dans 14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émocul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ifu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plissage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ée donn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rreurs.  Lire le manuel et ré évaluer dans 10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DD5A-EF71-4E84-8A75-A7CFF14A1D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80880" y="1523880"/>
            <a:ext cx="396252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à l’évaluation des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s des manuels opéra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 des mises à jour du manu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rmation sur l’équipeme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Verdana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4572000" y="1752480"/>
            <a:ext cx="426708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liée à l’évaluation des 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é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lubs de rev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vues et litté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Form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MCBS00263_0000[1]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20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AE24-A300-4FAF-9DFA-11325D00D4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760A-CEEC-41B6-A5AC-FD7A39051B9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99"/>
                </a:solidFill>
                <a:latin typeface="Verdana"/>
              </a:rPr>
              <a:t>Ressources de 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rsonnel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mité d’assuranc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firmier(èr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ath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des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pidémi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valua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abric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ociétés scientifi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ganisations de normalis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0010000[1]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BC2B-C102-49D7-BBAE-CDD179E65F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33520" y="1752480"/>
            <a:ext cx="3733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Personnelle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blème de san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uvaise compréh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nque de/mauvais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5373-0653-4B27-BA2A-4EAE5A3470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ques/géné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 sur lieu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rcharge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ientation médio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mation insuffis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’évaluation des compé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lexités des échantil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bsentes ou pas va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mbiguë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4:47:58Z</dcterms:modified>
  <cp:revision>202</cp:revision>
  <dc:subject/>
  <dc:title>Slide 1</dc:title>
</cp:coreProperties>
</file>