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3.jpeg" ContentType="image/jpeg"/>
  <Override PartName="/ppt/media/image20.png" ContentType="image/png"/>
  <Override PartName="/ppt/media/image2.jpeg" ContentType="image/jpeg"/>
  <Override PartName="/ppt/media/image19.jpeg" ContentType="image/jpeg"/>
  <Override PartName="/ppt/media/image18.jpeg" ContentType="image/jpeg"/>
  <Override PartName="/ppt/media/image1.jpeg" ContentType="image/jpeg"/>
  <Override PartName="/ppt/media/image7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B4EA1-6332-4D33-8E6E-9D703DE6B6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4D20B-843B-4BEF-B4F6-4E113270B6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F5D66-6EA5-400F-8901-7C4DB0C02F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A9154-B94A-44E9-8650-5CA275C4C0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2593E-2FB2-44B9-A274-15B10908A3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62074-404D-4778-A479-3ED82D0FC6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E2E8F-597D-4A3C-B173-F6416F0039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2F8A7-AF8E-4925-8E7E-BEC31BB7D8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70F9E-1879-48DA-BE6C-85DE2FEF61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0A352-EF8D-4D65-A328-B643EEDD21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2190E-6C8D-4621-B7BB-B3E327D869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7F4CF-B99F-4F54-9B4C-31CBF3A326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8EBFA-C400-4478-B5FF-BC96A04EA5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AC92C-FA49-4590-B95B-8EDA4CDFCF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7FE860-6C48-4568-833A-7539C9FCFE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E304D5-77EC-4652-9D70-3886BA8E61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ED7F79-141A-4F84-83B2-1E72E2078C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892301-AE1C-4012-A367-59BE98006D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45ACF-A895-4156-8FCC-E8A9381A9CE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B5424-6A7D-4344-B66A-78B8FF79C39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57A2A-FB71-45D2-9D5D-25165B3CE8A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5B06B-CF00-45A8-A5AE-94904F63B55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551F5-F4B2-4582-A545-D01F9EAF803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01E43-0415-477C-9BE2-42FF41870EE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3E429-A80F-4DF6-A7D3-66245301CBD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7EA22E-5854-491C-8591-4B4774B0DF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5AF0D-E628-4D32-977D-57998941E52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AE927-53D2-44C2-94C9-7827505DBFA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DE0AF-0781-4E2B-A881-DF8842B6EC8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C2730-C99C-4A67-8DEB-57FAC3DD4F0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10B86-F85A-403B-AFE7-3890C7EF2CE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2A6F73-3BC5-4481-B5F6-414F316730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330136-B3C3-410F-846C-CF08697EC4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0EE490-8959-4060-BF9A-1AFAFE0566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90A5E8-A9C8-4AD1-B72D-F2ABBDDB59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3FB8BF-8CBF-4CEA-9528-869077990C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6B4AA1-D8DA-4D0B-A44B-1F18A660B7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90C1B6-CC4F-4C75-BA54-1F00C9ED50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02BB2-8D7F-4023-AAD2-9956A6A3449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982800" indent="-196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375920" indent="-196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69040" indent="-196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982800" indent="-196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375920" indent="-196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69040" indent="-196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B5F8B-2D9A-40B9-9EEE-02EF76E661D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8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EF829-3E52-4123-9FAB-575390938C2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grpSp>
        <p:nvGrpSpPr>
          <p:cNvPr id="11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1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125" name="Text Box 16"/>
          <p:cNvSpPr/>
          <p:nvPr/>
        </p:nvSpPr>
        <p:spPr>
          <a:xfrm>
            <a:off x="2971800" y="1600200"/>
            <a:ext cx="6172200" cy="24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Verdana"/>
              </a:rPr>
              <a:t>Contrôle des processus : Contrôle qualité des procédures qualitatives et semi quantitatives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26" name="Picture 16" descr="WHO-EN-C-H"/>
          <p:cNvPicPr/>
          <p:nvPr/>
        </p:nvPicPr>
        <p:blipFill>
          <a:blip r:embed="rId1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7" descr="2BSLATH"/>
          <p:cNvPicPr/>
          <p:nvPr/>
        </p:nvPicPr>
        <p:blipFill>
          <a:blip r:embed="rId2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1" descr="HHS-Logo-blue"/>
          <p:cNvPicPr/>
          <p:nvPr/>
        </p:nvPicPr>
        <p:blipFill>
          <a:blip r:embed="rId3"/>
          <a:stretch/>
        </p:blipFill>
        <p:spPr>
          <a:xfrm>
            <a:off x="426708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21" descr="CLSI_WHO_Blue_CMYK1"/>
          <p:cNvPicPr/>
          <p:nvPr/>
        </p:nvPicPr>
        <p:blipFill>
          <a:blip r:embed="rId4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Espace réservé du pied de page 1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9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7EB34-B91E-4170-BF13-C4D85690EC0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Utilisation de contrôles traditionnel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nalysés comme les échantillons de pati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Utilisez un contrôle positif et négatif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Incluez un contrôle faiblement positif pour les procédures immunologiqu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hoisissez des contrôles positifs proches des valeurs limites (cut-off)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Incluez un contrôle pour contrôler la phase d’extra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54DCD-1578-413F-9D4C-EA5409107514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Espace réservé du pied de page 1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4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A1607-1FDE-4E09-B879-6794B4DF31C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75" name="Picture 10" descr="qc_bacteria"/>
          <p:cNvPicPr/>
          <p:nvPr/>
        </p:nvPicPr>
        <p:blipFill>
          <a:blip r:embed="rId1"/>
          <a:stretch/>
        </p:blipFill>
        <p:spPr>
          <a:xfrm>
            <a:off x="6248520" y="2897280"/>
            <a:ext cx="2666880" cy="2297160"/>
          </a:xfrm>
          <a:prstGeom prst="rect">
            <a:avLst/>
          </a:prstGeom>
          <a:ln w="0">
            <a:noFill/>
          </a:ln>
        </p:spPr>
      </p:pic>
      <p:sp>
        <p:nvSpPr>
          <p:cNvPr id="176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269B9-B07F-4583-95F8-860B05D4A7ED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Cultures de collection pour le CQ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8740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ouches de référe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88740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ouches « maison »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88740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éactions prévisibl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88740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’assurer que les milieux, les réactifs et les consommables fonctionnent comme prévu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9" name="Picture 7" descr="qc_growth_poor_growth_cdc"/>
          <p:cNvPicPr/>
          <p:nvPr/>
        </p:nvPicPr>
        <p:blipFill>
          <a:blip r:embed="rId2"/>
          <a:stretch/>
        </p:blipFill>
        <p:spPr>
          <a:xfrm>
            <a:off x="4419720" y="4919760"/>
            <a:ext cx="2895480" cy="1938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Espace réservé du pied de page 1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74B4D-48CD-40A5-84F5-1E350A20D3A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85341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Origines des souches de référenc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152280" y="1676160"/>
            <a:ext cx="876312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ATCC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- American Type Culture Collection (USA)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NTCC 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National Type Culture Collection (UK)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CIP 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ollection de l’Institut Pasteur (Franc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6B35C-FB9F-4D58-A739-1C5CD2F740B3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Espace réservé du pied de page 1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D8E85-03F2-4E3A-A351-A5805263387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7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32204-5137-4E43-9FCD-398A86FF906C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Les colorants sont importants—</a:t>
            </a:r>
            <a:br>
              <a:rPr sz="3600"/>
            </a:b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Prenez soin d’eux!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89" name="Picture 5" descr="PICT0136"/>
          <p:cNvPicPr/>
          <p:nvPr/>
        </p:nvPicPr>
        <p:blipFill>
          <a:blip r:embed="rId1"/>
          <a:stretch/>
        </p:blipFill>
        <p:spPr>
          <a:xfrm>
            <a:off x="380880" y="2097000"/>
            <a:ext cx="4114800" cy="299556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7" descr="PICT0018"/>
          <p:cNvPicPr/>
          <p:nvPr/>
        </p:nvPicPr>
        <p:blipFill>
          <a:blip r:embed="rId2"/>
          <a:stretch/>
        </p:blipFill>
        <p:spPr>
          <a:xfrm>
            <a:off x="4952880" y="2097000"/>
            <a:ext cx="3581640" cy="2971800"/>
          </a:xfrm>
          <a:prstGeom prst="rect">
            <a:avLst/>
          </a:prstGeom>
          <a:ln w="0">
            <a:noFill/>
          </a:ln>
        </p:spPr>
      </p:pic>
      <p:sp>
        <p:nvSpPr>
          <p:cNvPr id="191" name="Text Box 10"/>
          <p:cNvSpPr/>
          <p:nvPr/>
        </p:nvSpPr>
        <p:spPr>
          <a:xfrm>
            <a:off x="5531760" y="525780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0000"/>
                </a:solidFill>
                <a:latin typeface="Verdana"/>
              </a:rPr>
              <a:t>Pas de soin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2" name="Text Box 11"/>
          <p:cNvSpPr/>
          <p:nvPr/>
        </p:nvSpPr>
        <p:spPr>
          <a:xfrm>
            <a:off x="507960" y="5257800"/>
            <a:ext cx="34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9900"/>
                </a:solidFill>
                <a:latin typeface="Verdana"/>
              </a:rPr>
              <a:t>Attention Continue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Espace réservé du pied de page 1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4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6F177-A133-46F2-B477-0FC3BA07175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2C5A8-6C40-4E12-98F9-D901B721DB59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Gestion des colora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Utilisez la procédure établie pour les préparer ou les reconstitu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Étiquette : contenu, concentration, date de préparation et de première utilisation, de péremption, initiales du préparateu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tockage approprié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Espace réservé du pied de page 1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9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8BD7E-7999-40AA-BD85-3237270B648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0" name="Slide Number Placeholder 4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BA17C-E195-425B-BA42-0B6747705285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Contrôle qualité des souch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83908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000" spc="-1" strike="noStrike">
                <a:solidFill>
                  <a:srgbClr val="000000"/>
                </a:solidFill>
                <a:latin typeface="Verdana"/>
              </a:rPr>
              <a:t>Approprié pour des souches particulières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Vérification avec des organismes connu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Analysez pour vérifier si précipitation ou cristaux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Analysez si contaminants tels que bactéries et champign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3" name="Picture 6" descr="hematol"/>
          <p:cNvPicPr/>
          <p:nvPr/>
        </p:nvPicPr>
        <p:blipFill>
          <a:blip r:embed="rId1"/>
          <a:stretch/>
        </p:blipFill>
        <p:spPr>
          <a:xfrm>
            <a:off x="1295280" y="4648320"/>
            <a:ext cx="2243160" cy="1512720"/>
          </a:xfrm>
          <a:prstGeom prst="rect">
            <a:avLst/>
          </a:prstGeom>
          <a:ln w="0">
            <a:noFill/>
          </a:ln>
        </p:spPr>
      </p:pic>
      <p:sp>
        <p:nvSpPr>
          <p:cNvPr id="204" name="Text Box 7"/>
          <p:cNvSpPr/>
          <p:nvPr/>
        </p:nvSpPr>
        <p:spPr>
          <a:xfrm>
            <a:off x="3657600" y="4419720"/>
            <a:ext cx="20574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Verdana"/>
              </a:rPr>
              <a:t>Gauche: </a:t>
            </a:r>
            <a:br>
              <a:rPr sz="1800"/>
            </a:br>
            <a:r>
              <a:rPr b="1" lang="fr-FR" sz="1800" spc="-1" strike="noStrike">
                <a:solidFill>
                  <a:srgbClr val="000000"/>
                </a:solidFill>
                <a:latin typeface="Verdana"/>
              </a:rPr>
              <a:t>Coloration Wright 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Verdana"/>
              </a:rPr>
              <a:t>Droite: </a:t>
            </a:r>
            <a:br>
              <a:rPr sz="1800"/>
            </a:br>
            <a:r>
              <a:rPr b="1" lang="fr-FR" sz="1800" spc="-1" strike="noStrike">
                <a:solidFill>
                  <a:srgbClr val="000000"/>
                </a:solidFill>
                <a:latin typeface="Verdana"/>
              </a:rPr>
              <a:t>coloration Gram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05" name="Picture 8" descr="g082"/>
          <p:cNvPicPr/>
          <p:nvPr/>
        </p:nvPicPr>
        <p:blipFill>
          <a:blip r:embed="rId2"/>
          <a:srcRect l="7204" t="0" r="10802" b="0"/>
          <a:stretch/>
        </p:blipFill>
        <p:spPr>
          <a:xfrm>
            <a:off x="6019920" y="4572000"/>
            <a:ext cx="1828800" cy="167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Espace réservé du pied de page 1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7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4D2E4-E2F7-49C1-9698-61167C75CB0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8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10ED9-DB1B-4FB4-82DD-508178313860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Coloration de Gram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10" name="Picture 4" descr="g061_large"/>
          <p:cNvPicPr/>
          <p:nvPr/>
        </p:nvPicPr>
        <p:blipFill>
          <a:blip r:embed="rId1"/>
          <a:stretch/>
        </p:blipFill>
        <p:spPr>
          <a:xfrm>
            <a:off x="380880" y="1676520"/>
            <a:ext cx="4038840" cy="327636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9" descr="Poor2"/>
          <p:cNvPicPr/>
          <p:nvPr/>
        </p:nvPicPr>
        <p:blipFill>
          <a:blip r:embed="rId2"/>
          <a:stretch/>
        </p:blipFill>
        <p:spPr>
          <a:xfrm>
            <a:off x="4419720" y="1676520"/>
            <a:ext cx="4195800" cy="3276360"/>
          </a:xfrm>
          <a:prstGeom prst="rect">
            <a:avLst/>
          </a:prstGeom>
          <a:ln w="0">
            <a:noFill/>
          </a:ln>
        </p:spPr>
      </p:pic>
      <p:sp>
        <p:nvSpPr>
          <p:cNvPr id="212" name="Text Box 10"/>
          <p:cNvSpPr/>
          <p:nvPr/>
        </p:nvSpPr>
        <p:spPr>
          <a:xfrm>
            <a:off x="380880" y="5029200"/>
            <a:ext cx="36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9900"/>
                </a:solidFill>
                <a:latin typeface="Verdana"/>
              </a:rPr>
              <a:t>Bonne Qualité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3" name="Text Box 11"/>
          <p:cNvSpPr/>
          <p:nvPr/>
        </p:nvSpPr>
        <p:spPr>
          <a:xfrm>
            <a:off x="4647240" y="5029200"/>
            <a:ext cx="408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Qualité médiocre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Espace réservé du pied de page 1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93E90-664D-475B-A005-FA737257153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6" name="Slide Number Placeholder 4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9ED0C-3FA6-46BC-B19C-D4C687B2DD12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QC des milieux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686800" cy="213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Vérifier la performance de tous les milieux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Milieux « maison » : tous les lo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Milieux du commerce : seulement nouveau lo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9" name="Picture 10" descr="qc_mac_nlf_cdc"/>
          <p:cNvPicPr/>
          <p:nvPr/>
        </p:nvPicPr>
        <p:blipFill>
          <a:blip r:embed="rId1"/>
          <a:srcRect l="6557" t="10960" r="6557" b="6576"/>
          <a:stretch/>
        </p:blipFill>
        <p:spPr>
          <a:xfrm>
            <a:off x="609480" y="3505320"/>
            <a:ext cx="2895840" cy="274140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11" descr="qc_mac_lf-cdc"/>
          <p:cNvPicPr/>
          <p:nvPr/>
        </p:nvPicPr>
        <p:blipFill>
          <a:blip r:embed="rId2"/>
          <a:srcRect l="6557" t="10960" r="6557" b="6576"/>
          <a:stretch/>
        </p:blipFill>
        <p:spPr>
          <a:xfrm>
            <a:off x="5867280" y="3581280"/>
            <a:ext cx="2819520" cy="2668680"/>
          </a:xfrm>
          <a:prstGeom prst="rect">
            <a:avLst/>
          </a:prstGeom>
          <a:ln w="0">
            <a:noFill/>
          </a:ln>
        </p:spPr>
      </p:pic>
      <p:sp>
        <p:nvSpPr>
          <p:cNvPr id="221" name="Text Box 12"/>
          <p:cNvSpPr/>
          <p:nvPr/>
        </p:nvSpPr>
        <p:spPr>
          <a:xfrm>
            <a:off x="3429000" y="3505320"/>
            <a:ext cx="243828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CQ MacConkey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Gauche: lactose -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Droite: lactose +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Espace réservé du pied de page 1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6AE66-490F-4D5C-9BA4-1CCFFDB51D1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4" name="Text Box 9"/>
          <p:cNvSpPr/>
          <p:nvPr/>
        </p:nvSpPr>
        <p:spPr>
          <a:xfrm>
            <a:off x="609480" y="3200400"/>
            <a:ext cx="8229600" cy="3933360"/>
          </a:xfrm>
          <a:prstGeom prst="rect">
            <a:avLst/>
          </a:prstGeom>
          <a:solidFill>
            <a:srgbClr val="ffffff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Verdana"/>
              </a:rPr>
              <a:t>Le sang humain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ne devrait pas être utilisé car :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rop de variation entre les lots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eut contenir des substances inhibitrices, y compris des antibiotiques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eut être dangereux (par exemple virus de l’hépatite)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25" name="Picture 39" descr="bio_hazrd_red_blk_cdc"/>
          <p:cNvPicPr/>
          <p:nvPr/>
        </p:nvPicPr>
        <p:blipFill>
          <a:blip r:embed="rId1"/>
          <a:stretch/>
        </p:blipFill>
        <p:spPr>
          <a:xfrm>
            <a:off x="5562720" y="5931000"/>
            <a:ext cx="1189080" cy="927000"/>
          </a:xfrm>
          <a:prstGeom prst="rect">
            <a:avLst/>
          </a:prstGeom>
          <a:ln w="0">
            <a:noFill/>
          </a:ln>
        </p:spPr>
      </p:pic>
      <p:sp>
        <p:nvSpPr>
          <p:cNvPr id="226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6E320-ABC3-47E7-8C55-054DE20124C2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Problèmes de milieux à évite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28" name="Group 7"/>
          <p:cNvGrpSpPr/>
          <p:nvPr/>
        </p:nvGrpSpPr>
        <p:grpSpPr>
          <a:xfrm>
            <a:off x="4114800" y="1143000"/>
            <a:ext cx="2514600" cy="914400"/>
            <a:chOff x="4114800" y="1143000"/>
            <a:chExt cx="2514600" cy="914400"/>
          </a:xfrm>
        </p:grpSpPr>
        <p:sp>
          <p:nvSpPr>
            <p:cNvPr id="229" name="AutoShape 8"/>
            <p:cNvSpPr/>
            <p:nvPr/>
          </p:nvSpPr>
          <p:spPr>
            <a:xfrm>
              <a:off x="4193280" y="1600200"/>
              <a:ext cx="2396880" cy="399960"/>
            </a:xfrm>
            <a:prstGeom prst="can">
              <a:avLst>
                <a:gd name="adj" fmla="val 50000"/>
              </a:avLst>
            </a:prstGeom>
            <a:solidFill>
              <a:srgbClr val="ff260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30" name="AutoShape 9"/>
            <p:cNvSpPr/>
            <p:nvPr/>
          </p:nvSpPr>
          <p:spPr>
            <a:xfrm>
              <a:off x="4114800" y="1143000"/>
              <a:ext cx="2514600" cy="914400"/>
            </a:xfrm>
            <a:prstGeom prst="can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231" name="Group 10"/>
          <p:cNvGrpSpPr/>
          <p:nvPr/>
        </p:nvGrpSpPr>
        <p:grpSpPr>
          <a:xfrm>
            <a:off x="5791320" y="2057400"/>
            <a:ext cx="2514600" cy="914400"/>
            <a:chOff x="5791320" y="2057400"/>
            <a:chExt cx="2514600" cy="914400"/>
          </a:xfrm>
        </p:grpSpPr>
        <p:sp>
          <p:nvSpPr>
            <p:cNvPr id="232" name="AutoShape 11"/>
            <p:cNvSpPr/>
            <p:nvPr/>
          </p:nvSpPr>
          <p:spPr>
            <a:xfrm>
              <a:off x="5791320" y="2171520"/>
              <a:ext cx="2514600" cy="800280"/>
            </a:xfrm>
            <a:prstGeom prst="can">
              <a:avLst>
                <a:gd name="adj" fmla="val 50000"/>
              </a:avLst>
            </a:prstGeom>
            <a:solidFill>
              <a:srgbClr val="ff260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233" name="Group 12"/>
            <p:cNvGrpSpPr/>
            <p:nvPr/>
          </p:nvGrpSpPr>
          <p:grpSpPr>
            <a:xfrm>
              <a:off x="6591240" y="2171520"/>
              <a:ext cx="457200" cy="199800"/>
              <a:chOff x="6591240" y="2171520"/>
              <a:chExt cx="457200" cy="199800"/>
            </a:xfrm>
          </p:grpSpPr>
          <p:sp>
            <p:nvSpPr>
              <p:cNvPr id="234" name="Oval 13"/>
              <p:cNvSpPr/>
              <p:nvPr/>
            </p:nvSpPr>
            <p:spPr>
              <a:xfrm>
                <a:off x="6762600" y="2171520"/>
                <a:ext cx="114120" cy="5688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35" name="Oval 14"/>
              <p:cNvSpPr/>
              <p:nvPr/>
            </p:nvSpPr>
            <p:spPr>
              <a:xfrm>
                <a:off x="6591240" y="2171520"/>
                <a:ext cx="457200" cy="19980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36" name="Oval 15"/>
              <p:cNvSpPr/>
              <p:nvPr/>
            </p:nvSpPr>
            <p:spPr>
              <a:xfrm>
                <a:off x="6619680" y="2171520"/>
                <a:ext cx="400320" cy="17136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37" name="Oval 16"/>
              <p:cNvSpPr/>
              <p:nvPr/>
            </p:nvSpPr>
            <p:spPr>
              <a:xfrm>
                <a:off x="6648120" y="2171520"/>
                <a:ext cx="343080" cy="1429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38" name="Oval 17"/>
              <p:cNvSpPr/>
              <p:nvPr/>
            </p:nvSpPr>
            <p:spPr>
              <a:xfrm>
                <a:off x="6676920" y="2171520"/>
                <a:ext cx="285840" cy="1141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39" name="Oval 18"/>
              <p:cNvSpPr/>
              <p:nvPr/>
            </p:nvSpPr>
            <p:spPr>
              <a:xfrm>
                <a:off x="6705360" y="2171520"/>
                <a:ext cx="228600" cy="8568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24480" bIns="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40" name="Oval 19"/>
              <p:cNvSpPr/>
              <p:nvPr/>
            </p:nvSpPr>
            <p:spPr>
              <a:xfrm>
                <a:off x="6734160" y="2171520"/>
                <a:ext cx="171360" cy="56880"/>
              </a:xfrm>
              <a:prstGeom prst="ellipse">
                <a:avLst/>
              </a:prstGeom>
              <a:noFill/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241" name="AutoShape 20"/>
            <p:cNvSpPr/>
            <p:nvPr/>
          </p:nvSpPr>
          <p:spPr>
            <a:xfrm>
              <a:off x="5791320" y="2057400"/>
              <a:ext cx="2514600" cy="914400"/>
            </a:xfrm>
            <a:prstGeom prst="can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242" name="Group 21"/>
            <p:cNvGrpSpPr/>
            <p:nvPr/>
          </p:nvGrpSpPr>
          <p:grpSpPr>
            <a:xfrm>
              <a:off x="7534440" y="2228760"/>
              <a:ext cx="457200" cy="199800"/>
              <a:chOff x="7534440" y="2228760"/>
              <a:chExt cx="457200" cy="199800"/>
            </a:xfrm>
          </p:grpSpPr>
          <p:sp>
            <p:nvSpPr>
              <p:cNvPr id="243" name="Oval 22"/>
              <p:cNvSpPr/>
              <p:nvPr/>
            </p:nvSpPr>
            <p:spPr>
              <a:xfrm>
                <a:off x="7705800" y="2228760"/>
                <a:ext cx="114120" cy="5688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44" name="Oval 23"/>
              <p:cNvSpPr/>
              <p:nvPr/>
            </p:nvSpPr>
            <p:spPr>
              <a:xfrm>
                <a:off x="7534440" y="2228760"/>
                <a:ext cx="457200" cy="19980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45" name="Oval 24"/>
              <p:cNvSpPr/>
              <p:nvPr/>
            </p:nvSpPr>
            <p:spPr>
              <a:xfrm>
                <a:off x="7562880" y="2228760"/>
                <a:ext cx="400320" cy="17136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46" name="Oval 25"/>
              <p:cNvSpPr/>
              <p:nvPr/>
            </p:nvSpPr>
            <p:spPr>
              <a:xfrm>
                <a:off x="7591320" y="2228760"/>
                <a:ext cx="343080" cy="1429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47" name="Oval 26"/>
              <p:cNvSpPr/>
              <p:nvPr/>
            </p:nvSpPr>
            <p:spPr>
              <a:xfrm>
                <a:off x="7620120" y="2228760"/>
                <a:ext cx="285840" cy="1141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48" name="Oval 27"/>
              <p:cNvSpPr/>
              <p:nvPr/>
            </p:nvSpPr>
            <p:spPr>
              <a:xfrm>
                <a:off x="7648560" y="2228760"/>
                <a:ext cx="228600" cy="8568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24480" bIns="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49" name="Oval 28"/>
              <p:cNvSpPr/>
              <p:nvPr/>
            </p:nvSpPr>
            <p:spPr>
              <a:xfrm>
                <a:off x="7677360" y="2228760"/>
                <a:ext cx="171360" cy="56880"/>
              </a:xfrm>
              <a:prstGeom prst="ellipse">
                <a:avLst/>
              </a:prstGeom>
              <a:noFill/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250" name="Text Box 32"/>
          <p:cNvSpPr/>
          <p:nvPr/>
        </p:nvSpPr>
        <p:spPr>
          <a:xfrm>
            <a:off x="782280" y="1523880"/>
            <a:ext cx="2691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érimés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éshydratés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ntaminés 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Espace réservé du pied de page 1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5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A9A9B-4754-4358-956E-4F48B838CCE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53" name="Picture 7" descr="plates_venlabs"/>
          <p:cNvPicPr/>
          <p:nvPr/>
        </p:nvPicPr>
        <p:blipFill>
          <a:blip r:embed="rId1"/>
          <a:srcRect l="10286" t="10360" r="10286" b="20720"/>
          <a:stretch/>
        </p:blipFill>
        <p:spPr>
          <a:xfrm>
            <a:off x="914400" y="1143000"/>
            <a:ext cx="7924680" cy="5064120"/>
          </a:xfrm>
          <a:prstGeom prst="rect">
            <a:avLst/>
          </a:prstGeom>
          <a:ln w="0">
            <a:noFill/>
          </a:ln>
        </p:spPr>
      </p:pic>
      <p:sp>
        <p:nvSpPr>
          <p:cNvPr id="254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BA8E1-7007-44B8-964C-31186D6DB378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Contrôle de qualité des milieux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381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Conservez un enregistrement des milieux préparés au laboratoi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Enregistrez les résultats dans un registre dédié 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pH, stérilité, fertilité avec cultures de collection, réponse biochimique des cultures de colle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Fréquence 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Analyser chaque nouveau lot ou numéro de lo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Espace réservé du pied de page 1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63C06-C267-4DF1-8FDC-15A033FBA49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457BF-2CE3-4C53-92E5-0F47A85784E0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Objectifs d’apprentissag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A la fin de ce module les participants seront en mesure de 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Faire la différence entre les contrôles intégrés et les autres contrô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écrire comment utiliser les souches de contrôle pour le contrôle qualité en microbiologi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iscuter l’utilisation du contrôle qualité pour les colorants utilisés lors d’examens microscopiqu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écrire les méthodes pour vérifier la performance des milieux microbiologiques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Espace réservé du pied de page 1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58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75CFD-AE7E-410E-BD92-7CB8BF1729E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66BCB-5559-4FBF-B604-8DEEA84E2050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ésumé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Les tests qualitatifs </a:t>
            </a:r>
            <a:r>
              <a:rPr b="1" lang="fr-FR" sz="3600" spc="-1" strike="noStrike">
                <a:solidFill>
                  <a:srgbClr val="000000"/>
                </a:solidFill>
                <a:latin typeface="Verdana"/>
              </a:rPr>
              <a:t>ne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 donnent </a:t>
            </a:r>
            <a:r>
              <a:rPr b="1" lang="fr-FR" sz="3600" spc="-1" strike="noStrike">
                <a:solidFill>
                  <a:srgbClr val="000000"/>
                </a:solidFill>
                <a:latin typeface="Verdana"/>
              </a:rPr>
              <a:t>pas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 de résultat numérique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Test semi quantitatifs donnent une estim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Créer un programme de CQ pour les test qualitatifs et semi quantitatif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Espace réservé du pied de page 1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6AFB6-D22E-4566-9215-4F2B7166C18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Messages clef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57200" y="1600200"/>
            <a:ext cx="86868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rocédures de CQ suivies par TOUT le personn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Toujours enregistrer les résultats du CQ et les actions correctiv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Si résultats de CQ pas acceptables, PAS de compte rendu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AEEF8-A3E3-4406-8EE3-AD63907B812D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Espace réservé du pied de page 3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8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A0467-9C98-49C4-9DED-18B14653492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562720" y="762120"/>
            <a:ext cx="3581280" cy="365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200"/>
            </a:br>
            <a:br>
              <a:rPr sz="3200"/>
            </a:b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Commentaires?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70" name="Picture 119" descr="C:\Users\Laurence\AppData\Local\Temp\Rar$DI00.100\bulles_def.gif"/>
          <p:cNvPicPr/>
          <p:nvPr/>
        </p:nvPicPr>
        <p:blipFill>
          <a:blip r:embed="rId1"/>
          <a:stretch/>
        </p:blipFill>
        <p:spPr>
          <a:xfrm>
            <a:off x="304920" y="631800"/>
            <a:ext cx="5333760" cy="51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Espace réservé du pied de page 1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ECF6A-4DB1-49AD-AF25-5AEEAEFCF31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cé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-360" y="1600200"/>
            <a:ext cx="89917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« Le laboratoire A fait une culture et </a:t>
            </a:r>
            <a:r>
              <a:rPr b="0" i="1" lang="fr-FR" sz="3200" spc="-1" strike="noStrike">
                <a:solidFill>
                  <a:srgbClr val="000000"/>
                </a:solidFill>
                <a:latin typeface="Verdana"/>
              </a:rPr>
              <a:t>Pseudomonas aeruginosa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est identifié »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Quelles mesures de CQ pouvez vous utiliser pour confirmer que la souche a bien été identifiée ?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Espace réservé du pied de page 1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1B697-DFA3-4FD8-BEF3-8DDE45AE4A7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680" y="457200"/>
            <a:ext cx="746784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Le système de gestion de la qualité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42" name="Picture 61" descr="C:\Users\Laurence\AppData\Local\Temp\Rar$DI00.100\bulles_def.gif"/>
          <p:cNvPicPr/>
          <p:nvPr/>
        </p:nvPicPr>
        <p:blipFill>
          <a:blip r:embed="rId1"/>
          <a:stretch/>
        </p:blipFill>
        <p:spPr>
          <a:xfrm>
            <a:off x="1828800" y="1325520"/>
            <a:ext cx="5029200" cy="48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Espace réservé du pied de page 1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4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B2ADC-4010-40B6-ADFE-9A49B0DE420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Exemples de tests qualitatifs ou semi quantitatif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6840" y="1599840"/>
            <a:ext cx="8077320" cy="360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Examens microscopiqu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Bandelettes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rocédures sérologiqu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rocédures microbiologiqu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oute réaction qui ne donne pas de résultat numériqu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19728-6C8E-40C3-89B2-7DE4E87BE636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48" name="Picture 7" descr="micro"/>
          <p:cNvPicPr/>
          <p:nvPr/>
        </p:nvPicPr>
        <p:blipFill>
          <a:blip r:embed="rId1"/>
          <a:srcRect l="0" t="0" r="4400" b="1607"/>
          <a:stretch/>
        </p:blipFill>
        <p:spPr>
          <a:xfrm>
            <a:off x="5638680" y="4572000"/>
            <a:ext cx="2457720" cy="168264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8" descr="agglut"/>
          <p:cNvPicPr/>
          <p:nvPr/>
        </p:nvPicPr>
        <p:blipFill>
          <a:blip r:embed="rId2"/>
          <a:srcRect l="15272" t="17455" r="15272" b="14546"/>
          <a:stretch/>
        </p:blipFill>
        <p:spPr>
          <a:xfrm>
            <a:off x="3429000" y="4572000"/>
            <a:ext cx="2209680" cy="16765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9" descr="http://www.academic.marist.edu/~jzmz/methods/wbcrbc.jpg"/>
          <p:cNvPicPr/>
          <p:nvPr/>
        </p:nvPicPr>
        <p:blipFill>
          <a:blip r:embed="rId3"/>
          <a:srcRect l="20336" t="0" r="0" b="0"/>
          <a:stretch/>
        </p:blipFill>
        <p:spPr>
          <a:xfrm>
            <a:off x="1523880" y="4572000"/>
            <a:ext cx="1941480" cy="16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Espace réservé du pied de page 1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59F17-8D6B-435B-A6A1-EA8D6DE1500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Concepts importa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Gestion de l’échantillon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ompétence du personnel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Maintenance de l’équip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Matériel de contrôl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Gestion des colorants, milieux et réactif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onservation des registr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5CD48-DF7A-42AF-A4E9-E888B443F689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Espace réservé du pied de page 1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7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1FAF4-46EF-4FA4-B77F-00A6BCE849A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Matériel de contrô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Contrôles incorporé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Contrôles qui imitent les échantillons de patient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Cultures de collec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Espace réservé du pied de page 1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832E4-35D3-4F6F-A010-47238693307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Contrôles incorporé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Intégrés dans le kit d’analys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assés automatiquement avec chaque analys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Évaluent certains aspects de la performance du ki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N’évaluent pas tout le processus d’analys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Espace réservé du pied de page 1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F9228-73B8-49D5-B80A-B2354710235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Contrôles traditionnel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Ont une réactivité connu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Imitent les échantillons de pati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Évaluent l’intégrité de tout le système d’analys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9T17:20:49Z</dcterms:created>
  <dc:creator>exw2</dc:creator>
  <dc:description/>
  <dc:language>en-US</dc:language>
  <cp:lastModifiedBy>dolmazonv</cp:lastModifiedBy>
  <dcterms:modified xsi:type="dcterms:W3CDTF">2010-04-07T17:00:08Z</dcterms:modified>
  <cp:revision>479</cp:revision>
  <dc:subject/>
  <dc:title>Slide 1</dc:title>
</cp:coreProperties>
</file>