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BD2EF-CA63-4003-91A3-C43AEEE183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EF030-4E94-418D-B940-704F6F79C9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06ABF-D084-48EC-821D-4075B3BCA0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B7B3C-F0A1-4DA5-AA3C-6A5277F3611B}" type="datetime3">
              <a:rPr b="0" lang="en-US" sz="1200" spc="-1" strike="noStrike">
                <a:solidFill>
                  <a:srgbClr val="000000"/>
                </a:solidFill>
                <a:latin typeface="Arial"/>
              </a:rPr>
              <a:t>July 29,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52D6B-8242-41BA-822C-FAC432D0FC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EDBD2-BA32-4542-9E71-357E1C5742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E16CF-4167-418C-932D-7355504DF9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CCC737-34E5-430E-9149-D890062159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4A447-B1D9-4D6D-B5CD-D055C2FCF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519152-ACF8-43DD-895E-2A9D33266F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45EE4C-9A2B-4C02-89E2-67F2AF211A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331C07-946D-4FC3-A2FC-DE742E5A4F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1D70B2-BF47-439F-8821-500167ADA8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37B6B0-A65F-4B63-80F9-FCA0163A2E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FC7730-2BF2-4A9D-BAD2-8E14321414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09416C-5944-4357-8233-6A8C2FAD9D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4EC239-B350-4BB2-AF5F-7AB128010E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C84EB-0C06-4DED-9233-DE560B86E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6CC9A-6F56-410D-9142-97251BF2A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069CB-3864-4121-9D30-883061018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9D902-7147-4049-8C74-301085CE3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179193-7A34-4286-B3DF-E99198B3D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693310-B59B-4C0B-9935-68F40B0E6E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EC37A8-AF7C-46E7-B44E-9E6BF7C734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05C6C-D100-41ED-AA2B-40A2AD3D9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A58B6-FF10-4733-9E04-5A759C394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F9C93-65BD-4A92-828B-E95838C29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0BFFA-B89A-4A62-B936-D4A6828AF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3DBBA-DB9B-4BB3-B164-03842891F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55465-D1C6-4079-A898-FF6CFBBEB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F9A33-B36B-4C9A-BD33-A8CC6CDC51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3D782-8458-4596-906F-B2D5B9D55B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6CDBA74-88C1-4C1D-8E48-35191E59B93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9F96FFD-CDC5-4D1C-AAFD-B4985B05AA6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E49DA-3F06-49DB-8A82-C228D3534EC3}"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54FC2-E23A-4A6B-8E56-B64B38C9BC9D}"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