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A1C2B-5B8E-4D25-874B-76721B9E5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91D4E-490D-4611-A007-46C28A256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FA855-B350-4F66-8ABF-D5EE44556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7C7CC-B471-484E-AE88-B4594D7B2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C3453F-15FB-451F-9160-408A884C9E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2EE2BB-7A35-43C3-A290-7066F1D65A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64D678-F7C0-4234-A1B3-BA46932106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ABBE3C-90B3-4955-B804-805686E6AA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181F6E-A8BD-4E57-902B-9319FFFA2D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EB626FF-8607-4F07-99D5-8EE2D3CD2C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94E0C9-1E2B-4166-8AFE-18BB97902D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17A4C-A26B-415E-979F-B6B2A726B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7CC9B4-C60D-4BB4-83DC-C993C365AF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459B73-1C2D-48F0-9DCF-596F21994F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105679-B8EF-42F6-8166-2FD1194F56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D55DF5-49C7-4595-8F38-A7DE411646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793B1F-301B-4C64-B030-25C3BA7D34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C77EE-E3A1-49B4-B6BB-0928DB2A2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52B48-DB7A-40E8-AEFA-D4899E6F5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96D60-C7D2-4535-A748-2195578FE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A7A7B-E5DA-4069-B25C-7010985FF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BA212-CBC4-4E6F-B3E9-C0D58CACB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8DC91-C6BA-465E-B320-FBFDA97DF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35024-FC5D-4A28-9C6E-24AA4ECFF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F8CF-65CB-4F3E-A244-7BF04A54DA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F00EF32-F613-48E4-80AE-59BB369CF0B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C03C671-43E8-4A40-BD1A-01A7D0421E2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A568-DBEE-43DB-921A-382A75CE2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Recherche des conta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ème de surveillance syndromiqu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oncentrer sur les plaques tournantes du transport et les frontières national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dre de gestion des incident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l consacré à la ripost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rité pour prendre des décisions et débloquer les fond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té de traitement d'Ebola (UTE) [minimum: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ur les </a:t>
            </a:r>
            <a:r>
              <a:rPr b="1" lang="en-US" sz="2600" spc="-1" strike="noStrike">
                <a:solidFill>
                  <a:srgbClr val="000000"/>
                </a:solidFill>
                <a:latin typeface="Arial"/>
              </a:rPr>
              <a:t>CAS CONFIRMÉ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es extérieur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re utilisant les directives de l’OMS et d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10"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té d’attente ou d’isolement</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olement des </a:t>
            </a:r>
            <a:r>
              <a:rPr b="1" lang="en-US" sz="2200" spc="-1" strike="noStrike">
                <a:solidFill>
                  <a:srgbClr val="000000"/>
                </a:solidFill>
                <a:latin typeface="Arial"/>
              </a:rPr>
              <a:t>CAS SUSP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rastructures exist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niture d’aliments et de produits de première nécessité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 cas où le test doit être répété dans les 72 heure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ologies de l’information [non requis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giciel Epi Info T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naire de donné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eforme d’échange facile de donnée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bligation de rapport à l’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services de laboratoire doivent être identifiés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 nécessairement besoin d’en avoir dans le pay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ballage et expédition appropriés des échantillon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gramme standard </a:t>
            </a:r>
            <a:endParaRPr b="0" lang="en-US" sz="4400" spc="-1" strike="noStrike">
              <a:solidFill>
                <a:srgbClr val="000000"/>
              </a:solidFill>
              <a:latin typeface="Arial"/>
            </a:endParaRPr>
          </a:p>
        </p:txBody>
      </p:sp>
      <p:pic>
        <p:nvPicPr>
          <p:cNvPr id="112" name="Diagram 3" descr=""/>
          <p:cNvPicPr/>
          <p:nvPr/>
        </p:nvPicPr>
        <p:blipFill>
          <a:blip r:embed="rId1"/>
          <a:stretch/>
        </p:blipFill>
        <p:spPr>
          <a:xfrm>
            <a:off x="1504800" y="469800"/>
            <a:ext cx="5981760" cy="3602160"/>
          </a:xfrm>
          <a:prstGeom prst="rect">
            <a:avLst/>
          </a:prstGeom>
          <a:ln w="0">
            <a:noFill/>
          </a:ln>
        </p:spPr>
      </p:pic>
      <p:sp>
        <p:nvSpPr>
          <p:cNvPr id="113"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Diagram 7" descr=""/>
          <p:cNvPicPr/>
          <p:nvPr/>
        </p:nvPicPr>
        <p:blipFill>
          <a:blip r:embed="rId2"/>
          <a:stretch/>
        </p:blipFill>
        <p:spPr>
          <a:xfrm>
            <a:off x="907920" y="3736800"/>
            <a:ext cx="6492960" cy="26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pe d’investig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aissances générales/Expérience:</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pidémiologistes, spécialistes des problèmes psychosociaux et comportementaux (pour les questions de stigmatisation et de santé mentale), et spécialistes de la communication sanitaire (pour les questions d’éducation et de réseaux)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érience et formation en matière de recherche minutieuse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té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roger les cas par rapport à leurs contacts éventuel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préposé à la recherche de contacts s’interroge sur l’état de santé d’un contact </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iner le contact pour savoir s’il doit être considéré comme un cas d’Ebola</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le contact présente des symptômes et constitue donc un cas suspect, le préposé alerte le superviseur de terrain</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nouveau cas est identifié par d’autres moyens (par ex., par le centre de santé)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sites dans les domiciles pour identifier tous les contact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er les contacts de leur situation, de la procédure suivie pour la recherche des contacts, et leur fournir assistanc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iter tous les contacts dans le </a:t>
            </a:r>
            <a:r>
              <a:rPr b="1" lang="en-US" sz="1500" spc="-1" strike="noStrike">
                <a:solidFill>
                  <a:srgbClr val="000000"/>
                </a:solidFill>
                <a:latin typeface="Arial"/>
              </a:rPr>
              <a:t>Formulaire d'enregistrement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a:t>
            </a:r>
            <a:r>
              <a:rPr b="0" lang="en-US" sz="1800" spc="-1" strike="noStrike">
                <a:solidFill>
                  <a:srgbClr val="000000"/>
                </a:solidFill>
                <a:latin typeface="Arial"/>
              </a:rPr>
              <a:t>un minimum de deux person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tervention rapide(EI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aissances de base/Expérien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chose que pour l’équipe d’investigation; sous-groupe 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té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gée du premier cas détecté dans un pay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le 24 h/24 et 7j/7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a:t>
            </a:r>
            <a:r>
              <a:rPr b="0" lang="en-US" sz="2800" spc="-1" strike="noStrike">
                <a:solidFill>
                  <a:srgbClr val="000000"/>
                </a:solidFill>
                <a:latin typeface="Arial"/>
              </a:rPr>
              <a:t> au moins deux person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Epidémiologiste principal:</a:t>
            </a:r>
            <a:r>
              <a:rPr b="0" lang="en-US" sz="3000" spc="-1" strike="noStrike">
                <a:solidFill>
                  <a:srgbClr val="000000"/>
                </a:solidFill>
                <a:latin typeface="Arial"/>
              </a:rPr>
              <a:t> </a:t>
            </a:r>
            <a:endParaRPr b="0" lang="en-US" sz="30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é dans la recherche des contacts au niveau national </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 à la tête de tous les superviseurs de terrain</a:t>
            </a:r>
            <a:r>
              <a:rPr b="1" lang="en-US" sz="2200" spc="-1" strike="noStrike">
                <a:solidFill>
                  <a:srgbClr val="000000"/>
                </a:solidFill>
                <a:latin typeface="Arial"/>
              </a:rPr>
              <a:t> </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l faut continu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 sont prioritaires</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on peut cess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 avec d’autres acteurs comme l’équipe de prise en charge des cas et l’équipe logistique lorsqu’un contact devient un cas suspect</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bre: </a:t>
            </a:r>
            <a:r>
              <a:rPr b="0" lang="en-US" sz="2600" spc="-1" strike="noStrike">
                <a:solidFill>
                  <a:srgbClr val="000000"/>
                </a:solidFill>
                <a:latin typeface="Arial"/>
              </a:rPr>
              <a:t>au moins un au niveau nat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uperviseur de terrain:</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émiologiste avec une expérience antérieure en matière de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 les agents de recherche au suivi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upe des défis et des questions qui se posent sur le terrai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ploie l’équipe d’investigation en cas de contact symptômatiqu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value les mesures d’assurance de la qualité</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 les données relatives aux efforts en cours dans la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bre:</a:t>
            </a:r>
            <a:r>
              <a:rPr b="0" lang="en-US" sz="2400" spc="-1" strike="noStrike">
                <a:solidFill>
                  <a:srgbClr val="000000"/>
                </a:solidFill>
                <a:latin typeface="Arial"/>
              </a:rPr>
              <a:t> un superviseur de terrain pour 5 à 10 agents de recherche  des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quipe de recherche:</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 /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en recherche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able et responsable, dotée de connaissances culturelle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e quotidienne des contacts pendant 21 jou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s/investigations sur l’état de santé des contact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rganisation des équipes de recherche par secteurs géographiques peut maximiser l’efficacité</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égrer des agents de recherche issus des communautés spécifiques ou voisines pour accroître l’acceptabilité des activités de recherche des contacts chez les communautés</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ion:</a:t>
            </a:r>
            <a:r>
              <a:rPr b="0" lang="en-US" sz="2400" spc="-1" strike="noStrike">
                <a:solidFill>
                  <a:srgbClr val="000000"/>
                </a:solidFill>
                <a:latin typeface="Arial"/>
              </a:rPr>
              <a:t> au moins deux agents de recherche affectés à chaque équip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équipe doit visiter 10 à 20 contacts, ou plus, par jour, selon l’endro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7" name=""/>
          <p:cNvSpPr txBox="1"/>
          <p:nvPr/>
        </p:nvSpPr>
        <p:spPr>
          <a:xfrm>
            <a:off x="214200" y="856800"/>
            <a:ext cx="8715600" cy="5357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Gestionnaire des donnée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érience antérieure dans la gestion des données, et compétences en informatique</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issances: base des données Epi Info VHF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 </a:t>
            </a:r>
            <a:r>
              <a:rPr b="1"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sure que toutes les données sont saisies électroniqueme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resse des rapports à l’épidémiologiste principal et à l’OM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adre les chargés de saisie des donné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bre: </a:t>
            </a:r>
            <a:r>
              <a:rPr b="0" lang="en-US" sz="2200" spc="-1" strike="noStrike">
                <a:solidFill>
                  <a:srgbClr val="000000"/>
                </a:solidFill>
                <a:latin typeface="Arial"/>
              </a:rPr>
              <a:t>au moins u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Équipe de transport:</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 /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ître le terrain et sa géograph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prévention et lutte contre les infections </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orte les cas suspects identifiés et les cas confirmés vers les unités d’isolement et les unités de traitement d'Ebola </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tée d’un véhicule de transport permettant de manipuler les gouttelettes avec précaution et de procéder à la désinfection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position: </a:t>
            </a:r>
            <a:r>
              <a:rPr b="0" lang="en-US" sz="2600" spc="-1" strike="noStrike">
                <a:solidFill>
                  <a:srgbClr val="000000"/>
                </a:solidFill>
                <a:latin typeface="Arial"/>
              </a:rPr>
              <a:t>au moins trois personnes par équipe</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pour le transport;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 </a:t>
            </a:r>
            <a:endParaRPr b="0" lang="en-US" sz="4400" spc="-1" strike="noStrike">
              <a:solidFill>
                <a:srgbClr val="000000"/>
              </a:solidFill>
              <a:latin typeface="Arial"/>
            </a:endParaRPr>
          </a:p>
        </p:txBody>
      </p:sp>
      <p:sp>
        <p:nvSpPr>
          <p:cNvPr id="92"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général – Amener les participants à maîtriser la recherche des contacts dans le cadre d’une lutte efficace contre le virus Ebola.</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1 – Apprendre les définitions relatives aux cas d’Ebola et aux contacts des malades d’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2 – Comprendre comment se préparer à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3 – Comprendre le déroulement de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4 – Comprendre la gestion de la recherche des contact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intermédiaire 5 – Etudier comment conserver l’assurance qualité au cours de la recherche des contacts liés à l’Ebol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Équipe chargée de la désinfection</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mbres de la communauté</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gents de santé environnementale et hygiénistes</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en lutte contre de l’infection à virus Ebola </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tés:</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eptisation:</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roits où ont séjourné des cas probables, suspects ou confirmés, ou endroits où a eu lieu la première identification, et/ou endroits où ont eu lieu des enterrements [le cas échéan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ésinfection des véhicules de transport </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ion avec l’équipe de transport</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quipe doit suivre les directives de l’OMS et de CDC  </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position</a:t>
            </a:r>
            <a:r>
              <a:rPr b="0" lang="en-US" sz="2500" spc="-1" strike="noStrike">
                <a:solidFill>
                  <a:srgbClr val="000000"/>
                </a:solidFill>
                <a:latin typeface="Arial"/>
              </a:rPr>
              <a:t>: au moins deux membres par équipe</a:t>
            </a:r>
            <a:endParaRPr b="0" lang="en-US" sz="2500" spc="-1" strike="noStrike">
              <a:solidFill>
                <a:srgbClr val="000000"/>
              </a:solidFill>
              <a:latin typeface="Arial"/>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3" name=""/>
          <p:cNvSpPr txBox="1"/>
          <p:nvPr/>
        </p:nvSpPr>
        <p:spPr>
          <a:xfrm>
            <a:off x="213840" y="785880"/>
            <a:ext cx="8472600" cy="55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hum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res de la communauté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nementalist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lutte contre l’infection à virus Ebola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umation des cas probables, suspects ou confirmés décédés, ainsi que des contact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sition: </a:t>
            </a:r>
            <a:r>
              <a:rPr b="0" lang="en-US" sz="2200" spc="-1" strike="noStrike">
                <a:solidFill>
                  <a:srgbClr val="000000"/>
                </a:solidFill>
                <a:latin typeface="Arial"/>
              </a:rPr>
              <a:t>une équipe d’au moins 6 personnes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pour porter les corps, 1 pour désinfecter les corps,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sources</a:t>
            </a:r>
            <a:endParaRPr b="0" lang="en-US" sz="4400" spc="-1" strike="noStrike">
              <a:solidFill>
                <a:srgbClr val="000000"/>
              </a:solidFill>
              <a:latin typeface="Arial"/>
            </a:endParaRPr>
          </a:p>
        </p:txBody>
      </p:sp>
      <p:graphicFrame>
        <p:nvGraphicFramePr>
          <p:cNvPr id="135" name=""/>
          <p:cNvGraphicFramePr/>
          <p:nvPr/>
        </p:nvGraphicFramePr>
        <p:xfrm>
          <a:off x="500040" y="857160"/>
          <a:ext cx="8313840" cy="5429520"/>
        </p:xfrm>
        <a:graphic>
          <a:graphicData uri="http://schemas.openxmlformats.org/drawingml/2006/table">
            <a:tbl>
              <a:tblPr/>
              <a:tblGrid>
                <a:gridCol w="1863720"/>
                <a:gridCol w="1003320"/>
                <a:gridCol w="779400"/>
                <a:gridCol w="893880"/>
                <a:gridCol w="787320"/>
                <a:gridCol w="665280"/>
                <a:gridCol w="860400"/>
                <a:gridCol w="834840"/>
                <a:gridCol w="625680"/>
              </a:tblGrid>
              <a:tr h="21456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 de recherche des contact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utres équipe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8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Epidémiologiste principal</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perviseur  de terrai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vestigatio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s agents de recherch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stionnaire des donnée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transpor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désinfection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humation</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de protection individuelle</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54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Gants jetabl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Blo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ou lunettes de protec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N95/FFP2</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chirurgical </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ea typeface="Times New Roman"/>
                        </a:rPr>
                        <a:t>Sacs en plastique pour matières infectie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echnologies de l’informa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Système mondial de positionnemen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éléphones cellulaires (avec crédi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rdinateur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utils informatiques pour la collecte des information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pour activités de terrai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hermomètr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ournitures de bureau</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iches approprié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ranspor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2019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Chauffeur/voiture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ement</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ai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pidémiologiste princip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eurs de terra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 de recherche des contac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naire des donné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en psychosociolog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uffeur (si nécessai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quipement (compte tenu de la baisse des ressourc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du crédit de communication pour téléphones port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mé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sinfectant pour les mai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port</a:t>
            </a:r>
            <a:r>
              <a:rPr b="0" lang="en-US" sz="2200" spc="-1" strike="noStrike">
                <a:solidFill>
                  <a:srgbClr val="000000"/>
                </a:solidFill>
                <a:latin typeface="Arial"/>
              </a:rPr>
              <a:t> (pour les superviseurs de terrain, les agents de recherche des contacts et l’équipe d’investigation)</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si nécessai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urant en cas d’utilisation de véhicules perso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E EN OEUVRE</a:t>
            </a:r>
            <a:endParaRPr b="0" lang="en-US" sz="4000" spc="-1" strike="noStrike">
              <a:solidFill>
                <a:srgbClr val="000000"/>
              </a:solidFill>
              <a:latin typeface="Arial"/>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937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éma des opérations</a:t>
            </a:r>
            <a:endParaRPr b="0" lang="en-US" sz="4400" spc="-1" strike="noStrike">
              <a:solidFill>
                <a:srgbClr val="000000"/>
              </a:solidFill>
              <a:latin typeface="Arial"/>
            </a:endParaRPr>
          </a:p>
        </p:txBody>
      </p:sp>
      <p:sp>
        <p:nvSpPr>
          <p:cNvPr id="141" name="Rectangle 7"/>
          <p:cNvSpPr/>
          <p:nvPr/>
        </p:nvSpPr>
        <p:spPr>
          <a:xfrm>
            <a:off x="3851280" y="2781360"/>
            <a:ext cx="71928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à coins arrondis 16"/>
          <p:cNvSpPr/>
          <p:nvPr/>
        </p:nvSpPr>
        <p:spPr>
          <a:xfrm>
            <a:off x="3348000" y="3967200"/>
            <a:ext cx="129384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égatif pour Ebola</a:t>
            </a:r>
            <a:endParaRPr b="0" lang="en-US" sz="1000" spc="-1" strike="noStrike">
              <a:solidFill>
                <a:srgbClr val="000000"/>
              </a:solidFill>
              <a:latin typeface="Arial"/>
            </a:endParaRPr>
          </a:p>
        </p:txBody>
      </p:sp>
      <p:grpSp>
        <p:nvGrpSpPr>
          <p:cNvPr id="143" name="Groupe 8"/>
          <p:cNvGrpSpPr/>
          <p:nvPr/>
        </p:nvGrpSpPr>
        <p:grpSpPr>
          <a:xfrm>
            <a:off x="1257480" y="1143000"/>
            <a:ext cx="6284880" cy="5562720"/>
            <a:chOff x="1257480" y="1143000"/>
            <a:chExt cx="6284880" cy="5562720"/>
          </a:xfrm>
        </p:grpSpPr>
        <p:pic>
          <p:nvPicPr>
            <p:cNvPr id="144" name="Picture 3" descr=""/>
            <p:cNvPicPr/>
            <p:nvPr/>
          </p:nvPicPr>
          <p:blipFill>
            <a:blip r:embed="rId1"/>
            <a:stretch/>
          </p:blipFill>
          <p:spPr>
            <a:xfrm>
              <a:off x="1904760" y="1143000"/>
              <a:ext cx="5637600" cy="5562720"/>
            </a:xfrm>
            <a:prstGeom prst="rect">
              <a:avLst/>
            </a:prstGeom>
            <a:ln w="0">
              <a:noFill/>
            </a:ln>
          </p:spPr>
        </p:pic>
        <p:sp>
          <p:nvSpPr>
            <p:cNvPr id="145" name="Rectangle à coins arrondis 4"/>
            <p:cNvSpPr/>
            <p:nvPr/>
          </p:nvSpPr>
          <p:spPr>
            <a:xfrm>
              <a:off x="2050920" y="1143000"/>
              <a:ext cx="2016000" cy="41436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se en charge des cas</a:t>
              </a:r>
              <a:endParaRPr b="0" lang="en-US" sz="1800" spc="-1" strike="noStrike">
                <a:solidFill>
                  <a:srgbClr val="000000"/>
                </a:solidFill>
                <a:latin typeface="Arial"/>
              </a:endParaRPr>
            </a:p>
          </p:txBody>
        </p:sp>
        <p:sp>
          <p:nvSpPr>
            <p:cNvPr id="146" name="Rectangle à coins arrondis 5"/>
            <p:cNvSpPr/>
            <p:nvPr/>
          </p:nvSpPr>
          <p:spPr>
            <a:xfrm>
              <a:off x="4859640" y="1143000"/>
              <a:ext cx="2016000" cy="48564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cherche des contacts</a:t>
              </a:r>
              <a:endParaRPr b="0" lang="en-US" sz="1800" spc="-1" strike="noStrike">
                <a:solidFill>
                  <a:srgbClr val="000000"/>
                </a:solidFill>
                <a:latin typeface="Arial"/>
              </a:endParaRPr>
            </a:p>
          </p:txBody>
        </p:sp>
        <p:sp>
          <p:nvSpPr>
            <p:cNvPr id="147" name="Rectangle à coins arrondis 6"/>
            <p:cNvSpPr/>
            <p:nvPr/>
          </p:nvSpPr>
          <p:spPr>
            <a:xfrm>
              <a:off x="1763640" y="3789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isolement</a:t>
              </a:r>
              <a:endParaRPr b="0" lang="en-US" sz="1800" spc="-1" strike="noStrike">
                <a:solidFill>
                  <a:srgbClr val="000000"/>
                </a:solidFill>
                <a:latin typeface="Arial"/>
              </a:endParaRPr>
            </a:p>
          </p:txBody>
        </p:sp>
        <p:sp>
          <p:nvSpPr>
            <p:cNvPr id="148" name="Rectangle à coins arrondis 9"/>
            <p:cNvSpPr/>
            <p:nvPr/>
          </p:nvSpPr>
          <p:spPr>
            <a:xfrm>
              <a:off x="1898640" y="1643040"/>
              <a:ext cx="1512720" cy="8395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s identifié</a:t>
              </a:r>
              <a:endParaRPr b="0" lang="en-US" sz="1800" spc="-1" strike="noStrike">
                <a:solidFill>
                  <a:srgbClr val="000000"/>
                </a:solidFill>
                <a:latin typeface="Arial"/>
              </a:endParaRPr>
            </a:p>
          </p:txBody>
        </p:sp>
        <p:sp>
          <p:nvSpPr>
            <p:cNvPr id="149" name="Rectangle à coins arrondis 10"/>
            <p:cNvSpPr/>
            <p:nvPr/>
          </p:nvSpPr>
          <p:spPr>
            <a:xfrm>
              <a:off x="4667400" y="1699920"/>
              <a:ext cx="1512720" cy="695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dentifiés</a:t>
              </a:r>
              <a:endParaRPr b="0" lang="en-US" sz="1800" spc="-1" strike="noStrike">
                <a:solidFill>
                  <a:srgbClr val="000000"/>
                </a:solidFill>
                <a:latin typeface="Arial"/>
              </a:endParaRPr>
            </a:p>
          </p:txBody>
        </p:sp>
        <p:sp>
          <p:nvSpPr>
            <p:cNvPr id="150" name="Rectangle à coins arrondis 11"/>
            <p:cNvSpPr/>
            <p:nvPr/>
          </p:nvSpPr>
          <p:spPr>
            <a:xfrm>
              <a:off x="4572000" y="2781360"/>
              <a:ext cx="1511280" cy="691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nterrogés</a:t>
              </a:r>
              <a:endParaRPr b="0" lang="en-US" sz="1800" spc="-1" strike="noStrike">
                <a:solidFill>
                  <a:srgbClr val="000000"/>
                </a:solidFill>
                <a:latin typeface="Arial"/>
              </a:endParaRPr>
            </a:p>
          </p:txBody>
        </p:sp>
        <p:sp>
          <p:nvSpPr>
            <p:cNvPr id="151" name="Rectangle à coins arrondis 12"/>
            <p:cNvSpPr/>
            <p:nvPr/>
          </p:nvSpPr>
          <p:spPr>
            <a:xfrm>
              <a:off x="4667400" y="3716280"/>
              <a:ext cx="1530360" cy="649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suivis</a:t>
              </a:r>
              <a:endParaRPr b="0" lang="en-US" sz="1800" spc="-1" strike="noStrike">
                <a:solidFill>
                  <a:srgbClr val="000000"/>
                </a:solidFill>
                <a:latin typeface="Arial"/>
              </a:endParaRPr>
            </a:p>
          </p:txBody>
        </p:sp>
        <p:sp>
          <p:nvSpPr>
            <p:cNvPr id="152" name="Rectangle à coins arrondis 13"/>
            <p:cNvSpPr/>
            <p:nvPr/>
          </p:nvSpPr>
          <p:spPr>
            <a:xfrm>
              <a:off x="3411720" y="297972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3" name="Rectangle à coins arrondis 15"/>
            <p:cNvSpPr/>
            <p:nvPr/>
          </p:nvSpPr>
          <p:spPr>
            <a:xfrm>
              <a:off x="3421080" y="350064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4" name="Rectangle à coins arrondis 17"/>
            <p:cNvSpPr/>
            <p:nvPr/>
          </p:nvSpPr>
          <p:spPr>
            <a:xfrm>
              <a:off x="6517080" y="21938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d’investigation</a:t>
              </a:r>
              <a:endParaRPr b="0" lang="en-US" sz="1100" spc="-1" strike="noStrike">
                <a:solidFill>
                  <a:srgbClr val="000000"/>
                </a:solidFill>
                <a:latin typeface="Arial"/>
              </a:endParaRPr>
            </a:p>
          </p:txBody>
        </p:sp>
        <p:sp>
          <p:nvSpPr>
            <p:cNvPr id="155" name="Rectangle à coins arrondis 18"/>
            <p:cNvSpPr/>
            <p:nvPr/>
          </p:nvSpPr>
          <p:spPr>
            <a:xfrm>
              <a:off x="6517080" y="3789360"/>
              <a:ext cx="363240" cy="2414520"/>
            </a:xfrm>
            <a:custGeom>
              <a:avLst/>
              <a:gdLst>
                <a:gd name="textAreaLeft" fmla="*/ 0 w 363240"/>
                <a:gd name="textAreaRight" fmla="*/ 363600 w 363240"/>
                <a:gd name="textAreaTop" fmla="*/ 0 h 2414520"/>
                <a:gd name="textAreaBottom" fmla="*/ 2414520 h 2414520"/>
              </a:gdLst>
              <a:ahLst/>
              <a:rect l="textAreaLeft" t="textAreaTop" r="textAreaRight" b="textAreaBottom"/>
              <a:pathLst>
                <a:path w="21600" h="143458">
                  <a:moveTo>
                    <a:pt x="0" y="0"/>
                  </a:moveTo>
                  <a:arcTo wR="0" hR="0" stAng="16200000" swAng="-5400000"/>
                  <a:lnTo>
                    <a:pt x="0" y="143458"/>
                  </a:lnTo>
                  <a:arcTo wR="0" hR="0" stAng="10800000" swAng="-5400000"/>
                  <a:lnTo>
                    <a:pt x="21600" y="143458"/>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uperviseur de terrai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recherche</a:t>
              </a:r>
              <a:endParaRPr b="0" lang="en-US" sz="1100" spc="-1" strike="noStrike">
                <a:solidFill>
                  <a:srgbClr val="000000"/>
                </a:solidFill>
                <a:latin typeface="Arial"/>
              </a:endParaRPr>
            </a:p>
          </p:txBody>
        </p:sp>
        <p:sp>
          <p:nvSpPr>
            <p:cNvPr id="156" name="Rectangle à coins arrondis 19"/>
            <p:cNvSpPr/>
            <p:nvPr/>
          </p:nvSpPr>
          <p:spPr>
            <a:xfrm>
              <a:off x="7255080" y="34736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pidémiologiste principal</a:t>
              </a:r>
              <a:endParaRPr b="0" lang="en-US" sz="1100" spc="-1" strike="noStrike">
                <a:solidFill>
                  <a:srgbClr val="000000"/>
                </a:solidFill>
                <a:latin typeface="Arial"/>
              </a:endParaRPr>
            </a:p>
          </p:txBody>
        </p:sp>
        <p:sp>
          <p:nvSpPr>
            <p:cNvPr id="157" name="Rectangle à coins arrondis 20"/>
            <p:cNvSpPr/>
            <p:nvPr/>
          </p:nvSpPr>
          <p:spPr>
            <a:xfrm>
              <a:off x="5356440" y="444672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symptomatique</a:t>
              </a:r>
              <a:endParaRPr b="0" lang="en-US" sz="1100" spc="-1" strike="noStrike">
                <a:solidFill>
                  <a:srgbClr val="000000"/>
                </a:solidFill>
                <a:latin typeface="Arial"/>
              </a:endParaRPr>
            </a:p>
          </p:txBody>
        </p:sp>
        <p:sp>
          <p:nvSpPr>
            <p:cNvPr id="158" name="Rectangle à coins arrondis 21"/>
            <p:cNvSpPr/>
            <p:nvPr/>
          </p:nvSpPr>
          <p:spPr>
            <a:xfrm>
              <a:off x="1257480" y="4853160"/>
              <a:ext cx="129528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itif d’Ebola</a:t>
              </a:r>
              <a:endParaRPr b="0" lang="en-US" sz="1000" spc="-1" strike="noStrike">
                <a:solidFill>
                  <a:srgbClr val="000000"/>
                </a:solidFill>
                <a:latin typeface="Arial"/>
              </a:endParaRPr>
            </a:p>
          </p:txBody>
        </p:sp>
        <p:sp>
          <p:nvSpPr>
            <p:cNvPr id="159" name="Rectangle à coins arrondis 22"/>
            <p:cNvSpPr/>
            <p:nvPr/>
          </p:nvSpPr>
          <p:spPr>
            <a:xfrm>
              <a:off x="1892160" y="5589720"/>
              <a:ext cx="151272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e traitement</a:t>
              </a:r>
              <a:endParaRPr b="0" lang="en-US" sz="1800" spc="-1" strike="noStrike">
                <a:solidFill>
                  <a:srgbClr val="000000"/>
                </a:solidFill>
                <a:latin typeface="Arial"/>
              </a:endParaRPr>
            </a:p>
          </p:txBody>
        </p:sp>
        <p:sp>
          <p:nvSpPr>
            <p:cNvPr id="160" name="Rectangle à coins arrondis 23"/>
            <p:cNvSpPr/>
            <p:nvPr/>
          </p:nvSpPr>
          <p:spPr>
            <a:xfrm>
              <a:off x="4570560" y="5742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béré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21</a:t>
              </a:r>
              <a:r>
                <a:rPr b="0" lang="fr-FR" sz="1800" spc="-1" strike="noStrike" baseline="30000">
                  <a:solidFill>
                    <a:srgbClr val="000000"/>
                  </a:solidFill>
                  <a:latin typeface="Arial"/>
                </a:rPr>
                <a:t>e</a:t>
              </a:r>
              <a:r>
                <a:rPr b="0" lang="fr-FR" sz="1800" spc="-1" strike="noStrike">
                  <a:solidFill>
                    <a:srgbClr val="000000"/>
                  </a:solidFill>
                  <a:latin typeface="Arial"/>
                </a:rPr>
                <a:t>  jo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s contacts</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un cas suspect, probable ou confirmé est détecté, l’équipe d’intervention rapide est activé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s les contacts doivent être identifié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questions approfondies sont posées sur le ca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 direct [cas vivan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psie verbale [cas décéd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e au ménage et à la communauté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Plusieurs entretiens avec le cas peuvent être nécessai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e </a:t>
            </a:r>
            <a:r>
              <a:rPr b="1" lang="en-US" sz="2000" spc="-1" strike="noStrike">
                <a:solidFill>
                  <a:srgbClr val="000000"/>
                </a:solidFill>
                <a:latin typeface="Arial"/>
              </a:rPr>
              <a:t>Formulaire d’enregistrement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2"/>
          <p:cNvSpPr/>
          <p:nvPr/>
        </p:nvSpPr>
        <p:spPr>
          <a:xfrm>
            <a:off x="2022480" y="5157720"/>
            <a:ext cx="665928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ypes de cont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A touché les fluides organiques du patient (sang, vomissements, salive, urine, déchets humains, sperme, s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 eu un contact physique direct avec le corps du patient (vivant ou m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 A touché ou nettoyé le linge, les habits, ou les plats du pat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 A dormi ou mangé dans la même maison que le patient</a:t>
            </a:r>
            <a:endParaRPr b="0" lang="en-US" sz="1000" spc="-1" strike="noStrike">
              <a:solidFill>
                <a:srgbClr val="000000"/>
              </a:solidFill>
              <a:latin typeface="Arial"/>
            </a:endParaRPr>
          </a:p>
        </p:txBody>
      </p:sp>
      <p:sp>
        <p:nvSpPr>
          <p:cNvPr id="164" name="TextBox 3"/>
          <p:cNvSpPr/>
          <p:nvPr/>
        </p:nvSpPr>
        <p:spPr>
          <a:xfrm>
            <a:off x="2990880" y="44280"/>
            <a:ext cx="554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RMULAIRE D'ENREGISTREMENT DES CONTACTS DES CAS D’EBOLA </a:t>
            </a:r>
            <a:endParaRPr b="0" lang="en-US" sz="1200" spc="-1" strike="noStrike">
              <a:solidFill>
                <a:srgbClr val="000000"/>
              </a:solidFill>
              <a:latin typeface="Arial"/>
            </a:endParaRPr>
          </a:p>
        </p:txBody>
      </p:sp>
      <p:graphicFrame>
        <p:nvGraphicFramePr>
          <p:cNvPr id="165" name="Object 4"/>
          <p:cNvGraphicFramePr/>
          <p:nvPr/>
        </p:nvGraphicFramePr>
        <p:xfrm>
          <a:off x="219240" y="504720"/>
          <a:ext cx="9172440" cy="4791240"/>
        </p:xfrm>
        <a:graphic>
          <a:graphicData uri="http://schemas.openxmlformats.org/presentationml/2006/ole">
            <p:oleObj r:id="rId1" spid="">
              <p:embed/>
              <p:pic>
                <p:nvPicPr>
                  <p:cNvPr id="166" name="Object 4" descr=""/>
                  <p:cNvPicPr/>
                  <p:nvPr/>
                </p:nvPicPr>
                <p:blipFill>
                  <a:blip r:embed="rId2"/>
                  <a:stretch/>
                </p:blipFill>
                <p:spPr>
                  <a:xfrm>
                    <a:off x="219240" y="504720"/>
                    <a:ext cx="917244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 des contacts</a:t>
            </a:r>
            <a:endParaRPr b="0" lang="en-US" sz="4400" spc="-1" strike="noStrike">
              <a:solidFill>
                <a:srgbClr val="000000"/>
              </a:solidFill>
              <a:latin typeface="Arial"/>
            </a:endParaRPr>
          </a:p>
        </p:txBody>
      </p:sp>
      <p:sp>
        <p:nvSpPr>
          <p:cNvPr id="168"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s interrogés par l’équipe d’investig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ander la dernière date du contact avec le ca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cas de doute, utiliser la date la plus ré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éterminer le niveau de risque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élevé”, “faible”, ou “inexistant”</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s personnes présentant un risque “élevé” et “faible”  devront être suivies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 contacts asymptomatiques peuvent poursuivre leurs activités quotidiennes s’ils peuvent accéder à temps aux centres de soins de santé au cas où ils tomberaient mala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e fois qu’une personne est considérée comme contact</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17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ndre les mesures suivan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former de sa situ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expliquer la procédure de suiv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fournir des informations sur Ebol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donner les coordonnées de l’équipe de recherch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i demander d’informer l’équipe de recherche au cas où il se déplacerait de la zone géographique ou en déménagera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ÉFINITIONS</a:t>
            </a:r>
            <a:endParaRPr b="0" lang="en-US" sz="4000" spc="-1" strike="noStrike">
              <a:solidFill>
                <a:srgbClr val="000000"/>
              </a:solidFill>
              <a:latin typeface="Arial"/>
            </a:endParaRPr>
          </a:p>
        </p:txBody>
      </p:sp>
      <p:sp>
        <p:nvSpPr>
          <p:cNvPr id="9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 un contact tombe malade… </a:t>
            </a:r>
            <a:endParaRPr b="0" lang="en-US" sz="4400" spc="-1" strike="noStrike">
              <a:solidFill>
                <a:srgbClr val="000000"/>
              </a:solidFill>
              <a:latin typeface="Arial"/>
            </a:endParaRPr>
          </a:p>
        </p:txBody>
      </p:sp>
      <p:sp>
        <p:nvSpPr>
          <p:cNvPr id="172"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statut change en celui de </a:t>
            </a:r>
            <a:r>
              <a:rPr b="1" lang="en-US" sz="2800" spc="-1" strike="noStrike">
                <a:solidFill>
                  <a:srgbClr val="000000"/>
                </a:solidFill>
                <a:latin typeface="Arial"/>
              </a:rPr>
              <a:t>CAS SUSPE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équipe d’investigation contacte le superviseur de terr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es équipes de transport et de désinf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ontact est transporté à l’unité d’isolement pour y subir un test</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 convient de commencer l’identification et l’enregistrement des contacts pour ce nouveau 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ivi du contact </a:t>
            </a:r>
            <a:endParaRPr b="0" lang="en-US" sz="4400" spc="-1" strike="noStrike">
              <a:solidFill>
                <a:srgbClr val="000000"/>
              </a:solidFill>
              <a:latin typeface="Arial"/>
            </a:endParaRPr>
          </a:p>
        </p:txBody>
      </p:sp>
      <p:sp>
        <p:nvSpPr>
          <p:cNvPr id="17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sites quotidiennes effectuées par l’équipe de suivi pendant 21 jour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et heure fixés à l’av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éal serait d’avoir la même équipe pour toute la durée des visites pou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rer la continuité et la confian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des variations dans les activités quotidiennes du contact</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 certains contacts sont introuvables,le signaler au superviseur de terrai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nsigner sur la </a:t>
            </a:r>
            <a:r>
              <a:rPr b="1" lang="en-US" sz="2400" spc="-1" strike="noStrike">
                <a:solidFill>
                  <a:srgbClr val="000000"/>
                </a:solidFill>
                <a:latin typeface="Arial"/>
              </a:rPr>
              <a:t>Fiche de suivi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 superviseur de terrain informe: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gestionnaire des donné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pidémiologiste princi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dépistage (pour les superviseurs sur le terrain)</a:t>
            </a:r>
            <a:endParaRPr b="0" lang="en-US" sz="3600" spc="-1" strike="noStrike">
              <a:solidFill>
                <a:srgbClr val="000000"/>
              </a:solidFill>
              <a:latin typeface="Arial"/>
            </a:endParaRPr>
          </a:p>
        </p:txBody>
      </p:sp>
      <p:grpSp>
        <p:nvGrpSpPr>
          <p:cNvPr id="176" name="Groupe 3"/>
          <p:cNvGrpSpPr/>
          <p:nvPr/>
        </p:nvGrpSpPr>
        <p:grpSpPr>
          <a:xfrm>
            <a:off x="1828800" y="1125360"/>
            <a:ext cx="5413320" cy="5040360"/>
            <a:chOff x="1828800" y="1125360"/>
            <a:chExt cx="5413320" cy="5040360"/>
          </a:xfrm>
        </p:grpSpPr>
        <p:pic>
          <p:nvPicPr>
            <p:cNvPr id="177" name="Picture 3" descr=""/>
            <p:cNvPicPr/>
            <p:nvPr/>
          </p:nvPicPr>
          <p:blipFill>
            <a:blip r:embed="rId1"/>
            <a:stretch/>
          </p:blipFill>
          <p:spPr>
            <a:xfrm>
              <a:off x="1828800" y="1125360"/>
              <a:ext cx="5413320" cy="5040360"/>
            </a:xfrm>
            <a:prstGeom prst="rect">
              <a:avLst/>
            </a:prstGeom>
            <a:ln w="0">
              <a:noFill/>
            </a:ln>
          </p:spPr>
        </p:pic>
        <p:sp>
          <p:nvSpPr>
            <p:cNvPr id="178" name="ZoneTexte 1"/>
            <p:cNvSpPr/>
            <p:nvPr/>
          </p:nvSpPr>
          <p:spPr>
            <a:xfrm>
              <a:off x="2195280" y="1125360"/>
              <a:ext cx="4680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che de suivi (pour superviseurs de terrain</a:t>
              </a:r>
              <a:r>
                <a:rPr b="1" lang="fr-FR" sz="1000" spc="-1" strike="noStrike">
                  <a:solidFill>
                    <a:srgbClr val="000000"/>
                  </a:solidFill>
                  <a:latin typeface="Arial"/>
                </a:rPr>
                <a:t>)</a:t>
              </a:r>
              <a:endParaRPr b="0" lang="en-US" sz="1000" spc="-1" strike="noStrike">
                <a:solidFill>
                  <a:srgbClr val="000000"/>
                </a:solidFill>
                <a:latin typeface="Arial"/>
              </a:endParaRPr>
            </a:p>
          </p:txBody>
        </p:sp>
        <p:sp>
          <p:nvSpPr>
            <p:cNvPr id="179" name="ZoneTexte 4"/>
            <p:cNvSpPr/>
            <p:nvPr/>
          </p:nvSpPr>
          <p:spPr>
            <a:xfrm>
              <a:off x="2216160" y="171720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 de l’équipe</a:t>
              </a:r>
              <a:endParaRPr b="0" lang="en-US" sz="1000" spc="-1" strike="noStrike">
                <a:solidFill>
                  <a:srgbClr val="000000"/>
                </a:solidFill>
                <a:latin typeface="Arial"/>
              </a:endParaRPr>
            </a:p>
          </p:txBody>
        </p:sp>
        <p:sp>
          <p:nvSpPr>
            <p:cNvPr id="180" name="ZoneTexte 5"/>
            <p:cNvSpPr/>
            <p:nvPr/>
          </p:nvSpPr>
          <p:spPr>
            <a:xfrm>
              <a:off x="2195280" y="200628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embres de l’équipe</a:t>
              </a:r>
              <a:endParaRPr b="0" lang="en-US" sz="1000" spc="-1" strike="noStrike">
                <a:solidFill>
                  <a:srgbClr val="000000"/>
                </a:solidFill>
                <a:latin typeface="Arial"/>
              </a:endParaRPr>
            </a:p>
          </p:txBody>
        </p:sp>
        <p:sp>
          <p:nvSpPr>
            <p:cNvPr id="181" name="ZoneTexte 6"/>
            <p:cNvSpPr/>
            <p:nvPr/>
          </p:nvSpPr>
          <p:spPr>
            <a:xfrm>
              <a:off x="2216160" y="249228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concernés</a:t>
              </a:r>
              <a:endParaRPr b="0" lang="en-US" sz="1000" spc="-1" strike="noStrike">
                <a:solidFill>
                  <a:srgbClr val="000000"/>
                </a:solidFill>
                <a:latin typeface="Arial"/>
              </a:endParaRPr>
            </a:p>
          </p:txBody>
        </p:sp>
        <p:grpSp>
          <p:nvGrpSpPr>
            <p:cNvPr id="182" name="Groupe 2"/>
            <p:cNvGrpSpPr/>
            <p:nvPr/>
          </p:nvGrpSpPr>
          <p:grpSpPr>
            <a:xfrm>
              <a:off x="3203640" y="2481120"/>
              <a:ext cx="1152000" cy="428400"/>
              <a:chOff x="3203640" y="2481120"/>
              <a:chExt cx="1152000" cy="428400"/>
            </a:xfrm>
          </p:grpSpPr>
          <p:sp>
            <p:nvSpPr>
              <p:cNvPr id="183" name="ZoneTexte 7"/>
              <p:cNvSpPr/>
              <p:nvPr/>
            </p:nvSpPr>
            <p:spPr>
              <a:xfrm>
                <a:off x="3223800" y="2481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4" name="ZoneTexte 8"/>
              <p:cNvSpPr/>
              <p:nvPr/>
            </p:nvSpPr>
            <p:spPr>
              <a:xfrm>
                <a:off x="3223800" y="2633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5" name="ZoneTexte 9"/>
              <p:cNvSpPr/>
              <p:nvPr/>
            </p:nvSpPr>
            <p:spPr>
              <a:xfrm>
                <a:off x="3203640" y="27720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grpSp>
        <p:sp>
          <p:nvSpPr>
            <p:cNvPr id="186" name="ZoneTexte 12"/>
            <p:cNvSpPr/>
            <p:nvPr/>
          </p:nvSpPr>
          <p:spPr>
            <a:xfrm>
              <a:off x="3235680" y="3273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7" name="ZoneTexte 13"/>
            <p:cNvSpPr/>
            <p:nvPr/>
          </p:nvSpPr>
          <p:spPr>
            <a:xfrm>
              <a:off x="3235680" y="3434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8" name="ZoneTexte 14"/>
            <p:cNvSpPr/>
            <p:nvPr/>
          </p:nvSpPr>
          <p:spPr>
            <a:xfrm>
              <a:off x="3215520" y="3578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sp>
          <p:nvSpPr>
            <p:cNvPr id="189" name="ZoneTexte 15"/>
            <p:cNvSpPr/>
            <p:nvPr/>
          </p:nvSpPr>
          <p:spPr>
            <a:xfrm>
              <a:off x="2236680" y="326376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visités</a:t>
              </a:r>
              <a:endParaRPr b="0" lang="en-US" sz="1000" spc="-1" strike="noStrike">
                <a:solidFill>
                  <a:srgbClr val="000000"/>
                </a:solidFill>
                <a:latin typeface="Arial"/>
              </a:endParaRPr>
            </a:p>
          </p:txBody>
        </p:sp>
        <p:sp>
          <p:nvSpPr>
            <p:cNvPr id="190" name="ZoneTexte 16"/>
            <p:cNvSpPr/>
            <p:nvPr/>
          </p:nvSpPr>
          <p:spPr>
            <a:xfrm>
              <a:off x="2195280" y="404784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as suivis (donner les noms)</a:t>
              </a:r>
              <a:endParaRPr b="0" lang="en-US" sz="800" spc="-1" strike="noStrike">
                <a:solidFill>
                  <a:srgbClr val="000000"/>
                </a:solidFill>
                <a:latin typeface="Arial"/>
              </a:endParaRPr>
            </a:p>
          </p:txBody>
        </p:sp>
        <p:sp>
          <p:nvSpPr>
            <p:cNvPr id="191" name="ZoneTexte 17"/>
            <p:cNvSpPr/>
            <p:nvPr/>
          </p:nvSpPr>
          <p:spPr>
            <a:xfrm>
              <a:off x="2209680" y="420048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ontacts suivis</a:t>
              </a:r>
              <a:endParaRPr b="0" lang="en-US" sz="800" spc="-1" strike="noStrike">
                <a:solidFill>
                  <a:srgbClr val="000000"/>
                </a:solidFill>
                <a:latin typeface="Arial"/>
              </a:endParaRPr>
            </a:p>
          </p:txBody>
        </p:sp>
        <p:sp>
          <p:nvSpPr>
            <p:cNvPr id="192" name="ZoneTexte 18"/>
            <p:cNvSpPr/>
            <p:nvPr/>
          </p:nvSpPr>
          <p:spPr>
            <a:xfrm>
              <a:off x="2216160" y="436536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ntacts suivis pendant tous les 21 jours</a:t>
              </a:r>
              <a:endParaRPr b="0" lang="en-US" sz="900" spc="-1" strike="noStrike">
                <a:solidFill>
                  <a:srgbClr val="000000"/>
                </a:solidFill>
                <a:latin typeface="Arial"/>
              </a:endParaRPr>
            </a:p>
          </p:txBody>
        </p:sp>
        <p:sp>
          <p:nvSpPr>
            <p:cNvPr id="193" name="ZoneTexte 19"/>
            <p:cNvSpPr/>
            <p:nvPr/>
          </p:nvSpPr>
          <p:spPr>
            <a:xfrm>
              <a:off x="2216160" y="467352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as suivis à ce jour</a:t>
              </a:r>
              <a:endParaRPr b="0" lang="en-US" sz="800" spc="-1" strike="noStrike">
                <a:solidFill>
                  <a:srgbClr val="000000"/>
                </a:solidFill>
                <a:latin typeface="Arial"/>
              </a:endParaRPr>
            </a:p>
          </p:txBody>
        </p:sp>
        <p:sp>
          <p:nvSpPr>
            <p:cNvPr id="194" name="ZoneTexte 20"/>
            <p:cNvSpPr/>
            <p:nvPr/>
          </p:nvSpPr>
          <p:spPr>
            <a:xfrm>
              <a:off x="2209680" y="48258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ontacts suivis à ce jour</a:t>
              </a:r>
              <a:endParaRPr b="0" lang="en-US" sz="800" spc="-1" strike="noStrike">
                <a:solidFill>
                  <a:srgbClr val="000000"/>
                </a:solidFill>
                <a:latin typeface="Arial"/>
              </a:endParaRPr>
            </a:p>
          </p:txBody>
        </p:sp>
        <p:sp>
          <p:nvSpPr>
            <p:cNvPr id="195" name="ZoneTexte 21"/>
            <p:cNvSpPr/>
            <p:nvPr/>
          </p:nvSpPr>
          <p:spPr>
            <a:xfrm>
              <a:off x="2216160" y="501336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acts ayant présenté des symptômes</a:t>
              </a:r>
              <a:endParaRPr b="0" lang="en-US" sz="800" spc="-1" strike="noStrike">
                <a:solidFill>
                  <a:srgbClr val="000000"/>
                </a:solidFill>
                <a:latin typeface="Arial"/>
              </a:endParaRPr>
            </a:p>
          </p:txBody>
        </p:sp>
        <p:sp>
          <p:nvSpPr>
            <p:cNvPr id="196" name="ZoneTexte 22"/>
            <p:cNvSpPr/>
            <p:nvPr/>
          </p:nvSpPr>
          <p:spPr>
            <a:xfrm>
              <a:off x="2209680" y="51354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tails sur alertes commun. suivies d’action</a:t>
              </a:r>
              <a:endParaRPr b="0" lang="en-US" sz="800" spc="-1" strike="noStrike">
                <a:solidFill>
                  <a:srgbClr val="000000"/>
                </a:solidFill>
                <a:latin typeface="Arial"/>
              </a:endParaRPr>
            </a:p>
          </p:txBody>
        </p:sp>
        <p:sp>
          <p:nvSpPr>
            <p:cNvPr id="197" name="ZoneTexte 23"/>
            <p:cNvSpPr/>
            <p:nvPr/>
          </p:nvSpPr>
          <p:spPr>
            <a:xfrm>
              <a:off x="2252520" y="534204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Remarques / autres question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énarios des visites quotidiennes</a:t>
            </a:r>
            <a:endParaRPr b="0" lang="en-US" sz="4000" spc="-1" strike="noStrike">
              <a:solidFill>
                <a:srgbClr val="000000"/>
              </a:solidFill>
              <a:latin typeface="Arial"/>
            </a:endParaRPr>
          </a:p>
        </p:txBody>
      </p:sp>
      <p:sp>
        <p:nvSpPr>
          <p:cNvPr id="19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outes les visites, l’état de santé est évalué</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Comment vous sentez-vou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vez-vous de la fièvre?</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registrer ces 2 questions sur la </a:t>
            </a:r>
            <a:r>
              <a:rPr b="1" lang="en-US" sz="1900" spc="-1" strike="noStrike">
                <a:solidFill>
                  <a:srgbClr val="000000"/>
                </a:solidFill>
                <a:latin typeface="Arial"/>
              </a:rPr>
              <a:t>Fiche de suivi quotidien des contact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1: A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peut prendre la température [non obligatoir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2: 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r immédiatement avec le superviseur terra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équipe d’investigation examinera le contact</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l s’agit d’un cas suspect, le superviseur de terrain est de nouveau alerté</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est notifié</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ordonne avec l’équipe de prise en charge des cas</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équipes de transport et de désinfection sont activ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uveaux cas suspects qui commandent la prudence</a:t>
            </a:r>
            <a:endParaRPr b="0" lang="en-US" sz="3600" spc="-1" strike="noStrike">
              <a:solidFill>
                <a:srgbClr val="000000"/>
              </a:solidFill>
              <a:latin typeface="Arial"/>
            </a:endParaRPr>
          </a:p>
        </p:txBody>
      </p:sp>
      <p:sp>
        <p:nvSpPr>
          <p:cNvPr id="2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 cas suspect est malade depuis moins de 3 jour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reste en isolement jusqu’à ce que le test soit répété le 3e jou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POSI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alors classé comme CAS CONFIRM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est transporté à l’unité de traitement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équipe d’investigation poursuit l’identification et le suivi des contacts de ce cas </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NÉGA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de nouveau classé comme contac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précédent suivi de 21 jours se poursuit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452520" y="2492280"/>
          <a:ext cx="8229600" cy="3672000"/>
        </p:xfrm>
        <a:graphic>
          <a:graphicData uri="http://schemas.openxmlformats.org/drawingml/2006/table">
            <a:tbl>
              <a:tblPr/>
              <a:tblGrid>
                <a:gridCol w="846000"/>
                <a:gridCol w="351000"/>
                <a:gridCol w="352440"/>
                <a:gridCol w="350640"/>
                <a:gridCol w="352440"/>
                <a:gridCol w="351000"/>
                <a:gridCol w="352440"/>
                <a:gridCol w="352440"/>
                <a:gridCol w="350640"/>
                <a:gridCol w="351000"/>
                <a:gridCol w="352440"/>
                <a:gridCol w="350640"/>
                <a:gridCol w="352440"/>
                <a:gridCol w="351000"/>
                <a:gridCol w="352440"/>
                <a:gridCol w="350640"/>
                <a:gridCol w="351000"/>
                <a:gridCol w="352440"/>
                <a:gridCol w="350640"/>
                <a:gridCol w="352440"/>
                <a:gridCol w="351000"/>
                <a:gridCol w="35244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a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Fièv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ais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ouleurs musculai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tê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gorg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Vomissement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iarrh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Eruption cutan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Hémorragie (saignement injustifié)</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TextBox 2"/>
          <p:cNvSpPr/>
          <p:nvPr/>
        </p:nvSpPr>
        <p:spPr>
          <a:xfrm>
            <a:off x="285840" y="1357200"/>
            <a:ext cx="13755600" cy="1175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m: _______________________________________        Sexe:_______      Age:  _______          Date du dernier contact (jr/mois/année):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resse:______________________________________        Numéro de téléph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ructions: Pour chaque jour, évaluer le contact sur les symptômes ci-dessous et indiquer “oui” si le contact présente le symptôme,  et “non” s’il ne présent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as le symtôme. Si le contact présente l’un des symtômes, appeler immediatement le service de santé public au XXX-XXX-XXXX. </a:t>
            </a:r>
            <a:endParaRPr b="0" lang="en-US" sz="1000" spc="-1" strike="noStrike">
              <a:solidFill>
                <a:srgbClr val="000000"/>
              </a:solidFill>
              <a:latin typeface="Arial"/>
            </a:endParaRPr>
          </a:p>
        </p:txBody>
      </p:sp>
      <p:sp>
        <p:nvSpPr>
          <p:cNvPr id="204"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suivi quotidien des contacts</a:t>
            </a:r>
            <a:br>
              <a:rPr sz="3600"/>
            </a:br>
            <a:r>
              <a:rPr b="0" lang="en-US" sz="3600" spc="-1" strike="noStrike">
                <a:solidFill>
                  <a:srgbClr val="000000"/>
                </a:solidFill>
                <a:latin typeface="Arial"/>
              </a:rPr>
              <a:t>(à l’intention des agents de recherc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e du contact du processus</a:t>
            </a:r>
            <a:endParaRPr b="0" lang="en-US" sz="4400" spc="-1" strike="noStrike">
              <a:solidFill>
                <a:srgbClr val="000000"/>
              </a:solidFill>
              <a:latin typeface="Arial"/>
            </a:endParaRPr>
          </a:p>
        </p:txBody>
      </p:sp>
      <p:sp>
        <p:nvSpPr>
          <p:cNvPr id="20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ritères suivants sont réunis au 21e jour, le contact est sorti du processus de su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 suivi de 21 jours a été réalisé par l’équipe chargée des cont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contact  a été évalué au 21e jou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éfaut de cela, le contact ne peut sortir du processus tant qu’il n’a pas été éval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ésumé des étapes à suivre</a:t>
            </a:r>
            <a:br>
              <a:rPr sz="3600"/>
            </a:br>
            <a:r>
              <a:rPr b="0" lang="en-US" sz="3600" spc="-1" strike="noStrike">
                <a:solidFill>
                  <a:srgbClr val="000000"/>
                </a:solidFill>
                <a:latin typeface="Arial"/>
              </a:rPr>
              <a:t>(Guide étape par étape)</a:t>
            </a:r>
            <a:endParaRPr b="0" lang="en-US" sz="3600" spc="-1" strike="noStrike">
              <a:solidFill>
                <a:srgbClr val="000000"/>
              </a:solidFill>
              <a:latin typeface="Arial"/>
            </a:endParaRPr>
          </a:p>
        </p:txBody>
      </p:sp>
      <p:sp>
        <p:nvSpPr>
          <p:cNvPr id="2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dentification initiale des 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as d’Ebola est identifié par le système de surveill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est activé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interroge le cas en utilisant </a:t>
            </a:r>
            <a:r>
              <a:rPr b="1" lang="en-US" sz="2000" spc="-1" strike="noStrike">
                <a:solidFill>
                  <a:srgbClr val="000000"/>
                </a:solidFill>
                <a:latin typeface="Arial"/>
              </a:rPr>
              <a:t>le Questionnaire pour contacts de cas d'Ebola </a:t>
            </a:r>
            <a:r>
              <a:rPr b="0" lang="en-US" sz="2000" spc="-1" strike="noStrike">
                <a:solidFill>
                  <a:srgbClr val="000000"/>
                </a:solidFill>
                <a:latin typeface="Arial"/>
              </a:rPr>
              <a:t>et effectue une visite dans le ménage pour établir une liste des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équipe d’intervention rapide rencontre chaque contact, e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état de santé du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 le contact de son statu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oge le contact à l’aide du </a:t>
            </a:r>
            <a:r>
              <a:rPr b="1" lang="en-US" sz="1800" spc="-1" strike="noStrike">
                <a:solidFill>
                  <a:srgbClr val="000000"/>
                </a:solidFill>
                <a:latin typeface="Arial"/>
              </a:rPr>
              <a:t>Questionnaire pour contacts de cas d'Ebol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que la procédure de suivi quotidien pendant 21 jou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e risque de fuite de l’individ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 les lieu et place idoines pour rencontrer le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 la </a:t>
            </a:r>
            <a:r>
              <a:rPr b="1" lang="en-US" sz="1800" spc="-1" strike="noStrike">
                <a:solidFill>
                  <a:srgbClr val="000000"/>
                </a:solidFill>
                <a:latin typeface="Arial"/>
              </a:rPr>
              <a:t>Fiche d’enregistrement des contac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pidémiologiste principal affecte les superviseurs de terrain sur la base de la répartition géographique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85480" y="0"/>
            <a:ext cx="8715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0" name=""/>
          <p:cNvSpPr txBox="1"/>
          <p:nvPr/>
        </p:nvSpPr>
        <p:spPr>
          <a:xfrm>
            <a:off x="500040" y="100008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Chaque jour:</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L’épidémiologiste principal distribue aux superviseurs de terrain une liste actualisée des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 superviseurs de terrain rencontrent leurs équipes de suivi et distribuent la liste des contacts pour chaque équipe en regroupant les contacts selon leur proximité géographiqu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Les agents de suivi rencontrent chaque contact et exécutent les tâches suivant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 l’état général du contact par rapport à  tout signe visible de malad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oger le contact au sujet de son état de santé (présence ou  absence de symptômes spécifiq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a </a:t>
            </a:r>
            <a:r>
              <a:rPr b="1" lang="en-US" sz="2000" spc="-1" strike="noStrike">
                <a:solidFill>
                  <a:srgbClr val="000000"/>
                </a:solidFill>
                <a:latin typeface="Arial"/>
              </a:rPr>
              <a:t>Fiche de suivi des contac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er au contact s’il connaît quelqu’un d’autre qui est mal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2" name=""/>
          <p:cNvSpPr txBox="1"/>
          <p:nvPr/>
        </p:nvSpPr>
        <p:spPr>
          <a:xfrm>
            <a:off x="468360" y="1916280"/>
            <a:ext cx="8229600" cy="403200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Pendant que les équipes de suivi évaluent les contacts, le superviseur de terrain assur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appui logistique comprenant des dispositions pour le transport des équipes de suivi, et le paie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tivation de l’équipe d’investigation pour tout contact que les agents de suivi identifient comme ayant présenté des symptôm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surance de la qualité pour veiller à l’exactitude des rapports des agents de suivi.</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a fin de la journée, les agents de suivi entrent en contact avec leurs superviseurs de terrain et font un rapport sur l’état des contacts interrogés.</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superviseurs de terrain remplissent la </a:t>
            </a:r>
            <a:r>
              <a:rPr b="1" lang="en-US" sz="1600" spc="-1" strike="noStrike">
                <a:solidFill>
                  <a:srgbClr val="000000"/>
                </a:solidFill>
                <a:latin typeface="Arial"/>
              </a:rPr>
              <a:t>Fiche de suivi </a:t>
            </a:r>
            <a:r>
              <a:rPr b="0" lang="en-US" sz="1600" spc="-1" strike="noStrike">
                <a:solidFill>
                  <a:srgbClr val="000000"/>
                </a:solidFill>
                <a:latin typeface="Arial"/>
              </a:rPr>
              <a:t>sur la base des informations fournies par les agents et l’équipe d’investigation, et cette fiche est transmise à l’épidémiologiste principal et au gestionnaire des donné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Le gestionnaire des données ou le personnel d’enregistrement des données saisissent les données sur support électronique.</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analyse les données et dresse la liste des contacts actuels ou à rencontrer pour le jour suivan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560" y="142560"/>
            <a:ext cx="864396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e base de la recherche des contacts</a:t>
            </a:r>
            <a:endParaRPr b="0" lang="en-US" sz="2800" spc="-1" strike="noStrike">
              <a:solidFill>
                <a:srgbClr val="000000"/>
              </a:solidFill>
              <a:latin typeface="Arial"/>
            </a:endParaRPr>
          </a:p>
        </p:txBody>
      </p:sp>
      <p:sp>
        <p:nvSpPr>
          <p:cNvPr id="96" name=""/>
          <p:cNvSpPr txBox="1"/>
          <p:nvPr/>
        </p:nvSpPr>
        <p:spPr>
          <a:xfrm>
            <a:off x="499680" y="1571760"/>
            <a:ext cx="8186760" cy="43574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TION: c’est un processus qui consiste à identifier, contrôler et prendre en charge l’Ebola afin d’éliminer sa transmissio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s’agit de procéder à un suivi systématique de la personne concernée pendant les 21 jours qui suivent la date de son dernier contact </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ériode maximale d’incub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ION DE LA RECHERCHE DES CONTACTS</a:t>
            </a:r>
            <a:endParaRPr b="0" lang="en-US" sz="4000" spc="-1" strike="noStrike">
              <a:solidFill>
                <a:srgbClr val="000000"/>
              </a:solidFill>
              <a:latin typeface="Arial"/>
            </a:endParaRPr>
          </a:p>
        </p:txBody>
      </p:sp>
      <p:sp>
        <p:nvSpPr>
          <p:cNvPr id="21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stion des données</a:t>
            </a:r>
            <a:endParaRPr b="0" lang="en-US" sz="4400" spc="-1" strike="noStrike">
              <a:solidFill>
                <a:srgbClr val="000000"/>
              </a:solidFill>
              <a:latin typeface="Arial"/>
            </a:endParaRPr>
          </a:p>
        </p:txBody>
      </p:sp>
      <p:sp>
        <p:nvSpPr>
          <p:cNvPr id="21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egistre les informations relatives aux cas et aux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it des rapports quotidiens, qu’elle transmet pour analyse des donné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ablit une carte géographique des contact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dans les délais des données et des tendanc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l existe suffisamment de ressources et/ou d’infrastructu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llecte des données sur support électronique sur le terrain serait à envisag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Bien que la base de données d’Epi Info VHF soit recommandée, d’autres bases de données tel que le Système de gestion de l’information sur le terrain (SGIT) de l’OMS peuvent également être utilisé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recrutement</a:t>
            </a:r>
            <a:endParaRPr b="0" lang="en-US" sz="4400" spc="-1" strike="noStrike">
              <a:solidFill>
                <a:srgbClr val="000000"/>
              </a:solidFill>
              <a:latin typeface="Arial"/>
            </a:endParaRPr>
          </a:p>
        </p:txBody>
      </p:sp>
      <p:sp>
        <p:nvSpPr>
          <p:cNvPr id="21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ir compte des mesures d’encouragement à partici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mentation des sal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une assurance-maladi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équipements de protection individuelle au personnel et  à leurs famil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uter des personnes ayant survécu à 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er le personnel à tem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formation</a:t>
            </a:r>
            <a:endParaRPr b="0" lang="en-US" sz="4400" spc="-1" strike="noStrike">
              <a:solidFill>
                <a:srgbClr val="000000"/>
              </a:solidFill>
              <a:latin typeface="Arial"/>
            </a:endParaRPr>
          </a:p>
        </p:txBody>
      </p:sp>
      <p:sp>
        <p:nvSpPr>
          <p:cNvPr id="220"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ravailleurs ont besoin d’une bonne formation et de ressources pour faire efficacement leur trav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uster la formation au rôle du membre du person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 de remise à niv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age si des problèmes se posent ou si les modes opératoires chan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s officiels de fin de 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s’opposer aux différences de gr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santé</a:t>
            </a:r>
            <a:endParaRPr b="0" lang="en-US" sz="4400" spc="-1" strike="noStrike">
              <a:solidFill>
                <a:srgbClr val="000000"/>
              </a:solidFill>
              <a:latin typeface="Arial"/>
            </a:endParaRPr>
          </a:p>
        </p:txBody>
      </p:sp>
      <p:sp>
        <p:nvSpPr>
          <p:cNvPr id="22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niture de soins médicaux aux agents en servic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 compris le traitement contre Ebola</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mesures suivantes doivent être prises et strictement appliqué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ntrer dans les communautés qui semblent hostiles, agressives, ou peu accueill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ssayer de retenir les contacts ou les cas qui cherchent à s’enfuir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oter que si des agents de sécurité ont des contacts avec des cas suspects, probables ou confirmés, ils peuvent, selon la situation, répondre à la définition de contact, et par conséquent, nécessiter un suivi par les agents approprié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identification</a:t>
            </a:r>
            <a:endParaRPr b="0" lang="en-US" sz="4400" spc="-1" strike="noStrike">
              <a:solidFill>
                <a:srgbClr val="000000"/>
              </a:solidFill>
              <a:latin typeface="Arial"/>
            </a:endParaRPr>
          </a:p>
        </p:txBody>
      </p:sp>
      <p:sp>
        <p:nvSpPr>
          <p:cNvPr id="2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estions approfondies à pose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physiques dir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sexuel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qui ont vécu dans la même maison que le c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yant rendu visite au cas (à la maison, au centre de santé, lors des funérailles ou d’un enterrement,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roits que le cas a visités (lieu de travail, pharmacie, église, famille élargie, guérisseurs traditionnels,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s sanitaires utilisées par le cas et tous les agents de santé qui se sont occupés de lui</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s sur l’identification des contacts</a:t>
            </a:r>
            <a:endParaRPr b="0" lang="en-US" sz="3600" spc="-1" strike="noStrike">
              <a:solidFill>
                <a:srgbClr val="000000"/>
              </a:solidFill>
              <a:latin typeface="Arial"/>
            </a:endParaRPr>
          </a:p>
        </p:txBody>
      </p:sp>
      <p:sp>
        <p:nvSpPr>
          <p:cNvPr id="2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ser des calendriers, des congés ou anniversaires pour les aider à se rappeler leurs activi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e les cas suspects, probables ou confirmés sont informés de leur statut, leur réaction probable est à craind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psychosociale de l’équipe d’investig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l à la sensibilité cultur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s: défis à relever en matière d’enregistrement</a:t>
            </a:r>
            <a:endParaRPr b="0" lang="en-US" sz="3600" spc="-1" strike="noStrike">
              <a:solidFill>
                <a:srgbClr val="000000"/>
              </a:solidFill>
              <a:latin typeface="Arial"/>
            </a:endParaRPr>
          </a:p>
        </p:txBody>
      </p:sp>
      <p:sp>
        <p:nvSpPr>
          <p:cNvPr id="22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eux logist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de noms de r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ation de sobriqu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s sans programme national d’identif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endre en comp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érage des contacts par G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 des dirigeants de communau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stigmatisation</a:t>
            </a:r>
            <a:endParaRPr b="0" lang="en-US" sz="4400" spc="-1" strike="noStrike">
              <a:solidFill>
                <a:srgbClr val="000000"/>
              </a:solidFill>
              <a:latin typeface="Arial"/>
            </a:endParaRPr>
          </a:p>
        </p:txBody>
      </p:sp>
      <p:sp>
        <p:nvSpPr>
          <p:cNvPr id="2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ures visant à surmonter la stigmatis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ication et sensibilisation des dirigeants de communautés par rapport à l’infection et à la transmission d’Ebola, et au rôle de la communau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ation  de campagnes précoces de communication sur la san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ance psychosociale précoce pour combattre la peur</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isir un lieu et un temps de réunion “sûrs” pour les contacts, de manière à ce que leurs pairs, leurs familles et/ou leur communauté ne puissent les identifier comme contacts d'Ebol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RANCE DE LA QUALITÉ ET GESTION</a:t>
            </a:r>
            <a:endParaRPr b="0" lang="en-US" sz="4000" spc="-1" strike="noStrike">
              <a:solidFill>
                <a:srgbClr val="000000"/>
              </a:solidFill>
              <a:latin typeface="Arial"/>
            </a:endParaRPr>
          </a:p>
        </p:txBody>
      </p:sp>
      <p:sp>
        <p:nvSpPr>
          <p:cNvPr id="23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360"/>
            <a:ext cx="878688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fs de la recherche des contacts</a:t>
            </a:r>
            <a:endParaRPr b="0" lang="en-US" sz="3600" spc="-1" strike="noStrike">
              <a:solidFill>
                <a:srgbClr val="000000"/>
              </a:solidFill>
              <a:latin typeface="Arial"/>
            </a:endParaRPr>
          </a:p>
        </p:txBody>
      </p:sp>
      <p:sp>
        <p:nvSpPr>
          <p:cNvPr id="9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immédiatement les personnes qui présentent des symptômes, et sont par conséquent contagieux, 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êter la transmission d'Ebol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i  des mesures appropriées sont               prises rapid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4"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équipe d’investigation, l’équipe d’intervention rapide, l’épidémiologiste princip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Évaluent les cas ayant un nombre réduit de contacts signalé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udence lorsque les chiffres ne correspondent pas à ceux des cas précédents présentant des caractéristiques similair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r la possibilité d’interroger à nouveau le cas, la famille, les voisins, et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er à susciter des activités supplémentaires dans la vie quotidienne</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eiller à ce que l’état de santé du contact soit évaluée avec exactitude par les agents de recherch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uer des contrôles à domicile par un choix aléatoire des contacts des différentes équipes d’investigation pour les interroger et voir si l’évaluation de l’état de santé rejoint les rapports des agents de recherch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eur(s) de terr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surent que les agents de recherche visitent les contacts chaque jour</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la technologie est facilement disponible, utiliser le système de repérage mobile par GPS des agents de recherche des contact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s de besoin, prendre une photo ou un repère du contact pour les soumettre à l’agent qui est chaque jour sur le terrai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uer des contrôles à domicile par un choix aléatoire des contacts des différentes équipes de recherche, et interroger les contacts pour s’assurer qu’ils reçoivent chaque jour la visite d’un agent d’investig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des jours ont été sautés, confirmer que cela a bien été enregistré par l’équipe d’investig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sures de la qualité: doivent être à 100%†</a:t>
            </a:r>
            <a:endParaRPr b="0" lang="en-US" sz="3600" spc="-1" strike="noStrike">
              <a:solidFill>
                <a:srgbClr val="000000"/>
              </a:solidFill>
              <a:latin typeface="Arial"/>
            </a:endParaRPr>
          </a:p>
        </p:txBody>
      </p:sp>
      <p:sp>
        <p:nvSpPr>
          <p:cNvPr id="23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èvement des rapports hebdomadaires de surveillance a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ar j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endant toute la période de 21 j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as qui ont bénéficié d’un suivi dans les 24 heures suivant leur iden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NSIBILITÉ</a:t>
            </a:r>
            <a:endParaRPr b="0" lang="en-US" sz="4000" spc="-1" strike="noStrike">
              <a:solidFill>
                <a:srgbClr val="000000"/>
              </a:solidFill>
              <a:latin typeface="Arial"/>
            </a:endParaRPr>
          </a:p>
        </p:txBody>
      </p:sp>
      <p:sp>
        <p:nvSpPr>
          <p:cNvPr id="24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2"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ontacts ne sont pas identifiés ou s’ils sont perdus, la transmission exponentielle d'Ebola est prob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rotocole de recherche des contacts doit comprend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recrutement d’équipes supplémentaires d’investigation, de superviseurs de terrain et d’agents de recherche des contacts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er en premier lieu les efforts sur les groupes à risque élev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cent devra être mis s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ecrutement plus important de perso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xtension des infra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quisition de ressources supplément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réation d’équipes supplémentaires pour faire face à l’accroissement des efforts de lutte (par ex., la mise en place des équipes de désinfection ou d’inhum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sibilité: Changement d’approche</a:t>
            </a:r>
            <a:endParaRPr b="0" lang="en-US" sz="3600" spc="-1" strike="noStrike">
              <a:solidFill>
                <a:srgbClr val="000000"/>
              </a:solidFill>
              <a:latin typeface="Arial"/>
            </a:endParaRPr>
          </a:p>
        </p:txBody>
      </p:sp>
      <p:sp>
        <p:nvSpPr>
          <p:cNvPr id="24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fforts peuvent commencer à porter tout d’abord sur les groupes de contacts </a:t>
            </a:r>
            <a:r>
              <a:rPr b="1" lang="en-US" sz="3200" spc="-1" strike="noStrike">
                <a:solidFill>
                  <a:srgbClr val="000000"/>
                </a:solidFill>
                <a:latin typeface="Arial"/>
              </a:rPr>
              <a:t>à risque élevé, </a:t>
            </a:r>
            <a:r>
              <a:rPr b="0" lang="en-US" sz="3200" spc="-1" strike="noStrike">
                <a:solidFill>
                  <a:srgbClr val="000000"/>
                </a:solidFill>
                <a:latin typeface="Arial"/>
              </a:rPr>
              <a:t>afin d’économiser comme il se doit les ressources direc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lassement des contacts par niveau de risque se fonde sur les directives de C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24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250" name=""/>
          <p:cNvSpPr txBox="1"/>
          <p:nvPr/>
        </p:nvSpPr>
        <p:spPr>
          <a:xfrm>
            <a:off x="457200" y="1196640"/>
            <a:ext cx="8229600" cy="501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recherche des contacts est capital pour l’identification, le contrôle et l’élimination de la transmission d’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on omet un seul contact, il est fort probable que la transmission du virus se poursu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est crucial que la recherche des contacts s’effectue rapidement et soit bien gérée pour que la riposte à Ebola soit effic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finitions: LE CONTACT</a:t>
            </a:r>
            <a:endParaRPr b="0" lang="en-US" sz="44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 CONTA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st une personne qui a eu un contact avec un cas symptômatique d’Ebola (cas suspect, probable ou confirmé) dans au moins l’une des situations suivante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vivant ou mort)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défunt) pendant les funéraille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 sang ou les liquides corporels du cas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été allaité au sein par une patiente (dans le cas des bébé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s habits ou le linge du c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dormi dans le même logement qu’un c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s: CONTACT</a:t>
            </a:r>
            <a:r>
              <a:rPr b="0" lang="en-US" sz="2400" spc="-1" strike="noStrike" baseline="30000">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Arial"/>
              </a:rPr>
              <a:t>(Risque élevé et faible)</a:t>
            </a:r>
            <a:endParaRPr b="0" lang="en-US" sz="24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élevé</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osition par voie percutanée ou de la membrane muqueuse au sang ou liquides corporels d’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la peau ou exposition directe au sang ou aux liquides corporels d’un cas suspect ou confirmé d'Ebola, sans être vêtu d’un équipement de protection individuelle (EPI) approprié</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ipulation du sang ou des liquides corporels d’un cas confirmé d'Ebola, sans être vêtu d’un équipement de protection individuelle ou sans avoir pris les précautions de biosécurité courante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un cadavre, sans être vêtu d’un équipement de protection individuelle approprié, dans un pays où sévit une épidémie d’Ebola</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faibl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en famille avec 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des malades d'Ebola dans les établissements de soins de santé ou dans les communauté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 trouver à 1 mètre environ d’un cas d’Ebola, être dans sa chambre ou dans un centre de santé pendant longtemps (cas par exemple du personnel médical ou des membres de la famille), sans être vêtu de l’équipement de protection individuelle recommandé.</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oir un bref contact direct (par exemple, serrer la main) avec un malade d'Ebola, sans être vêtu de l’équipement de protection individuelle recommandé.</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is catégories de cas d’Ebola</a:t>
            </a:r>
            <a:endParaRPr b="0" lang="en-US" sz="44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suspect:  personne vivante ou morte, présentant au moins l’un des critères suivants: </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saignement inconnue</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décès subit inconnue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contact avec: </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cas suspect, probable ou confirmé d’Ebol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animal malade ou mort</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au moins trois des symptômes suivant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ux de tê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rexie / perte d’appéti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éthargi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musculaires ou articulair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iration difficil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missement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arrhé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au ventr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fficultés à avale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que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probable: tout cas suspect qui répond aux critères suivant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en par un médecin ayant abouti à la conclusion d’une infection à virus Ebol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ne décédée, mais présentant un lien épidémiologique connu avec un cas confirmé</a:t>
            </a: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confirmé:</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ut cas suspect ou probable présentant des résultats de laboratoire positifs (examen PCR ou sérologi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POSITIONS</a:t>
            </a:r>
            <a:endParaRPr b="0" lang="en-US" sz="4000" spc="-1" strike="noStrike">
              <a:solidFill>
                <a:srgbClr val="000000"/>
              </a:solidFill>
              <a:latin typeface="Arial"/>
            </a:endParaRPr>
          </a:p>
        </p:txBody>
      </p:sp>
      <p:sp>
        <p:nvSpPr>
          <p:cNvPr id="10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3:14:28Z</dcterms:modified>
  <cp:revision>375</cp:revision>
  <dc:subject/>
  <dc:title>DPC Training and Technical Update</dc:title>
</cp:coreProperties>
</file>