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23EF9-2048-42B7-8271-7A3D917786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3F9C4-CA50-460B-B2D1-7166406A95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3B6F8D53-C6FB-4CD8-88BC-58E02D0CD112}"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0202230-EEB9-46ED-B4F8-EA7889B0673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ED91238-F901-4A19-BED6-EC04ED6642E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22E1DCA-3AD5-4981-98D3-CD196B6E2845}" type="datetime">
              <a:rPr b="0" lang="en-US" sz="1200" spc="-1" strike="noStrike">
                <a:solidFill>
                  <a:srgbClr val="000000"/>
                </a:solidFill>
                <a:latin typeface="Times New Roman"/>
                <a:ea typeface="Arial"/>
              </a:rPr>
              <a:t>07/31/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026626D-1F68-431A-BBF0-F65EC5FE5CDD}" type="datetime3">
              <a:rPr b="0" lang="en-US" sz="1200" spc="-1" strike="noStrike">
                <a:solidFill>
                  <a:srgbClr val="000000"/>
                </a:solidFill>
                <a:latin typeface="Times New Roman"/>
                <a:ea typeface="Arial"/>
              </a:rPr>
              <a:t>July 31,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A124935-F88A-46A9-A060-6D02A3361EA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820E6C-4B14-4CA6-BCA1-7DCFB033D1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8970B-A1AF-41EE-AA39-D79938183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71578C-5F8C-4835-85A3-9BD4C1780A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737AEA-7645-421A-9AE9-C0129DE92E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F49AE-6F10-4F28-84EB-5B40B5F5C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B7C4A4-CD67-4A82-9B1C-AD1BCFA605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A882C8-7303-4E12-A4EE-1C51D27306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A8B04E-E4DC-40DF-8A10-4F73C28978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F97D79-D9FE-4080-8D8C-66C2777533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BE55EB-1C64-4154-A8EA-8433F38177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306EA-F69F-454F-BD3E-CE63D2106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7830AC-9E8E-4B66-9B5A-A230D66862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2DF928-8AC4-407A-BDF7-00539F4B24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28EEC3-6C44-49C6-9A26-FF72AB1508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CD97F-9DD2-44E5-9BDB-A16EC01C45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78AEE0-07C6-4870-BBFE-DB46BBF753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EB4015-04EF-4B01-98DD-5F53F69110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4C2F82-42A6-474B-A610-55EB48DB2A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B3006-30E8-475B-B8A0-C499180FD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B8F41-F1E0-4418-9FDC-84CAD7D59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C2603-C669-4CA1-84DA-9B04CB68F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5E563-6A9B-4F97-93C1-10FE9AC49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FE97F-FCA1-498E-8CAF-0C0828E8C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4FB4B-0304-4D04-8F2B-89EA5165AF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3EBEC-7D77-4A1F-8099-D9BF78E95B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CA8695F-1215-4186-8F0B-7EAE8699E4F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FA88B2B-4717-4670-B31B-D9431DC56AB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9D96057-17F2-4739-83CF-C9269264A91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2287E-426A-4D32-BAB9-45EC3FDC3C30}"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25FCE32-9757-4A03-99FB-9339E75B65A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8E68B38-8914-4237-8311-D6F94556D07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2678B08-03C6-47CE-B3F7-8FC70AAB56FE}"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