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5FA2-0D0F-40FF-8FC3-97B732486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8251-39C2-4945-9657-CEEF07658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6033-5C9F-41A2-B8BE-11C6537F6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73F6-AA32-4DE6-A39B-4ABF5BEF3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CD09-E0E2-4777-9C48-DEFE244CB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7DC1113-A4A9-4D74-BE55-CF8EC12B6F70}"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43A28F3-FE19-4F6D-9178-9074B237D3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32600C-1027-4697-B855-B752D30BBA65}"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F152EAE-84CC-434A-9845-93D514AD54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A3EEA9-BD45-4F44-BD86-DB4268F4DA67}" type="datetime3">
              <a:rPr b="0" lang="en-GB" sz="1200" spc="-1" strike="noStrike">
                <a:solidFill>
                  <a:srgbClr val="000000"/>
                </a:solidFill>
                <a:latin typeface="Arial"/>
                <a:ea typeface="Arial"/>
              </a:rPr>
              <a:t>31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75A906-70A4-4E53-AF56-780BCA348B6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85E03C-2689-45A2-9467-3C44DAEB350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78CAE9-4BC0-4EB0-984B-22029E0E5484}"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8D01C74-1FB8-4577-BC33-E9DDC41BFE85}"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8A86074-0889-413D-8C0F-61BA03CE4709}"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520FEB-7FDC-4E99-AA3F-8B38058B473F}" type="datetime3">
              <a:rPr b="0" lang="en-US" sz="1200" spc="-1" strike="noStrike">
                <a:solidFill>
                  <a:srgbClr val="000000"/>
                </a:solidFill>
                <a:latin typeface="Arial"/>
                <a:ea typeface="MS PGothic"/>
              </a:rPr>
              <a:t>July 31,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7197CF1-5D10-4347-B625-10A08CBE79E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B5FC-F130-4FD5-B1C3-3DFCF9786B2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7B3990-3C14-4148-8BBD-F16A95490A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5A6D69-F0B4-4340-82DA-0921B9678CD4}"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5C40-A93E-4FDB-A8AE-64266390B3A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91BE-C679-4786-BDA1-165BA74CB60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A891-F9BE-412E-B7D3-66C35A9A0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1F12-5C41-4A37-98B8-BC12D24333E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BFF92-381A-445C-9B08-677DD2C1E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47342-B889-4F23-A302-17F43DA63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4C433-E374-4323-9EA3-4624AA1FA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F24D8-275C-4427-92C2-EF2B95606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6CA6F-8973-4E8D-88CD-01682445F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98087-7E21-437B-A6BD-AF361B9E9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C4BF1-2BF4-47A7-8329-C012D8559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614E8-8E54-428C-B10C-A031FA5E9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12282-14DC-44EA-84E9-E6FA9A198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F1AF6-B935-4E58-BFA5-786310A76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8FE7A-524A-49AA-870C-F8D31EED7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25705-F934-4B7B-9FD0-7238002DE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B294-20AC-42F0-938F-03CB5B542A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430D772-3E1C-4308-B365-A805C8728F0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CD9E-B525-45BE-8A8D-2D131D956B7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4DA9-5112-4C32-8C41-CF8A275D15F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