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F562-503A-40F9-8F6A-CBA760004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4D012-602A-4D19-B232-5D082627CB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E6B9-ACE2-4EA3-81FF-37D537CB6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6FE2-7F34-482D-A316-21D98846A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446D-6E36-4FFD-9963-3FFC238E57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73163-53C6-4B44-B34D-0736C6E7D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674E1-939F-4198-85C9-18DC66923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DEF68-F2FA-4B25-A02D-D65ED74C9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40D8-E43F-4A26-964D-645BF0026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B72F-386A-4225-B633-85E06F1BE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4940-BD73-4B35-BD75-C3555C467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4DD1-A58F-4009-86CC-9D2B8EADEA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9A1A2-8D2A-423A-A172-666BDA9F8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BC2C8-C0EB-4E0A-8050-0CF4816E5B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A4AFE-DF6F-4EA3-A094-0051885D1F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E7D7-F667-46B5-B8DD-BBAFA146AD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0F2-BCF6-4D9C-BCAE-6629BDE38A5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0AE2-604E-4506-AB97-9B7314F765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96D1-3A36-4A05-B4B3-E1F6274D7DA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5EB2-C28C-49A7-AD0E-F95633FF064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726C-BA2E-41FD-B496-95D4604B06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BCB0-5A6E-42E2-9006-927A56FB5B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FAA86-2C7C-4040-B662-C58DD95DC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D956-5786-428C-833D-97C5B83377B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4BA0-0423-4721-84AD-F4DF9368B4D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AE1D-BA11-4F7B-98EE-8C5BDEA83C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2BA1-83C3-4A34-A7B0-1DEA603C32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01F4-636B-48A7-8F7B-DFD8B568B1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0BC0-0873-4514-889A-E99CCE760C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CC89CC-ABB4-4099-B91E-12F34F67AA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42D53-4253-4742-8498-A54AD2ABB0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56292-A605-4AD1-BA77-E14FF19E1A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CB8C5-3CCC-4F71-9793-5DF22472C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BA74B4-7866-44E6-B91A-4F6E55B01A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E38D4-D3A5-4CA3-AE66-3E562796F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8D6B-E08F-44A1-9B94-407E4C081B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5F6C-D595-437D-97B0-0B62CABAE2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EQA Scheme Organization</a:t>
            </a:r>
            <a:br>
              <a:rPr sz="5000"/>
            </a:b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49C4-B758-4D31-85E0-11D769F797F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interests of the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ims and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fidentiality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acknowledg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4D99B-F6D5-406D-B845-BE76AE6EF9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Moni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ries, feedback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reference” role of the EQA pro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s and recommendation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participating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solving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st ways of recommending certain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990720" y="4267080"/>
            <a:ext cx="2514600" cy="1884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505320" y="4343400"/>
            <a:ext cx="5105160" cy="1641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Perfect is not too</a:t>
            </a: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muc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B9BC6-7FAF-4A66-8C38-926CB5BBD1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be already controlled by a international EQA organi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involve the auth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im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non-contaminating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tart with a good communication strate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ay careful attention to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5800" y="12193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7d"/>
                </a:solidFill>
                <a:latin typeface="Verdana"/>
                <a:ea typeface="SimSun"/>
              </a:rPr>
              <a:t>Starting an EQA Program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7d"/>
                </a:solidFill>
                <a:latin typeface="Verdana"/>
                <a:ea typeface="SimSun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66C71-A8E5-4BB5-A853-503AE3F9CEA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638680" y="2057400"/>
            <a:ext cx="3353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04920" y="609480"/>
            <a:ext cx="5181480" cy="5410080"/>
            <a:chOff x="304920" y="609480"/>
            <a:chExt cx="5181480" cy="5410080"/>
          </a:xfrm>
        </p:grpSpPr>
        <p:sp>
          <p:nvSpPr>
            <p:cNvPr id="148" name="AutoShape 4"/>
            <p:cNvSpPr/>
            <p:nvPr/>
          </p:nvSpPr>
          <p:spPr>
            <a:xfrm>
              <a:off x="3049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25495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25178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27795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6"/>
            <p:cNvSpPr/>
            <p:nvPr/>
          </p:nvSpPr>
          <p:spPr>
            <a:xfrm>
              <a:off x="11844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22"/>
            <p:cNvSpPr/>
            <p:nvPr/>
          </p:nvSpPr>
          <p:spPr>
            <a:xfrm>
              <a:off x="11732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4"/>
            <p:cNvSpPr/>
            <p:nvPr/>
          </p:nvSpPr>
          <p:spPr>
            <a:xfrm flipH="1" flipV="1">
              <a:off x="29588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5"/>
            <p:cNvSpPr/>
            <p:nvPr/>
          </p:nvSpPr>
          <p:spPr>
            <a:xfrm flipV="1">
              <a:off x="26971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27"/>
            <p:cNvSpPr/>
            <p:nvPr/>
          </p:nvSpPr>
          <p:spPr>
            <a:xfrm>
              <a:off x="44956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Line 27"/>
            <p:cNvSpPr/>
            <p:nvPr/>
          </p:nvSpPr>
          <p:spPr>
            <a:xfrm>
              <a:off x="28954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7"/>
            <p:cNvSpPr/>
            <p:nvPr/>
          </p:nvSpPr>
          <p:spPr>
            <a:xfrm>
              <a:off x="12193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7"/>
            <p:cNvSpPr/>
            <p:nvPr/>
          </p:nvSpPr>
          <p:spPr>
            <a:xfrm flipH="1">
              <a:off x="9140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Group 65"/>
            <p:cNvGrpSpPr/>
            <p:nvPr/>
          </p:nvGrpSpPr>
          <p:grpSpPr>
            <a:xfrm>
              <a:off x="609480" y="702000"/>
              <a:ext cx="1261800" cy="1189800"/>
              <a:chOff x="609480" y="702000"/>
              <a:chExt cx="1261800" cy="1189800"/>
            </a:xfrm>
          </p:grpSpPr>
          <p:grpSp>
            <p:nvGrpSpPr>
              <p:cNvPr id="163" name="Group 66"/>
              <p:cNvGrpSpPr/>
              <p:nvPr/>
            </p:nvGrpSpPr>
            <p:grpSpPr>
              <a:xfrm>
                <a:off x="609480" y="702000"/>
                <a:ext cx="1239120" cy="1189800"/>
                <a:chOff x="609480" y="702000"/>
                <a:chExt cx="1239120" cy="1189800"/>
              </a:xfrm>
            </p:grpSpPr>
            <p:grpSp>
              <p:nvGrpSpPr>
                <p:cNvPr id="164" name="Group 67"/>
                <p:cNvGrpSpPr/>
                <p:nvPr/>
              </p:nvGrpSpPr>
              <p:grpSpPr>
                <a:xfrm>
                  <a:off x="660960" y="702000"/>
                  <a:ext cx="1152360" cy="1189800"/>
                  <a:chOff x="660960" y="702000"/>
                  <a:chExt cx="1152360" cy="1189800"/>
                </a:xfrm>
              </p:grpSpPr>
              <p:sp>
                <p:nvSpPr>
                  <p:cNvPr id="165" name="Freeform 68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69"/>
                  <p:cNvSpPr/>
                  <p:nvPr/>
                </p:nvSpPr>
                <p:spPr>
                  <a:xfrm>
                    <a:off x="6609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7" name="Text Box 70"/>
                <p:cNvSpPr/>
                <p:nvPr/>
              </p:nvSpPr>
              <p:spPr>
                <a:xfrm>
                  <a:off x="6094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1"/>
              <p:cNvSpPr/>
              <p:nvPr/>
            </p:nvSpPr>
            <p:spPr>
              <a:xfrm>
                <a:off x="6321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72"/>
            <p:cNvGrpSpPr/>
            <p:nvPr/>
          </p:nvGrpSpPr>
          <p:grpSpPr>
            <a:xfrm>
              <a:off x="2265480" y="702000"/>
              <a:ext cx="1239840" cy="1189800"/>
              <a:chOff x="2265480" y="702000"/>
              <a:chExt cx="1239840" cy="1189800"/>
            </a:xfrm>
          </p:grpSpPr>
          <p:sp>
            <p:nvSpPr>
              <p:cNvPr id="170" name="Freeform 73"/>
              <p:cNvSpPr/>
              <p:nvPr/>
            </p:nvSpPr>
            <p:spPr>
              <a:xfrm>
                <a:off x="23061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74"/>
              <p:cNvSpPr/>
              <p:nvPr/>
            </p:nvSpPr>
            <p:spPr>
              <a:xfrm>
                <a:off x="2265480" y="112392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75"/>
            <p:cNvGrpSpPr/>
            <p:nvPr/>
          </p:nvGrpSpPr>
          <p:grpSpPr>
            <a:xfrm>
              <a:off x="3865680" y="702000"/>
              <a:ext cx="1239840" cy="1189800"/>
              <a:chOff x="3865680" y="702000"/>
              <a:chExt cx="1239840" cy="1189800"/>
            </a:xfrm>
          </p:grpSpPr>
          <p:grpSp>
            <p:nvGrpSpPr>
              <p:cNvPr id="173" name="Group 76"/>
              <p:cNvGrpSpPr/>
              <p:nvPr/>
            </p:nvGrpSpPr>
            <p:grpSpPr>
              <a:xfrm>
                <a:off x="3911040" y="702000"/>
                <a:ext cx="1153080" cy="1189800"/>
                <a:chOff x="3911040" y="702000"/>
                <a:chExt cx="1153080" cy="1189800"/>
              </a:xfrm>
            </p:grpSpPr>
            <p:sp>
              <p:nvSpPr>
                <p:cNvPr id="174" name="Freeform 77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78"/>
                <p:cNvSpPr/>
                <p:nvPr/>
              </p:nvSpPr>
              <p:spPr>
                <a:xfrm>
                  <a:off x="39110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" name="Text Box 79"/>
              <p:cNvSpPr/>
              <p:nvPr/>
            </p:nvSpPr>
            <p:spPr>
              <a:xfrm>
                <a:off x="38656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Line 27"/>
            <p:cNvSpPr/>
            <p:nvPr/>
          </p:nvSpPr>
          <p:spPr>
            <a:xfrm flipH="1">
              <a:off x="9903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609480" y="2041560"/>
              <a:ext cx="1241280" cy="1189440"/>
              <a:chOff x="609480" y="2041560"/>
              <a:chExt cx="1241280" cy="1189440"/>
            </a:xfrm>
          </p:grpSpPr>
          <p:sp>
            <p:nvSpPr>
              <p:cNvPr id="179" name="Freeform 46"/>
              <p:cNvSpPr/>
              <p:nvPr/>
            </p:nvSpPr>
            <p:spPr>
              <a:xfrm>
                <a:off x="6141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47"/>
              <p:cNvSpPr/>
              <p:nvPr/>
            </p:nvSpPr>
            <p:spPr>
              <a:xfrm>
                <a:off x="6094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Freeform 31"/>
            <p:cNvSpPr/>
            <p:nvPr/>
          </p:nvSpPr>
          <p:spPr>
            <a:xfrm>
              <a:off x="23144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43"/>
            <p:cNvSpPr/>
            <p:nvPr/>
          </p:nvSpPr>
          <p:spPr>
            <a:xfrm>
              <a:off x="23544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3809880" y="2059560"/>
              <a:ext cx="1336680" cy="1189440"/>
              <a:chOff x="3809880" y="2059560"/>
              <a:chExt cx="1336680" cy="1189440"/>
            </a:xfrm>
          </p:grpSpPr>
          <p:sp>
            <p:nvSpPr>
              <p:cNvPr id="184" name="Freeform 48"/>
              <p:cNvSpPr/>
              <p:nvPr/>
            </p:nvSpPr>
            <p:spPr>
              <a:xfrm>
                <a:off x="38862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5"/>
              <p:cNvSpPr/>
              <p:nvPr/>
            </p:nvSpPr>
            <p:spPr>
              <a:xfrm>
                <a:off x="38098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" name="Line 27"/>
            <p:cNvSpPr/>
            <p:nvPr/>
          </p:nvSpPr>
          <p:spPr>
            <a:xfrm flipH="1">
              <a:off x="9140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609480" y="3400920"/>
              <a:ext cx="1239840" cy="1191240"/>
              <a:chOff x="609480" y="3400920"/>
              <a:chExt cx="1239840" cy="1191240"/>
            </a:xfrm>
          </p:grpSpPr>
          <p:sp>
            <p:nvSpPr>
              <p:cNvPr id="188" name="Freeform 81"/>
              <p:cNvSpPr/>
              <p:nvPr/>
            </p:nvSpPr>
            <p:spPr>
              <a:xfrm>
                <a:off x="6415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82"/>
              <p:cNvSpPr/>
              <p:nvPr/>
            </p:nvSpPr>
            <p:spPr>
              <a:xfrm>
                <a:off x="6094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2265480" y="3400920"/>
              <a:ext cx="1239840" cy="1191240"/>
              <a:chOff x="2265480" y="3400920"/>
              <a:chExt cx="1239840" cy="1191240"/>
            </a:xfrm>
          </p:grpSpPr>
          <p:sp>
            <p:nvSpPr>
              <p:cNvPr id="191" name="Freeform 30"/>
              <p:cNvSpPr/>
              <p:nvPr/>
            </p:nvSpPr>
            <p:spPr>
              <a:xfrm>
                <a:off x="22924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54"/>
              <p:cNvSpPr/>
              <p:nvPr/>
            </p:nvSpPr>
            <p:spPr>
              <a:xfrm>
                <a:off x="22654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Freeform 50"/>
            <p:cNvSpPr/>
            <p:nvPr/>
          </p:nvSpPr>
          <p:spPr>
            <a:xfrm>
              <a:off x="38862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 Box 51"/>
            <p:cNvSpPr/>
            <p:nvPr/>
          </p:nvSpPr>
          <p:spPr>
            <a:xfrm>
              <a:off x="38656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27"/>
            <p:cNvSpPr/>
            <p:nvPr/>
          </p:nvSpPr>
          <p:spPr>
            <a:xfrm flipH="1">
              <a:off x="9903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33520" y="4749840"/>
              <a:ext cx="1420560" cy="1189440"/>
              <a:chOff x="533520" y="4749840"/>
              <a:chExt cx="1420560" cy="1189440"/>
            </a:xfrm>
          </p:grpSpPr>
          <p:sp>
            <p:nvSpPr>
              <p:cNvPr id="197" name="Freeform 57"/>
              <p:cNvSpPr/>
              <p:nvPr/>
            </p:nvSpPr>
            <p:spPr>
              <a:xfrm>
                <a:off x="6825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8"/>
              <p:cNvSpPr/>
              <p:nvPr/>
            </p:nvSpPr>
            <p:spPr>
              <a:xfrm>
                <a:off x="5335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2265480" y="4681800"/>
              <a:ext cx="1239840" cy="1189800"/>
              <a:chOff x="2265480" y="4681800"/>
              <a:chExt cx="1239840" cy="1189800"/>
            </a:xfrm>
          </p:grpSpPr>
          <p:sp>
            <p:nvSpPr>
              <p:cNvPr id="200" name="Freeform 34"/>
              <p:cNvSpPr/>
              <p:nvPr/>
            </p:nvSpPr>
            <p:spPr>
              <a:xfrm>
                <a:off x="23144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61"/>
              <p:cNvSpPr/>
              <p:nvPr/>
            </p:nvSpPr>
            <p:spPr>
              <a:xfrm>
                <a:off x="22654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3886200" y="4749840"/>
              <a:ext cx="1239840" cy="1189440"/>
              <a:chOff x="3886200" y="4749840"/>
              <a:chExt cx="1239840" cy="1189440"/>
            </a:xfrm>
          </p:grpSpPr>
          <p:sp>
            <p:nvSpPr>
              <p:cNvPr id="203" name="Freeform 63"/>
              <p:cNvSpPr/>
              <p:nvPr/>
            </p:nvSpPr>
            <p:spPr>
              <a:xfrm>
                <a:off x="39052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Text Box 64"/>
              <p:cNvSpPr/>
              <p:nvPr/>
            </p:nvSpPr>
            <p:spPr>
              <a:xfrm>
                <a:off x="38862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950CD-6C39-46F6-955C-33AE0AD774A5}" type="slidenum">
              <a:t>13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EQA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ational proficiency test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twork of laboratories – interlaboratory comparisons/reche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+/- on-site eval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B23E6-6B68-4898-9B76-20326E5603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rior Participation (and Success!) in a PT sc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  <a:ea typeface="SimSun"/>
              </a:rPr>
              <a:t>need to subscribe to a foreign sche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monitor its own qua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mperative and oblig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 question of confi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F04D8-0F6C-4877-95CB-2943CD298F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Involve the Author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guarantees </a:t>
            </a:r>
            <a:r>
              <a:rPr b="0" lang="en-GB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tied to the institution’s man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means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liaise with operating licensing / certification / accreditation / nation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(EQA activities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reate savings, 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funding them is worth 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400800" y="3962520"/>
            <a:ext cx="2133720" cy="211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36163-018E-45EA-B193-2F037F2A03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imp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roficienc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, stained or uns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Gram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acid-fast bacilli st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of bacterial str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nteric microorganisms (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Rechec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slides (AFB, Gram, CSF, oth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bacterial strains if materials and technical capability is present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 strain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251460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4952880" y="2362320"/>
            <a:ext cx="914400" cy="457200"/>
          </a:xfrm>
          <a:custGeom>
            <a:avLst/>
            <a:gdLst>
              <a:gd name="textAreaLeft" fmla="*/ 142920 w 914400"/>
              <a:gd name="textAreaRight" fmla="*/ 800280 w 9144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873F4-1B69-482E-B5A3-AB867E5F456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Start Sm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small number of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pilot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verify transport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ries for a test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(outside of the prog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first study with basic materials (sli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ries for the first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. 3 items per parcel (minimum 2 per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553080" y="1600200"/>
            <a:ext cx="2151360" cy="2590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rot="19759200">
            <a:off x="7238880" y="2209680"/>
            <a:ext cx="914400" cy="5335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036D2-3F15-4D90-85E0-0861463D2B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7d"/>
                </a:solidFill>
                <a:latin typeface="Verdana"/>
                <a:ea typeface="SimSun"/>
              </a:rPr>
              <a:t>Start with Non-Contaminating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in the beginning, avoid: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dangerous” pathogen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SimSun"/>
              </a:rPr>
              <a:t>contaminated s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follow national transportation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D6683-EEDF-4AC3-B657-31327B8DCD4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Physical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personal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small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communication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BF07C-8125-4AC1-B968-FB5726F79CE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articipating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utho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scientific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professional assoc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any other with interest in EQ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6858000" y="2590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EQ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dule 10 - Organizing a Proficiency Testing Progra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DA2DC-63B6-4703-A2E3-D188E945AB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Robin Barteluk</cp:lastModifiedBy>
  <dcterms:modified xsi:type="dcterms:W3CDTF">2008-11-28T02:21:01Z</dcterms:modified>
  <cp:revision>12</cp:revision>
  <dc:subject/>
  <dc:title>EQA scheme Organization optional</dc:title>
</cp:coreProperties>
</file>