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gif" ContentType="image/gi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8ECE3-02B6-46EB-A6CD-5D6D3BD44C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2CEF2-7BAE-40D7-9FF0-EA229D25E7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956AF-195B-47C8-AD01-D6A991A37F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2AF2A-1DE7-416E-B753-5C971D9BD9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4101A-9CC0-4C8D-BB59-6B9738B57D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6FD4F-6AC9-41C7-A5CF-DC05732DF9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5D3CC-884D-4492-AC17-E2F4DA15F0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65BE9-AEC4-4409-85A7-31414D43B2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6DD72-199E-4E44-B0CF-5B09A85875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B847C-E75F-4280-B47A-70A90474F8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E02E3-81C2-486A-B029-186C4D3E3A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 10 : </a:t>
            </a: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359C3-A080-4B95-9F4D-5FA06F4CD8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79334-C438-482A-A2BF-4AC3DD2819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9E83A-BF38-4C50-846B-D257FCB7D3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B24C1-2898-46A6-8C3C-C8DB1D501A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B1C0-D641-41CC-99E9-79C19FE22D8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4595-742C-40B1-B6B0-8A4BC37CE33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B09B-FC03-48C5-AC26-D0DEEC789AE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1343-BBEE-4952-8144-371B0DA919B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B9A9-18DD-4568-BD24-A324D5A1710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CFEA-2390-438A-AAC6-FA50CF128FE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A97D-5FED-4740-8AB9-7064541C8B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5ED9C-B9E2-4EDB-A68D-782AFAF853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E20D-F589-4BBC-8BFC-17EB0E2C380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C6C7-BD46-4CB8-9A77-7E39F0FD1B1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4760-F935-4FE9-9230-AC170E2BCC7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5138-44EA-4405-973F-33ACB0993EE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16AB-9812-4651-9825-6D5A61CD95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916BA-3E42-404B-B450-0AB5762449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C2B3E-74D3-47CA-88EB-691FBF3229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D728D-A98D-46CE-8FD6-FE63E596AB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1C68D-6347-4108-BB9E-437506983C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5A7C1-4F48-4DA9-8133-F0E07E0D05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F9703-5FD3-4956-9241-16C4C5ED83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446D7-CE48-41F8-8652-A3BF9D07AD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3316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A1D39-DBDC-4955-B7E5-4F232410DF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3E903-D965-453B-B800-4C3D8A5E11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EQA Scheme Organization</a:t>
            </a:r>
            <a:br>
              <a:rPr sz="5000"/>
            </a:b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E4E7-48D3-4827-BACC-AD3D587EA9E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392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interests of th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ims and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fidentiality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cknowled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me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F6209-14BE-4D47-887C-E7320706972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Moni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773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ries, feedback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ference” role of the EQA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s and recommendations from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participating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solving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recommending certai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90720" y="4267080"/>
            <a:ext cx="2514600" cy="1884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505320" y="4343400"/>
            <a:ext cx="5105160" cy="1641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erfect is not too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muc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AF1EE-CCBA-422D-985C-325C55E16A5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0396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 already controlled by a international EQA organi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involve the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im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non-contaminating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good communication strate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ay careful attention to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12193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Verdana"/>
                <a:ea typeface="SimSun"/>
              </a:rPr>
              <a:t>Starting an EQA Program at count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7d"/>
                </a:solidFill>
                <a:latin typeface="Verdana"/>
                <a:ea typeface="SimSun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176BD-BDAE-4292-B312-D52032CA4E4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638680" y="20574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148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163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164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165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7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170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74"/>
              <p:cNvSpPr/>
              <p:nvPr/>
            </p:nvSpPr>
            <p:spPr>
              <a:xfrm>
                <a:off x="22654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173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174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179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184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188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191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197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200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203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318AB-95D2-45E5-A2F4-E6EE4022B866}" type="slidenum">
              <a:t>13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tional proficiency testing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twork of laboratories – interlaboratory comparisons/reche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+/- on-site eval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F390D-B225-4AA4-8D3C-30B7429C66B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rior Participation (and Success!) in a PT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22960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  <a:ea typeface="SimSun"/>
              </a:rPr>
              <a:t>need to subscribe to a foreign sche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monitor its own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mperative and oblig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 question of conf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79014-35A2-4397-8B2E-8F538BDAEEF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Involve the Autho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guarantees </a:t>
            </a:r>
            <a:r>
              <a:rPr b="0" lang="en-GB" sz="3200" spc="-1" strike="noStrike">
                <a:solidFill>
                  <a:srgbClr val="ff0066"/>
                </a:solidFill>
                <a:latin typeface="Verdana"/>
                <a:ea typeface="SimSun"/>
              </a:rPr>
              <a:t>dur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ed to the institution’s man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means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liaise with operating licensing / certification / accreditation / national reg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(EQA activities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reate savings,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them is worth 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400800" y="3962520"/>
            <a:ext cx="2133720" cy="21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3AFF0-BA92-4569-9135-15B4ACBA4DE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im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roficienc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, stained or uns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Gram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acid-fast bacilli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ara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identification of bacterial str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nteric microorganisms (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. coli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almonella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Rechec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 (AFB, Gram, CSF, oth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bacterial strains if materials and technical capability is present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 strain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2514600" cy="85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4952880" y="236232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86C5B-6EA4-46BB-955C-B0CD45AD0CB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m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mall number of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ilot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verify transportation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4-5 laboratories for a test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(outside of the prog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first study with basic materials (sli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15 laboratories for the first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3 items per parcel (minimum 2 per ye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553080" y="1600200"/>
            <a:ext cx="2151360" cy="2590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rot="19759200">
            <a:off x="7238880" y="2209680"/>
            <a:ext cx="914400" cy="533520"/>
          </a:xfrm>
          <a:custGeom>
            <a:avLst/>
            <a:gdLst>
              <a:gd name="textAreaLeft" fmla="*/ 142920 w 914400"/>
              <a:gd name="textAreaRight" fmla="*/ 800280 w 9144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C2F09-A032-4AE6-80A7-049EA16C415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SimSun"/>
              </a:rPr>
              <a:t>Start with Non-Contaminating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n the beginning, avoid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dangerous” pathogen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ntaminated s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follow national transportation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172200" y="1905120"/>
            <a:ext cx="2590920" cy="228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92B9A-AD77-4C6F-966F-CF0B2B29725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hysical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51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personal d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small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mmunic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105520" y="1622520"/>
            <a:ext cx="3352680" cy="251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D877F-E6BF-45A3-98AB-FE573DC021E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15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articipating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uth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scientific 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rofessional assoc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ny other with interest in 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172200" y="1981080"/>
            <a:ext cx="2644920" cy="2819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858000" y="2590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EQ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C42A2-5A9F-47F6-A8ED-D04AC6ADCC2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14:54Z</dcterms:created>
  <dc:creator>sharon granade</dc:creator>
  <dc:description/>
  <dc:language>en-US</dc:language>
  <cp:lastModifiedBy>Robin Barteluk</cp:lastModifiedBy>
  <dcterms:modified xsi:type="dcterms:W3CDTF">2008-11-28T02:21:01Z</dcterms:modified>
  <cp:revision>12</cp:revision>
  <dc:subject/>
  <dc:title>EQA scheme Organization optional</dc:title>
</cp:coreProperties>
</file>