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8.wmf" ContentType="image/x-wmf"/>
  <Override PartName="/ppt/media/image13.png" ContentType="image/png"/>
  <Override PartName="/ppt/media/image12.jpeg" ContentType="image/jpeg"/>
  <Override PartName="/ppt/media/image7.wmf" ContentType="image/x-wmf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5.jpeg" ContentType="image/jpeg"/>
  <Override PartName="/ppt/media/image6.png" ContentType="image/png"/>
  <Override PartName="/ppt/media/image1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E412B-9C18-4AA4-87BB-BA046EEBFE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6A503-DACA-49E0-B800-E7AF035F1A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A6A57-8055-4295-BC4B-3686CBDE82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012BB-E073-4151-BA28-A677D80803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B2C9A-74B8-4BF8-954B-7C8FDCAC21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4E72B-3B26-435A-8F7B-534FF5ED08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06863-84DF-48F2-943C-8D817B489E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A54C0-1E08-4423-B2CE-51305DA2FA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2DFDD-64F6-4E48-9084-4D54816112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81D34-CB15-44EE-8A15-979D3618A6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06F67-AC80-4216-BC34-CC67BD69C6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4C1A2-D112-4DAB-B3ED-3ECE739651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407CA-A0E1-43D4-B4DA-0166B93E2F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13B5E-12C7-4D6F-BB1C-9BD9D6DD0D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B487C-F0FC-4CEA-AABA-5A7BC15C68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E09116-EAAC-4A8E-9109-3D784ADED1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6CC968-F67C-4978-A73C-124CF77B4B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D52815-DB5F-4DC7-A61B-13FE9C40FD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90E5BC-2957-4A49-9595-F5F6041779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1998-B4F4-4345-BFE9-54DBD51E535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3B83-691B-406E-B4DF-D588D00619D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65C3-3FDB-450F-BB7A-076A9705F1C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F4BE-6B68-4A4C-85E4-D747B5001A4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9F96-06CE-4D33-869B-0EE4CA117EA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370A-39F2-4F5D-B411-0D179237710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F108-6635-4D3D-9D4E-9337F642EFC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F4C292-6391-4897-BE03-AC97E0A9F1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7912-6D32-428F-9AE2-FB466F8FDAA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A1E1-3C14-4A76-A46D-2C44361BB8A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B392-1A40-4451-BEF8-DBBEAF183BF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7E06-4358-49F5-AB6E-01F80396160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0AC8-38FC-495E-B80C-DF31162C81C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DE4C83-0BE9-4067-B4F3-088A425E52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859691-AB30-4940-A741-723A04D8F4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5B25F8-3FDA-4A83-A5BA-E89D1FAD17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7D7570-FEBA-4D56-A90B-C2D9D3F4A4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D81EF9-4A89-48F5-9C26-99158DECE7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4D2D55-FFDF-41F6-A59B-16F1B4E530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8F17AE-D668-42BF-AC44-1988276877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D59C3-8031-4E1D-9DF0-92840729988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A1985-3890-45AA-A654-91E1214DBCB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600" spc="-1" strike="noStrike">
                <a:solidFill>
                  <a:srgbClr val="ffffff"/>
                </a:solidFill>
                <a:latin typeface="Verdana"/>
              </a:rPr>
              <a:t>Quality Control of Antimicrobial Susceptibility Test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43EC-F96E-457A-BC28-B098FD5F56E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on of a Colony to Tes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2DFC4-E68F-46C8-93AF-C1F43BFCDE7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Object 2"/>
          <p:cNvGraphicFramePr/>
          <p:nvPr/>
        </p:nvGraphicFramePr>
        <p:xfrm>
          <a:off x="1220760" y="1752480"/>
          <a:ext cx="67024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752480"/>
                    <a:ext cx="6702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1120AB-4D42-4EEA-8DE6-09ADE9DFE77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cFarland 0.5 and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djusted Test Organis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F9A59-9401-4346-8691-B2701E38046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Object 2"/>
          <p:cNvGraphicFramePr/>
          <p:nvPr/>
        </p:nvGraphicFramePr>
        <p:xfrm>
          <a:off x="1220760" y="1752480"/>
          <a:ext cx="67024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752480"/>
                    <a:ext cx="6702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514356-CCAB-4AD6-9D65-8EF2DFA1751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9AF54-05AE-4E9E-BF14-4DCD1FF8516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Use of Disk Dispenser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648320" cy="44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ractical, rapi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rease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Arial Unicode MS"/>
              </a:rPr>
              <a:t>reproducibil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isk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ontamin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duces personal judgment ski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5" name="Picture 4" descr="distributeur"/>
          <p:cNvPicPr/>
          <p:nvPr/>
        </p:nvPicPr>
        <p:blipFill>
          <a:blip r:embed="rId1"/>
          <a:stretch/>
        </p:blipFill>
        <p:spPr>
          <a:xfrm>
            <a:off x="5105520" y="2057400"/>
            <a:ext cx="3886200" cy="32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3ABE56-F553-4D72-88AF-829CEF4D17A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7C6B2-2404-48E8-8EE5-D35BFEEE2FF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k Susceptibility Testing Probl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58" name="Picture 12" descr="Too Heavy"/>
          <p:cNvPicPr/>
          <p:nvPr/>
        </p:nvPicPr>
        <p:blipFill>
          <a:blip r:embed="rId1"/>
          <a:stretch/>
        </p:blipFill>
        <p:spPr>
          <a:xfrm>
            <a:off x="304920" y="1447920"/>
            <a:ext cx="8381880" cy="449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5A01A7-3F2D-4BC6-940F-D0D826D9E5A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k Susceptibility Testing Probl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0" name="Picture 5" descr="Disk moved"/>
          <p:cNvPicPr/>
          <p:nvPr/>
        </p:nvPicPr>
        <p:blipFill>
          <a:blip r:embed="rId1"/>
          <a:stretch/>
        </p:blipFill>
        <p:spPr>
          <a:xfrm>
            <a:off x="533520" y="1447920"/>
            <a:ext cx="7734240" cy="498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BA1949-A59A-4100-B30A-E6900A1AAC3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A7781-1624-4A63-99F4-69D12F6A41F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2" descr="pied_coulisse-calliper"/>
          <p:cNvPicPr/>
          <p:nvPr/>
        </p:nvPicPr>
        <p:blipFill>
          <a:blip r:embed="rId1"/>
          <a:stretch/>
        </p:blipFill>
        <p:spPr>
          <a:xfrm>
            <a:off x="457200" y="1371600"/>
            <a:ext cx="3276720" cy="259704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Measuring Condi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4" name="Picture 7" descr="Antibiot"/>
          <p:cNvPicPr/>
          <p:nvPr/>
        </p:nvPicPr>
        <p:blipFill>
          <a:blip r:embed="rId2"/>
          <a:stretch/>
        </p:blipFill>
        <p:spPr>
          <a:xfrm>
            <a:off x="5791320" y="1219320"/>
            <a:ext cx="1973160" cy="266688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8"/>
          <p:cNvSpPr/>
          <p:nvPr/>
        </p:nvSpPr>
        <p:spPr>
          <a:xfrm>
            <a:off x="6577560" y="403848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u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2094120" y="4114800"/>
            <a:ext cx="13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lip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0"/>
          <p:cNvSpPr/>
          <p:nvPr/>
        </p:nvSpPr>
        <p:spPr>
          <a:xfrm>
            <a:off x="304920" y="4572000"/>
            <a:ext cx="8458200" cy="17524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ead with good light, and from the back of the p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zone size reading is drug specifi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gnification may hel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illimeters ma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Object 9"/>
          <p:cNvGraphicFramePr/>
          <p:nvPr/>
        </p:nvGraphicFramePr>
        <p:xfrm>
          <a:off x="2438280" y="1905120"/>
          <a:ext cx="3117960" cy="2104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38280" y="1905120"/>
                    <a:ext cx="3117960" cy="21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D03128-CDEE-4973-A11C-A7B3786F862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test – antimicrobial gradient method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7C81A-D181-42DD-AE1D-070890C25C7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2" descr="CO04-2351 Etest blood cult isolate 2"/>
          <p:cNvPicPr/>
          <p:nvPr/>
        </p:nvPicPr>
        <p:blipFill>
          <a:blip r:embed="rId1"/>
          <a:stretch/>
        </p:blipFill>
        <p:spPr>
          <a:xfrm>
            <a:off x="1554120" y="1752480"/>
            <a:ext cx="603576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D30FAE-91F3-4D30-A48C-3AE5655B410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ient results may be incorrect if: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organism was misidentifi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clerical error was mad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appropriate choice of antimicrobials were tested and report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wrong patient’s sample was examin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wrong test was orde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sample was not preserved proper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B681F3-6AAA-4483-99B4-009F5BD24DB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01676-822B-45DB-9ECC-A0D3EBD60A6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ntimicrobial Susceptibility Tes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4" name="Picture 4" descr="k_b"/>
          <p:cNvPicPr/>
          <p:nvPr/>
        </p:nvPicPr>
        <p:blipFill>
          <a:blip r:embed="rId1"/>
          <a:stretch/>
        </p:blipFill>
        <p:spPr>
          <a:xfrm>
            <a:off x="457200" y="1600200"/>
            <a:ext cx="1714680" cy="16686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Staphylococcus_aureus_Etest2"/>
          <p:cNvPicPr/>
          <p:nvPr/>
        </p:nvPicPr>
        <p:blipFill>
          <a:blip r:embed="rId2"/>
          <a:stretch/>
        </p:blipFill>
        <p:spPr>
          <a:xfrm>
            <a:off x="2362320" y="1600200"/>
            <a:ext cx="1676160" cy="16765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micmlc2"/>
          <p:cNvPicPr/>
          <p:nvPr/>
        </p:nvPicPr>
        <p:blipFill>
          <a:blip r:embed="rId3"/>
          <a:stretch/>
        </p:blipFill>
        <p:spPr>
          <a:xfrm>
            <a:off x="4114800" y="1600200"/>
            <a:ext cx="2209680" cy="17496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0" descr="vitek-2"/>
          <p:cNvPicPr/>
          <p:nvPr/>
        </p:nvPicPr>
        <p:blipFill>
          <a:blip r:embed="rId4"/>
          <a:stretch/>
        </p:blipFill>
        <p:spPr>
          <a:xfrm>
            <a:off x="6400800" y="1600200"/>
            <a:ext cx="2362320" cy="177012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11"/>
          <p:cNvSpPr/>
          <p:nvPr/>
        </p:nvSpPr>
        <p:spPr>
          <a:xfrm>
            <a:off x="871920" y="4114800"/>
            <a:ext cx="6976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information for selection of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appropriate agent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timicrobial thera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856478-3F30-44F7-8101-FCB6373C168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ST Methods Interpret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gar disk diffusion metho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s qualitative interpretive category results of susceptible, intermediate, and resista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icrodilution and agar gradient diffusion method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 a quantitative result, a minimum inhibitory concentratio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9A8DAF-7353-42FA-A095-2F5AEA60083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PBL Susceptibility testing 2008"/>
          <p:cNvPicPr/>
          <p:nvPr/>
        </p:nvPicPr>
        <p:blipFill>
          <a:blip r:embed="rId1"/>
          <a:srcRect l="4364" t="8470" r="5455" b="8470"/>
          <a:stretch/>
        </p:blipFill>
        <p:spPr>
          <a:xfrm>
            <a:off x="685800" y="1143000"/>
            <a:ext cx="7558200" cy="52275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762120" y="45720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ST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DD62BF-5004-4364-A02E-E5EBC6C7990F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1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4F4E4-55B4-474C-865A-1C412DBBE74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457200" y="2819520"/>
            <a:ext cx="2708280" cy="35049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25" name="Text Box 3"/>
          <p:cNvSpPr/>
          <p:nvPr/>
        </p:nvSpPr>
        <p:spPr>
          <a:xfrm>
            <a:off x="304920" y="1295280"/>
            <a:ext cx="807696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nical and Laboratory Standards  Instit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rench Society of Microbi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ritish Society for Antimicrobial Chemothera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7" descr=""/>
          <p:cNvPicPr/>
          <p:nvPr/>
        </p:nvPicPr>
        <p:blipFill>
          <a:blip r:embed="rId2"/>
          <a:stretch/>
        </p:blipFill>
        <p:spPr>
          <a:xfrm>
            <a:off x="6172200" y="2819520"/>
            <a:ext cx="2503440" cy="3504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aphicFrame>
        <p:nvGraphicFramePr>
          <p:cNvPr id="127" name="Object 6"/>
          <p:cNvGraphicFramePr/>
          <p:nvPr/>
        </p:nvGraphicFramePr>
        <p:xfrm>
          <a:off x="3429000" y="2819520"/>
          <a:ext cx="2639880" cy="3504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819520"/>
                    <a:ext cx="2639880" cy="3504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685800" y="457200"/>
            <a:ext cx="3657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B943CD-2AD3-4B38-8AC9-CD38411DAE5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Example from an excerpt from Reference:</a:t>
            </a:r>
            <a:br>
              <a:rPr sz="28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on of Drug to Tes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6CE98-1833-4C86-9D8A-1CE5F701881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Object 2"/>
          <p:cNvGraphicFramePr/>
          <p:nvPr/>
        </p:nvGraphicFramePr>
        <p:xfrm>
          <a:off x="380880" y="1981080"/>
          <a:ext cx="8272440" cy="377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981080"/>
                    <a:ext cx="8272440" cy="377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552252-AEC2-46A5-B927-E2364112CF3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F8845-07A5-457A-8786-1295E4E0FDB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ere errors can occur in susceptibility 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di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ntimicrobial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oculu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cub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quipmen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terpret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87110A-884E-4C54-B236-FD089FEAE96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8DA3F-EC08-4F0C-8903-77881141A57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gar disk diffusion method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Mueller Hint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4 mm thicknes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pH 7.2 to 7.4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tibiotic          storage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20</a:t>
            </a:r>
            <a:r>
              <a:rPr b="0" lang="en-US" sz="2400" spc="-1" strike="noStrike" baseline="40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 minimu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ks                temperatu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oculu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cFarland 0.5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(10</a:t>
            </a:r>
            <a:r>
              <a:rPr b="0" lang="en-GB" sz="2400" spc="-1" strike="noStrike" baseline="30000">
                <a:solidFill>
                  <a:srgbClr val="000000"/>
                </a:solidFill>
                <a:latin typeface="Verdana"/>
              </a:rPr>
              <a:t>8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bacteria/mL)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cubator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     temperatur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35</a:t>
            </a:r>
            <a:r>
              <a:rPr b="0" lang="en-GB" sz="2400" spc="-1" strike="noStrike" baseline="30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tmospher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mbient a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05FE6A-A5F3-485E-BCD1-BA6FAB16B1C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A65C1-14B9-4C36-8C3F-F621A108F09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Reference Strai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E. coli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5922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S. aureus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592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P. aeruginosa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785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3886200"/>
            <a:ext cx="807732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C organisms must be obtained from reputable source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specific QC organisms to test different groups of “drug-bug” combin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CECDC9-E85F-49A4-B188-E9977271B8F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6:56:40Z</dcterms:created>
  <dc:creator>Robin Barteluk</dc:creator>
  <dc:description/>
  <dc:language>en-US</dc:language>
  <cp:lastModifiedBy>Robin Barteluk</cp:lastModifiedBy>
  <dcterms:modified xsi:type="dcterms:W3CDTF">2008-12-02T03:54:50Z</dcterms:modified>
  <cp:revision>7</cp:revision>
  <dc:subject/>
  <dc:title>Microbiology QC</dc:title>
</cp:coreProperties>
</file>