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E9A18-E3D2-4142-AAA7-7CE42E3ECA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21101-9602-4956-8D59-06EDEB1BA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23FC9-DA7E-4404-B487-11663C37C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500D8-120E-4232-8174-B2F4AB112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84002-B78D-4902-809C-A8E17A07DB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90C13-B7A6-4374-803B-3D0B6CC4A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A22B1-F3FF-4FAF-ACD0-7CC5484F98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02B48-22C8-4B8F-BB92-51D9BA17A5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17017-F9AD-40EC-8902-C0A5AE481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3FF2F-4599-4E5A-98A4-5A31B5C3F9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5D01B-E4DC-466A-BE96-AC8B4734C2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A0B74-10BD-4EE1-BAAF-7F72FBE710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A0290-B60F-4EFC-8691-29752B062B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4C6AA-AE04-4FF8-A949-5A777567FD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6B885-4942-4C73-9F1D-C376746E49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98A8-C5BD-402A-A001-10412350DF3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2AD6-AF87-47BC-BC88-EF751CAF035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E2F9-AB05-44C9-8E64-17BDB775CC6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525D-812B-41F1-8A77-7033CAEEDBC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36BB-A31E-4446-9459-21830170C08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4AE7-3424-4BC0-AAB8-6B2740F23A8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09D7-1018-4D99-9B9B-551BC8968A2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87292-4092-45D7-83DA-E87832250B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D809-8AFC-4EC2-A77D-E2C826E18D3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F73F-A484-465D-86B7-D281717CE2B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0DB2-E509-40D3-ACC6-CA336BF19F6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7A49-E4DC-4A4E-97E3-57BC008F62F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E701-D47B-45CD-965F-57DA2859A5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FB5DA-2148-46DD-8D53-381C9307B1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CF292-6D2B-4FA3-B054-7F703E883F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EA6BB-1B7E-4AAF-A241-ADF6BEB654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D971C-7D23-402D-B166-E166361D35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90D82-6664-4646-98B5-F3816FEEC8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2B7B4-141A-4212-A083-4753096695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486BA-B17A-428F-BF33-4BF703817D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D25B0-9189-467C-970C-881E336872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6826D-6034-4C77-9B78-ED03EEBDCF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D3B0-3C19-41B7-A438-76717CB72A7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D9FB3-D652-463F-A048-C825712D250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Negative resul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18031-EEED-4A8C-BC61-B33AF062906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C9C18-5E0C-40CC-8B8E-6E2CADAA97D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isks with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t RT-PCR is still done as “in-house” or “home-brew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ers are not necessarily optimized to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ga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of tests need to be done with ca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6B93C-9C95-480E-B31C-5DE8A7E3C58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51EA5-0FA9-4EC2-8306-B7DF46E3E24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Sample Collection, Transport, and Proces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tain Nucleic acid integrity through these proc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a unidirectional work flow from a DNA-free area for reagent preparation, to a sample processing area, to area where amplification and detection occ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Positive and Negative Contr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Reference: CLSI MM3-A (Molecular Diagnostic Methods for Infectious Disea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99100-6B7E-496C-968C-35BDB898127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E59D4-B48A-4F09-9F4A-87CF299EB4C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884160" y="1676520"/>
            <a:ext cx="73738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4B4AF-B8E7-40C8-AA49-5F5E131DC4C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E3890-74EF-48F6-BF1C-751AD44DACD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21120" cy="521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1114C-1DF7-4E7A-99A0-1996CFBA814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3C3E8-45D5-45FA-8236-5425FF4946A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al Time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457200" y="1676520"/>
            <a:ext cx="11430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aq polyme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733920" y="220968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mplified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arget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Quanti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Fluores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C464C-CB28-485D-B2E6-A028E318791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43397-86D8-4174-BDE5-967F17C91E5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Amplification Re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4"/>
          <p:cNvSpPr/>
          <p:nvPr/>
        </p:nvSpPr>
        <p:spPr>
          <a:xfrm>
            <a:off x="1752480" y="2811600"/>
            <a:ext cx="5612040" cy="24717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Amplification /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533520" y="1828800"/>
            <a:ext cx="533160" cy="3429000"/>
          </a:xfrm>
          <a:prstGeom prst="upArrow">
            <a:avLst>
              <a:gd name="adj1" fmla="val 50000"/>
              <a:gd name="adj2" fmla="val 160787"/>
            </a:avLst>
          </a:prstGeom>
          <a:gradFill rotWithShape="0">
            <a:gsLst>
              <a:gs pos="0">
                <a:srgbClr val="00ff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7"/>
          <p:cNvSpPr/>
          <p:nvPr/>
        </p:nvSpPr>
        <p:spPr>
          <a:xfrm>
            <a:off x="1752480" y="5300640"/>
            <a:ext cx="5562720" cy="135000"/>
          </a:xfrm>
          <a:prstGeom prst="pie">
            <a:avLst/>
          </a:pr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717880" y="243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5411520" y="472428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NO AMPL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73CF2-819F-40C9-A9BB-B43469F4BC0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77DB8-B511-4CBB-BD45-77C453EC957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Real Time RT-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1373040" y="1676520"/>
            <a:ext cx="639792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E3174-1E22-47B2-8891-3AE5AB2DABD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9F099-8ACE-478E-8BFF-38B1A032785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5DE58-3E70-4CC6-A157-00C3BE90565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769A6-8AF2-4D90-B951-7AA7197D540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755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034C0-9289-4C48-B0CD-F125DAB998F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Robin Barteluk</cp:lastModifiedBy>
  <dcterms:modified xsi:type="dcterms:W3CDTF">2008-12-02T03:54:08Z</dcterms:modified>
  <cp:revision>3</cp:revision>
  <dc:subject/>
  <dc:title>Quality Control:   Molecular Diagnostics</dc:title>
</cp:coreProperties>
</file>