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86396-A731-4D78-B8E2-F6184FB62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E38D-7855-412F-B49F-39C8D64C9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3378-6429-440D-B3C6-38CE54C29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C0626-6748-493D-A893-64BC93346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7462-F564-4EE8-BBCF-0EAB10334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EFA24-50DD-4020-82F4-200E314B6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3AD8-DA03-4F62-A7A8-85A69C1EE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AF28-4B1A-470F-A6EA-15A581765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AB49-72DF-4775-93D7-2A8957930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504B-430C-4964-86BC-3225B2BE3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4F9CF-1A6E-447B-9D6A-67B9BD90B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22B6D-3094-4D0A-9018-F3401FB7D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BB04C-3F17-437E-8F3F-BAC6C8571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0F62-B86F-47CB-BDE7-F43BDB9FA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AE24-99F0-41D6-B378-733B8B2F4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A6E40-4CB7-4E77-BAB6-D27816C8A8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EFE87-C044-4D1E-A0A3-EBE870E911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A4A23-BF08-46C3-8891-E956239E2D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ECEA1-1CA2-4944-AB24-D0BE6C714B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73B9-D57D-4DC4-B483-42BBB73403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FDCE-2E24-432D-8CBC-1B04FD344B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3898-8462-4C23-8445-FEBFD2C4F9E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A220-E6C5-4501-89A8-D11943CBAED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DDDF-149B-4FA8-BF46-909F459074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A0F2-3380-48C0-A2D0-046159F5A9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3D58-8B6F-400C-9182-70897BB4E7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EDD14-6A95-4CEF-807A-829D3D392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06B6-2482-47DC-9818-496281B1F5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0B91-3E9E-458A-8424-413C78B79A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F014-428D-460C-83ED-E517948D8C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7614-D5EC-43AD-977A-7424E44030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7521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7821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8A6E-DB4E-4A89-AAA2-926B45DCAE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712C0-9ECA-470A-9ADE-2371937E9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D102F-9F1D-46E7-83CB-2C842D729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D7F4F-7E88-45FE-BFF6-6CE5B228B2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4568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14A88-D8EB-4823-B919-04F15650BF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845CF-325F-4D6C-8BF7-AF422B1CF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821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41C06-EB1C-4D61-A45E-87CEBB96A0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1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821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39C5C-4D9A-48D4-8E61-6831214C6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5791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BC68-8A91-4F72-9BB8-17B60DB0AD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6A55-9C09-4488-9325-A58F305F2A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Verdana"/>
              </a:rPr>
              <a:t>Quality Control of Antimicrobial Susceptibility Tests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67DE-6688-4A8A-A271-04A44DEE16D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a Colony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4835-03B1-4485-B0AC-6CEDDD4C5BC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B9CFB-631C-4C46-91F4-A6203ECC8D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cFarland 0.5 and 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djusted Test Organis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B503-55C0-4F6A-9047-1F9802C17BF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2"/>
          <p:cNvGraphicFramePr/>
          <p:nvPr/>
        </p:nvGraphicFramePr>
        <p:xfrm>
          <a:off x="1220760" y="1752480"/>
          <a:ext cx="6702480" cy="38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752480"/>
                    <a:ext cx="670248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38BE9-F46E-479C-A0D1-44D468EB493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5E205-6782-40F5-814B-B052DF36ECF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of Disk Dispens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64832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ractical, rap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rease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Arial Unicode MS"/>
              </a:rPr>
              <a:t>reproducibil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isk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ntamin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ces personal judgment ski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distributeur"/>
          <p:cNvPicPr/>
          <p:nvPr/>
        </p:nvPicPr>
        <p:blipFill>
          <a:blip r:embed="rId1"/>
          <a:stretch/>
        </p:blipFill>
        <p:spPr>
          <a:xfrm>
            <a:off x="5105520" y="2057400"/>
            <a:ext cx="3886200" cy="326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70F9B-BC9C-476D-BE11-49687EC309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E8B8-DA46-4CBC-BFB0-EC76503CC9D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8" name="Picture 12" descr="Too Heavy"/>
          <p:cNvPicPr/>
          <p:nvPr/>
        </p:nvPicPr>
        <p:blipFill>
          <a:blip r:embed="rId1"/>
          <a:stretch/>
        </p:blipFill>
        <p:spPr>
          <a:xfrm>
            <a:off x="304920" y="1447920"/>
            <a:ext cx="83818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B19C6C-2C98-45AA-B2B7-D9E5882DB7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k Susceptibility Testing Probl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0" name="Picture 5" descr="Disk moved"/>
          <p:cNvPicPr/>
          <p:nvPr/>
        </p:nvPicPr>
        <p:blipFill>
          <a:blip r:embed="rId1"/>
          <a:stretch/>
        </p:blipFill>
        <p:spPr>
          <a:xfrm>
            <a:off x="533520" y="1447920"/>
            <a:ext cx="7734240" cy="49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6F902-AB63-4031-9833-D5D463B2922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2C92-8CBF-44EA-BF35-F8E8D5A8F0E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pied_coulisse-calliper"/>
          <p:cNvPicPr/>
          <p:nvPr/>
        </p:nvPicPr>
        <p:blipFill>
          <a:blip r:embed="rId1"/>
          <a:stretch/>
        </p:blipFill>
        <p:spPr>
          <a:xfrm>
            <a:off x="457200" y="1371600"/>
            <a:ext cx="3276720" cy="259704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Measuring Condi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7" descr="Antibiot"/>
          <p:cNvPicPr/>
          <p:nvPr/>
        </p:nvPicPr>
        <p:blipFill>
          <a:blip r:embed="rId2"/>
          <a:stretch/>
        </p:blipFill>
        <p:spPr>
          <a:xfrm>
            <a:off x="5791320" y="1219320"/>
            <a:ext cx="1973160" cy="26668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6577560" y="40384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2094120" y="4114800"/>
            <a:ext cx="133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i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04920" y="4572000"/>
            <a:ext cx="8458200" cy="1752480"/>
          </a:xfrm>
          <a:prstGeom prst="rect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ad with good light, and from the back of the p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zone size reading is drug specifi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gnification may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limeters ma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9"/>
          <p:cNvGraphicFramePr/>
          <p:nvPr/>
        </p:nvGraphicFramePr>
        <p:xfrm>
          <a:off x="2438280" y="1905120"/>
          <a:ext cx="3117960" cy="21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1905120"/>
                    <a:ext cx="311796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B6F88-22FD-4F6F-87F0-939A438967C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test – antimicrobial gradient metho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BAB3-75C4-446B-8188-FC511ABAA6C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CO04-2351 Etest blood cult isolate 2"/>
          <p:cNvPicPr/>
          <p:nvPr/>
        </p:nvPicPr>
        <p:blipFill>
          <a:blip r:embed="rId1"/>
          <a:stretch/>
        </p:blipFill>
        <p:spPr>
          <a:xfrm>
            <a:off x="1554120" y="1752480"/>
            <a:ext cx="603576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67722-AEDE-43E3-AE77-129D5EE804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ient results may be incorrect if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rganism was misidentifi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lerical error was m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appropriate choice of antimicrobials were tested and report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patient’s sample was examin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rong test was orde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ample was not preserved prope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33756-2C33-4E33-8C1C-DC11F1F63F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2288-2D12-4073-9E18-6FC2F682688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timicrobial Susceptibility Tes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4" name="Picture 4" descr="k_b"/>
          <p:cNvPicPr/>
          <p:nvPr/>
        </p:nvPicPr>
        <p:blipFill>
          <a:blip r:embed="rId1"/>
          <a:stretch/>
        </p:blipFill>
        <p:spPr>
          <a:xfrm>
            <a:off x="457200" y="1600200"/>
            <a:ext cx="1714680" cy="1668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Staphylococcus_aureus_Etest2"/>
          <p:cNvPicPr/>
          <p:nvPr/>
        </p:nvPicPr>
        <p:blipFill>
          <a:blip r:embed="rId2"/>
          <a:stretch/>
        </p:blipFill>
        <p:spPr>
          <a:xfrm>
            <a:off x="2362320" y="1600200"/>
            <a:ext cx="1676160" cy="167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micmlc2"/>
          <p:cNvPicPr/>
          <p:nvPr/>
        </p:nvPicPr>
        <p:blipFill>
          <a:blip r:embed="rId3"/>
          <a:stretch/>
        </p:blipFill>
        <p:spPr>
          <a:xfrm>
            <a:off x="4114800" y="1600200"/>
            <a:ext cx="2209680" cy="1749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vitek-2"/>
          <p:cNvPicPr/>
          <p:nvPr/>
        </p:nvPicPr>
        <p:blipFill>
          <a:blip r:embed="rId4"/>
          <a:stretch/>
        </p:blipFill>
        <p:spPr>
          <a:xfrm>
            <a:off x="6400800" y="1600200"/>
            <a:ext cx="2362320" cy="17701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871920" y="4114800"/>
            <a:ext cx="6976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e information for selection of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appropriate agent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imicrobial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AA233-338D-4A01-92C6-451ED95F58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T Methods Interpret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gar disk diffusion meth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s qualitative interpretive category results of susceptible, intermediate, and resist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icrodilution and agar gradient diffusion method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ovide a quantitative result, a minimum inhibitory concentration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69B36-17A6-44C5-ABFE-309C15F5DC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PBL Susceptibility testing 2008"/>
          <p:cNvPicPr/>
          <p:nvPr/>
        </p:nvPicPr>
        <p:blipFill>
          <a:blip r:embed="rId1"/>
          <a:srcRect l="4364" t="8470" r="5455" b="8470"/>
          <a:stretch/>
        </p:blipFill>
        <p:spPr>
          <a:xfrm>
            <a:off x="685800" y="1143000"/>
            <a:ext cx="7558200" cy="52275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62120" y="457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ST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338D1-CEBB-448F-9B04-59AC5634516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1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1EDF-D5B1-4011-84CB-8CE13ED800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57200" y="2819520"/>
            <a:ext cx="2708280" cy="3504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5" name="Text Box 3"/>
          <p:cNvSpPr/>
          <p:nvPr/>
        </p:nvSpPr>
        <p:spPr>
          <a:xfrm>
            <a:off x="304920" y="1295280"/>
            <a:ext cx="807696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nical and Laboratory Standards  Instit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nch Society of Microbi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itish Society for Antimicrobial Chemo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7" descr=""/>
          <p:cNvPicPr/>
          <p:nvPr/>
        </p:nvPicPr>
        <p:blipFill>
          <a:blip r:embed="rId2"/>
          <a:stretch/>
        </p:blipFill>
        <p:spPr>
          <a:xfrm>
            <a:off x="6172200" y="2819520"/>
            <a:ext cx="2503440" cy="350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7" name="Object 6"/>
          <p:cNvGraphicFramePr/>
          <p:nvPr/>
        </p:nvGraphicFramePr>
        <p:xfrm>
          <a:off x="3429000" y="2819520"/>
          <a:ext cx="2639880" cy="35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819520"/>
                    <a:ext cx="2639880" cy="3504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85800" y="45720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474EF-343C-4C31-A105-7391BA51FA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Example from an excerpt from Reference:</a:t>
            </a:r>
            <a:br>
              <a:rPr sz="28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on of Drug to Tes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35BB-FF6A-4CB5-B9F9-924B9EA25D8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2"/>
          <p:cNvGraphicFramePr/>
          <p:nvPr/>
        </p:nvGraphicFramePr>
        <p:xfrm>
          <a:off x="380880" y="1981080"/>
          <a:ext cx="8272440" cy="37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272440" cy="37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54B0B-0DE6-4D17-BC45-88223F43144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7CF3-C444-4CBE-8EE9-8A25AA16C5D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ere errors can occur in susceptibility tes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dia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ntimicrobia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oculu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ub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quipmen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terpret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561A1-93FD-41AB-9DAF-B941F81F1E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71F2-321D-4D29-8FC4-0401817FBB7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gar disk diffusion metho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Mueller Hint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4 mm thicknes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H 7.2 to 7.4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tibiotic          storage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-20</a:t>
            </a:r>
            <a:r>
              <a:rPr b="0" lang="en-US" sz="2400" spc="-1" strike="noStrike" baseline="4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 minim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ks                tempera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oculu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cFarland 0.5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(10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bacteria/mL)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cubator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temperatu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tmosphere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mbient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B528A-1A10-4F80-B7D4-4F1DAE0E150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E104D-2509-4F80-9AA5-5D49C81301A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Reference Str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. coli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S. aureus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592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P. aeruginosa 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ATCC 27853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3886200"/>
            <a:ext cx="807732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C organisms must be obtained from reputable sourc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pecific QC organisms to test different groups of “drug-bug”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C Antimicrobial Susceptibility Testing - 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618A7-1AEB-415E-89E5-F3F83FEC10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6:56:40Z</dcterms:created>
  <dc:creator>Robin Barteluk</dc:creator>
  <dc:description/>
  <dc:language>en-US</dc:language>
  <cp:lastModifiedBy>Robin Barteluk</cp:lastModifiedBy>
  <dcterms:modified xsi:type="dcterms:W3CDTF">2008-12-02T03:54:50Z</dcterms:modified>
  <cp:revision>7</cp:revision>
  <dc:subject/>
  <dc:title>Microbiology QC</dc:title>
</cp:coreProperties>
</file>