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2E9D-9F44-4065-BD6A-5572FB620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0DBE2-CA43-4262-A4C9-D12A94AF7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BA53B-CC57-4911-A23C-723AC5BD42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733F-E80E-4963-AE8D-136163266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072A-2659-4735-A7C9-47AE1E24E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4CFF-67A0-41A7-A6D6-D1F83E1AF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C349-7FA8-43E8-A506-C2E16D224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4942-A71E-4F80-815B-E734C0FC9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7147-2AD8-480D-B88C-ECB80B664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24100-CCCE-455D-8A56-0A39F0B41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4748-2333-43C6-BDE2-2627499B2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93C9D-931C-46D6-8295-23F76CEC22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8CA41-4C55-43FE-B2AF-4EA3054996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346E1-0DB2-41BE-97E3-A1AD8ADDDC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4F4AE-4200-4DD7-8DA0-7DB7CCD7AA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B9F3-6603-4272-9D16-2D63DB748A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010F-ACE7-4C2D-B98F-4F37841080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77EE-D25A-4A9A-B12A-F9DE0825A2B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912C-72A7-49E7-951B-2AE7F69EE6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B50A-1118-4B90-8E49-6F6FF489E8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4CC2-82A6-4755-A288-DC15F95B27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3D9C-166C-42F2-AF73-B5CAAE1204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A9277-3E47-4378-AD88-F07C7EE0F8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42AB-6773-4D6F-8477-93353DCE14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930B-A201-4B23-82C4-DB919DAE70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4F81-36F5-4D2E-B364-958B8973F84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8F6E-242F-4EE1-96A2-1985AFADCAB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76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0620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9545-39C9-4E1F-BB64-D03D9DCA6A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4202C-BF94-4E04-8599-9E12D18B3F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BC1E8-63CD-4E0B-A5C6-DAFBCD5EF8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6B276F-6338-4306-B4F6-B1A4DCF484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67874-2F55-411D-84E2-BAE2999BDC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B488EE-E575-4C80-BAA1-CA3137AE3B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0620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6DFB4-1531-4D93-A1F1-450EA7B9AD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76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0620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1B36F-F731-4EA4-8E82-6750E9D96D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C20E-DED4-40BE-9466-4FD793A379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25AC-F81B-4839-BDFC-DF2DB7A73F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120F-57F7-4CE4-8A2A-47E97C75240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A7FA-5ECB-49C5-ABCB-E693178F696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Negative resul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69800" y="1676520"/>
            <a:ext cx="82026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1E897-14B8-4C5B-B6DC-C096A2044DC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1837-39D1-4FA0-8131-351685C166E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isks with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st RT-PCR is still done as “in-house” or “home-brew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imers are not necessarily optimized to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gative controls are “in-hous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of tests need to be done with ca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48743-C24F-420A-BE6E-78254C62746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F12E-FA74-430E-8685-C6D119611BD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Sample Collection, Transport, and Process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intain Nucleic acid integrity through these proces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a unidirectional work flow from a DNA-free area for reagent preparation, to a sample processing area, to area where amplification and detection occ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Positive and Negative Contro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Verdana"/>
              </a:rPr>
              <a:t>Reference: CLSI MM3-A (Molecular Diagnostic Methods for Infectious Diseas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CD43F-9D04-4692-A0E3-9819FE480D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E997-9E74-4F0F-8632-40090F0A4BD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: 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lecular Diagnostic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884160" y="1676520"/>
            <a:ext cx="73738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7AF39-D3E5-49A2-967D-705A59D8750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1A7C-B32E-4A36-8CE1-5EB0C813145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4821120" cy="5211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8C2A37-64C9-4CAF-A235-152A4E103D5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D954-2362-48C2-B8EA-1EAA8CAD01D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al Time 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Oval 3"/>
          <p:cNvSpPr/>
          <p:nvPr/>
        </p:nvSpPr>
        <p:spPr>
          <a:xfrm>
            <a:off x="457200" y="1676520"/>
            <a:ext cx="1143000" cy="6094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533520" y="3124080"/>
            <a:ext cx="99036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R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685800" y="2362320"/>
            <a:ext cx="2895480" cy="609480"/>
          </a:xfrm>
          <a:prstGeom prst="rightArrow">
            <a:avLst>
              <a:gd name="adj1" fmla="val 50000"/>
              <a:gd name="adj2" fmla="val 118768"/>
            </a:avLst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Taq polymer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3733920" y="2209680"/>
            <a:ext cx="1447560" cy="9144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mplified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arget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2514600" y="3962520"/>
            <a:ext cx="3352680" cy="533160"/>
          </a:xfrm>
          <a:prstGeom prst="rightArrow">
            <a:avLst>
              <a:gd name="adj1" fmla="val 50000"/>
              <a:gd name="adj2" fmla="val 157208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YBR Gr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8"/>
          <p:cNvSpPr/>
          <p:nvPr/>
        </p:nvSpPr>
        <p:spPr>
          <a:xfrm>
            <a:off x="5562720" y="2895480"/>
            <a:ext cx="3352680" cy="243864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Quantitati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uoresc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25909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0"/>
          <p:cNvSpPr/>
          <p:nvPr/>
        </p:nvSpPr>
        <p:spPr>
          <a:xfrm>
            <a:off x="3505320" y="4495680"/>
            <a:ext cx="609480" cy="1524240"/>
          </a:xfrm>
          <a:prstGeom prst="upArrow">
            <a:avLst>
              <a:gd name="adj1" fmla="val 50000"/>
              <a:gd name="adj2" fmla="val 6252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4495680" y="4495680"/>
            <a:ext cx="609840" cy="1524240"/>
          </a:xfrm>
          <a:prstGeom prst="upArrow">
            <a:avLst>
              <a:gd name="adj1" fmla="val 50000"/>
              <a:gd name="adj2" fmla="val 6248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5B05E-098E-4F74-9961-C5E458C70C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AF29F-A217-485F-A855-FB78BB2A5FE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00007d"/>
                </a:solidFill>
                <a:latin typeface="Verdana"/>
              </a:rPr>
              <a:t>Amplification Re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1295280" y="1752480"/>
            <a:ext cx="6400800" cy="3733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4"/>
          <p:cNvSpPr/>
          <p:nvPr/>
        </p:nvSpPr>
        <p:spPr>
          <a:xfrm>
            <a:off x="1752480" y="2811600"/>
            <a:ext cx="5612040" cy="2471760"/>
          </a:xfrm>
          <a:prstGeom prst="pie">
            <a:avLst/>
          </a:pr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752480" y="5638680"/>
            <a:ext cx="5867640" cy="533520"/>
          </a:xfrm>
          <a:prstGeom prst="rightArrow">
            <a:avLst>
              <a:gd name="adj1" fmla="val 50000"/>
              <a:gd name="adj2" fmla="val 27494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Amplification /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6"/>
          <p:cNvSpPr/>
          <p:nvPr/>
        </p:nvSpPr>
        <p:spPr>
          <a:xfrm>
            <a:off x="533520" y="1828800"/>
            <a:ext cx="533160" cy="3429000"/>
          </a:xfrm>
          <a:prstGeom prst="upArrow">
            <a:avLst>
              <a:gd name="adj1" fmla="val 50000"/>
              <a:gd name="adj2" fmla="val 160787"/>
            </a:avLst>
          </a:prstGeom>
          <a:gradFill rotWithShape="0">
            <a:gsLst>
              <a:gs pos="0">
                <a:srgbClr val="00ff00"/>
              </a:gs>
              <a:gs pos="100000">
                <a:srgbClr val="0099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7"/>
          <p:cNvSpPr/>
          <p:nvPr/>
        </p:nvSpPr>
        <p:spPr>
          <a:xfrm>
            <a:off x="1752480" y="5300640"/>
            <a:ext cx="5562720" cy="135000"/>
          </a:xfrm>
          <a:prstGeom prst="pie">
            <a:avLst/>
          </a:prstGeom>
          <a:noFill/>
          <a:ln w="7632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5717880" y="2438280"/>
            <a:ext cx="10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0"/>
          <p:cNvSpPr/>
          <p:nvPr/>
        </p:nvSpPr>
        <p:spPr>
          <a:xfrm>
            <a:off x="5411520" y="472428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NO AMPLIFIC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207B6-1D28-4556-8A90-EA2D8143C2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7341-C9D6-4121-938E-6E758EFA66D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Real Time RT-PC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373040" y="1676520"/>
            <a:ext cx="639792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217BA-2866-4F9E-B1FB-B7504E0B7A8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B850-8272-41BF-8469-CED60AEBEB1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3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581040" y="1676520"/>
            <a:ext cx="79804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E5DAF-7F26-46F1-8544-DD71EE2802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DF1D-BF87-4BD6-962E-3849BA8B25F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600" spc="-1" strike="noStrike">
                <a:solidFill>
                  <a:srgbClr val="00007d"/>
                </a:solidFill>
                <a:latin typeface="Verdana"/>
              </a:rPr>
              <a:t>A/H5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6755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lecular Diagnostics Quality Control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F69BD-6138-47A9-986B-B5EFBD76F6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7:02:05Z</dcterms:created>
  <dc:creator>Robin Barteluk</dc:creator>
  <dc:description/>
  <dc:language>en-US</dc:language>
  <cp:lastModifiedBy>Robin Barteluk</cp:lastModifiedBy>
  <dcterms:modified xsi:type="dcterms:W3CDTF">2008-12-02T03:54:08Z</dcterms:modified>
  <cp:revision>3</cp:revision>
  <dc:subject/>
  <dc:title>Quality Control:   Molecular Diagnostics</dc:title>
</cp:coreProperties>
</file>