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745C5-56E7-4B3A-9051-953213BB0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07C02-0AD8-485A-B1BA-EC811A30A7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DB43-EEA2-4F72-8101-0C40F742B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288C-C710-4FBB-AE0D-71ECADCE2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EF06-3D69-4170-9D27-2AFE0DE9D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426B-E972-4A2B-BE3C-EA2F22B9E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E868-49F2-43A6-AE1E-E811E9040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BA91-AA8F-4B27-B129-8E5361D93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6CAF-6723-438E-9CCF-18B39862F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E1C1-DFAD-465A-A900-3AE4BDF2C1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5F66-6BC5-4DED-987B-788241D529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88F6-D580-4171-810B-69B2243AE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F733-6C18-4269-BCED-479BE6EB15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EE28-7968-4C99-8FFD-097E8515C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E1CF0-A077-42C2-96BF-2C6C786F08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30875-E491-42B3-8181-AD1E1F33F0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048DA-6ECD-491E-988B-70AD33AAD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53834-FB33-427E-A3EF-56D4582D4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458-19F3-4E84-959C-7C234251E7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114B-6F23-4FD0-A5AF-69C097DDA3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B913-CD37-4785-A03A-02F8754EBD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BC52-87A0-4650-8702-83640A435AB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9AF-F4EC-4ED1-BBAC-FEB74F81CB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D7B3-9BF6-4DB2-ABDC-F55F126FCA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6C0F-881A-43DC-BA49-049ED2A183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FF15-805D-4F4E-9DE5-7D886E717D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ADCE-35E7-433C-AF61-23F4EC2CF37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06AB-DDFF-4D63-BD65-4EBFC918EB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EB7-741A-480C-9D1E-3819D7B95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E90A-4A4E-4D94-B47F-DFC0196455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3550680"/>
            <a:ext cx="264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DE2D-41D7-4ADD-909A-D78C294893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CF9C-3FC6-40FB-B06E-468521FF21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D0953-929D-48E9-ABFC-D7A49D7ACC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DF9E-7073-4980-B28A-528E484E5B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13280-A37E-4B25-B48D-A458F871D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89D4F-4067-466A-A5E4-8B6E4D790B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55068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59CB1-3F25-4F3C-B05B-E30DE8A77A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550680"/>
            <a:ext cx="8229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FFC92-CA2B-4EEA-9CFD-7752642440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5410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B921-6FBD-4E83-BB21-3C34C8201B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28520" indent="-205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40000" indent="-205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51480" indent="-205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FC82-FAAA-4656-995D-5F9CD33413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124" name=""/>
          <p:cNvSpPr/>
          <p:nvPr/>
        </p:nvSpPr>
        <p:spPr>
          <a:xfrm>
            <a:off x="2971800" y="1600200"/>
            <a:ext cx="617220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Process Control: Q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uality Control of Qualitative and Semi-Quantitative Procedures</a:t>
            </a:r>
            <a:endParaRPr b="1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25" name="Picture 16" descr="WHO-EN-C-H"/>
          <p:cNvPicPr/>
          <p:nvPr/>
        </p:nvPicPr>
        <p:blipFill>
          <a:blip r:embed="rId1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B70-8DC8-4BBB-AD67-1665988F1B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sing 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st as per patient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positive and negative contro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a weak positive control for immunological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oose positive controls close to the cut-off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 control to monitor extraction pha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DE51-2631-4FEA-B8D1-28FE307D853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07669-5490-462C-8FC1-D8F07757A3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715000" y="2438280"/>
            <a:ext cx="3200400" cy="2756160"/>
          </a:xfrm>
          <a:prstGeom prst="rect">
            <a:avLst/>
          </a:prstGeom>
          <a:ln w="0">
            <a:noFill/>
          </a:ln>
        </p:spPr>
      </p:pic>
      <p:sp>
        <p:nvSpPr>
          <p:cNvPr id="21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0C20-024E-4121-AED2-CBE8E2B4769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ck Cultures for QC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erence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000000"/>
                </a:solidFill>
                <a:latin typeface="Verdana"/>
              </a:rPr>
              <a:t>in-house developed strai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dictable reactions in stains and medi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media, reagent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d supplies work as int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887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886200" y="4343400"/>
            <a:ext cx="2895480" cy="19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93BBD-70FB-493B-BB33-9768B50ADA0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ources for Obtaining Reference Strai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52280" y="1676160"/>
            <a:ext cx="87631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TC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American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NTCC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tional Type Culture Collection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(UK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IP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teur Institute Collection (Franc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DE06-885F-49B0-923E-29BCCA4B358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B6B14-5E49-4BFC-A8B2-DCB3FBFE619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62EF4-56A1-4410-9EEC-78897F430A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s are important—</a:t>
            </a: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e care of them!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21" name="Picture 5" descr="PICT0136"/>
          <p:cNvPicPr/>
          <p:nvPr/>
        </p:nvPicPr>
        <p:blipFill>
          <a:blip r:embed="rId1"/>
          <a:stretch/>
        </p:blipFill>
        <p:spPr>
          <a:xfrm>
            <a:off x="380880" y="2097000"/>
            <a:ext cx="4114800" cy="2995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7" descr="PICT0018"/>
          <p:cNvPicPr/>
          <p:nvPr/>
        </p:nvPicPr>
        <p:blipFill>
          <a:blip r:embed="rId2"/>
          <a:stretch/>
        </p:blipFill>
        <p:spPr>
          <a:xfrm>
            <a:off x="4952880" y="2097000"/>
            <a:ext cx="3581640" cy="29718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0"/>
          <p:cNvSpPr/>
          <p:nvPr/>
        </p:nvSpPr>
        <p:spPr>
          <a:xfrm>
            <a:off x="5659560" y="5257800"/>
            <a:ext cx="21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No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695520" y="5257800"/>
            <a:ext cx="33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Verdana"/>
              </a:rPr>
              <a:t>Continued Attention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28559-2732-4BEE-8BAB-6A791ED471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BF933-FC4B-4BFF-8F1A-1921005D068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ain Manag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established procedure for preparation or reconstitu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el: content, concentration, date prepared and placed in service, expiration, initia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appropriate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2E155-7919-4B60-8861-EA8D54C7048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6F69-DCD4-4EA4-8F8F-8C520F38686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for Stai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4582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s appropriate for particular stain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with known organisms or cel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rystal shards or for precipi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ine for contaminants such as bacteria and fung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295280" y="4648320"/>
            <a:ext cx="2243160" cy="151272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581280" y="4800600"/>
            <a:ext cx="20574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ght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ram stain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7204" t="0" r="10802" b="0"/>
          <a:stretch/>
        </p:blipFill>
        <p:spPr>
          <a:xfrm>
            <a:off x="6019920" y="4572000"/>
            <a:ext cx="1828800" cy="167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F921C-A724-44AF-87C7-24E0797FBFE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3A45C-4A18-4D7D-A859-F328BE0FD23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ram Stain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36" name="Picture 4" descr="g061_large"/>
          <p:cNvPicPr/>
          <p:nvPr/>
        </p:nvPicPr>
        <p:blipFill>
          <a:blip r:embed="rId1"/>
          <a:stretch/>
        </p:blipFill>
        <p:spPr>
          <a:xfrm>
            <a:off x="380880" y="1676520"/>
            <a:ext cx="4038840" cy="3276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Poor2"/>
          <p:cNvPicPr/>
          <p:nvPr/>
        </p:nvPicPr>
        <p:blipFill>
          <a:blip r:embed="rId2"/>
          <a:stretch/>
        </p:blipFill>
        <p:spPr>
          <a:xfrm>
            <a:off x="4419720" y="1676520"/>
            <a:ext cx="4195800" cy="327636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10"/>
          <p:cNvSpPr/>
          <p:nvPr/>
        </p:nvSpPr>
        <p:spPr>
          <a:xfrm>
            <a:off x="838080" y="50292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9900"/>
                </a:solidFill>
                <a:latin typeface="Verdana"/>
              </a:rPr>
              <a:t>Good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5178240" y="5029200"/>
            <a:ext cx="27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Verdana"/>
              </a:rPr>
              <a:t>Poor Quality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9E13-BED3-4CB3-AF1F-B9CF1ABD6E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9322B-90C5-4158-8545-4A092DE077A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of Microbiology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erformance of all medi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-house prepared: all batch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ercially prepared: new lot on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6557" t="10960" r="6557" b="6576"/>
          <a:stretch/>
        </p:blipFill>
        <p:spPr>
          <a:xfrm>
            <a:off x="609480" y="3505320"/>
            <a:ext cx="2895840" cy="27414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rcRect l="6557" t="10960" r="6557" b="6576"/>
          <a:stretch/>
        </p:blipFill>
        <p:spPr>
          <a:xfrm>
            <a:off x="5867280" y="3581280"/>
            <a:ext cx="2819520" cy="26686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581280" y="3505320"/>
            <a:ext cx="221004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acConkey Aga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QC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ft: non-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ight: lactose fermenter</a:t>
            </a:r>
            <a:endParaRPr b="1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3A912-9507-4FE7-B489-21F888A051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78B0-7050-4114-8808-7CB948CA88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edia Problems to Avoid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48" name="Group 7"/>
          <p:cNvGrpSpPr/>
          <p:nvPr/>
        </p:nvGrpSpPr>
        <p:grpSpPr>
          <a:xfrm>
            <a:off x="3809880" y="1447920"/>
            <a:ext cx="2514600" cy="914400"/>
            <a:chOff x="3809880" y="1447920"/>
            <a:chExt cx="2514600" cy="914400"/>
          </a:xfrm>
        </p:grpSpPr>
        <p:sp>
          <p:nvSpPr>
            <p:cNvPr id="249" name="AutoShape 8"/>
            <p:cNvSpPr/>
            <p:nvPr/>
          </p:nvSpPr>
          <p:spPr>
            <a:xfrm>
              <a:off x="3888360" y="1905120"/>
              <a:ext cx="2396880" cy="39996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AutoShape 9"/>
            <p:cNvSpPr/>
            <p:nvPr/>
          </p:nvSpPr>
          <p:spPr>
            <a:xfrm>
              <a:off x="3809880" y="144792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251" name="Group 10"/>
          <p:cNvGrpSpPr/>
          <p:nvPr/>
        </p:nvGrpSpPr>
        <p:grpSpPr>
          <a:xfrm>
            <a:off x="5791320" y="2057400"/>
            <a:ext cx="2514600" cy="914400"/>
            <a:chOff x="5791320" y="2057400"/>
            <a:chExt cx="2514600" cy="914400"/>
          </a:xfrm>
        </p:grpSpPr>
        <p:sp>
          <p:nvSpPr>
            <p:cNvPr id="252" name="AutoShape 11"/>
            <p:cNvSpPr/>
            <p:nvPr/>
          </p:nvSpPr>
          <p:spPr>
            <a:xfrm>
              <a:off x="5791320" y="2171520"/>
              <a:ext cx="2514600" cy="800280"/>
            </a:xfrm>
            <a:prstGeom prst="can">
              <a:avLst>
                <a:gd name="adj" fmla="val 50000"/>
              </a:avLst>
            </a:prstGeom>
            <a:solidFill>
              <a:srgbClr val="ff26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53" name="Group 12"/>
            <p:cNvGrpSpPr/>
            <p:nvPr/>
          </p:nvGrpSpPr>
          <p:grpSpPr>
            <a:xfrm>
              <a:off x="6591240" y="2171520"/>
              <a:ext cx="457200" cy="199800"/>
              <a:chOff x="6591240" y="2171520"/>
              <a:chExt cx="457200" cy="199800"/>
            </a:xfrm>
          </p:grpSpPr>
          <p:sp>
            <p:nvSpPr>
              <p:cNvPr id="254" name="Oval 13"/>
              <p:cNvSpPr/>
              <p:nvPr/>
            </p:nvSpPr>
            <p:spPr>
              <a:xfrm>
                <a:off x="6762600" y="217152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5" name="Oval 14"/>
              <p:cNvSpPr/>
              <p:nvPr/>
            </p:nvSpPr>
            <p:spPr>
              <a:xfrm>
                <a:off x="6591240" y="217152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6" name="Oval 15"/>
              <p:cNvSpPr/>
              <p:nvPr/>
            </p:nvSpPr>
            <p:spPr>
              <a:xfrm>
                <a:off x="6619680" y="217152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7" name="Oval 16"/>
              <p:cNvSpPr/>
              <p:nvPr/>
            </p:nvSpPr>
            <p:spPr>
              <a:xfrm>
                <a:off x="6648120" y="217152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8" name="Oval 17"/>
              <p:cNvSpPr/>
              <p:nvPr/>
            </p:nvSpPr>
            <p:spPr>
              <a:xfrm>
                <a:off x="6676920" y="217152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59" name="Oval 18"/>
              <p:cNvSpPr/>
              <p:nvPr/>
            </p:nvSpPr>
            <p:spPr>
              <a:xfrm>
                <a:off x="6705360" y="217152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0" name="Oval 19"/>
              <p:cNvSpPr/>
              <p:nvPr/>
            </p:nvSpPr>
            <p:spPr>
              <a:xfrm>
                <a:off x="6734160" y="217152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261" name="AutoShape 20"/>
            <p:cNvSpPr/>
            <p:nvPr/>
          </p:nvSpPr>
          <p:spPr>
            <a:xfrm>
              <a:off x="5791320" y="2057400"/>
              <a:ext cx="2514600" cy="914400"/>
            </a:xfrm>
            <a:prstGeom prst="can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62" name="Group 21"/>
            <p:cNvGrpSpPr/>
            <p:nvPr/>
          </p:nvGrpSpPr>
          <p:grpSpPr>
            <a:xfrm>
              <a:off x="7534440" y="2228760"/>
              <a:ext cx="457200" cy="199800"/>
              <a:chOff x="7534440" y="2228760"/>
              <a:chExt cx="457200" cy="199800"/>
            </a:xfrm>
          </p:grpSpPr>
          <p:sp>
            <p:nvSpPr>
              <p:cNvPr id="263" name="Oval 22"/>
              <p:cNvSpPr/>
              <p:nvPr/>
            </p:nvSpPr>
            <p:spPr>
              <a:xfrm>
                <a:off x="7705800" y="2228760"/>
                <a:ext cx="114120" cy="5688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4" name="Oval 23"/>
              <p:cNvSpPr/>
              <p:nvPr/>
            </p:nvSpPr>
            <p:spPr>
              <a:xfrm>
                <a:off x="7534440" y="2228760"/>
                <a:ext cx="457200" cy="19980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5" name="Oval 24"/>
              <p:cNvSpPr/>
              <p:nvPr/>
            </p:nvSpPr>
            <p:spPr>
              <a:xfrm>
                <a:off x="7562880" y="2228760"/>
                <a:ext cx="400320" cy="17136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6" name="Oval 25"/>
              <p:cNvSpPr/>
              <p:nvPr/>
            </p:nvSpPr>
            <p:spPr>
              <a:xfrm>
                <a:off x="7591320" y="2228760"/>
                <a:ext cx="343080" cy="1429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7" name="Oval 26"/>
              <p:cNvSpPr/>
              <p:nvPr/>
            </p:nvSpPr>
            <p:spPr>
              <a:xfrm>
                <a:off x="7620120" y="2228760"/>
                <a:ext cx="285840" cy="11412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8" name="Oval 27"/>
              <p:cNvSpPr/>
              <p:nvPr/>
            </p:nvSpPr>
            <p:spPr>
              <a:xfrm>
                <a:off x="7648560" y="2228760"/>
                <a:ext cx="228600" cy="85680"/>
              </a:xfrm>
              <a:prstGeom prst="ellipse">
                <a:avLst/>
              </a:prstGeom>
              <a:solidFill>
                <a:srgbClr val="ffff99"/>
              </a:solidFill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24480" bIns="24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269" name="Oval 28"/>
              <p:cNvSpPr/>
              <p:nvPr/>
            </p:nvSpPr>
            <p:spPr>
              <a:xfrm>
                <a:off x="7677360" y="2228760"/>
                <a:ext cx="171360" cy="56880"/>
              </a:xfrm>
              <a:prstGeom prst="ellipse">
                <a:avLst/>
              </a:prstGeom>
              <a:noFill/>
              <a:ln w="9360">
                <a:solidFill>
                  <a:srgbClr val="cc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720" rIns="3672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270" name="Text Box 32"/>
          <p:cNvSpPr/>
          <p:nvPr/>
        </p:nvSpPr>
        <p:spPr>
          <a:xfrm>
            <a:off x="912960" y="1523880"/>
            <a:ext cx="275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-d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ied-ou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aminated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609480" y="3200400"/>
            <a:ext cx="8229600" cy="26535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Human bloo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should not be used because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o much batch to batch variation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include inhibitory substanc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including antimicrobial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contain biohazard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(e.g., hepatitis virus)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5791320" y="4724280"/>
            <a:ext cx="1950840" cy="1521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AD23-DDB5-4184-8372-C488DD1308C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rcRect l="10286" t="10360" r="10286" b="20720"/>
          <a:stretch/>
        </p:blipFill>
        <p:spPr>
          <a:xfrm>
            <a:off x="914400" y="1143000"/>
            <a:ext cx="7924680" cy="5064120"/>
          </a:xfrm>
          <a:prstGeom prst="rect">
            <a:avLst/>
          </a:prstGeom>
          <a:ln w="0">
            <a:noFill/>
          </a:ln>
        </p:spPr>
      </p:pic>
      <p:sp>
        <p:nvSpPr>
          <p:cNvPr id="274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2F10-37D0-49EB-BD4E-F3D5CD6AF69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of Growth Medi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keep records for media prepared in-ho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cord outcomes in a dedicated media logbook fo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H,  sterility,  ability to support growth using stock cultures,  biochemical response of stock cul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st each new batch or lot numb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3C8BE-051A-40C7-A3C6-B5C19386F3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54F5-9AD0-4A3E-8D1B-46ED265EBA7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between built-in and traditional control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use stock cultures for microbiology Q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use of quality control procedures for stains used in microscopic examin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methods for verifying performance of microbiological med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FD79E-2DE1-4326-BA06-9ACE43EA44F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707C-1021-4E3C-9621-C396FA9A251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qualitative tests produce non-numerical results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emi-quantitative tests give an estimat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stablish a QC program for qualitative and semi-quantitative tes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26F0C-EBED-4CE5-9350-B8A100E2F9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QC procedures followed by ALL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ways record QC results and corrective a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Verdana"/>
              </a:rPr>
              <a:t>If QC results are not acceptable, do not report patient results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C25E-DA7F-492A-8E38-BDCC79AD9FE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51A80-73C8-4B0D-B30A-BAD86DF861D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85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299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300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301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302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303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304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05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6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307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08" name="Text Box 74"/>
              <p:cNvSpPr/>
              <p:nvPr/>
            </p:nvSpPr>
            <p:spPr>
              <a:xfrm>
                <a:off x="24940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09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310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311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312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313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4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15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316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17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18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321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2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23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24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325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6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328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29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330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334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5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337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38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340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341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E2DB-A527-4072-BBDC-10DBD745685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y A performs a culture, an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Pseudomonas aeruginos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s identified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at QC measures can you use to confirm that the isolate is correctly identified?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A015C-C171-4372-BB1D-67A26D3B94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4678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2209680" y="1066680"/>
            <a:ext cx="5105520" cy="5257440"/>
            <a:chOff x="2209680" y="1066680"/>
            <a:chExt cx="5105520" cy="5257440"/>
          </a:xfrm>
        </p:grpSpPr>
        <p:sp>
          <p:nvSpPr>
            <p:cNvPr id="136" name="AutoShape 4"/>
            <p:cNvSpPr/>
            <p:nvPr/>
          </p:nvSpPr>
          <p:spPr>
            <a:xfrm>
              <a:off x="2209680" y="1066680"/>
              <a:ext cx="5105520" cy="5257440"/>
            </a:xfrm>
            <a:custGeom>
              <a:avLst/>
              <a:gdLst>
                <a:gd name="textAreaLeft" fmla="*/ 249120 w 5105520"/>
                <a:gd name="textAreaRight" fmla="*/ 4856400 w 5105520"/>
                <a:gd name="textAreaTop" fmla="*/ 249120 h 5257440"/>
                <a:gd name="textAreaBottom" fmla="*/ 5008320 h 5257440"/>
              </a:gdLst>
              <a:ahLst/>
              <a:rect l="textAreaLeft" t="textAreaTop" r="textAreaRight" b="textAreaBottom"/>
              <a:pathLst>
                <a:path w="21600" h="22243">
                  <a:moveTo>
                    <a:pt x="3600" y="0"/>
                  </a:moveTo>
                  <a:arcTo wR="3600" hR="3600" stAng="16200000" swAng="-5400000"/>
                  <a:lnTo>
                    <a:pt x="0" y="18643"/>
                  </a:lnTo>
                  <a:arcTo wR="3600" hR="3600" stAng="10800000" swAng="-5400000"/>
                  <a:lnTo>
                    <a:pt x="18000" y="2224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21160" y="3834000"/>
              <a:ext cx="118800" cy="705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389840" y="3826080"/>
              <a:ext cx="317160" cy="378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47960" y="2567880"/>
              <a:ext cx="528840" cy="9453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76200" y="3210480"/>
              <a:ext cx="165600" cy="11088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65040" y="3148920"/>
              <a:ext cx="168840" cy="385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24720" y="5932440"/>
              <a:ext cx="10800" cy="450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566600" y="4794120"/>
              <a:ext cx="1440" cy="1015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338880" y="1713960"/>
              <a:ext cx="1440" cy="39837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762080" y="1868760"/>
              <a:ext cx="144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10400" y="1917000"/>
              <a:ext cx="1080" cy="39834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09800" y="1760400"/>
              <a:ext cx="38682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09560" y="1156680"/>
              <a:ext cx="1243080" cy="1156320"/>
              <a:chOff x="2509560" y="1156680"/>
              <a:chExt cx="1243080" cy="115632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09560" y="1156680"/>
                <a:ext cx="1220760" cy="1156320"/>
                <a:chOff x="2509560" y="1156680"/>
                <a:chExt cx="1220760" cy="115632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0320" y="1156680"/>
                  <a:ext cx="1135440" cy="1156320"/>
                  <a:chOff x="2560320" y="1156680"/>
                  <a:chExt cx="1135440" cy="115632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0320" y="1156680"/>
                    <a:ext cx="1135440" cy="115632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Arial Narrow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09560" y="1423080"/>
                  <a:ext cx="1220760" cy="36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1880" y="1566720"/>
                <a:ext cx="1220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41440" y="1156680"/>
              <a:ext cx="1221480" cy="1156320"/>
              <a:chOff x="4141440" y="1156680"/>
              <a:chExt cx="1221480" cy="115632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181760" y="1156680"/>
                <a:ext cx="1136160" cy="115632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41440" y="156672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18240" y="1156680"/>
              <a:ext cx="1221480" cy="1156320"/>
              <a:chOff x="5718240" y="1156680"/>
              <a:chExt cx="1221480" cy="115632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762880" y="1156680"/>
                <a:ext cx="1136160" cy="1156320"/>
                <a:chOff x="5762880" y="1156680"/>
                <a:chExt cx="1136160" cy="115632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762880" y="1156680"/>
                  <a:ext cx="1136160" cy="115632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Arial Narrow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18240" y="1571040"/>
                <a:ext cx="122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85040" y="307512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2509560" y="2458440"/>
              <a:ext cx="1223280" cy="1155960"/>
              <a:chOff x="2509560" y="2458440"/>
              <a:chExt cx="1223280" cy="115596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3880" y="2458440"/>
                <a:ext cx="11386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09560" y="2737080"/>
                <a:ext cx="1223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189680" y="2519280"/>
              <a:ext cx="113580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28920" y="2535480"/>
              <a:ext cx="11340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5663160" y="2475720"/>
              <a:ext cx="1316880" cy="1155960"/>
              <a:chOff x="5663160" y="2475720"/>
              <a:chExt cx="1316880" cy="115596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38040" y="247572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663160" y="2766960"/>
                <a:ext cx="1316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09800" y="431388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509560" y="3779280"/>
              <a:ext cx="1221480" cy="1157400"/>
              <a:chOff x="2509560" y="3779280"/>
              <a:chExt cx="1221480" cy="115740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0880" y="3779280"/>
                <a:ext cx="113652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09560" y="400428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4141440" y="3779280"/>
              <a:ext cx="1221480" cy="1157400"/>
              <a:chOff x="4141440" y="3779280"/>
              <a:chExt cx="1221480" cy="115740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67720" y="3779280"/>
                <a:ext cx="1136880" cy="11574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41440" y="402228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38400" y="3772800"/>
              <a:ext cx="1137240" cy="115812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18240" y="3850200"/>
              <a:ext cx="122148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85040" y="5626800"/>
              <a:ext cx="38682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434680" y="5090400"/>
              <a:ext cx="1399680" cy="1155960"/>
              <a:chOff x="2434680" y="5090400"/>
              <a:chExt cx="1399680" cy="115596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1200" y="5090400"/>
                <a:ext cx="113544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4680" y="5319000"/>
                <a:ext cx="1399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141440" y="5024160"/>
              <a:ext cx="1221480" cy="1156320"/>
              <a:chOff x="4141440" y="5024160"/>
              <a:chExt cx="1221480" cy="115632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189320" y="5024160"/>
                <a:ext cx="1135440" cy="115632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41440" y="5318640"/>
                <a:ext cx="1221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5738400" y="5090400"/>
              <a:ext cx="1221480" cy="1155960"/>
              <a:chOff x="5738400" y="5090400"/>
              <a:chExt cx="1221480" cy="115596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757120" y="5090400"/>
                <a:ext cx="1136880" cy="115596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38400" y="5319000"/>
                <a:ext cx="1221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ffffff"/>
                  </a:solidFill>
                  <a:latin typeface="Arial Narrow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E456A-93D1-4E38-8FAC-C761155B2D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ative or semi-quantitative tests - Exampl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6840" y="1599840"/>
            <a:ext cx="807732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scopic examin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pstick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rologic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icrobiological procedur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y reaction that produces non-numeric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8053-4660-49E6-BEDA-65F6E10B59C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0" t="0" r="4400" b="1607"/>
          <a:stretch/>
        </p:blipFill>
        <p:spPr>
          <a:xfrm>
            <a:off x="5638680" y="4572000"/>
            <a:ext cx="2457720" cy="16826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15272" t="17455" r="15272" b="14546"/>
          <a:stretch/>
        </p:blipFill>
        <p:spPr>
          <a:xfrm>
            <a:off x="3429000" y="4572000"/>
            <a:ext cx="2209680" cy="1676520"/>
          </a:xfrm>
          <a:prstGeom prst="rect">
            <a:avLst/>
          </a:prstGeom>
          <a:ln w="0">
            <a:noFill/>
          </a:ln>
        </p:spPr>
      </p:pic>
      <p:pic>
        <p:nvPicPr>
          <p:cNvPr id="198" name="wbcrbc" descr=""/>
          <p:cNvPicPr/>
          <p:nvPr/>
        </p:nvPicPr>
        <p:blipFill>
          <a:blip r:embed="rId3"/>
          <a:srcRect l="20336" t="0" r="0" b="0"/>
          <a:stretch/>
        </p:blipFill>
        <p:spPr>
          <a:xfrm>
            <a:off x="1523880" y="4572000"/>
            <a:ext cx="1941480" cy="16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F7EB2-DFD5-448C-9E45-F8DCA735F4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ortant Concep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mple manageme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ff competency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mainten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ins, media and reagents manag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30A7-0687-43D7-AB86-56C301A8E49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08EC-0E50-4713-9069-8BCF67000B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Control Materia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control materials that mimic patient sample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reference organism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6BCD4-3116-4F4D-8B38-A27B7801F4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uilt-in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ntegrated into the design of a test kit devi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utomatically run with each test perform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certain aspects of kit performa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y not assess enti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esting proc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2782C-7FD1-4DA2-BACC-7D5C91BAC2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aditional Control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aterials with known reacti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mimic patient samp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ess the integrity of the entir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ocess Control: Qualitative and Semi-Quantitative QC-Module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4E8A0-D219-452F-845C-BDFB5EA60A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09:52:17Z</dcterms:modified>
  <cp:revision>464</cp:revision>
  <dc:subject/>
  <dc:title>Slide 1</dc:title>
</cp:coreProperties>
</file>