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E56AA-F92A-4968-BD93-D8088D3B99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1E7C8-7857-4D9D-9BEF-C0ACAEEA203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117A7-D116-4846-89CF-64C1E1E319D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E0ED8A8-3B32-45EC-A80D-5A4DE2A46ED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0861462-FBAB-4976-BD5B-3CE8D24CA8CF}" type="datetime">
              <a:rPr b="0" lang="fr-FR" sz="1200" spc="-1" strike="noStrike">
                <a:solidFill>
                  <a:srgbClr val="000000"/>
                </a:solidFill>
                <a:latin typeface="Times New Roman"/>
                <a:ea typeface="Arial"/>
              </a:rPr>
              <a:t>31/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4013A-3D63-4F63-8309-E2020EAF019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4D6FB-E475-4745-AB43-BFE27BEC37C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9AAF30-DBE4-4895-AD72-617887590A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4B70B-BA52-4706-B518-BEF0C7204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F7EC24-1631-416F-9FEF-B26894F18E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8C6A9D-A3AD-43F5-9F63-5EF4B0CFFD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E5B03-E3D6-4B93-83FF-0F45016FB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F26CA-8C4B-4FFC-B3EE-433576DF5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3A283-FEC9-4BCF-87D0-0102573CE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2AD5A-3FA9-4C8F-BB9A-4AF2B3817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70B6C-43AA-4F50-8448-C94DF6737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6888C-5C72-419D-AC57-BAC8E7522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5A4D9-880F-46C0-A217-7CF970016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BA2D7-519B-478A-86E9-188983574B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1A582-5BE5-43FE-B79C-1FC43C4E03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1318A22-B407-4C54-AE29-7AE23AC6AFC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84421-4D27-4577-9FEB-0B4CB9AB24FA}"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3B300-06C1-44CE-A133-C4EFDA8F2D1E}"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