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98BF5-6A05-4188-AE6F-BDBBCC63B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E7F44-198A-474D-8DB4-1132A0E79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B308A-0BF0-4A2F-BF6F-E3EC22AB1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DC141-AA90-4B7B-9EC9-4D9D031C0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83BDD-EBF0-48D9-9E0B-688E5C48D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A8312-B222-4A81-8CD0-E5BE92AAE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81E31-E509-4CE0-92A0-34DAFEC99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8D741-28DB-40B1-80F7-33B432DDA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2627E-7D62-4578-AFA4-AA9255F4D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03BB6-6240-4A7E-8CFB-75DE8D04E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16840-2A7C-4072-A8BB-475620BE5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D3495-6E4F-4A5E-835C-02B8B814E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3D942-B6EC-4BC7-8C39-22870AF04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0D353-BD54-4780-A51D-AB592D9FF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BA399-61C3-44F3-BFAF-155E0B5E5E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15247-8CB4-402E-8CBD-F080104C29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7C080-FB88-44F9-85A7-1B35E667AF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106EE-15AC-41B7-BCD4-D3D8B251C4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E2D5-D4AC-4984-B65C-6CA572828F9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BEB1-3797-4CC8-980E-BAC07EA2CB5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7FA9-73A8-4848-8AE8-686D1571139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B118-E14E-43E7-910D-BECA0EA27C1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9268-CB87-45D0-9B79-74BF597B355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AFFB-20EC-42AC-890A-1F1731B96FD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3938-CF8A-449D-9413-7A9BA0A78D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7C841-C725-486E-B121-4FE5C1CE8A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FB00-9DAB-469A-A7F2-68390D378A7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B7BA-53B8-41A4-9CF7-35563D781BF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8F67-F987-4B57-823F-6DE89DEA777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EC01-6FEE-40F2-8C1E-60AE763EDAE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F8FF-1488-4E9A-BE0C-3560A046F0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1D163-D287-4E9D-8301-160BD20643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E2B3D-613C-4B30-9333-03D52C75D2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1D617-E895-40A7-9594-44B200363C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F8F61-678E-43A1-B500-4880D5C64C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67BE8-61D7-4723-ABC1-A304F37E43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087C3-946F-4CFB-A08C-4B6B61F853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E5534-940B-428F-A658-DC98456BA6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CF9C7-E461-4F9D-938B-6DA7A61042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40000" indent="-205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51480" indent="-205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29615-9883-4EA0-95E3-0AD81DFDFC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2971800" y="1600200"/>
            <a:ext cx="61722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cess Control: Q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uality Control of Qualitative and Semi-Quantitative Procedure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5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5F89-9A59-4125-89D5-25E839D2E50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sing 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 as per patient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positive and negative contr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a weak positive control for immunological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oose positive controls close to the cut-off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control to monitor extraction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05C07-51E9-4485-8799-9972EB2073B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A74F0-C60C-49DA-A0FB-E6EECB6289A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3200400" cy="275616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D8EBA-645E-4D8C-A3F1-4B5BF1F703C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ck Cultures for QC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ence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in-house developed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able reactions in stains and medi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media, reag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supplies work as int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886200" y="434340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A38B9-155F-46DA-9ABC-F8869B38343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ources for Obtaining Reference Strai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C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merican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TCC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ional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(UK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teur Institute Collection (Fran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78998-4301-43E2-8ECE-93F41190B2F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ABFFF-0705-4853-B81D-ABB8FB54537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C3A38-A649-491D-B8A5-6F76CD8F599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s are important—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e care of them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21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5659560" y="525780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o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95520" y="52578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Continued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D89DC-7309-439B-A174-A847193D895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E5F6A-C9B5-4058-97E1-F1837E8336A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 Manag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established procedure for preparation or reconstit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el: content, concentration, date prepared and placed in service, expiration, initi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appropriate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566C6-336F-4EF0-8ED4-03823C618FF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BAB95-4008-47B4-BBE7-AE169C3B608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for St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s appropriate for particular stain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with known organisms or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rystal shards or for precip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ontaminants such as bacteria and fung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581280" y="4800600"/>
            <a:ext cx="2057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right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am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5D9F8-1776-4696-9E7F-043EC502CE7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B9A15-1F2C-4746-BE94-8E2B6CFCA76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ram Stain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6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"/>
          <p:cNvSpPr/>
          <p:nvPr/>
        </p:nvSpPr>
        <p:spPr>
          <a:xfrm>
            <a:off x="83808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9900"/>
                </a:solidFill>
                <a:latin typeface="Verdana"/>
              </a:rPr>
              <a:t>Good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5178240" y="502920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Verdana"/>
              </a:rPr>
              <a:t>Poor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10DD0-0C2B-4296-89C0-8561C9DB60B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A2642-84A5-4690-A39C-004292CB86C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of Microbiology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erformance of all med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-house prepared: all batch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ercially prepared: new lot on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581280" y="3505320"/>
            <a:ext cx="22100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cConkey Aga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C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non-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ED35D-3FF7-4C14-AB90-5048559AA30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B3352-9A7C-4E1C-A4D0-5A94DFFEED2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dia Problems to Avoi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3809880" y="1447920"/>
            <a:ext cx="2514600" cy="914400"/>
            <a:chOff x="3809880" y="1447920"/>
            <a:chExt cx="2514600" cy="914400"/>
          </a:xfrm>
        </p:grpSpPr>
        <p:sp>
          <p:nvSpPr>
            <p:cNvPr id="249" name="AutoShape 8"/>
            <p:cNvSpPr/>
            <p:nvPr/>
          </p:nvSpPr>
          <p:spPr>
            <a:xfrm>
              <a:off x="3888360" y="190512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AutoShape 9"/>
            <p:cNvSpPr/>
            <p:nvPr/>
          </p:nvSpPr>
          <p:spPr>
            <a:xfrm>
              <a:off x="3809880" y="144792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5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5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5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5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6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6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6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70" name="Text Box 32"/>
          <p:cNvSpPr/>
          <p:nvPr/>
        </p:nvSpPr>
        <p:spPr>
          <a:xfrm>
            <a:off x="912960" y="1523880"/>
            <a:ext cx="275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-d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ied-ou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min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609480" y="3200400"/>
            <a:ext cx="8229600" cy="26535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Human bloo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hould not be used because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 much batch to batch vari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include inhibitory substanc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including antimicrobial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contain biohazar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(e.g., hepatitis virus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1950840" cy="15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F6AB3-CD56-4CF9-9762-FA175E15B85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7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F256F-90E9-4BF5-99F5-9854C58F95D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of Growth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eep records for media prepared in-h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ord outcomes in a dedicated media logbook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,  sterility,  ability to support growth using stock cultures,  biochemical response of stock cul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st each new batch or lot nu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BC192-9C9C-4407-ACFD-7F5EA2019FB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52B70-789A-4D2C-8FFE-548E63C5CFE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between built-in and traditional contro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use stock cultures for microbiology Q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use of quality control procedures for stains used in microscopic examin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methods for verifying performance of microbiological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A2E6E-CDEF-4E1D-BA2B-F7157B77DE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5A96F-16D5-427C-97CD-CEA9F849AC8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qualitative tests produce non-numerical resul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mi-quantitative tests give an estim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stablish a QC program for qualitative and semi-quantitative tes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C7CE1-7EC1-4E45-A533-3658CAE1FC4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QC procedures followed by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lways record QC results and corrective 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f QC results are not acceptable, do not report patient result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88549-C7C7-4318-884F-5FFB0983FC2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41758-9BF9-4670-B6E9-AFAA1DF51CE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85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99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300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301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302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03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04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05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6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307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8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9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310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311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2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13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4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316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8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321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23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325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6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328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9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30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334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5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337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8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340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1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5E881-40E8-417F-AC8A-B33CB91562D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y A performs a culture, a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identified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QC measures can you use to confirm that the isolate is correctly identified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1808E-6FE9-4225-AC79-92498A93A80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09680" y="1066680"/>
            <a:ext cx="5105520" cy="5257440"/>
            <a:chOff x="2209680" y="1066680"/>
            <a:chExt cx="5105520" cy="5257440"/>
          </a:xfrm>
        </p:grpSpPr>
        <p:sp>
          <p:nvSpPr>
            <p:cNvPr id="136" name="AutoShape 4"/>
            <p:cNvSpPr/>
            <p:nvPr/>
          </p:nvSpPr>
          <p:spPr>
            <a:xfrm>
              <a:off x="2209680" y="1066680"/>
              <a:ext cx="5105520" cy="5257440"/>
            </a:xfrm>
            <a:custGeom>
              <a:avLst/>
              <a:gdLst>
                <a:gd name="textAreaLeft" fmla="*/ 249120 w 5105520"/>
                <a:gd name="textAreaRight" fmla="*/ 4856400 w 5105520"/>
                <a:gd name="textAreaTop" fmla="*/ 249120 h 5257440"/>
                <a:gd name="textAreaBottom" fmla="*/ 5008320 h 5257440"/>
              </a:gdLst>
              <a:ahLst/>
              <a:rect l="textAreaLeft" t="textAreaTop" r="textAreaRight" b="textAreaBottom"/>
              <a:pathLst>
                <a:path w="21600" h="22243">
                  <a:moveTo>
                    <a:pt x="3600" y="0"/>
                  </a:moveTo>
                  <a:arcTo wR="3600" hR="3600" stAng="16200000" swAng="-5400000"/>
                  <a:lnTo>
                    <a:pt x="0" y="18643"/>
                  </a:lnTo>
                  <a:arcTo wR="3600" hR="3600" stAng="10800000" swAng="-5400000"/>
                  <a:lnTo>
                    <a:pt x="18000" y="22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21160" y="3834000"/>
              <a:ext cx="118800" cy="705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76200" y="3210480"/>
              <a:ext cx="165600" cy="1108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65040" y="3148920"/>
              <a:ext cx="168840" cy="385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24720" y="5932440"/>
              <a:ext cx="10800" cy="450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566600" y="4794120"/>
              <a:ext cx="1440" cy="101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338880" y="1713960"/>
              <a:ext cx="1440" cy="39837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762080" y="1868760"/>
              <a:ext cx="144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10400" y="1917000"/>
              <a:ext cx="108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09800" y="1760400"/>
              <a:ext cx="38682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09560" y="1156680"/>
              <a:ext cx="1243080" cy="1156320"/>
              <a:chOff x="2509560" y="1156680"/>
              <a:chExt cx="1243080" cy="115632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09560" y="1156680"/>
                <a:ext cx="1220760" cy="1156320"/>
                <a:chOff x="2509560" y="1156680"/>
                <a:chExt cx="1220760" cy="115632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0320" y="1156680"/>
                  <a:ext cx="1135440" cy="1156320"/>
                  <a:chOff x="2560320" y="1156680"/>
                  <a:chExt cx="1135440" cy="115632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09560" y="1423080"/>
                  <a:ext cx="122076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1880" y="156672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41440" y="1156680"/>
              <a:ext cx="1221480" cy="1156320"/>
              <a:chOff x="4141440" y="1156680"/>
              <a:chExt cx="1221480" cy="115632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181760" y="1156680"/>
                <a:ext cx="1136160" cy="115632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41440" y="156672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18240" y="1156680"/>
              <a:ext cx="1221480" cy="1156320"/>
              <a:chOff x="5718240" y="1156680"/>
              <a:chExt cx="1221480" cy="115632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762880" y="1156680"/>
                <a:ext cx="1136160" cy="1156320"/>
                <a:chOff x="5762880" y="1156680"/>
                <a:chExt cx="1136160" cy="115632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18240" y="15710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85040" y="307512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509560" y="2458440"/>
              <a:ext cx="1223280" cy="1155960"/>
              <a:chOff x="2509560" y="2458440"/>
              <a:chExt cx="1223280" cy="115596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3880" y="2458440"/>
                <a:ext cx="11386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09560" y="273708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189680" y="2519280"/>
              <a:ext cx="113580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28920" y="2535480"/>
              <a:ext cx="113400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663160" y="2475720"/>
              <a:ext cx="1316880" cy="1155960"/>
              <a:chOff x="5663160" y="2475720"/>
              <a:chExt cx="1316880" cy="115596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38040" y="247572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663160" y="276696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09800" y="431388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509560" y="3779280"/>
              <a:ext cx="1221480" cy="1157400"/>
              <a:chOff x="2509560" y="3779280"/>
              <a:chExt cx="1221480" cy="115740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0880" y="3779280"/>
                <a:ext cx="113652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09560" y="400428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141440" y="3779280"/>
              <a:ext cx="1221480" cy="1157400"/>
              <a:chOff x="4141440" y="3779280"/>
              <a:chExt cx="1221480" cy="115740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67720" y="3779280"/>
                <a:ext cx="113688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41440" y="4022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38400" y="3772800"/>
              <a:ext cx="113724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18240" y="385020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85040" y="562680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434680" y="5090400"/>
              <a:ext cx="1399680" cy="1155960"/>
              <a:chOff x="2434680" y="5090400"/>
              <a:chExt cx="1399680" cy="115596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1200" y="5090400"/>
                <a:ext cx="113544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4680" y="5319000"/>
                <a:ext cx="139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41440" y="5024160"/>
              <a:ext cx="1221480" cy="1156320"/>
              <a:chOff x="4141440" y="5024160"/>
              <a:chExt cx="1221480" cy="115632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189320" y="5024160"/>
                <a:ext cx="1135440" cy="115632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41440" y="53186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738400" y="5090400"/>
              <a:ext cx="1221480" cy="1155960"/>
              <a:chOff x="5738400" y="5090400"/>
              <a:chExt cx="1221480" cy="115596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757120" y="509040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38400" y="531900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7110A-8B6D-4DD7-895D-D04E555F9A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ative or semi-quantitative tests - Exampl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scopic examin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pstick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rologic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biological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y reaction that produces non-numeric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62DA0-AF71-47EB-97E4-AA8B5900D4C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98" name="wbcrbc" descr="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0543B-3E7A-4A9E-AFC5-30B4203BA46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ortant Concep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mple manageme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ff competenc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mainten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ins, media and reagents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3019C-B0E0-4B45-88C1-F4F85D51598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04010-8120-41FD-9681-F7971EB543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Materia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ontrol materials that mimic patient samp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ference organis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05445-5D9B-4F72-A82F-F883BC72CA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tegrated into the design of a test kit dev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utomatically run with each test perform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certain aspects of kit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y not assess enti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esting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9CA23-491F-42F3-9AE7-3047937B9C4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terials with known reacti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imic patient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the integrity of the entir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DC9C8-8F79-49A1-9D7D-9A545713E75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09:52:17Z</dcterms:modified>
  <cp:revision>464</cp:revision>
  <dc:subject/>
  <dc:title>Slide 1</dc:title>
</cp:coreProperties>
</file>