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7FE9D-6572-40A8-83E5-5E7D796F7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81C0B-D154-4979-B362-EE981B3A0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4E153-EF5B-4808-AF51-29B0CCAA5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5230A-5E80-444B-B549-4272B7445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E9375-0F1A-47F5-9636-9E685D8C6F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F35C7-5374-414C-90F7-E9E5B72772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43B3C-6452-4D1B-86FB-4A1DDF22FA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5AF96-9D6F-47D0-96CC-A5F51FF961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E4C9B-3A1D-4604-80E4-2BD4EEEC8C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FB48B-0765-43BF-8897-808BAFA7F3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4E547-ADE8-4F73-B18B-DA1B68CD1B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5E051-0E6E-41FA-8202-CE71CDF6CE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EE44B-AFA7-4627-82A3-882F113826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95902-DD07-4904-A1A9-3346B2EA9C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BCEFE-4BFD-49F4-9A00-DCFA404A84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B3F10-00F8-4E85-84AF-F7A4624488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F6E3D-870F-42A9-B14E-45F8D35D60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43571-330A-4781-8739-D6A167BE72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B7D90-CB1B-4E63-9302-1D4482EADB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EC47C-664C-4FBC-9529-DB46B577CD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for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laborator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12_essentials"/>
          <p:cNvPicPr/>
          <p:nvPr/>
        </p:nvPicPr>
        <p:blipFill>
          <a:blip r:embed="rId1"/>
          <a:stretch/>
        </p:blipFill>
        <p:spPr>
          <a:xfrm>
            <a:off x="1295280" y="2743200"/>
            <a:ext cx="3063960" cy="320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B473C-9DA1-4F61-A2F2-26332F7A56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B55C-2485-481A-8755-84623E5C2E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iciency testing schemes (PTS) are interlaboratory comparisons that are organized regularly to assess the performance of analytical laboratories and the competence of the analytical personnel.”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50D9B-10B3-4801-91B0-5BBC4920C6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33326-D99C-4133-9F0C-601852AB9C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3716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in which multiple samples are periodically sent to members of a group of laboratories for analysis and/or identification; whereby each laboratory’s results are compared with those of other laboratories in the group and/or with an assigned value, and reported to the participating laboratories and oth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8E008-6DDA-4F9E-BFA8-B1610CE413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28600" y="1066680"/>
            <a:ext cx="373392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T organization /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84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9"/>
          <p:cNvSpPr/>
          <p:nvPr/>
        </p:nvSpPr>
        <p:spPr>
          <a:xfrm flipV="1">
            <a:off x="1183320" y="2184120"/>
            <a:ext cx="4418280" cy="57312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90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97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304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PT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312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39"/>
          <p:cNvSpPr/>
          <p:nvPr/>
        </p:nvSpPr>
        <p:spPr>
          <a:xfrm>
            <a:off x="662940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urn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129528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sample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sent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655308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319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4419720" y="58672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Correctiv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ocument"/>
          <p:cNvSpPr/>
          <p:nvPr/>
        </p:nvSpPr>
        <p:spPr>
          <a:xfrm>
            <a:off x="4419720" y="441972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EC36A-A138-4C6C-8BB7-0143DECC38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7ADE0-2CC2-4A49-B8E2-B8674C951E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332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334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26"/>
          <p:cNvCxnSpPr>
            <a:stCxn id="338" idx="2"/>
            <a:endCxn id="340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Text Box 30"/>
          <p:cNvSpPr/>
          <p:nvPr/>
        </p:nvSpPr>
        <p:spPr>
          <a:xfrm>
            <a:off x="1406520" y="53928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ussion between l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: Roles of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inal P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por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347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348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351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648320" y="3657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ze same manner with sa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9"/>
          <p:cNvSpPr/>
          <p:nvPr/>
        </p:nvSpPr>
        <p:spPr>
          <a:xfrm>
            <a:off x="464832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0"/>
          <p:cNvSpPr/>
          <p:nvPr/>
        </p:nvSpPr>
        <p:spPr>
          <a:xfrm>
            <a:off x="640080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75F32-E368-4373-985A-3F07FBF3E9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609480"/>
            <a:ext cx="8229600" cy="4768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nformation received from PT participation must be directed toward improvement in the laboratory to receive the full 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5"/>
          <p:cNvSpPr/>
          <p:nvPr/>
        </p:nvSpPr>
        <p:spPr>
          <a:xfrm>
            <a:off x="4572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56948-5C87-4902-AFEB-FD9374BDBF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33520" y="13716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results are affected by variables not related to patient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will not detect all problems in the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may not detect problems with pre- and post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PT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76D12-B1DD-459E-895E-83AFD9CEC0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Other EQA Methods</a:t>
            </a:r>
            <a:br>
              <a:rPr sz="32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hecking/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82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5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ferenc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iphera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89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91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94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97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400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03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404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07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408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411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414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417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AC5B4-E6FA-4DA4-816B-8DD6500138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1A72C-B8EE-4582-B26B-610F72D54E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ed by reference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ed on dried blood spots or se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bli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arily used to assess HIV rapid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3E739-59B2-4C47-9929-95F0447207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D0523-B0D9-4DBC-8465-1308832FE1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checking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must be collected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systematic sampling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ve discrepa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AF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41720" cy="199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_crop"/>
          <p:cNvPicPr/>
          <p:nvPr/>
        </p:nvPicPr>
        <p:blipFill>
          <a:blip r:embed="rId2"/>
          <a:stretch/>
        </p:blipFill>
        <p:spPr>
          <a:xfrm>
            <a:off x="6705720" y="3276720"/>
            <a:ext cx="1923840" cy="3008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26"/>
          <p:cNvSpPr/>
          <p:nvPr/>
        </p:nvSpPr>
        <p:spPr>
          <a:xfrm>
            <a:off x="5334120" y="49528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7A97D-63FA-4BE8-8190-DE6BEC750C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9D4C6-1B00-4AC3-AF1B-58B3ABA377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D542E-ED5E-48F6-BEE8-5A726D11A9A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an EQA program in improving the quality of laboratory test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at least three EQA methods and the advantages and disadvantages of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e a method to investigate an unacceptable test result from an EQA s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D10A9-574E-470A-8419-B1CF0A6357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B553E-1A6E-49CF-B20D-094E0D386D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parison of rechecking non-blinded and random blinded smears for acid-fast bacilli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09480" y="1752480"/>
          <a:ext cx="8153640" cy="390996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438640"/>
              </a:tblGrid>
              <a:tr h="13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ance characteristics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linded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blinded sampl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8CF19-66EC-4237-B6C0-EE43938FC0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n-site Evalu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04920" y="1219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btain a realistic picture of labora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ssistance with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9"/>
          <p:cNvSpPr/>
          <p:nvPr/>
        </p:nvSpPr>
        <p:spPr>
          <a:xfrm>
            <a:off x="304920" y="5791320"/>
            <a:ext cx="441936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group or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4648320" y="4419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eriodic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EE547-D522-431E-964A-7C04D6435C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FB Microscopy </a:t>
            </a:r>
            <a:r>
              <a:rPr b="0" lang="en-US" sz="2400" spc="-1" strike="noStrike">
                <a:solidFill>
                  <a:srgbClr val="00007d"/>
                </a:solidFill>
                <a:latin typeface="Verdana"/>
              </a:rPr>
              <a:t>Comparison of performance before and after on-site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monitoring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533520" y="1712880"/>
          <a:ext cx="8229600" cy="407052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6765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and 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contamination of sputum c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isinfec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biohazard waste bin (cove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ab c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ists do not wash h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ge of lab re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sputum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filling of laboratory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labeling slides/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1"/>
          <p:cNvSpPr/>
          <p:nvPr/>
        </p:nvSpPr>
        <p:spPr>
          <a:xfrm>
            <a:off x="53352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716440" y="129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FOR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3152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3C9BE-BD00-44B7-A142-850D9D6260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8C7EF-E1E5-44E7-A85C-2B78B01F9B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宋体"/>
              </a:rPr>
              <a:t>Proficiency Testing and Rechecking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1741320"/>
          <a:ext cx="8153640" cy="4054680"/>
        </p:xfrm>
        <a:graphic>
          <a:graphicData uri="http://schemas.openxmlformats.org/drawingml/2006/table">
            <a:tbl>
              <a:tblPr/>
              <a:tblGrid>
                <a:gridCol w="3353040"/>
                <a:gridCol w="2184120"/>
                <a:gridCol w="2616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erlaboratory 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imulated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al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/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me and resources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nalytes evalu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65623-2A67-4929-9128-C7289DF19B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E47F0-927C-47DB-BAEB-6170DA1864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Participa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men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ll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d by I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75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77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7E22C-846D-4B5B-BFFB-4E201DFF3F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Management Process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e and analyze EQA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 EQA samples same as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and 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 corrective action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A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rot="16200000">
            <a:off x="3390840" y="51429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417E2-1ACF-4F5E-8A47-7F5B6C5F09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CCCBF-1A43-4D73-9F6D-1EEBA92B76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EQA performance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248520" y="1371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e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st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E6EF0-EB7C-4E31-8FBB-D796CC0B16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3C5D0-7F5E-442F-879B-95C75960C9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5638680" y="1371600"/>
            <a:ext cx="3200400" cy="327672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rr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FB9E9-32C3-4496-A9A7-336730C864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F0D46-FDF8-484E-B708-334B0CB97D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system for objectively checking the laboratory’s performance using an 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participate in EQ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methods of EQA i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amples must be treated the same as patient samp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1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943E5-98E3-4314-A7B4-A995886B3F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067F8-EC20-4363-B88F-8A3956A79A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uses valuable resources, make best possibl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not be puni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be viewed as educa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can help direct improvement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critical element of a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5A29D-088A-44AE-9C98-0DE4018964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5D23C-AB5A-42B3-AC43-D3B56A3B0A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86D3D-1673-478F-98AE-6520F7AB3B8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newly appoi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 supervis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 begun revie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st EQA results, and observes poor Gram stain performanc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How should the laboratory investigate this problem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bd07156_"/>
          <p:cNvPicPr/>
          <p:nvPr/>
        </p:nvPicPr>
        <p:blipFill>
          <a:blip r:embed="rId1"/>
          <a:stretch/>
        </p:blipFill>
        <p:spPr>
          <a:xfrm>
            <a:off x="5943600" y="533520"/>
            <a:ext cx="26557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549FC-CE10-4BAF-B85C-04EA1E75BF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4672B-DA1D-49D2-B192-8021B63523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7" name="Group 192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528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543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544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545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550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553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554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23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559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28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564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32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568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35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571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241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577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44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580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7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583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73CB6-6E15-45F7-9830-70FC30027F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5520F-1333-4B91-9C68-4E91388E3D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2133720" y="1143000"/>
            <a:ext cx="5105160" cy="4800600"/>
            <a:chOff x="2133720" y="1143000"/>
            <a:chExt cx="5105160" cy="4800600"/>
          </a:xfrm>
        </p:grpSpPr>
        <p:sp>
          <p:nvSpPr>
            <p:cNvPr id="158" name="AutoShape 4"/>
            <p:cNvSpPr/>
            <p:nvPr/>
          </p:nvSpPr>
          <p:spPr>
            <a:xfrm>
              <a:off x="2133720" y="1143000"/>
              <a:ext cx="5105160" cy="480060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4345200" y="3669840"/>
              <a:ext cx="118800" cy="64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3000240" y="3100320"/>
              <a:ext cx="165600" cy="101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989080" y="3044160"/>
              <a:ext cx="168480" cy="352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4748760" y="5585760"/>
              <a:ext cx="10800" cy="410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4490640" y="4545720"/>
              <a:ext cx="1440" cy="92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6262560" y="1733760"/>
              <a:ext cx="1440" cy="3637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4686120" y="1875240"/>
              <a:ext cx="144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034440" y="1919160"/>
              <a:ext cx="108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2734200" y="177660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5"/>
            <p:cNvGrpSpPr/>
            <p:nvPr/>
          </p:nvGrpSpPr>
          <p:grpSpPr>
            <a:xfrm>
              <a:off x="2433600" y="1225080"/>
              <a:ext cx="1243080" cy="1055880"/>
              <a:chOff x="2433600" y="1225080"/>
              <a:chExt cx="1243080" cy="1055880"/>
            </a:xfrm>
          </p:grpSpPr>
          <p:grpSp>
            <p:nvGrpSpPr>
              <p:cNvPr id="173" name="Group 66"/>
              <p:cNvGrpSpPr/>
              <p:nvPr/>
            </p:nvGrpSpPr>
            <p:grpSpPr>
              <a:xfrm>
                <a:off x="2433600" y="1225080"/>
                <a:ext cx="1220760" cy="1055880"/>
                <a:chOff x="2433600" y="1225080"/>
                <a:chExt cx="1220760" cy="1055880"/>
              </a:xfrm>
            </p:grpSpPr>
            <p:grpSp>
              <p:nvGrpSpPr>
                <p:cNvPr id="174" name="Group 67"/>
                <p:cNvGrpSpPr/>
                <p:nvPr/>
              </p:nvGrpSpPr>
              <p:grpSpPr>
                <a:xfrm>
                  <a:off x="2484360" y="1225080"/>
                  <a:ext cx="1135440" cy="1055880"/>
                  <a:chOff x="2484360" y="1225080"/>
                  <a:chExt cx="1135440" cy="1055880"/>
                </a:xfrm>
              </p:grpSpPr>
              <p:sp>
                <p:nvSpPr>
                  <p:cNvPr id="175" name="Freeform 68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9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Text Box 70"/>
                <p:cNvSpPr/>
                <p:nvPr/>
              </p:nvSpPr>
              <p:spPr>
                <a:xfrm>
                  <a:off x="2433600" y="1468440"/>
                  <a:ext cx="1220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71"/>
              <p:cNvSpPr/>
              <p:nvPr/>
            </p:nvSpPr>
            <p:spPr>
              <a:xfrm>
                <a:off x="2455920" y="159948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4065120" y="1225080"/>
              <a:ext cx="1221480" cy="1055880"/>
              <a:chOff x="4065120" y="1225080"/>
              <a:chExt cx="1221480" cy="1055880"/>
            </a:xfrm>
          </p:grpSpPr>
          <p:sp>
            <p:nvSpPr>
              <p:cNvPr id="180" name="Freeform 73"/>
              <p:cNvSpPr/>
              <p:nvPr/>
            </p:nvSpPr>
            <p:spPr>
              <a:xfrm>
                <a:off x="4105440" y="1225080"/>
                <a:ext cx="1136160" cy="105588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4065120" y="159948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5"/>
            <p:cNvGrpSpPr/>
            <p:nvPr/>
          </p:nvGrpSpPr>
          <p:grpSpPr>
            <a:xfrm>
              <a:off x="5641920" y="1225080"/>
              <a:ext cx="1221480" cy="1055880"/>
              <a:chOff x="5641920" y="1225080"/>
              <a:chExt cx="1221480" cy="1055880"/>
            </a:xfrm>
          </p:grpSpPr>
          <p:grpSp>
            <p:nvGrpSpPr>
              <p:cNvPr id="183" name="Group 76"/>
              <p:cNvGrpSpPr/>
              <p:nvPr/>
            </p:nvGrpSpPr>
            <p:grpSpPr>
              <a:xfrm>
                <a:off x="5686560" y="1225080"/>
                <a:ext cx="1136160" cy="1055880"/>
                <a:chOff x="5686560" y="1225080"/>
                <a:chExt cx="1136160" cy="1055880"/>
              </a:xfrm>
            </p:grpSpPr>
            <p:sp>
              <p:nvSpPr>
                <p:cNvPr id="184" name="Freeform 77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78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79"/>
              <p:cNvSpPr/>
              <p:nvPr/>
            </p:nvSpPr>
            <p:spPr>
              <a:xfrm>
                <a:off x="5641920" y="16034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27"/>
            <p:cNvSpPr/>
            <p:nvPr/>
          </p:nvSpPr>
          <p:spPr>
            <a:xfrm flipH="1">
              <a:off x="2809080" y="29768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5"/>
            <p:cNvGrpSpPr/>
            <p:nvPr/>
          </p:nvGrpSpPr>
          <p:grpSpPr>
            <a:xfrm>
              <a:off x="2433600" y="2413440"/>
              <a:ext cx="1223280" cy="1055880"/>
              <a:chOff x="2433600" y="2413440"/>
              <a:chExt cx="1223280" cy="1055880"/>
            </a:xfrm>
          </p:grpSpPr>
          <p:sp>
            <p:nvSpPr>
              <p:cNvPr id="189" name="Freeform 46"/>
              <p:cNvSpPr/>
              <p:nvPr/>
            </p:nvSpPr>
            <p:spPr>
              <a:xfrm>
                <a:off x="2437920" y="2413440"/>
                <a:ext cx="11386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7"/>
              <p:cNvSpPr/>
              <p:nvPr/>
            </p:nvSpPr>
            <p:spPr>
              <a:xfrm>
                <a:off x="2433600" y="266616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31"/>
            <p:cNvSpPr/>
            <p:nvPr/>
          </p:nvSpPr>
          <p:spPr>
            <a:xfrm>
              <a:off x="4113360" y="2469240"/>
              <a:ext cx="113544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4152960" y="248400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5586840" y="2429640"/>
              <a:ext cx="1316880" cy="1055880"/>
              <a:chOff x="5586840" y="2429640"/>
              <a:chExt cx="1316880" cy="1055880"/>
            </a:xfrm>
          </p:grpSpPr>
          <p:sp>
            <p:nvSpPr>
              <p:cNvPr id="194" name="Freeform 48"/>
              <p:cNvSpPr/>
              <p:nvPr/>
            </p:nvSpPr>
            <p:spPr>
              <a:xfrm>
                <a:off x="5661720" y="242964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5"/>
              <p:cNvSpPr/>
              <p:nvPr/>
            </p:nvSpPr>
            <p:spPr>
              <a:xfrm>
                <a:off x="5586840" y="269568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 flipH="1">
              <a:off x="2734200" y="41079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4"/>
            <p:cNvGrpSpPr/>
            <p:nvPr/>
          </p:nvGrpSpPr>
          <p:grpSpPr>
            <a:xfrm>
              <a:off x="2433600" y="3619800"/>
              <a:ext cx="1221480" cy="1056960"/>
              <a:chOff x="2433600" y="3619800"/>
              <a:chExt cx="1221480" cy="1056960"/>
            </a:xfrm>
          </p:grpSpPr>
          <p:sp>
            <p:nvSpPr>
              <p:cNvPr id="198" name="Freeform 81"/>
              <p:cNvSpPr/>
              <p:nvPr/>
            </p:nvSpPr>
            <p:spPr>
              <a:xfrm>
                <a:off x="2464920" y="3619800"/>
                <a:ext cx="113652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2"/>
              <p:cNvSpPr/>
              <p:nvPr/>
            </p:nvSpPr>
            <p:spPr>
              <a:xfrm>
                <a:off x="2433600" y="382536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4065120" y="3619800"/>
              <a:ext cx="1221480" cy="1056960"/>
              <a:chOff x="4065120" y="3619800"/>
              <a:chExt cx="1221480" cy="1056960"/>
            </a:xfrm>
          </p:grpSpPr>
          <p:sp>
            <p:nvSpPr>
              <p:cNvPr id="201" name="Freeform 30"/>
              <p:cNvSpPr/>
              <p:nvPr/>
            </p:nvSpPr>
            <p:spPr>
              <a:xfrm>
                <a:off x="4091400" y="3619800"/>
                <a:ext cx="113688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4"/>
              <p:cNvSpPr/>
              <p:nvPr/>
            </p:nvSpPr>
            <p:spPr>
              <a:xfrm>
                <a:off x="4065120" y="384156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0"/>
            <p:cNvSpPr/>
            <p:nvPr/>
          </p:nvSpPr>
          <p:spPr>
            <a:xfrm>
              <a:off x="5662080" y="3613680"/>
              <a:ext cx="113688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641920" y="368424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2809080" y="53067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358720" y="4816800"/>
              <a:ext cx="1399320" cy="1055880"/>
              <a:chOff x="2358720" y="4816800"/>
              <a:chExt cx="1399320" cy="1055880"/>
            </a:xfrm>
          </p:grpSpPr>
          <p:sp>
            <p:nvSpPr>
              <p:cNvPr id="207" name="Freeform 57"/>
              <p:cNvSpPr/>
              <p:nvPr/>
            </p:nvSpPr>
            <p:spPr>
              <a:xfrm>
                <a:off x="2505240" y="4816800"/>
                <a:ext cx="113544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8"/>
              <p:cNvSpPr/>
              <p:nvPr/>
            </p:nvSpPr>
            <p:spPr>
              <a:xfrm>
                <a:off x="2358720" y="50252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065120" y="4756320"/>
              <a:ext cx="1221480" cy="1056240"/>
              <a:chOff x="4065120" y="4756320"/>
              <a:chExt cx="1221480" cy="1056240"/>
            </a:xfrm>
          </p:grpSpPr>
          <p:sp>
            <p:nvSpPr>
              <p:cNvPr id="210" name="Freeform 34"/>
              <p:cNvSpPr/>
              <p:nvPr/>
            </p:nvSpPr>
            <p:spPr>
              <a:xfrm>
                <a:off x="4113000" y="4756320"/>
                <a:ext cx="1135440" cy="1056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61"/>
              <p:cNvSpPr/>
              <p:nvPr/>
            </p:nvSpPr>
            <p:spPr>
              <a:xfrm>
                <a:off x="4065120" y="50252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9"/>
            <p:cNvGrpSpPr/>
            <p:nvPr/>
          </p:nvGrpSpPr>
          <p:grpSpPr>
            <a:xfrm>
              <a:off x="5662080" y="4816800"/>
              <a:ext cx="1221480" cy="1055880"/>
              <a:chOff x="5662080" y="4816800"/>
              <a:chExt cx="1221480" cy="1055880"/>
            </a:xfrm>
          </p:grpSpPr>
          <p:sp>
            <p:nvSpPr>
              <p:cNvPr id="213" name="Freeform 63"/>
              <p:cNvSpPr/>
              <p:nvPr/>
            </p:nvSpPr>
            <p:spPr>
              <a:xfrm>
                <a:off x="5680800" y="481680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64"/>
              <p:cNvSpPr/>
              <p:nvPr/>
            </p:nvSpPr>
            <p:spPr>
              <a:xfrm>
                <a:off x="5662080" y="50252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78779-02C8-4B45-A92D-C036772CC3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ternal Quality Assessm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ystem for objectively checking the laboratory’s performance using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E23D0-A733-48B7-84C1-BEB2C58EE8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F3A5E-6C82-4B06-8166-6167727C65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8228880" cy="3885120"/>
            <a:chOff x="457200" y="1371600"/>
            <a:chExt cx="8228880" cy="3885120"/>
          </a:xfrm>
        </p:grpSpPr>
        <p:cxnSp>
          <p:nvCxnSpPr>
            <p:cNvPr id="222" name="_s205839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622840" y="187344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838"/>
            <p:cNvCxnSpPr>
              <a:stCxn id="226" idx="0"/>
              <a:endCxn id="224" idx="2"/>
            </p:cNvCxnSpPr>
            <p:nvPr/>
          </p:nvCxnSpPr>
          <p:spPr>
            <a:xfrm flipV="1">
              <a:off x="4571280" y="292536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37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742480" y="187380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833"/>
            <p:cNvSpPr/>
            <p:nvPr/>
          </p:nvSpPr>
          <p:spPr>
            <a:xfrm>
              <a:off x="3337200" y="1371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EQA </a:t>
              </a:r>
              <a:br>
                <a:rPr sz="3600"/>
              </a:b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Metho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834"/>
            <p:cNvSpPr/>
            <p:nvPr/>
          </p:nvSpPr>
          <p:spPr>
            <a:xfrm>
              <a:off x="45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Proficiency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Te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835"/>
            <p:cNvSpPr/>
            <p:nvPr/>
          </p:nvSpPr>
          <p:spPr>
            <a:xfrm>
              <a:off x="333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checking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testing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36"/>
            <p:cNvSpPr/>
            <p:nvPr/>
          </p:nvSpPr>
          <p:spPr>
            <a:xfrm>
              <a:off x="621756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On-site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3D4A7-5DB7-47B9-9E29-2BC0083B34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097A7-D3DD-4651-BC41-49A0C5FA74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Quality Assessment (EQA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80880" y="1873080"/>
            <a:ext cx="83822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 among different tes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warning for systemic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 evidence of tes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that need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MCBS01691_0000[1]"/>
          <p:cNvPicPr/>
          <p:nvPr/>
        </p:nvPicPr>
        <p:blipFill>
          <a:blip r:embed="rId1"/>
          <a:stretch/>
        </p:blipFill>
        <p:spPr>
          <a:xfrm>
            <a:off x="58672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678BC-FD98-499C-AACF-F44F69558E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Benef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29200" y="1295280"/>
            <a:ext cx="358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ublic Health orient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6A7EF-FC13-4367-9193-9A67AAF8BF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07EDB-6B00-4EF9-A4F2-81BC521639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4520" y="609480"/>
            <a:ext cx="7913880" cy="5756400"/>
            <a:chOff x="614520" y="609480"/>
            <a:chExt cx="7913880" cy="5756400"/>
          </a:xfrm>
        </p:grpSpPr>
        <p:sp>
          <p:nvSpPr>
            <p:cNvPr id="246" name="_s207939"/>
            <p:cNvSpPr/>
            <p:nvPr/>
          </p:nvSpPr>
          <p:spPr>
            <a:xfrm flipH="1" flipV="1">
              <a:off x="2666880" y="276696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7938"/>
            <p:cNvSpPr/>
            <p:nvPr/>
          </p:nvSpPr>
          <p:spPr>
            <a:xfrm>
              <a:off x="614520" y="168660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cognition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Edu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7937"/>
            <p:cNvSpPr/>
            <p:nvPr/>
          </p:nvSpPr>
          <p:spPr>
            <a:xfrm flipH="1">
              <a:off x="266688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7936"/>
            <p:cNvSpPr/>
            <p:nvPr/>
          </p:nvSpPr>
          <p:spPr>
            <a:xfrm>
              <a:off x="61452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Mono / mult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7935"/>
            <p:cNvSpPr/>
            <p:nvPr/>
          </p:nvSpPr>
          <p:spPr>
            <a:xfrm>
              <a:off x="4571640" y="4206240"/>
              <a:ext cx="0" cy="72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7934"/>
            <p:cNvSpPr/>
            <p:nvPr/>
          </p:nvSpPr>
          <p:spPr>
            <a:xfrm>
              <a:off x="3472200" y="4926600"/>
              <a:ext cx="219888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g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Nat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Internati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7932"/>
            <p:cNvSpPr/>
            <p:nvPr/>
          </p:nvSpPr>
          <p:spPr>
            <a:xfrm>
              <a:off x="552456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7931"/>
            <p:cNvSpPr/>
            <p:nvPr/>
          </p:nvSpPr>
          <p:spPr>
            <a:xfrm>
              <a:off x="632880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Obligatory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volunt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7930"/>
            <p:cNvSpPr/>
            <p:nvPr/>
          </p:nvSpPr>
          <p:spPr>
            <a:xfrm flipV="1">
              <a:off x="5524560" y="2769120"/>
              <a:ext cx="951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7929"/>
            <p:cNvSpPr/>
            <p:nvPr/>
          </p:nvSpPr>
          <p:spPr>
            <a:xfrm>
              <a:off x="6328800" y="168912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Free / not fre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7928"/>
            <p:cNvSpPr/>
            <p:nvPr/>
          </p:nvSpPr>
          <p:spPr>
            <a:xfrm flipV="1">
              <a:off x="4571640" y="2049120"/>
              <a:ext cx="0" cy="7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7927"/>
            <p:cNvSpPr/>
            <p:nvPr/>
          </p:nvSpPr>
          <p:spPr>
            <a:xfrm>
              <a:off x="3472200" y="60948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Confidenti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7926"/>
            <p:cNvSpPr/>
            <p:nvPr/>
          </p:nvSpPr>
          <p:spPr>
            <a:xfrm>
              <a:off x="3472200" y="276912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Verdana"/>
                </a:rPr>
                <a:t>EQ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7:25Z</dcterms:modified>
  <cp:revision>3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