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EE73-4470-4411-BA50-13CC698B0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5D30-26C4-49E7-9925-9F35B502D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5EDA-5A5E-46A0-B8C0-7677C182A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6281-6ED0-48FE-830C-022C5A513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B96455-DF99-4CE0-940F-D03806F3E7B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2CA824-2AFF-4584-BA6F-06F8BC71D47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184F05-E4E1-43F6-B204-38694905AD4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775240-CA27-427E-94D1-416635D0672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221028-F662-4607-B942-C5DCD99A5E8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48F8F8-8E30-49DF-9995-C9732560DA3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797BED-1BC0-4675-9F36-69419870A88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11FF-30E8-43BF-9A80-7E280D683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0951A1-01E8-433D-9CF6-4718AA40707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69B383-C6A9-4A57-88FC-82DA835657F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E94821-0C94-4F84-9540-D4DD076D238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CB1EAC-B86A-4702-9F23-1FDD50240EB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9BF9B0-CD5E-44D5-A7F5-6BE9FA8617D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5647-01FB-426C-A831-49E255B25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3034-2391-4FB2-8E14-AFC05CF12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FB53-39B7-442D-9532-BBF9ECA4E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9727-13FC-409C-9B6D-2F42D57FC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9932-B89C-41E8-A136-BE0EB43AB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40E0-5B1E-4A00-89C3-0DDAC3697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B143-1193-458E-B0F3-A507F79C3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4D028-F044-46FB-B749-5693D971F3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FF1F67C4-8F70-4619-8C1F-82D51A202B6F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9" name="Rectangle 13"/>
          <p:cNvSpPr/>
          <p:nvPr/>
        </p:nvSpPr>
        <p:spPr>
          <a:xfrm>
            <a:off x="755640" y="6391440"/>
            <a:ext cx="61927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Contact Trac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B5AC1E14-2693-4F25-9920-1378B60CA85A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3"/>
          <p:cNvSpPr/>
          <p:nvPr/>
        </p:nvSpPr>
        <p:spPr>
          <a:xfrm>
            <a:off x="755640" y="6391440"/>
            <a:ext cx="61927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Contact Trac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859C8-CE9D-4AD7-A1C6-1B79DE8FC8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image" Target="../media/image4.png"/><Relationship Id="rId22" Type="http://schemas.openxmlformats.org/officeDocument/2006/relationships/image" Target="../media/image4.png"/><Relationship Id="rId23" Type="http://schemas.openxmlformats.org/officeDocument/2006/relationships/image" Target="../media/image4.png"/><Relationship Id="rId24" Type="http://schemas.openxmlformats.org/officeDocument/2006/relationships/image" Target="../media/image4.png"/><Relationship Id="rId25" Type="http://schemas.openxmlformats.org/officeDocument/2006/relationships/image" Target="../media/image4.png"/><Relationship Id="rId26" Type="http://schemas.openxmlformats.org/officeDocument/2006/relationships/image" Target="../media/image4.png"/><Relationship Id="rId27" Type="http://schemas.openxmlformats.org/officeDocument/2006/relationships/image" Target="../media/image4.png"/><Relationship Id="rId28" Type="http://schemas.openxmlformats.org/officeDocument/2006/relationships/image" Target="../media/image4.png"/><Relationship Id="rId29" Type="http://schemas.openxmlformats.org/officeDocument/2006/relationships/image" Target="../media/image4.png"/><Relationship Id="rId30" Type="http://schemas.openxmlformats.org/officeDocument/2006/relationships/image" Target="../media/image4.png"/><Relationship Id="rId31" Type="http://schemas.openxmlformats.org/officeDocument/2006/relationships/image" Target="../media/image4.png"/><Relationship Id="rId32" Type="http://schemas.openxmlformats.org/officeDocument/2006/relationships/image" Target="../media/image4.png"/><Relationship Id="rId3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3"/>
          <p:cNvSpPr/>
          <p:nvPr/>
        </p:nvSpPr>
        <p:spPr>
          <a:xfrm>
            <a:off x="-1440" y="2276640"/>
            <a:ext cx="9144000" cy="16570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Verdana"/>
              </a:rPr>
              <a:t>Contact Trac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EPAR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ndromic surveillanc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on transportation hubs and country bor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ident Management Fra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nel designed to lead the 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hority to make decisions and release f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bola Treatment Unit (ETU) [minimum:1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RMED C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rnal 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up using WHO and MSF guide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olding/Isolation Uni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solation of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SPECT CA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isting Infra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pply basic food/necessiti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f need for repeat testing in 72 hour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formation Technology [not required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piInfo VHF software (CDC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anag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tform of easy data exchan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andatory reporting to WH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aboratory Services must be identified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 not need to be in coun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per specimen packaging and shipment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 Personnel Hierarc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Diagram 3" descr=""/>
          <p:cNvPicPr/>
          <p:nvPr/>
        </p:nvPicPr>
        <p:blipFill>
          <a:blip r:embed="rId1"/>
          <a:stretch/>
        </p:blipFill>
        <p:spPr>
          <a:xfrm>
            <a:off x="1511280" y="476280"/>
            <a:ext cx="5975280" cy="3589200"/>
          </a:xfrm>
          <a:prstGeom prst="rect">
            <a:avLst/>
          </a:prstGeom>
          <a:ln w="0">
            <a:noFill/>
          </a:ln>
        </p:spPr>
      </p:pic>
      <p:sp>
        <p:nvSpPr>
          <p:cNvPr id="115" name="Straight Connector 6"/>
          <p:cNvSpPr/>
          <p:nvPr/>
        </p:nvSpPr>
        <p:spPr>
          <a:xfrm>
            <a:off x="2362320" y="3962520"/>
            <a:ext cx="2057400" cy="342720"/>
          </a:xfrm>
          <a:prstGeom prst="line">
            <a:avLst/>
          </a:prstGeom>
          <a:ln w="9360">
            <a:solidFill>
              <a:srgbClr val="b6dcd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traight Connector 8"/>
          <p:cNvSpPr/>
          <p:nvPr/>
        </p:nvSpPr>
        <p:spPr>
          <a:xfrm>
            <a:off x="1752480" y="3962520"/>
            <a:ext cx="2514600" cy="761760"/>
          </a:xfrm>
          <a:prstGeom prst="line">
            <a:avLst/>
          </a:prstGeom>
          <a:ln w="9360">
            <a:solidFill>
              <a:srgbClr val="b6dcd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Diagram 7" descr=""/>
          <p:cNvPicPr/>
          <p:nvPr/>
        </p:nvPicPr>
        <p:blipFill>
          <a:blip r:embed="rId2"/>
          <a:stretch/>
        </p:blipFill>
        <p:spPr>
          <a:xfrm>
            <a:off x="914400" y="3743280"/>
            <a:ext cx="6473880" cy="26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vestigation Te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pidemiologists, psychosocial behavioral experts (for stigma and mental health related issues), and health communication experts (for education and networking issues)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xperience and training in probing contact tracing question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nterview a case about potential contacts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ctivated if a tracer is concerned about the health status of a contact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sess the contact to determine whether they should be considered an EVD cas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the contact is symptomatic and therefore a suspect case, they alert the field supervis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ctivated if a new case is identified through other means (i.e.-HC facility)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esidence visit to identify all contac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lert contacts of their status, the contact tracing procedure, and offer suppor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st all contacts on the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Contact Listing Form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imum of two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apid Response Team (RRT)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for Investigation Team; subset of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onsible for the first case detected in a cou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-call 24 hours a day and 7 days a wee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inimum of two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Lead Epidemiologist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ained in contact tracing at the national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versees all field supervisor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ide what contacts need to be continued to be follow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ide what contacts are a prior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ide what contacts can be discharged from follow-u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unicate with other branches such as the case management team and logistical team when a contact becomes a suspect c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inimum of one at the national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Field Supervisor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epidemiologist with prior contact tracing experie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ign tracers to conta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ndle challenges and questions that arise in the fiel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tivate the investigation team for a symptomatic conta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ess quality assurance meas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llect data on current tracing effor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Quantit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one field supervisor for 5-10 trac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Tracing Team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gone contact tracing tr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iable and responsible, with cultural aware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sit contacts every day for 21 day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viewing / inquiring about the contact’s health stat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Organizing tracing teams by geographic areas may maximize efficienc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nclude tracers from the specific or nearby communities to increase acceptability of contact tracing activities among community residen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tit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 least two tracers assigned to each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team to see 10-20 contact a day, or more depending on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ata Manager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or data management experience and proficient computer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ledge re: VHF EpiInfo datab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sure all data is entered electron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d reports to the lead epidemiologist and WH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ervise those doing data e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mum of 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neral obj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98900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presentation explains how to conduct contact tracing to effectively control the Ebola virus disease (EVD) outbrea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ransportation Team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and the terrain and geogra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gone infection prevention and control trai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rt identified suspect cases and confirmed cases to isolation units and ET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quipped with a transportation vehicle that can handle droplet precautions and allow for disinfe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mum of three people on a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for transport; 1 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Disinfection Team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/Experienc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unity me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vironmental health officers or sanitar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gone the Ebola infection control train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nitization o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tions where probable, suspected, and confirmed cases’ have been, locations where the initial identification occurred, and/or burial locations [depends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infection of transport vehic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ordinate with the transportation tea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hould follow WHO and CDC guidelines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Quantity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: minimum of two members per tea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urial Team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ty memb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vironmenta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gone the Ebola infection control trai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rial of deceased probable, suspected, and confirmed cases as well as contac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team of at least 6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to carry the body, 1 to disinfect the body, 1 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522360" y="1789200"/>
          <a:ext cx="8099280" cy="4146480"/>
        </p:xfrm>
        <a:graphic>
          <a:graphicData uri="http://schemas.openxmlformats.org/drawingml/2006/table">
            <a:tbl>
              <a:tblPr/>
              <a:tblGrid>
                <a:gridCol w="1816200"/>
                <a:gridCol w="976320"/>
                <a:gridCol w="760320"/>
                <a:gridCol w="869760"/>
                <a:gridCol w="768600"/>
                <a:gridCol w="647640"/>
                <a:gridCol w="838080"/>
                <a:gridCol w="812880"/>
                <a:gridCol w="609480"/>
              </a:tblGrid>
              <a:tr h="192600">
                <a:tc gridSpan="6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ntact Tracing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ther Team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708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Lead Epidemiologis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ield Supervis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nvestigation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racer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ata Manag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ransport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isinfection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urial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ersonal Protective Equip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isposable Glov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ow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ace shield (or goggle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ace mask N95/FFP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urgical mask for the Ca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io-hazard plastic bag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nformation Technolog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lobal Positioning Sys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ellular phones (with credit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mput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lectronic Data Collection Too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ield Equip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3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4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hermomet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ffice Suppli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ppropriate Form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ransport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5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6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7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8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9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0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2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river/Ca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ala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 Epidemi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eld Supervis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c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e 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sychosocial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iver (if us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quipment (including resources slid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 of cellular phone cred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ing 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 Sanitiz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ransportatio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for field supervisors, tracers, and investigation tea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xis (if us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el if using own veh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ow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3" descr=""/>
          <p:cNvPicPr/>
          <p:nvPr/>
        </p:nvPicPr>
        <p:blipFill>
          <a:blip r:embed="rId1"/>
          <a:stretch/>
        </p:blipFill>
        <p:spPr>
          <a:xfrm>
            <a:off x="1905120" y="1143000"/>
            <a:ext cx="56372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Ident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a suspect, probable or confirmed case is first detected, the RRT is activat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acts must be ident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ing questions to the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interviewing [case alive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bal Autopsy [case dead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usehold and community vis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: May require several interviews of the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l ou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act Listing 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Box 2"/>
          <p:cNvSpPr/>
          <p:nvPr/>
        </p:nvSpPr>
        <p:spPr>
          <a:xfrm>
            <a:off x="1605240" y="5157720"/>
            <a:ext cx="60526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* Types of 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= Touched body fluids of the patient (blood, vomit, saliva, urine, feces, sperm, swea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= Had direct physical contact with the body of the patient (alive or dea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= Touched or cleaned the linens, clothes, or dishes of the pa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= Slept or ate in the same household as the pa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3"/>
          <p:cNvSpPr/>
          <p:nvPr/>
        </p:nvSpPr>
        <p:spPr>
          <a:xfrm>
            <a:off x="2641680" y="44280"/>
            <a:ext cx="386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BOLA CONTACT LISTING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Object 4" descr=""/>
          <p:cNvPicPr/>
          <p:nvPr/>
        </p:nvPicPr>
        <p:blipFill>
          <a:blip r:embed="rId1"/>
          <a:stretch/>
        </p:blipFill>
        <p:spPr>
          <a:xfrm>
            <a:off x="147600" y="533520"/>
            <a:ext cx="8848800" cy="53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Li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s interviewed by the investigation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k last date of contact with th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 discrepancy, use the most recent 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exposure statu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’, ‘low’, or ‘no risk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” and ‘Low’ risk persons will require follow-u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ymptomatic contacts can continue daily activities if they have timely access to HC facilities in the event that they fall ill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the end of the session you will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definitions related to cases and contacts of patients with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how to prepare for contact tracing related to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how contact tracing should be conducted in the context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how contact tracing should be managed in the context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ze how to maintain quality assurance during  contact tracing related to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ce Deemed a Contac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ollowing must occu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ct is notified of their 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follow-up proced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e about EV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 them contact information for tracing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 them to notify the team if they move or leave the geographic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f a Contact Becomes Ill…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us is changed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SPECT C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stigation team contacts the field supervi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ate transportation and disinfection te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ported to isolation unit for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**Need to initiate contact identification and contact listing for this new case*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Follow-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ily visits by tracing team for 21 day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-determined location and ti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deally, same team for the dur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sure continuity and tru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entify nuances of contact’s daily rout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some contacts are not found, they should be reported to the field supervis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cord this on the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acing Summary For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eld Supervisor notifies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manag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ad epidemiolog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0360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acing Summary Form (for Field Supervisor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3" descr=""/>
          <p:cNvPicPr/>
          <p:nvPr/>
        </p:nvPicPr>
        <p:blipFill>
          <a:blip r:embed="rId1"/>
          <a:stretch/>
        </p:blipFill>
        <p:spPr>
          <a:xfrm>
            <a:off x="1828800" y="1125360"/>
            <a:ext cx="54133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aily Visit Scenari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ontent Placeholder 2" descr=""/>
          <p:cNvPicPr/>
          <p:nvPr/>
        </p:nvPicPr>
        <p:blipFill>
          <a:blip r:embed="rId1"/>
          <a:stretch/>
        </p:blipFill>
        <p:spPr>
          <a:xfrm>
            <a:off x="360360" y="1060560"/>
            <a:ext cx="8326440" cy="50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Suspect Case Cavi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the suspect case has been sick for &lt;3 day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y remain in isolation until repeat test on day 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suspect case tests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SITIV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w classified as CONFIRMED C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nsported to ET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vestigation team continues with this case’s contact identification and tracing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the suspect case tests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EGATIV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-classified as a conta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nues with previous 21 day follow-up proc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3" name=""/>
          <p:cNvGraphicFramePr/>
          <p:nvPr/>
        </p:nvGraphicFramePr>
        <p:xfrm>
          <a:off x="452520" y="2492280"/>
          <a:ext cx="8229600" cy="3678480"/>
        </p:xfrm>
        <a:graphic>
          <a:graphicData uri="http://schemas.openxmlformats.org/drawingml/2006/table">
            <a:tbl>
              <a:tblPr/>
              <a:tblGrid>
                <a:gridCol w="846000"/>
                <a:gridCol w="351000"/>
                <a:gridCol w="352440"/>
                <a:gridCol w="350640"/>
                <a:gridCol w="352440"/>
                <a:gridCol w="351000"/>
                <a:gridCol w="352440"/>
                <a:gridCol w="352440"/>
                <a:gridCol w="350640"/>
                <a:gridCol w="351000"/>
                <a:gridCol w="352440"/>
                <a:gridCol w="350640"/>
                <a:gridCol w="352440"/>
                <a:gridCol w="351000"/>
                <a:gridCol w="352440"/>
                <a:gridCol w="350640"/>
                <a:gridCol w="351000"/>
                <a:gridCol w="352440"/>
                <a:gridCol w="350640"/>
                <a:gridCol w="352440"/>
                <a:gridCol w="351000"/>
                <a:gridCol w="352440"/>
              </a:tblGrid>
              <a:tr h="19044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2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Da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Fever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Malais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Muscle pa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Headach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Sore Throa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Vomitin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Diarrhe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Ra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Haemorrhage (unexplained bleeding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2"/>
          <p:cNvSpPr/>
          <p:nvPr/>
        </p:nvSpPr>
        <p:spPr>
          <a:xfrm>
            <a:off x="-37440" y="1197000"/>
            <a:ext cx="9154080" cy="11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Name: _______________________________________        Gender:_______      Age:  _______          Date of last contact (dd/mm/yy): ___________________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ddress:______________________________________        Telephone number: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nstructions: For each day, evaluate the contact for the symptoms below and write ‘yes’ if the contact has the symptom and ‘no’ if the contact does not hav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 symptom. If a contact has any of the symptoms, immediately call the public health department at XXX-XXX-XXXX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itle 1"/>
          <p:cNvSpPr/>
          <p:nvPr/>
        </p:nvSpPr>
        <p:spPr>
          <a:xfrm>
            <a:off x="108000" y="-27000"/>
            <a:ext cx="892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aily Contact Follow-Up Form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for Tracer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Dischar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following criteria are met on day 21, the contact is discharged from the tracing proce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1 days of follow-up by the contact team have been perform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ct was evaluated on day 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not available, discharge cannot occur until evalu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mmary of Step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Step-by-Step Guid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Initial Case Identification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Ebola case is identified by the surveillance system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rapid response team is activated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rapid response team interviews the case using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he Ebola Virus Disease Case  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ontact Questionnaire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and  performs a household visit to establish a list of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ontac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rapid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esponse team meets with each contact and performs the following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ssess the health status of the contac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lert the contact of their statu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nterview the contact with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The Ebola Virus Disease Case Contact Questionnair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xplain the procedure of being traced daily for 21 day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valuate flight risk of the individu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dentify an appropriate meeting place and time with the contac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epare the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ontact Listing Form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lead epidemiologist assigns field supervisors based on the geographic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istribution of contact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mmary of Steps: DAILY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Step-by-Step Guid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ail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.     The lead epidemiologist distributes an updated contact list to fiel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erviso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ield supervisors meet with their assigned tracing teams and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ribute the contact list for each team clustering contacts with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ographic proxim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.     The tracers meet each contact and perform the following task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servation of the contact’s general condition for any overt signs of ill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view contact regarding health status (presence of absence of specific sympto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l out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ct Follow-Up For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k if they know of anyone else who is s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900108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mmary of Steps: DAIL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Step-by-Step Gui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68360" y="1916280"/>
            <a:ext cx="822960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.    While tracer teams are evaluating contacts, the field supervisor provid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Logistical support including the arranging the transportation of tracing teams and ensuring paymen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ctivation of the investigative team for any contact that tracers identify as having developed symptom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Quality assurance to ensure accuracy of the tracer’s report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the end of the day, tracers contact their field supervisors and rep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the status of their contac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ield supervisors complete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cer Summary For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ased on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tion provided by the contact tracers and investigation team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ata is sent to both the lead epidemiologist and data manag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    The data manager or data entry staff enters the data electronical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ead epidemiologist reviews the data and sets up the list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/ongoing contacts for the following d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TACT TRACING MANA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gisters information regarding cases and contac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duces daily reports, exporting for data analysi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eographic mapping of contact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imely reporting of data and trend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sufficient resources and/or existing infrastructure exist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nic data collection in the field should be consid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E: Although the VHF EpiInfo Database is recommended, other databases such as WHO’s Field Information Management System (FIMS), can be utilized as well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: Hi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 incentives to particip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w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ing health insu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ing PPE for staff and their famil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loy EVD surviv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y staff in a timely man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: Trai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ers need proper training and resources for perform their job saf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ilor to the role of the staff me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resher training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-training if issues arise or operating procedures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al certificate of compl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combat rank dif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: Heal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vide medical care while employe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ing for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following should be addressed and strictly enforced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enter communities that seem hostile, aggressive, or unwelco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try to impede contacts or cases that are trying to fl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*Of note, if security professionals interact with suspect, probable, or confirmed cases, depending on the situation they may meet the definition of a contact, and therefore, require tracer follow-up*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s: Ident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bing questions to ask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ith direct physical conta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ith sexual conta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ho lived with the case in the same househol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ho visited the case (at home, healthcare facility, funeral/burial, etc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laces the case visited (i.e. work, pharmacy, church, extended family, traditional healers, etc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ealth facilities utilized by the case and all health care workers who cared for the c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9647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siderations for Contact Identif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calendars, holidays, or birthdays to assist with recall of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suspect, probable, or confirmed cases are notified of their status, fear is the likely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sychosocial support on the investigation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cultural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686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s: Enrollment Challe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istical challe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street n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of nickn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ntries without a national ID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PS tracking of contac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gaging community lea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s: Stig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s to overcome stigm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gaging and educating community leaders regarding EVD infection, transmission, and the community’s ro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mploy early health communication campaig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mploy early psychosocial support to combat f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termine a “safe” meeting place/time for contacts that will not identify them as an EVD contact to their peers, family and/or community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cs of Contact Tra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: the process of identifying, controlling, and managing EVD to eliminate trans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atic follow-up during 21 days after the date of last cont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ximum incubation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QUALITY ASSURANCE AND MANA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y Assur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vestigation Team/Rapid Response Team/Lead Epidemiologis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e cases with a low number of reported cont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 cautious when the numbers don’t match to previous cases with similar character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nsider re-interviewing the case, family, neighbors, etc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nsider prompting for additional activities of daily livin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sure accurate assessment of a contact’s health status by tracer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 house-checks by randomly selecting contacts of different tracer teams to interview and evaluate whether the assessment of the health status is similar to the tracers’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y Assur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eld Supervisor(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ure tracers are visiting the contacts da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technology is readily available, employ mobile GPS tracking of the contact trac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ppropriate, take a picture of the contact or landmark to submit to field officer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 house-checks by randomly selecting contacts of different tracer teams and interview the contacts to ensure they have been receiving a visit by a tracer every 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days were missed, confirm they were accurately recorded by the tracing te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78544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y Measures: Must be 100%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ness of the weekly active surveillance repor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 of contacts being traced dai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 of contacts followed for all 21 d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 of cases that had contact tracing implemented within 24 hours of case ident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CALABI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alability: “Plan B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contacts are not identified/missed, exponential EVD transmission is lik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ntact tracing protocol must inclu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re more investigation teams, field supervisors, and contact trac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efforts primarily on the high risk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alability: “Plan B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ation should be given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ring more perso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infra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quiring more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dditional teams to accommodate expanding control efforts (i.e.; disinfection or burial team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alability: Shift of Foc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orts may begin to focus primarily o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igh risk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 groups, in order to save direct resources in an appropriate man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sk classification of contacts are based on the CDC guidelines†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 tracing is essential for the identification, control, and elimination of EVD trans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even one contact is missed, there is high likelihood for ongoing transmiss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critical that contact tracing is implemented quickly and managed sufficiently for the EVD response to be eff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s of Contact Tra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mediate identification of individuals who become symptomatic, and thus, contagi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pping EVD trans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mplemented quickly and prope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s: CONT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ACT*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person who interacted with a symptomatic EVD case (suspect, probable, or confirmed) in at least one of the following manner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rect physical contact with the case (dead or alive) while i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rect physical contact with the (dead) case at the funer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uched the blood or body fluids of the case while i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s breastfed by the patient (for infant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uched the clothes or linens of the c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lept in the same household with a c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tions: CONTACT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High vs Low Ris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cutaneous or mucous membrane exposure to blood or body fluids of EVD pat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 skin contact with, or exposure to blood or body fluids of, a confirmed or suspect EVD patient without appropriate personal protective equipment (PP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ing blood or body fluids of a confirmed EVD patient without appropriate PPE or standard biosafety preca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 contact with a dead body without appropriate PPE in a country where an EVD outbreak is occur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usehold contact with an EVD pat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se contact with EVD patients in health care facilities or community setting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Being within approximately 3 feet (1 meter) of an EVD patient or within the patient’s room or care area for a prolonged period of time (e.g., health care personnel, household members) while not wearing recommended personal protective equipmen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Having direct brief contact (e.g., shaking hands) with an EVD patient while not wearing recommended personal protective equipmen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categories of EVD c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Suspect Case:  A person, dead or alive, with at least one of the following criteria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Unknown cause of bleedin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udden, unknown cause of deat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udden onset high fever and contact with either: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 suspect, probable or confirmed EVD cas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 sick or dead anim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udden onset high fever and at least three of the following symptoms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eadach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norexia / loss of appetit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etharg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ching muscles or joint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reathing difficulti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Vomit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iarrhe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tomach pai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ifficulty swallow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iccup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Probable Case: Any suspect case that meets the following criteria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valuated by a clinician and concluded to be infected with EV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case is deceased but with a known epidemiological link to a confirmed case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Confirmed Case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ny suspect or probable case with a positive EVD laboratory result (PCR or serology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5:18:10Z</dcterms:modified>
  <cp:revision>142</cp:revision>
  <dc:subject/>
  <dc:title>DPC Training and Technical Update</dc:title>
</cp:coreProperties>
</file>