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1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wmf" ContentType="image/x-wmf"/>
  <Override PartName="/ppt/media/image31.png" ContentType="image/png"/>
  <Override PartName="/ppt/media/image26.wmf" ContentType="image/x-wmf"/>
  <Override PartName="/ppt/media/image24.wmf" ContentType="image/x-wmf"/>
  <Override PartName="/ppt/media/image22.wmf" ContentType="image/x-wmf"/>
  <Override PartName="/ppt/media/image21.jpeg" ContentType="image/jpeg"/>
  <Override PartName="/ppt/media/image32.wmf" ContentType="image/x-wmf"/>
  <Override PartName="/ppt/media/image19.wmf" ContentType="image/x-wmf"/>
  <Override PartName="/ppt/media/image18.jpeg" ContentType="image/jpeg"/>
  <Override PartName="/ppt/media/image17.wmf" ContentType="image/x-wmf"/>
  <Override PartName="/ppt/media/image16.wmf" ContentType="image/x-wmf"/>
  <Override PartName="/ppt/media/image14.png" ContentType="image/png"/>
  <Override PartName="/ppt/media/image10.jpeg" ContentType="image/jpeg"/>
  <Override PartName="/ppt/media/image13.jpeg" ContentType="image/jpeg"/>
  <Override PartName="/ppt/media/image9.jpeg" ContentType="image/jpeg"/>
  <Override PartName="/ppt/media/image11.jpeg" ContentType="image/jpeg"/>
  <Override PartName="/ppt/media/image30.wmf" ContentType="image/x-wmf"/>
  <Override PartName="/ppt/media/image6.jpeg" ContentType="image/jpeg"/>
  <Override PartName="/ppt/media/image27.jpeg" ContentType="image/jpeg"/>
  <Override PartName="/ppt/media/image33.wmf" ContentType="image/x-wmf"/>
  <Override PartName="/ppt/media/image34.wmf" ContentType="image/x-wmf"/>
  <Override PartName="/ppt/media/image42.jpeg" ContentType="image/jpeg"/>
  <Override PartName="/ppt/media/image35.wmf" ContentType="image/x-wmf"/>
  <Override PartName="/ppt/media/image3.jpeg" ContentType="image/jpeg"/>
  <Override PartName="/ppt/media/image36.wmf" ContentType="image/x-wmf"/>
  <Override PartName="/ppt/media/image8.jpeg" ContentType="image/jpeg"/>
  <Override PartName="/ppt/media/image39.jpeg" ContentType="image/jpeg"/>
  <Override PartName="/ppt/media/image15.wmf" ContentType="image/x-wmf"/>
  <Override PartName="/ppt/media/image41.jpeg" ContentType="image/jpeg"/>
  <Override PartName="/ppt/media/image37.wmf" ContentType="image/x-wmf"/>
  <Override PartName="/ppt/media/image43.jpeg" ContentType="image/jpeg"/>
  <Override PartName="/ppt/media/image7.jpeg" ContentType="image/jpeg"/>
  <Override PartName="/ppt/media/image28.jpeg" ContentType="image/jpeg"/>
  <Override PartName="/ppt/media/image5.jpeg" ContentType="image/jpeg"/>
  <Override PartName="/ppt/media/image40.png" ContentType="image/png"/>
  <Override PartName="/ppt/media/image38.wmf" ContentType="image/x-wmf"/>
  <Override PartName="/ppt/media/image4.jpeg" ContentType="image/jpeg"/>
  <Override PartName="/ppt/media/image25.jpeg" ContentType="image/jpeg"/>
  <Override PartName="/ppt/media/image20.png" ContentType="image/png"/>
  <Override PartName="/ppt/media/image2.jpeg" ContentType="image/jpeg"/>
  <Override PartName="/ppt/media/image23.jpeg" ContentType="image/jpeg"/>
  <Override PartName="/ppt/media/image12.png" ContentType="image/png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7077075" cy="9004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7077600" cy="900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6720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4008240" y="0"/>
            <a:ext cx="306684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287360" y="676080"/>
            <a:ext cx="4502160" cy="337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0" y="8553600"/>
            <a:ext cx="306720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400824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9BF987-D7B3-453C-B348-CD65BBB91F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9A4D56-D7FF-4C92-95F2-40CAA48DEA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81DC26-9F0E-4BBA-B749-0DAC815ED8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65921F-A109-45DA-9892-3547A986F3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30537A-2AA3-4ED0-A58A-3770D26AF9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9D8536-9D0F-47FF-A6B3-A18EC9F8F6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2BD255-543C-4A7C-B85F-CD1C3F4641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93E9D4-C76F-415A-B8D3-5CC13E68F2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AA6246-4EBC-427E-9A67-B9FCD03846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578E12-81E0-494B-8B69-15CF3C5F65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E590AA-146C-4A3F-AD9E-31C1C187E9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14708D-5281-4754-8258-064A614EB8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02AD21-0900-4422-9B0A-B7B3AC5D9A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5E21A9-308E-4463-90A2-B3353B3124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F72ED2-6BDB-4E95-9037-08C8F5C4C2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1DE3B9-1A27-4787-A84D-76EB65838D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6E3628-D9B6-479F-8A23-600E5FBE8F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213515-9730-43D5-A85E-FB16A62F3F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83EA4F-3C04-486E-9258-0D4D3B9453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116BE2-D68C-4208-A308-DC36E13CC4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DEF75C4-0E56-4A13-8C77-252870A2F5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Slide Number Placeholder 3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DBE8A8-E885-45D5-A8B9-126C0E7250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C210EB-CA5F-471F-91EE-487D6E43D9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297080" y="682560"/>
            <a:ext cx="4483080" cy="3362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05CEE4-62FE-4440-8F72-F3CD1F23E1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25B81E-FC17-47B8-8B2F-E28BB1C99D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ldImg"/>
          </p:nvPr>
        </p:nvSpPr>
        <p:spPr>
          <a:xfrm>
            <a:off x="1297080" y="682560"/>
            <a:ext cx="4483080" cy="33624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E681AE-1D18-4FE8-AB7F-AFBA65BCA5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7F3531-FBCC-4B09-978E-04AE7B1310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37568B-62A7-494E-B4F2-ADF58D5F69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6C98B1-03B4-4329-A01C-24AAF8C64D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87732-B196-4BB7-ACE8-0B5EFEE386B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0C712-0EC5-4C9E-A811-3C41ECDC365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2DEB0-991D-421D-B968-B6A774F435D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7BD61-56FF-4457-B0E3-E4A42F67418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17264-A864-4862-97BF-6679ADE8F1B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097CD-9F48-4563-AFB5-8648E745B77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5EB4A-9C22-4CB1-BA8D-5E6C1A4AC80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319FC1-F1E0-45D4-948E-48614F6D22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2D1B3-0087-45C0-9742-DC739A921AF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331AB-0983-416D-AA5C-42FC07CF463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B9E2B-2CD9-4083-B163-9786CA2F787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4C5FA-45D2-4BE3-9B74-B768F5472CD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3600B-A329-4371-94C1-36F369B363A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5C70C4-792F-44FA-A570-B74AD56920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FE6258-7CCF-45CC-BE6D-E500483A3A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ADBA67-EF1E-4103-B430-C08656D867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384FF0-1650-4A77-97D6-6C8E903200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831FDD-E5E1-42F9-B42B-CF10855BC0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FF0814-B963-484F-A2A9-956F2CEFBD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F7D4CF-05D8-4F48-990E-947F7A02E1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B099D-D7FE-4543-AB0D-E0413474613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253C9-4EBF-4A1A-B7D4-8A304DA8CEA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6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jpeg"/><Relationship Id="rId3" Type="http://schemas.openxmlformats.org/officeDocument/2006/relationships/image" Target="../media/image2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image" Target="../media/image34.wmf"/><Relationship Id="rId4" Type="http://schemas.openxmlformats.org/officeDocument/2006/relationships/image" Target="../media/image35.wmf"/><Relationship Id="rId5" Type="http://schemas.openxmlformats.org/officeDocument/2006/relationships/image" Target="../media/image36.wmf"/><Relationship Id="rId6" Type="http://schemas.openxmlformats.org/officeDocument/2006/relationships/image" Target="../media/image37.wmf"/><Relationship Id="rId7" Type="http://schemas.openxmlformats.org/officeDocument/2006/relationships/image" Target="../media/image26.wmf"/><Relationship Id="rId8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png"/><Relationship Id="rId3" Type="http://schemas.openxmlformats.org/officeDocument/2006/relationships/image" Target="../media/image41.jpeg"/><Relationship Id="rId4" Type="http://schemas.openxmlformats.org/officeDocument/2006/relationships/image" Target="../media/image27.jpeg"/><Relationship Id="rId5" Type="http://schemas.openxmlformats.org/officeDocument/2006/relationships/image" Target="../media/image42.jpeg"/><Relationship Id="rId6" Type="http://schemas.openxmlformats.org/officeDocument/2006/relationships/image" Target="../media/image43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2743200" y="236232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Organiz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1001880" y="2971800"/>
            <a:ext cx="2176200" cy="269064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 rot="10800000">
            <a:off x="3580920" y="4800600"/>
            <a:ext cx="2667240" cy="838080"/>
          </a:xfrm>
          <a:custGeom>
            <a:avLst/>
            <a:gdLst>
              <a:gd name="textAreaLeft" fmla="*/ 416520 w 2667240"/>
              <a:gd name="textAreaRight" fmla="*/ 2333880 w 266724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rot="5400000">
            <a:off x="7238520" y="2285640"/>
            <a:ext cx="1828800" cy="76212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133720" y="457200"/>
            <a:ext cx="563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Path of Workfl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838080" y="1447920"/>
            <a:ext cx="792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PATIENT                   Test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514600" y="1447920"/>
            <a:ext cx="914400" cy="380880"/>
          </a:xfrm>
          <a:custGeom>
            <a:avLst/>
            <a:gdLst>
              <a:gd name="textAreaLeft" fmla="*/ 114120 w 914400"/>
              <a:gd name="textAreaRight" fmla="*/ 800280 w 9144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257800" y="1447920"/>
            <a:ext cx="1295280" cy="380880"/>
          </a:xfrm>
          <a:custGeom>
            <a:avLst/>
            <a:gdLst>
              <a:gd name="textAreaLeft" fmla="*/ 161640 w 1295280"/>
              <a:gd name="textAreaRight" fmla="*/ 1133640 w 12952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553080" y="14479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Col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477120" y="243828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638680" y="3657600"/>
            <a:ext cx="3276720" cy="642600"/>
          </a:xfrm>
          <a:prstGeom prst="rect">
            <a:avLst/>
          </a:prstGeom>
          <a:solidFill>
            <a:srgbClr val="ffff99"/>
          </a:solidFill>
          <a:ln w="57240">
            <a:solidFill>
              <a:srgbClr val="d50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boratory Analysis </a:t>
            </a: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400800" y="50292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Cre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657600" y="502920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934320" y="4419720"/>
            <a:ext cx="76176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514600" y="1905120"/>
            <a:ext cx="6095880" cy="368280"/>
          </a:xfrm>
          <a:prstGeom prst="rect">
            <a:avLst/>
          </a:prstGeom>
          <a:solidFill>
            <a:srgbClr val="bd8d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Pre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990720" y="5791320"/>
            <a:ext cx="7848360" cy="368280"/>
          </a:xfrm>
          <a:prstGeom prst="rect">
            <a:avLst/>
          </a:prstGeom>
          <a:solidFill>
            <a:srgbClr val="ae84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ult Interpretation                   </a:t>
            </a: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Post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7C1C7E-FF5A-4EE2-AE9E-E5EFDAFB716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7467480" y="3352680"/>
            <a:ext cx="0" cy="6098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Organization Chart 3"/>
          <p:cNvGrpSpPr/>
          <p:nvPr/>
        </p:nvGrpSpPr>
        <p:grpSpPr>
          <a:xfrm>
            <a:off x="380880" y="1935000"/>
            <a:ext cx="6171840" cy="3773160"/>
            <a:chOff x="380880" y="1935000"/>
            <a:chExt cx="6171840" cy="3773160"/>
          </a:xfrm>
        </p:grpSpPr>
        <p:cxnSp>
          <p:nvCxnSpPr>
            <p:cNvPr id="253" name="_s1029"/>
            <p:cNvCxnSpPr>
              <a:stCxn id="254" idx="1"/>
              <a:endCxn id="255" idx="2"/>
            </p:cNvCxnSpPr>
            <p:nvPr/>
          </p:nvCxnSpPr>
          <p:spPr>
            <a:xfrm rot="10800000">
              <a:off x="2922840" y="4678200"/>
              <a:ext cx="362160" cy="68796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56" name="_s1031"/>
            <p:cNvCxnSpPr>
              <a:stCxn id="257" idx="3"/>
              <a:endCxn id="255" idx="2"/>
            </p:cNvCxnSpPr>
            <p:nvPr/>
          </p:nvCxnSpPr>
          <p:spPr>
            <a:xfrm flipV="1">
              <a:off x="2559240" y="4677840"/>
              <a:ext cx="365040" cy="68688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58" name="_s1032"/>
            <p:cNvCxnSpPr>
              <a:stCxn id="255" idx="0"/>
              <a:endCxn id="259" idx="2"/>
            </p:cNvCxnSpPr>
            <p:nvPr/>
          </p:nvCxnSpPr>
          <p:spPr>
            <a:xfrm flipV="1">
              <a:off x="2923200" y="3649320"/>
              <a:ext cx="1800" cy="34524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60" name="_s1034"/>
            <p:cNvCxnSpPr>
              <a:stCxn id="261" idx="0"/>
              <a:endCxn id="262" idx="2"/>
            </p:cNvCxnSpPr>
            <p:nvPr/>
          </p:nvCxnSpPr>
          <p:spPr>
            <a:xfrm flipV="1" rot="16200000">
              <a:off x="4663440" y="2162160"/>
              <a:ext cx="330120" cy="1272600"/>
            </a:xfrm>
            <a:prstGeom prst="bentConnector3">
              <a:avLst>
                <a:gd name="adj1" fmla="val 35043"/>
              </a:avLst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63" name="_s1035"/>
            <p:cNvCxnSpPr>
              <a:stCxn id="259" idx="0"/>
              <a:endCxn id="262" idx="2"/>
            </p:cNvCxnSpPr>
            <p:nvPr/>
          </p:nvCxnSpPr>
          <p:spPr>
            <a:xfrm flipH="1" flipV="1" rot="5400000">
              <a:off x="3393000" y="2163600"/>
              <a:ext cx="330120" cy="1269720"/>
            </a:xfrm>
            <a:prstGeom prst="bentConnector3">
              <a:avLst>
                <a:gd name="adj1" fmla="val 35043"/>
              </a:avLst>
            </a:prstGeom>
            <a:ln w="57240">
              <a:solidFill>
                <a:srgbClr val="000000"/>
              </a:solidFill>
              <a:miter/>
            </a:ln>
          </p:spPr>
        </p:cxnSp>
        <p:sp>
          <p:nvSpPr>
            <p:cNvPr id="262" name="_s1036"/>
            <p:cNvSpPr/>
            <p:nvPr/>
          </p:nvSpPr>
          <p:spPr>
            <a:xfrm>
              <a:off x="3103920" y="1935000"/>
              <a:ext cx="2178360" cy="685080"/>
            </a:xfrm>
            <a:prstGeom prst="flowChartAlternateProcess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LABORATORY </a:t>
              </a:r>
              <a:br>
                <a:rPr sz="2200"/>
              </a:b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DIRECTO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_s1037"/>
            <p:cNvSpPr/>
            <p:nvPr/>
          </p:nvSpPr>
          <p:spPr>
            <a:xfrm>
              <a:off x="1833120" y="2963880"/>
              <a:ext cx="2178360" cy="685080"/>
            </a:xfrm>
            <a:prstGeom prst="roundRect">
              <a:avLst>
                <a:gd name="adj" fmla="val 16667"/>
              </a:avLst>
            </a:prstGeom>
            <a:solidFill>
              <a:srgbClr val="87df9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CHARGE</a:t>
              </a:r>
              <a:br>
                <a:rPr sz="1800"/>
              </a:b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TECHNOLOGI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_s1038"/>
            <p:cNvSpPr/>
            <p:nvPr/>
          </p:nvSpPr>
          <p:spPr>
            <a:xfrm>
              <a:off x="4374360" y="2963880"/>
              <a:ext cx="2178360" cy="68508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fffff"/>
                  </a:solidFill>
                  <a:latin typeface="Verdana"/>
                </a:rPr>
                <a:t>QUALITY </a:t>
              </a:r>
              <a:br>
                <a:rPr sz="1800"/>
              </a:br>
              <a:r>
                <a:rPr b="1" lang="fr-FR" sz="1800" spc="-1" strike="noStrike">
                  <a:solidFill>
                    <a:srgbClr val="ffffff"/>
                  </a:solidFill>
                  <a:latin typeface="Verdana"/>
                </a:rPr>
                <a:t>MANAGER</a:t>
              </a: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_s1040"/>
            <p:cNvSpPr/>
            <p:nvPr/>
          </p:nvSpPr>
          <p:spPr>
            <a:xfrm>
              <a:off x="1834200" y="3992760"/>
              <a:ext cx="2176920" cy="685080"/>
            </a:xfrm>
            <a:prstGeom prst="roundRect">
              <a:avLst>
                <a:gd name="adj" fmla="val 16667"/>
              </a:avLst>
            </a:prstGeom>
            <a:solidFill>
              <a:srgbClr val="00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ASSISTANT CHAR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_s1041"/>
            <p:cNvSpPr/>
            <p:nvPr/>
          </p:nvSpPr>
          <p:spPr>
            <a:xfrm>
              <a:off x="380880" y="5021640"/>
              <a:ext cx="2178360" cy="685080"/>
            </a:xfrm>
            <a:prstGeom prst="roundRect">
              <a:avLst>
                <a:gd name="adj" fmla="val 16667"/>
              </a:avLst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TECHNOLOGI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_s1043"/>
            <p:cNvSpPr/>
            <p:nvPr/>
          </p:nvSpPr>
          <p:spPr>
            <a:xfrm>
              <a:off x="3285360" y="5021640"/>
              <a:ext cx="2176560" cy="686520"/>
            </a:xfrm>
            <a:prstGeom prst="roundRect">
              <a:avLst>
                <a:gd name="adj" fmla="val 16667"/>
              </a:avLst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TECHNOLOGI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" name=""/>
          <p:cNvSpPr/>
          <p:nvPr/>
        </p:nvSpPr>
        <p:spPr>
          <a:xfrm>
            <a:off x="4191120" y="1371600"/>
            <a:ext cx="0" cy="533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477120" y="1752480"/>
            <a:ext cx="2057400" cy="1676520"/>
          </a:xfrm>
          <a:prstGeom prst="flowChartDecision">
            <a:avLst/>
          </a:prstGeom>
          <a:solidFill>
            <a:srgbClr val="99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705720" y="3886200"/>
            <a:ext cx="1600200" cy="1295280"/>
          </a:xfrm>
          <a:prstGeom prst="flowChartDecision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858000" y="220968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URSING DIRECT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858000" y="42670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UR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7162920" y="1371600"/>
            <a:ext cx="304560" cy="380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219320" y="609480"/>
            <a:ext cx="6781680" cy="762120"/>
          </a:xfrm>
          <a:prstGeom prst="flowChartProcess">
            <a:avLst/>
          </a:prstGeom>
          <a:solidFill>
            <a:srgbClr val="bd8d4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HOSPITAL DIR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F9EB16-EB8A-41AF-B325-BD064246190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Manag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SO 15189 requir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as responsibility and authority to oversee compli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ports directly to the decision-making level of laborator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" descr="ISO Logo"/>
          <p:cNvPicPr/>
          <p:nvPr/>
        </p:nvPicPr>
        <p:blipFill>
          <a:blip r:embed="rId1"/>
          <a:stretch/>
        </p:blipFill>
        <p:spPr>
          <a:xfrm>
            <a:off x="4038480" y="5029200"/>
            <a:ext cx="2819520" cy="80964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2"/>
          <a:stretch/>
        </p:blipFill>
        <p:spPr>
          <a:xfrm>
            <a:off x="6781680" y="3809880"/>
            <a:ext cx="1455840" cy="228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CEDA5C-D3F1-4B5F-B715-29053DBB9D0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Manager Responsib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815328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85000"/>
              </a:lnSpc>
              <a:spcBef>
                <a:spcPts val="799"/>
              </a:spcBef>
              <a:buClr>
                <a:srgbClr val="00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 quality management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ssure compli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view all 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duct, coordinate aud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vestigate defici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form decision mak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1ACA7F-4EFE-4130-B082-B461DAEBE27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lanning for Quality Management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approaches vary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with local situ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many factors influence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starting 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include all quality 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elements in p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may implement in stepwise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6172200" y="1447920"/>
            <a:ext cx="2451240" cy="3733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27ACF7-D7E7-4E8B-96B7-26F6BA952EC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ep in mi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municate, be transpar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t feasible timel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realistic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asurable obj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t priorities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ceed stepw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rcRect l="45569" t="0" r="0" b="0"/>
          <a:stretch/>
        </p:blipFill>
        <p:spPr>
          <a:xfrm>
            <a:off x="5638680" y="2057400"/>
            <a:ext cx="2559240" cy="3733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856A71-BD5C-4898-BA06-78C9AAADD0B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nduct Gap Analysi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0010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termine the gaps, using quality management systems check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a task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ioritize 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2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uick fixes fir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2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termine wha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ould have th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eatest positive imp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876920" y="2590920"/>
            <a:ext cx="685800" cy="2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724280" y="22860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—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GAP ANALYSI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4724280" y="2587680"/>
            <a:ext cx="3733920" cy="2879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A60597-928A-4EEA-8FD5-811B3728F1D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Gap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ommon problems identif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st ord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ample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aining level (competence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f technical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quality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alytical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rding and reporting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agent and equipment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5715000" y="1447920"/>
            <a:ext cx="3060720" cy="403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8DB0DD-8272-4DF0-84D5-BB6BC34EFAB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7d"/>
                </a:solidFill>
                <a:latin typeface="Verdana"/>
              </a:rPr>
              <a:t>Written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Quality Management System Plan should inclu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229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04920" y="1828800"/>
            <a:ext cx="8686800" cy="3139560"/>
          </a:xfrm>
          <a:prstGeom prst="rect">
            <a:avLst/>
          </a:prstGeom>
          <a:solidFill>
            <a:srgbClr val="bd8d47"/>
          </a:solidFill>
          <a:ln w="7632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what should be d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who will be respon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when (timelin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how many resources are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benchma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04920" y="5105520"/>
            <a:ext cx="8686800" cy="642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Must be available to all staf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B73406-7954-4152-B566-5FF07D2BD091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mple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818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mmit to comple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prepare for implementation in s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assure resources are avail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use a Gantt c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be sure everyone knows their responsibil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00007d"/>
                </a:solidFill>
                <a:latin typeface="Verdana"/>
              </a:rPr>
              <a:t>th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3886200" y="3657600"/>
            <a:ext cx="3124080" cy="335268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4419720" y="4952880"/>
            <a:ext cx="2057400" cy="703440"/>
          </a:xfrm>
          <a:prstGeom prst="rect">
            <a:avLst/>
          </a:prstGeom>
          <a:solidFill>
            <a:srgbClr val="0fc7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BEG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993ED5-F59F-4E36-990D-4BC2519CB45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5341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session, you will be able to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organizational elements needed for a quality management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uss management roles and responsibilities in a quality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1576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lain the process for designing, implementing, maintaining, and improving the laboratory quality management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lain the purpose of a quality manu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A6A0D8-35F2-4219-9852-D699AE596F8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Gantt C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762120" y="1066680"/>
            <a:ext cx="7572240" cy="5305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EF7F59-00BF-42E7-92C4-D26831F427A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rovide Resour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6324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nancial requirements/budg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rsonnel ne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dditional staff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kills, training neede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acilities, equipment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upplies, compu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tretch/>
        </p:blipFill>
        <p:spPr>
          <a:xfrm>
            <a:off x="6553080" y="533520"/>
            <a:ext cx="2286000" cy="213516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/>
          <p:cNvPicPr/>
          <p:nvPr/>
        </p:nvPicPr>
        <p:blipFill>
          <a:blip r:embed="rId2"/>
          <a:stretch/>
        </p:blipFill>
        <p:spPr>
          <a:xfrm>
            <a:off x="6593040" y="2286000"/>
            <a:ext cx="1744560" cy="281952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"/>
          <p:cNvPicPr/>
          <p:nvPr/>
        </p:nvPicPr>
        <p:blipFill>
          <a:blip r:embed="rId3"/>
          <a:stretch/>
        </p:blipFill>
        <p:spPr>
          <a:xfrm>
            <a:off x="5638680" y="4267080"/>
            <a:ext cx="1795680" cy="1833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B89CB3-AE3E-4CAF-90DC-A1ECC7B1ABD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onitoring Complia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assign responsi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develop indica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establish monitoring 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nduct aud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management re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5867280" y="1295280"/>
            <a:ext cx="2938680" cy="4419720"/>
          </a:xfrm>
          <a:prstGeom prst="rect">
            <a:avLst/>
          </a:prstGeom>
          <a:ln w="76320">
            <a:solidFill>
              <a:srgbClr val="bd8d47"/>
            </a:solidFill>
            <a:miter/>
          </a:ln>
        </p:spPr>
      </p:pic>
      <p:pic>
        <p:nvPicPr>
          <p:cNvPr id="309" name="" descr=""/>
          <p:cNvPicPr/>
          <p:nvPr/>
        </p:nvPicPr>
        <p:blipFill>
          <a:blip r:embed="rId2"/>
          <a:stretch/>
        </p:blipFill>
        <p:spPr>
          <a:xfrm>
            <a:off x="5410080" y="4267080"/>
            <a:ext cx="2274840" cy="1922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3192BC-520D-4F06-A6D9-FDBEDCF4AF2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ternal Aud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1"/>
          <a:srcRect l="5213" t="0" r="5213" b="8392"/>
          <a:stretch/>
        </p:blipFill>
        <p:spPr>
          <a:xfrm>
            <a:off x="1371600" y="1371600"/>
            <a:ext cx="6575400" cy="4452840"/>
          </a:xfrm>
          <a:prstGeom prst="rect">
            <a:avLst/>
          </a:prstGeom>
          <a:ln w="57240">
            <a:solidFill>
              <a:srgbClr val="bd8d47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F1A97C-FF5A-409D-A80A-D79D0F0C3E6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2"/>
          <p:cNvSpPr/>
          <p:nvPr/>
        </p:nvSpPr>
        <p:spPr>
          <a:xfrm>
            <a:off x="304920" y="457200"/>
            <a:ext cx="670536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7d"/>
                </a:solidFill>
                <a:latin typeface="Verdana"/>
              </a:rPr>
              <a:t>What is a Quality Manual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/>
          </p:nvPr>
        </p:nvSpPr>
        <p:spPr>
          <a:xfrm>
            <a:off x="151920" y="990360"/>
            <a:ext cx="84582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A document describing the quality management system of an organiz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sential organizational st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nagement responsi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5867280" y="2438280"/>
            <a:ext cx="3276720" cy="3353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C820D1-F00B-4A8A-BD59-FC275A7B0E7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3600" spc="-1" strike="noStrike">
                <a:solidFill>
                  <a:srgbClr val="00007d"/>
                </a:solidFill>
                <a:latin typeface="Verdana"/>
              </a:rPr>
              <a:t>Quality Manu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mmunicates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serves as a framework for meeting quality system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demonstrates management’s 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mmitment to 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7543800" y="464832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5BF1A9-98AC-40A8-AF37-2822AEE2D29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intaining the Quality Manu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mmunicates quality poli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needs management approv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requires upda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1"/>
          <a:stretch/>
        </p:blipFill>
        <p:spPr>
          <a:xfrm>
            <a:off x="6400800" y="4572000"/>
            <a:ext cx="1946160" cy="1628640"/>
          </a:xfrm>
          <a:prstGeom prst="rect">
            <a:avLst/>
          </a:prstGeom>
          <a:ln w="0">
            <a:noFill/>
          </a:ln>
        </p:spPr>
      </p:pic>
      <p:pic>
        <p:nvPicPr>
          <p:cNvPr id="321" name="" descr=""/>
          <p:cNvPicPr/>
          <p:nvPr/>
        </p:nvPicPr>
        <p:blipFill>
          <a:blip r:embed="rId2"/>
          <a:stretch/>
        </p:blipFill>
        <p:spPr>
          <a:xfrm>
            <a:off x="4419720" y="2895480"/>
            <a:ext cx="2700360" cy="327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FA4DCF-BE56-4DC4-8B32-6B2134C8E43E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15400" cy="111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ccessful implementation requi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-360" y="1066680"/>
            <a:ext cx="89917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having management commi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understanding the benefits of a quality management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engaging staff at all lev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striving to 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continually impr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having realistic 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expec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1"/>
          <a:srcRect l="14069" t="0" r="8441" b="13427"/>
          <a:stretch/>
        </p:blipFill>
        <p:spPr>
          <a:xfrm>
            <a:off x="4648320" y="3581280"/>
            <a:ext cx="3657600" cy="2570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98D20E-BBEF-4621-8714-E25017585CD3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" descr=""/>
          <p:cNvPicPr/>
          <p:nvPr/>
        </p:nvPicPr>
        <p:blipFill>
          <a:blip r:embed="rId1"/>
          <a:srcRect l="0" t="0" r="0" b="17676"/>
          <a:stretch/>
        </p:blipFill>
        <p:spPr>
          <a:xfrm>
            <a:off x="2362320" y="457200"/>
            <a:ext cx="6781680" cy="5521320"/>
          </a:xfrm>
          <a:prstGeom prst="rect">
            <a:avLst/>
          </a:prstGeom>
          <a:ln w="0">
            <a:noFill/>
          </a:ln>
        </p:spPr>
      </p:pic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 flipH="1" rot="12600">
            <a:off x="837720" y="3962520"/>
            <a:ext cx="2692440" cy="2109600"/>
          </a:xfrm>
          <a:prstGeom prst="rect">
            <a:avLst/>
          </a:prstGeom>
          <a:ln w="0">
            <a:noFill/>
          </a:ln>
        </p:spPr>
      </p:pic>
      <p:pic>
        <p:nvPicPr>
          <p:cNvPr id="327" name="" descr=""/>
          <p:cNvPicPr/>
          <p:nvPr/>
        </p:nvPicPr>
        <p:blipFill>
          <a:blip r:embed="rId3"/>
          <a:stretch/>
        </p:blipFill>
        <p:spPr>
          <a:xfrm>
            <a:off x="2666880" y="3276720"/>
            <a:ext cx="2181240" cy="1646280"/>
          </a:xfrm>
          <a:prstGeom prst="rect">
            <a:avLst/>
          </a:prstGeom>
          <a:ln w="0">
            <a:noFill/>
          </a:ln>
        </p:spPr>
      </p:pic>
      <p:pic>
        <p:nvPicPr>
          <p:cNvPr id="328" name="" descr=""/>
          <p:cNvPicPr/>
          <p:nvPr/>
        </p:nvPicPr>
        <p:blipFill>
          <a:blip r:embed="rId4"/>
          <a:stretch/>
        </p:blipFill>
        <p:spPr>
          <a:xfrm>
            <a:off x="4343400" y="1755720"/>
            <a:ext cx="1828800" cy="1785960"/>
          </a:xfrm>
          <a:prstGeom prst="rect">
            <a:avLst/>
          </a:prstGeom>
          <a:ln w="0">
            <a:noFill/>
          </a:ln>
        </p:spPr>
      </p:pic>
      <p:grpSp>
        <p:nvGrpSpPr>
          <p:cNvPr id="329" name=""/>
          <p:cNvGrpSpPr/>
          <p:nvPr/>
        </p:nvGrpSpPr>
        <p:grpSpPr>
          <a:xfrm>
            <a:off x="5620680" y="2752200"/>
            <a:ext cx="3161880" cy="3371400"/>
            <a:chOff x="5620680" y="2752200"/>
            <a:chExt cx="3161880" cy="3371400"/>
          </a:xfrm>
        </p:grpSpPr>
        <p:sp>
          <p:nvSpPr>
            <p:cNvPr id="330" name="_s195610"/>
            <p:cNvSpPr/>
            <p:nvPr/>
          </p:nvSpPr>
          <p:spPr>
            <a:xfrm>
              <a:off x="6339600" y="2752200"/>
              <a:ext cx="1722960" cy="2397600"/>
            </a:xfrm>
            <a:custGeom>
              <a:avLst/>
              <a:gdLst>
                <a:gd name="textAreaLeft" fmla="*/ 0 w 1722960"/>
                <a:gd name="textAreaRight" fmla="*/ 1723320 w 1722960"/>
                <a:gd name="textAreaTop" fmla="*/ 0 h 2397600"/>
                <a:gd name="textAreaBottom" fmla="*/ 2397960 h 2397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_s195611"/>
            <p:cNvSpPr/>
            <p:nvPr/>
          </p:nvSpPr>
          <p:spPr>
            <a:xfrm rot="7200000">
              <a:off x="6238080" y="3655800"/>
              <a:ext cx="2397600" cy="1723320"/>
            </a:xfrm>
            <a:custGeom>
              <a:avLst/>
              <a:gdLst>
                <a:gd name="textAreaLeft" fmla="*/ 0 w 2397600"/>
                <a:gd name="textAreaRight" fmla="*/ 2397960 w 2397600"/>
                <a:gd name="textAreaTop" fmla="*/ 0 h 1723320"/>
                <a:gd name="textAreaBottom" fmla="*/ 1723680 h 17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_s195613"/>
            <p:cNvSpPr/>
            <p:nvPr/>
          </p:nvSpPr>
          <p:spPr>
            <a:xfrm rot="14400000">
              <a:off x="5767200" y="3658680"/>
              <a:ext cx="2397600" cy="1722960"/>
            </a:xfrm>
            <a:custGeom>
              <a:avLst/>
              <a:gdLst>
                <a:gd name="textAreaLeft" fmla="*/ 0 w 2397600"/>
                <a:gd name="textAreaRight" fmla="*/ 2397960 w 2397600"/>
                <a:gd name="textAreaTop" fmla="*/ 0 h 1722960"/>
                <a:gd name="textAreaBottom" fmla="*/ 1723320 h 1722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_s195608"/>
            <p:cNvSpPr/>
            <p:nvPr/>
          </p:nvSpPr>
          <p:spPr>
            <a:xfrm>
              <a:off x="7673040" y="3191400"/>
              <a:ext cx="69156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_s195609"/>
            <p:cNvSpPr/>
            <p:nvPr/>
          </p:nvSpPr>
          <p:spPr>
            <a:xfrm>
              <a:off x="6855480" y="5161320"/>
              <a:ext cx="69156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_s195612"/>
            <p:cNvSpPr/>
            <p:nvPr/>
          </p:nvSpPr>
          <p:spPr>
            <a:xfrm>
              <a:off x="6037560" y="3191400"/>
              <a:ext cx="69156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36" name="" descr=""/>
          <p:cNvPicPr/>
          <p:nvPr/>
        </p:nvPicPr>
        <p:blipFill>
          <a:blip r:embed="rId5"/>
          <a:stretch/>
        </p:blipFill>
        <p:spPr>
          <a:xfrm>
            <a:off x="6781680" y="228600"/>
            <a:ext cx="2129040" cy="1341360"/>
          </a:xfrm>
          <a:prstGeom prst="rect">
            <a:avLst/>
          </a:prstGeom>
          <a:ln w="0">
            <a:noFill/>
          </a:ln>
        </p:spPr>
      </p:pic>
      <p:pic>
        <p:nvPicPr>
          <p:cNvPr id="337" name="" descr=""/>
          <p:cNvPicPr/>
          <p:nvPr/>
        </p:nvPicPr>
        <p:blipFill>
          <a:blip r:embed="rId6"/>
          <a:stretch/>
        </p:blipFill>
        <p:spPr>
          <a:xfrm>
            <a:off x="5791320" y="1295280"/>
            <a:ext cx="1431720" cy="1212840"/>
          </a:xfrm>
          <a:prstGeom prst="rect">
            <a:avLst/>
          </a:prstGeom>
          <a:ln w="0">
            <a:noFill/>
          </a:ln>
        </p:spPr>
      </p:pic>
      <p:sp>
        <p:nvSpPr>
          <p:cNvPr id="338" name=""/>
          <p:cNvSpPr/>
          <p:nvPr/>
        </p:nvSpPr>
        <p:spPr>
          <a:xfrm rot="2508000">
            <a:off x="6094800" y="1599840"/>
            <a:ext cx="111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ality Manu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7"/>
          <a:stretch/>
        </p:blipFill>
        <p:spPr>
          <a:xfrm>
            <a:off x="6477120" y="3429000"/>
            <a:ext cx="1600200" cy="135252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/>
          <p:nvPr/>
        </p:nvSpPr>
        <p:spPr>
          <a:xfrm>
            <a:off x="152280" y="53352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tent to 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379183-D8ED-46D1-870D-A2D90EEA563C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tent to 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839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ign responsibility for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ocat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and distribute a quality man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mplement quality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 compliance with quality management system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2544B9-22A2-44F8-9D85-BEEED60DB300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1760" y="457200"/>
            <a:ext cx="79246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2133720" y="1066680"/>
            <a:ext cx="5181480" cy="5410080"/>
            <a:chOff x="2133720" y="1066680"/>
            <a:chExt cx="5181480" cy="5410080"/>
          </a:xfrm>
        </p:grpSpPr>
        <p:sp>
          <p:nvSpPr>
            <p:cNvPr id="133" name="AutoShape 4"/>
            <p:cNvSpPr/>
            <p:nvPr/>
          </p:nvSpPr>
          <p:spPr>
            <a:xfrm>
              <a:off x="2133720" y="10666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9"/>
            <p:cNvSpPr/>
            <p:nvPr/>
          </p:nvSpPr>
          <p:spPr>
            <a:xfrm>
              <a:off x="4378320" y="39142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0"/>
            <p:cNvSpPr/>
            <p:nvPr/>
          </p:nvSpPr>
          <p:spPr>
            <a:xfrm>
              <a:off x="4346640" y="39060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1"/>
            <p:cNvSpPr/>
            <p:nvPr/>
          </p:nvSpPr>
          <p:spPr>
            <a:xfrm>
              <a:off x="4346640" y="39060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2"/>
            <p:cNvSpPr/>
            <p:nvPr/>
          </p:nvSpPr>
          <p:spPr>
            <a:xfrm>
              <a:off x="4608360" y="26114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3"/>
            <p:cNvSpPr/>
            <p:nvPr/>
          </p:nvSpPr>
          <p:spPr>
            <a:xfrm>
              <a:off x="4608360" y="26114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6"/>
            <p:cNvSpPr/>
            <p:nvPr/>
          </p:nvSpPr>
          <p:spPr>
            <a:xfrm>
              <a:off x="3013200" y="32727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22"/>
            <p:cNvSpPr/>
            <p:nvPr/>
          </p:nvSpPr>
          <p:spPr>
            <a:xfrm>
              <a:off x="3002040" y="32094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24"/>
            <p:cNvSpPr/>
            <p:nvPr/>
          </p:nvSpPr>
          <p:spPr>
            <a:xfrm flipH="1" flipV="1">
              <a:off x="4787640" y="60735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5"/>
            <p:cNvSpPr/>
            <p:nvPr/>
          </p:nvSpPr>
          <p:spPr>
            <a:xfrm flipV="1">
              <a:off x="4525920" y="49021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7"/>
            <p:cNvSpPr/>
            <p:nvPr/>
          </p:nvSpPr>
          <p:spPr>
            <a:xfrm>
              <a:off x="6324480" y="17326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7"/>
            <p:cNvSpPr/>
            <p:nvPr/>
          </p:nvSpPr>
          <p:spPr>
            <a:xfrm>
              <a:off x="4724280" y="18921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7"/>
            <p:cNvSpPr/>
            <p:nvPr/>
          </p:nvSpPr>
          <p:spPr>
            <a:xfrm>
              <a:off x="3048120" y="19414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 flipH="1">
              <a:off x="2742840" y="17805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" name="Group 65"/>
            <p:cNvGrpSpPr/>
            <p:nvPr/>
          </p:nvGrpSpPr>
          <p:grpSpPr>
            <a:xfrm>
              <a:off x="2438280" y="1159200"/>
              <a:ext cx="1261800" cy="1189800"/>
              <a:chOff x="2438280" y="1159200"/>
              <a:chExt cx="1261800" cy="1189800"/>
            </a:xfrm>
          </p:grpSpPr>
          <p:grpSp>
            <p:nvGrpSpPr>
              <p:cNvPr id="148" name="Group 66"/>
              <p:cNvGrpSpPr/>
              <p:nvPr/>
            </p:nvGrpSpPr>
            <p:grpSpPr>
              <a:xfrm>
                <a:off x="2438280" y="1159200"/>
                <a:ext cx="1239120" cy="1189800"/>
                <a:chOff x="2438280" y="1159200"/>
                <a:chExt cx="1239120" cy="1189800"/>
              </a:xfrm>
            </p:grpSpPr>
            <p:grpSp>
              <p:nvGrpSpPr>
                <p:cNvPr id="149" name="Group 67"/>
                <p:cNvGrpSpPr/>
                <p:nvPr/>
              </p:nvGrpSpPr>
              <p:grpSpPr>
                <a:xfrm>
                  <a:off x="2489760" y="1159200"/>
                  <a:ext cx="1152360" cy="1189800"/>
                  <a:chOff x="2489760" y="1159200"/>
                  <a:chExt cx="1152360" cy="1189800"/>
                </a:xfrm>
              </p:grpSpPr>
              <p:sp>
                <p:nvSpPr>
                  <p:cNvPr id="150" name="Freeform 68"/>
                  <p:cNvSpPr/>
                  <p:nvPr/>
                </p:nvSpPr>
                <p:spPr>
                  <a:xfrm>
                    <a:off x="2489760" y="11592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Freeform 69"/>
                  <p:cNvSpPr/>
                  <p:nvPr/>
                </p:nvSpPr>
                <p:spPr>
                  <a:xfrm>
                    <a:off x="2489760" y="11592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2" name="Text Box 70"/>
                <p:cNvSpPr/>
                <p:nvPr/>
              </p:nvSpPr>
              <p:spPr>
                <a:xfrm>
                  <a:off x="2438280" y="14335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" name="Text Box 71"/>
              <p:cNvSpPr/>
              <p:nvPr/>
            </p:nvSpPr>
            <p:spPr>
              <a:xfrm>
                <a:off x="2460960" y="15811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" name="Group 72"/>
            <p:cNvGrpSpPr/>
            <p:nvPr/>
          </p:nvGrpSpPr>
          <p:grpSpPr>
            <a:xfrm>
              <a:off x="4094280" y="1159200"/>
              <a:ext cx="1239840" cy="1189800"/>
              <a:chOff x="4094280" y="1159200"/>
              <a:chExt cx="1239840" cy="1189800"/>
            </a:xfrm>
          </p:grpSpPr>
          <p:sp>
            <p:nvSpPr>
              <p:cNvPr id="155" name="Freeform 73"/>
              <p:cNvSpPr/>
              <p:nvPr/>
            </p:nvSpPr>
            <p:spPr>
              <a:xfrm>
                <a:off x="4134960" y="11592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 Box 74"/>
              <p:cNvSpPr/>
              <p:nvPr/>
            </p:nvSpPr>
            <p:spPr>
              <a:xfrm>
                <a:off x="4094280" y="15811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75"/>
            <p:cNvGrpSpPr/>
            <p:nvPr/>
          </p:nvGrpSpPr>
          <p:grpSpPr>
            <a:xfrm>
              <a:off x="5694480" y="1159200"/>
              <a:ext cx="1239840" cy="1189800"/>
              <a:chOff x="5694480" y="1159200"/>
              <a:chExt cx="1239840" cy="1189800"/>
            </a:xfrm>
          </p:grpSpPr>
          <p:grpSp>
            <p:nvGrpSpPr>
              <p:cNvPr id="158" name="Group 76"/>
              <p:cNvGrpSpPr/>
              <p:nvPr/>
            </p:nvGrpSpPr>
            <p:grpSpPr>
              <a:xfrm>
                <a:off x="5739840" y="1159200"/>
                <a:ext cx="1153080" cy="1189800"/>
                <a:chOff x="5739840" y="1159200"/>
                <a:chExt cx="1153080" cy="1189800"/>
              </a:xfrm>
            </p:grpSpPr>
            <p:sp>
              <p:nvSpPr>
                <p:cNvPr id="159" name="Freeform 77"/>
                <p:cNvSpPr/>
                <p:nvPr/>
              </p:nvSpPr>
              <p:spPr>
                <a:xfrm>
                  <a:off x="5739840" y="11592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78"/>
                <p:cNvSpPr/>
                <p:nvPr/>
              </p:nvSpPr>
              <p:spPr>
                <a:xfrm>
                  <a:off x="5739840" y="11592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1" name="Text Box 79"/>
              <p:cNvSpPr/>
              <p:nvPr/>
            </p:nvSpPr>
            <p:spPr>
              <a:xfrm>
                <a:off x="5694480" y="15854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2" name="Line 27"/>
            <p:cNvSpPr/>
            <p:nvPr/>
          </p:nvSpPr>
          <p:spPr>
            <a:xfrm flipH="1">
              <a:off x="2819160" y="31334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3" name=""/>
            <p:cNvGrpSpPr/>
            <p:nvPr/>
          </p:nvGrpSpPr>
          <p:grpSpPr>
            <a:xfrm>
              <a:off x="2438280" y="2498760"/>
              <a:ext cx="1241280" cy="1189440"/>
              <a:chOff x="2438280" y="2498760"/>
              <a:chExt cx="1241280" cy="1189440"/>
            </a:xfrm>
          </p:grpSpPr>
          <p:sp>
            <p:nvSpPr>
              <p:cNvPr id="164" name="Freeform 46"/>
              <p:cNvSpPr/>
              <p:nvPr/>
            </p:nvSpPr>
            <p:spPr>
              <a:xfrm>
                <a:off x="2442960" y="24987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Text Box 47"/>
              <p:cNvSpPr/>
              <p:nvPr/>
            </p:nvSpPr>
            <p:spPr>
              <a:xfrm>
                <a:off x="2438280" y="27853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Freeform 31"/>
            <p:cNvSpPr/>
            <p:nvPr/>
          </p:nvSpPr>
          <p:spPr>
            <a:xfrm>
              <a:off x="4143240" y="25614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43"/>
            <p:cNvSpPr/>
            <p:nvPr/>
          </p:nvSpPr>
          <p:spPr>
            <a:xfrm>
              <a:off x="4183200" y="25779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" name=""/>
            <p:cNvGrpSpPr/>
            <p:nvPr/>
          </p:nvGrpSpPr>
          <p:grpSpPr>
            <a:xfrm>
              <a:off x="5638680" y="2516760"/>
              <a:ext cx="1336680" cy="1189440"/>
              <a:chOff x="5638680" y="2516760"/>
              <a:chExt cx="1336680" cy="1189440"/>
            </a:xfrm>
          </p:grpSpPr>
          <p:sp>
            <p:nvSpPr>
              <p:cNvPr id="169" name="Freeform 48"/>
              <p:cNvSpPr/>
              <p:nvPr/>
            </p:nvSpPr>
            <p:spPr>
              <a:xfrm>
                <a:off x="5715000" y="25167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Text Box 55"/>
              <p:cNvSpPr/>
              <p:nvPr/>
            </p:nvSpPr>
            <p:spPr>
              <a:xfrm>
                <a:off x="5638680" y="28166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1" name="Line 27"/>
            <p:cNvSpPr/>
            <p:nvPr/>
          </p:nvSpPr>
          <p:spPr>
            <a:xfrm flipH="1">
              <a:off x="2742840" y="44082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2438280" y="3858120"/>
              <a:ext cx="1239840" cy="1191240"/>
              <a:chOff x="2438280" y="3858120"/>
              <a:chExt cx="1239840" cy="1191240"/>
            </a:xfrm>
          </p:grpSpPr>
          <p:sp>
            <p:nvSpPr>
              <p:cNvPr id="173" name="Freeform 81"/>
              <p:cNvSpPr/>
              <p:nvPr/>
            </p:nvSpPr>
            <p:spPr>
              <a:xfrm>
                <a:off x="2470320" y="38581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Text Box 82"/>
              <p:cNvSpPr/>
              <p:nvPr/>
            </p:nvSpPr>
            <p:spPr>
              <a:xfrm>
                <a:off x="2438280" y="40899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4094280" y="3858120"/>
              <a:ext cx="1239840" cy="1191240"/>
              <a:chOff x="4094280" y="3858120"/>
              <a:chExt cx="1239840" cy="1191240"/>
            </a:xfrm>
          </p:grpSpPr>
          <p:sp>
            <p:nvSpPr>
              <p:cNvPr id="176" name="Freeform 30"/>
              <p:cNvSpPr/>
              <p:nvPr/>
            </p:nvSpPr>
            <p:spPr>
              <a:xfrm>
                <a:off x="4121280" y="38581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Text Box 54"/>
              <p:cNvSpPr/>
              <p:nvPr/>
            </p:nvSpPr>
            <p:spPr>
              <a:xfrm>
                <a:off x="4094280" y="41083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8" name="Freeform 50"/>
            <p:cNvSpPr/>
            <p:nvPr/>
          </p:nvSpPr>
          <p:spPr>
            <a:xfrm>
              <a:off x="5715000" y="38512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51"/>
            <p:cNvSpPr/>
            <p:nvPr/>
          </p:nvSpPr>
          <p:spPr>
            <a:xfrm>
              <a:off x="5694480" y="39308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27"/>
            <p:cNvSpPr/>
            <p:nvPr/>
          </p:nvSpPr>
          <p:spPr>
            <a:xfrm flipH="1">
              <a:off x="2819160" y="57592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1" name=""/>
            <p:cNvGrpSpPr/>
            <p:nvPr/>
          </p:nvGrpSpPr>
          <p:grpSpPr>
            <a:xfrm>
              <a:off x="2362320" y="5207040"/>
              <a:ext cx="1420560" cy="1189440"/>
              <a:chOff x="2362320" y="5207040"/>
              <a:chExt cx="1420560" cy="1189440"/>
            </a:xfrm>
          </p:grpSpPr>
          <p:sp>
            <p:nvSpPr>
              <p:cNvPr id="182" name="Freeform 57"/>
              <p:cNvSpPr/>
              <p:nvPr/>
            </p:nvSpPr>
            <p:spPr>
              <a:xfrm>
                <a:off x="2511360" y="52070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Text Box 58"/>
              <p:cNvSpPr/>
              <p:nvPr/>
            </p:nvSpPr>
            <p:spPr>
              <a:xfrm>
                <a:off x="2362320" y="54421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4" name=""/>
            <p:cNvGrpSpPr/>
            <p:nvPr/>
          </p:nvGrpSpPr>
          <p:grpSpPr>
            <a:xfrm>
              <a:off x="4094280" y="5139000"/>
              <a:ext cx="1239840" cy="1189800"/>
              <a:chOff x="4094280" y="5139000"/>
              <a:chExt cx="1239840" cy="1189800"/>
            </a:xfrm>
          </p:grpSpPr>
          <p:sp>
            <p:nvSpPr>
              <p:cNvPr id="185" name="Freeform 34"/>
              <p:cNvSpPr/>
              <p:nvPr/>
            </p:nvSpPr>
            <p:spPr>
              <a:xfrm>
                <a:off x="4143240" y="51390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Text Box 61"/>
              <p:cNvSpPr/>
              <p:nvPr/>
            </p:nvSpPr>
            <p:spPr>
              <a:xfrm>
                <a:off x="4094280" y="5442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5715000" y="5207040"/>
              <a:ext cx="1239840" cy="1189440"/>
              <a:chOff x="5715000" y="5207040"/>
              <a:chExt cx="1239840" cy="1189440"/>
            </a:xfrm>
          </p:grpSpPr>
          <p:sp>
            <p:nvSpPr>
              <p:cNvPr id="188" name="Freeform 63"/>
              <p:cNvSpPr/>
              <p:nvPr/>
            </p:nvSpPr>
            <p:spPr>
              <a:xfrm>
                <a:off x="5734080" y="52070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Text Box 64"/>
              <p:cNvSpPr/>
              <p:nvPr/>
            </p:nvSpPr>
            <p:spPr>
              <a:xfrm>
                <a:off x="5715000" y="54421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21B84E-6CFF-477F-A0F1-0DE1726FE78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85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memb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ality is not a science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t’s a way of think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pend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im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oday to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gain rewards tomorrow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ality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ffici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fessional, personal satisf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eer recogn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6553080" y="1143000"/>
            <a:ext cx="2152800" cy="327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C275C5-8E1C-43D9-99C0-573A47674961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o is Responsible for Qualit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1"/>
          <a:srcRect l="36001" t="26000" r="22500" b="32000"/>
          <a:stretch/>
        </p:blipFill>
        <p:spPr>
          <a:xfrm>
            <a:off x="457200" y="1295280"/>
            <a:ext cx="3287880" cy="249552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2"/>
          <a:stretch/>
        </p:blipFill>
        <p:spPr>
          <a:xfrm>
            <a:off x="3429000" y="1295280"/>
            <a:ext cx="2608200" cy="3429000"/>
          </a:xfrm>
          <a:prstGeom prst="rect">
            <a:avLst/>
          </a:prstGeom>
          <a:ln w="0">
            <a:noFill/>
          </a:ln>
        </p:spPr>
      </p:pic>
      <p:pic>
        <p:nvPicPr>
          <p:cNvPr id="349" name="" descr=""/>
          <p:cNvPicPr/>
          <p:nvPr/>
        </p:nvPicPr>
        <p:blipFill>
          <a:blip r:embed="rId3"/>
          <a:srcRect l="34886" t="0" r="17443" b="0"/>
          <a:stretch/>
        </p:blipFill>
        <p:spPr>
          <a:xfrm>
            <a:off x="5867280" y="1295280"/>
            <a:ext cx="2590920" cy="3706920"/>
          </a:xfrm>
          <a:prstGeom prst="rect">
            <a:avLst/>
          </a:prstGeom>
          <a:ln w="0">
            <a:noFill/>
          </a:ln>
        </p:spPr>
      </p:pic>
      <p:pic>
        <p:nvPicPr>
          <p:cNvPr id="350" name="" descr=""/>
          <p:cNvPicPr/>
          <p:nvPr/>
        </p:nvPicPr>
        <p:blipFill>
          <a:blip r:embed="rId4"/>
          <a:srcRect l="45613" t="25176" r="5213" b="35665"/>
          <a:stretch/>
        </p:blipFill>
        <p:spPr>
          <a:xfrm>
            <a:off x="4952880" y="4343400"/>
            <a:ext cx="3505320" cy="1981080"/>
          </a:xfrm>
          <a:prstGeom prst="rect">
            <a:avLst/>
          </a:prstGeom>
          <a:ln w="0">
            <a:noFill/>
          </a:ln>
        </p:spPr>
      </p:pic>
      <p:pic>
        <p:nvPicPr>
          <p:cNvPr id="351" name="" descr=""/>
          <p:cNvPicPr/>
          <p:nvPr/>
        </p:nvPicPr>
        <p:blipFill>
          <a:blip r:embed="rId5"/>
          <a:srcRect l="0" t="0" r="26971" b="0"/>
          <a:stretch/>
        </p:blipFill>
        <p:spPr>
          <a:xfrm>
            <a:off x="457200" y="3276720"/>
            <a:ext cx="3276720" cy="3047760"/>
          </a:xfrm>
          <a:prstGeom prst="rect">
            <a:avLst/>
          </a:prstGeom>
          <a:ln w="0">
            <a:noFill/>
          </a:ln>
        </p:spPr>
      </p:pic>
      <p:pic>
        <p:nvPicPr>
          <p:cNvPr id="352" name="" descr=""/>
          <p:cNvPicPr/>
          <p:nvPr/>
        </p:nvPicPr>
        <p:blipFill>
          <a:blip r:embed="rId6"/>
          <a:srcRect l="2557" t="8365" r="7671" b="13383"/>
          <a:stretch/>
        </p:blipFill>
        <p:spPr>
          <a:xfrm>
            <a:off x="3581280" y="4419720"/>
            <a:ext cx="1444680" cy="1904760"/>
          </a:xfrm>
          <a:prstGeom prst="rect">
            <a:avLst/>
          </a:prstGeom>
          <a:ln w="0">
            <a:noFill/>
          </a:ln>
        </p:spPr>
      </p:pic>
      <p:sp>
        <p:nvSpPr>
          <p:cNvPr id="353" name="AutoShape 4"/>
          <p:cNvSpPr/>
          <p:nvPr/>
        </p:nvSpPr>
        <p:spPr>
          <a:xfrm>
            <a:off x="2590920" y="1905120"/>
            <a:ext cx="4038480" cy="3504960"/>
          </a:xfrm>
          <a:prstGeom prst="irregularSeal1">
            <a:avLst/>
          </a:prstGeom>
          <a:solidFill>
            <a:srgbClr val="00007d"/>
          </a:solidFill>
          <a:ln w="38160">
            <a:solidFill>
              <a:srgbClr val="ffd911"/>
            </a:solidFill>
            <a:miter/>
          </a:ln>
          <a:effectLst>
            <a:outerShdw dist="17819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EVERYONE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0933F0-5D13-4800-AFBC-B270FFBC1235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867280" y="1904760"/>
            <a:ext cx="28958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Arial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Arial"/>
              </a:rPr>
              <a:t>Commen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5486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457200" y="533520"/>
            <a:ext cx="5181480" cy="5409720"/>
            <a:chOff x="457200" y="533520"/>
            <a:chExt cx="5181480" cy="5409720"/>
          </a:xfrm>
        </p:grpSpPr>
        <p:sp>
          <p:nvSpPr>
            <p:cNvPr id="357" name="AutoShape 4"/>
            <p:cNvSpPr/>
            <p:nvPr/>
          </p:nvSpPr>
          <p:spPr>
            <a:xfrm>
              <a:off x="457200" y="5335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9"/>
            <p:cNvSpPr/>
            <p:nvPr/>
          </p:nvSpPr>
          <p:spPr>
            <a:xfrm>
              <a:off x="2701800" y="33811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10"/>
            <p:cNvSpPr/>
            <p:nvPr/>
          </p:nvSpPr>
          <p:spPr>
            <a:xfrm>
              <a:off x="2670120" y="33728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11"/>
            <p:cNvSpPr/>
            <p:nvPr/>
          </p:nvSpPr>
          <p:spPr>
            <a:xfrm>
              <a:off x="2670120" y="33728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12"/>
            <p:cNvSpPr/>
            <p:nvPr/>
          </p:nvSpPr>
          <p:spPr>
            <a:xfrm>
              <a:off x="2931840" y="20782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13"/>
            <p:cNvSpPr/>
            <p:nvPr/>
          </p:nvSpPr>
          <p:spPr>
            <a:xfrm>
              <a:off x="2931840" y="20782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16"/>
            <p:cNvSpPr/>
            <p:nvPr/>
          </p:nvSpPr>
          <p:spPr>
            <a:xfrm>
              <a:off x="1336680" y="27392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22"/>
            <p:cNvSpPr/>
            <p:nvPr/>
          </p:nvSpPr>
          <p:spPr>
            <a:xfrm>
              <a:off x="1325520" y="26762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Line 24"/>
            <p:cNvSpPr/>
            <p:nvPr/>
          </p:nvSpPr>
          <p:spPr>
            <a:xfrm flipH="1" flipV="1">
              <a:off x="3111120" y="55400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Line 25"/>
            <p:cNvSpPr/>
            <p:nvPr/>
          </p:nvSpPr>
          <p:spPr>
            <a:xfrm flipV="1">
              <a:off x="2849400" y="43689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Line 27"/>
            <p:cNvSpPr/>
            <p:nvPr/>
          </p:nvSpPr>
          <p:spPr>
            <a:xfrm>
              <a:off x="4647960" y="11995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Line 27"/>
            <p:cNvSpPr/>
            <p:nvPr/>
          </p:nvSpPr>
          <p:spPr>
            <a:xfrm>
              <a:off x="3047760" y="13586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Line 27"/>
            <p:cNvSpPr/>
            <p:nvPr/>
          </p:nvSpPr>
          <p:spPr>
            <a:xfrm>
              <a:off x="1371600" y="14083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Line 27"/>
            <p:cNvSpPr/>
            <p:nvPr/>
          </p:nvSpPr>
          <p:spPr>
            <a:xfrm flipH="1">
              <a:off x="1066320" y="12474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1" name="Group 65"/>
            <p:cNvGrpSpPr/>
            <p:nvPr/>
          </p:nvGrpSpPr>
          <p:grpSpPr>
            <a:xfrm>
              <a:off x="761760" y="626040"/>
              <a:ext cx="1261800" cy="1189800"/>
              <a:chOff x="761760" y="626040"/>
              <a:chExt cx="1261800" cy="1189800"/>
            </a:xfrm>
          </p:grpSpPr>
          <p:grpSp>
            <p:nvGrpSpPr>
              <p:cNvPr id="372" name="Group 66"/>
              <p:cNvGrpSpPr/>
              <p:nvPr/>
            </p:nvGrpSpPr>
            <p:grpSpPr>
              <a:xfrm>
                <a:off x="761760" y="626040"/>
                <a:ext cx="1239120" cy="1189800"/>
                <a:chOff x="761760" y="626040"/>
                <a:chExt cx="1239120" cy="1189800"/>
              </a:xfrm>
            </p:grpSpPr>
            <p:grpSp>
              <p:nvGrpSpPr>
                <p:cNvPr id="373" name="Group 67"/>
                <p:cNvGrpSpPr/>
                <p:nvPr/>
              </p:nvGrpSpPr>
              <p:grpSpPr>
                <a:xfrm>
                  <a:off x="813240" y="626040"/>
                  <a:ext cx="1152360" cy="1189800"/>
                  <a:chOff x="813240" y="626040"/>
                  <a:chExt cx="1152360" cy="1189800"/>
                </a:xfrm>
              </p:grpSpPr>
              <p:sp>
                <p:nvSpPr>
                  <p:cNvPr id="374" name="Freeform 68"/>
                  <p:cNvSpPr/>
                  <p:nvPr/>
                </p:nvSpPr>
                <p:spPr>
                  <a:xfrm>
                    <a:off x="813240" y="6260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5" name="Freeform 69"/>
                  <p:cNvSpPr/>
                  <p:nvPr/>
                </p:nvSpPr>
                <p:spPr>
                  <a:xfrm>
                    <a:off x="813240" y="6260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76" name="Text Box 70"/>
                <p:cNvSpPr/>
                <p:nvPr/>
              </p:nvSpPr>
              <p:spPr>
                <a:xfrm>
                  <a:off x="761760" y="9003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77" name="Text Box 71"/>
              <p:cNvSpPr/>
              <p:nvPr/>
            </p:nvSpPr>
            <p:spPr>
              <a:xfrm>
                <a:off x="784440" y="10479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8" name="Group 72"/>
            <p:cNvGrpSpPr/>
            <p:nvPr/>
          </p:nvGrpSpPr>
          <p:grpSpPr>
            <a:xfrm>
              <a:off x="2417760" y="626040"/>
              <a:ext cx="1239840" cy="1189800"/>
              <a:chOff x="2417760" y="626040"/>
              <a:chExt cx="1239840" cy="1189800"/>
            </a:xfrm>
          </p:grpSpPr>
          <p:sp>
            <p:nvSpPr>
              <p:cNvPr id="379" name="Freeform 73"/>
              <p:cNvSpPr/>
              <p:nvPr/>
            </p:nvSpPr>
            <p:spPr>
              <a:xfrm>
                <a:off x="2458440" y="6260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Text Box 74"/>
              <p:cNvSpPr/>
              <p:nvPr/>
            </p:nvSpPr>
            <p:spPr>
              <a:xfrm>
                <a:off x="2417760" y="10479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1" name="Group 75"/>
            <p:cNvGrpSpPr/>
            <p:nvPr/>
          </p:nvGrpSpPr>
          <p:grpSpPr>
            <a:xfrm>
              <a:off x="4017960" y="626040"/>
              <a:ext cx="1239840" cy="1189800"/>
              <a:chOff x="4017960" y="626040"/>
              <a:chExt cx="1239840" cy="1189800"/>
            </a:xfrm>
          </p:grpSpPr>
          <p:grpSp>
            <p:nvGrpSpPr>
              <p:cNvPr id="382" name="Group 76"/>
              <p:cNvGrpSpPr/>
              <p:nvPr/>
            </p:nvGrpSpPr>
            <p:grpSpPr>
              <a:xfrm>
                <a:off x="4063320" y="626040"/>
                <a:ext cx="1153080" cy="1189800"/>
                <a:chOff x="4063320" y="626040"/>
                <a:chExt cx="1153080" cy="1189800"/>
              </a:xfrm>
            </p:grpSpPr>
            <p:sp>
              <p:nvSpPr>
                <p:cNvPr id="383" name="Freeform 77"/>
                <p:cNvSpPr/>
                <p:nvPr/>
              </p:nvSpPr>
              <p:spPr>
                <a:xfrm>
                  <a:off x="4063320" y="6260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4" name="Freeform 78"/>
                <p:cNvSpPr/>
                <p:nvPr/>
              </p:nvSpPr>
              <p:spPr>
                <a:xfrm>
                  <a:off x="4063320" y="6260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5" name="Text Box 79"/>
              <p:cNvSpPr/>
              <p:nvPr/>
            </p:nvSpPr>
            <p:spPr>
              <a:xfrm>
                <a:off x="4017960" y="10522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6" name="Line 27"/>
            <p:cNvSpPr/>
            <p:nvPr/>
          </p:nvSpPr>
          <p:spPr>
            <a:xfrm flipH="1">
              <a:off x="1142640" y="26002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7" name=""/>
            <p:cNvGrpSpPr/>
            <p:nvPr/>
          </p:nvGrpSpPr>
          <p:grpSpPr>
            <a:xfrm>
              <a:off x="761760" y="1965600"/>
              <a:ext cx="1241280" cy="1189440"/>
              <a:chOff x="761760" y="1965600"/>
              <a:chExt cx="1241280" cy="1189440"/>
            </a:xfrm>
          </p:grpSpPr>
          <p:sp>
            <p:nvSpPr>
              <p:cNvPr id="388" name="Freeform 46"/>
              <p:cNvSpPr/>
              <p:nvPr/>
            </p:nvSpPr>
            <p:spPr>
              <a:xfrm>
                <a:off x="766440" y="19656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Text Box 47"/>
              <p:cNvSpPr/>
              <p:nvPr/>
            </p:nvSpPr>
            <p:spPr>
              <a:xfrm>
                <a:off x="761760" y="22521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0" name="Freeform 31"/>
            <p:cNvSpPr/>
            <p:nvPr/>
          </p:nvSpPr>
          <p:spPr>
            <a:xfrm>
              <a:off x="2466720" y="20282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Text Box 43"/>
            <p:cNvSpPr/>
            <p:nvPr/>
          </p:nvSpPr>
          <p:spPr>
            <a:xfrm>
              <a:off x="2506680" y="20448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2" name=""/>
            <p:cNvGrpSpPr/>
            <p:nvPr/>
          </p:nvGrpSpPr>
          <p:grpSpPr>
            <a:xfrm>
              <a:off x="3962160" y="1983600"/>
              <a:ext cx="1336680" cy="1189440"/>
              <a:chOff x="3962160" y="1983600"/>
              <a:chExt cx="1336680" cy="1189440"/>
            </a:xfrm>
          </p:grpSpPr>
          <p:sp>
            <p:nvSpPr>
              <p:cNvPr id="393" name="Freeform 48"/>
              <p:cNvSpPr/>
              <p:nvPr/>
            </p:nvSpPr>
            <p:spPr>
              <a:xfrm>
                <a:off x="4038480" y="19836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Text Box 55"/>
              <p:cNvSpPr/>
              <p:nvPr/>
            </p:nvSpPr>
            <p:spPr>
              <a:xfrm>
                <a:off x="3962160" y="22834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5" name="Line 27"/>
            <p:cNvSpPr/>
            <p:nvPr/>
          </p:nvSpPr>
          <p:spPr>
            <a:xfrm flipH="1">
              <a:off x="1066320" y="38750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6" name=""/>
            <p:cNvGrpSpPr/>
            <p:nvPr/>
          </p:nvGrpSpPr>
          <p:grpSpPr>
            <a:xfrm>
              <a:off x="761760" y="3324600"/>
              <a:ext cx="1239840" cy="1190880"/>
              <a:chOff x="761760" y="3324600"/>
              <a:chExt cx="1239840" cy="1190880"/>
            </a:xfrm>
          </p:grpSpPr>
          <p:sp>
            <p:nvSpPr>
              <p:cNvPr id="397" name="Freeform 81"/>
              <p:cNvSpPr/>
              <p:nvPr/>
            </p:nvSpPr>
            <p:spPr>
              <a:xfrm>
                <a:off x="793800" y="33246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Text Box 82"/>
              <p:cNvSpPr/>
              <p:nvPr/>
            </p:nvSpPr>
            <p:spPr>
              <a:xfrm>
                <a:off x="761760" y="35564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9" name=""/>
            <p:cNvGrpSpPr/>
            <p:nvPr/>
          </p:nvGrpSpPr>
          <p:grpSpPr>
            <a:xfrm>
              <a:off x="2417760" y="3324600"/>
              <a:ext cx="1239840" cy="1190880"/>
              <a:chOff x="2417760" y="3324600"/>
              <a:chExt cx="1239840" cy="1190880"/>
            </a:xfrm>
          </p:grpSpPr>
          <p:sp>
            <p:nvSpPr>
              <p:cNvPr id="400" name="Freeform 30"/>
              <p:cNvSpPr/>
              <p:nvPr/>
            </p:nvSpPr>
            <p:spPr>
              <a:xfrm>
                <a:off x="2444760" y="33246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Text Box 54"/>
              <p:cNvSpPr/>
              <p:nvPr/>
            </p:nvSpPr>
            <p:spPr>
              <a:xfrm>
                <a:off x="2417760" y="3574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2" name="Freeform 50"/>
            <p:cNvSpPr/>
            <p:nvPr/>
          </p:nvSpPr>
          <p:spPr>
            <a:xfrm>
              <a:off x="4038480" y="33177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Text Box 51"/>
            <p:cNvSpPr/>
            <p:nvPr/>
          </p:nvSpPr>
          <p:spPr>
            <a:xfrm>
              <a:off x="4017960" y="33976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Line 27"/>
            <p:cNvSpPr/>
            <p:nvPr/>
          </p:nvSpPr>
          <p:spPr>
            <a:xfrm flipH="1">
              <a:off x="1142640" y="52257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5" name=""/>
            <p:cNvGrpSpPr/>
            <p:nvPr/>
          </p:nvGrpSpPr>
          <p:grpSpPr>
            <a:xfrm>
              <a:off x="685800" y="4673520"/>
              <a:ext cx="1420560" cy="1189440"/>
              <a:chOff x="685800" y="4673520"/>
              <a:chExt cx="1420560" cy="1189440"/>
            </a:xfrm>
          </p:grpSpPr>
          <p:sp>
            <p:nvSpPr>
              <p:cNvPr id="406" name="Freeform 57"/>
              <p:cNvSpPr/>
              <p:nvPr/>
            </p:nvSpPr>
            <p:spPr>
              <a:xfrm>
                <a:off x="834840" y="46735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Text Box 58"/>
              <p:cNvSpPr/>
              <p:nvPr/>
            </p:nvSpPr>
            <p:spPr>
              <a:xfrm>
                <a:off x="685800" y="49086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8" name=""/>
            <p:cNvGrpSpPr/>
            <p:nvPr/>
          </p:nvGrpSpPr>
          <p:grpSpPr>
            <a:xfrm>
              <a:off x="2417760" y="4605480"/>
              <a:ext cx="1239840" cy="1189800"/>
              <a:chOff x="2417760" y="4605480"/>
              <a:chExt cx="1239840" cy="1189800"/>
            </a:xfrm>
          </p:grpSpPr>
          <p:sp>
            <p:nvSpPr>
              <p:cNvPr id="409" name="Freeform 34"/>
              <p:cNvSpPr/>
              <p:nvPr/>
            </p:nvSpPr>
            <p:spPr>
              <a:xfrm>
                <a:off x="2466720" y="46054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Text Box 61"/>
              <p:cNvSpPr/>
              <p:nvPr/>
            </p:nvSpPr>
            <p:spPr>
              <a:xfrm>
                <a:off x="2417760" y="49086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1" name=""/>
            <p:cNvGrpSpPr/>
            <p:nvPr/>
          </p:nvGrpSpPr>
          <p:grpSpPr>
            <a:xfrm>
              <a:off x="4038480" y="4673520"/>
              <a:ext cx="1239840" cy="1189440"/>
              <a:chOff x="4038480" y="4673520"/>
              <a:chExt cx="1239840" cy="1189440"/>
            </a:xfrm>
          </p:grpSpPr>
          <p:sp>
            <p:nvSpPr>
              <p:cNvPr id="412" name="Freeform 63"/>
              <p:cNvSpPr/>
              <p:nvPr/>
            </p:nvSpPr>
            <p:spPr>
              <a:xfrm>
                <a:off x="4057560" y="46735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Text Box 64"/>
              <p:cNvSpPr/>
              <p:nvPr/>
            </p:nvSpPr>
            <p:spPr>
              <a:xfrm>
                <a:off x="4038480" y="49086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93A869-4006-49D2-B5FE-EB520F37F1AB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0" name=""/>
          <p:cNvGrpSpPr/>
          <p:nvPr/>
        </p:nvGrpSpPr>
        <p:grpSpPr>
          <a:xfrm>
            <a:off x="3657600" y="3581280"/>
            <a:ext cx="3962160" cy="2079000"/>
            <a:chOff x="3657600" y="3581280"/>
            <a:chExt cx="3962160" cy="2079000"/>
          </a:xfrm>
        </p:grpSpPr>
        <p:cxnSp>
          <p:nvCxnSpPr>
            <p:cNvPr id="191" name="_s7194"/>
            <p:cNvCxnSpPr>
              <a:stCxn id="192" idx="0"/>
              <a:endCxn id="193" idx="2"/>
            </p:cNvCxnSpPr>
            <p:nvPr/>
          </p:nvCxnSpPr>
          <p:spPr>
            <a:xfrm flipV="1" rot="16200000">
              <a:off x="6123600" y="3926520"/>
              <a:ext cx="416520" cy="1387440"/>
            </a:xfrm>
            <a:prstGeom prst="bentConnector3">
              <a:avLst>
                <a:gd name="adj1" fmla="val 2076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94" name="_s7193"/>
            <p:cNvCxnSpPr>
              <a:stCxn id="195" idx="0"/>
              <a:endCxn id="193" idx="2"/>
            </p:cNvCxnSpPr>
            <p:nvPr/>
          </p:nvCxnSpPr>
          <p:spPr>
            <a:xfrm flipV="1">
              <a:off x="5638320" y="4412160"/>
              <a:ext cx="1800" cy="4165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93" name="_s7188"/>
            <p:cNvSpPr/>
            <p:nvPr/>
          </p:nvSpPr>
          <p:spPr>
            <a:xfrm>
              <a:off x="5044320" y="3581280"/>
              <a:ext cx="1188720" cy="83160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96" name="_s7192"/>
            <p:cNvCxnSpPr>
              <a:stCxn id="197" idx="0"/>
              <a:endCxn id="193" idx="2"/>
            </p:cNvCxnSpPr>
            <p:nvPr/>
          </p:nvCxnSpPr>
          <p:spPr>
            <a:xfrm flipH="1" flipV="1" rot="5400000">
              <a:off x="4737240" y="3927600"/>
              <a:ext cx="416520" cy="1386000"/>
            </a:xfrm>
            <a:prstGeom prst="bentConnector3">
              <a:avLst>
                <a:gd name="adj1" fmla="val 20761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97" name="_s7189"/>
            <p:cNvSpPr/>
            <p:nvPr/>
          </p:nvSpPr>
          <p:spPr>
            <a:xfrm>
              <a:off x="3657600" y="4828680"/>
              <a:ext cx="1188720" cy="83160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_s7190"/>
            <p:cNvSpPr/>
            <p:nvPr/>
          </p:nvSpPr>
          <p:spPr>
            <a:xfrm>
              <a:off x="5044320" y="4828680"/>
              <a:ext cx="1188720" cy="831600"/>
            </a:xfrm>
            <a:prstGeom prst="roundRect">
              <a:avLst>
                <a:gd name="adj" fmla="val 16667"/>
              </a:avLst>
            </a:prstGeom>
            <a:solidFill>
              <a:srgbClr val="33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_s7191"/>
            <p:cNvSpPr/>
            <p:nvPr/>
          </p:nvSpPr>
          <p:spPr>
            <a:xfrm>
              <a:off x="6431040" y="4828680"/>
              <a:ext cx="1188720" cy="831600"/>
            </a:xfrm>
            <a:prstGeom prst="roundRect">
              <a:avLst>
                <a:gd name="adj" fmla="val 16667"/>
              </a:avLst>
            </a:prstGeom>
            <a:solidFill>
              <a:srgbClr val="99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ssential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124080" y="1295280"/>
            <a:ext cx="5791320" cy="20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5000"/>
              </a:lnSpc>
              <a:spcBef>
                <a:spcPts val="15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nagement committed to a quality management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15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 organizational structure designed to assure quality goa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457200" y="1523880"/>
            <a:ext cx="2692440" cy="4038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DAEFBF-50FB-4C80-B784-23597293E96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3352680" y="3733920"/>
            <a:ext cx="2133720" cy="990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029200" y="2743200"/>
            <a:ext cx="1905120" cy="7621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Planning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019920" y="4038480"/>
            <a:ext cx="2743200" cy="1676520"/>
          </a:xfrm>
          <a:prstGeom prst="rect">
            <a:avLst/>
          </a:prstGeom>
          <a:solidFill>
            <a:srgbClr val="003300"/>
          </a:solidFill>
          <a:ln w="9360">
            <a:solidFill>
              <a:srgbClr val="bd8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Monitoring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Maintenance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and Improv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rot="5400000">
            <a:off x="1218600" y="2286000"/>
            <a:ext cx="1523880" cy="762120"/>
          </a:xfrm>
          <a:custGeom>
            <a:avLst/>
            <a:gdLst>
              <a:gd name="textAreaLeft" fmla="*/ 237960 w 1523880"/>
              <a:gd name="textAreaRight" fmla="*/ 1333440 w 152388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rot="10800000">
            <a:off x="4114800" y="2743200"/>
            <a:ext cx="914400" cy="990720"/>
          </a:xfrm>
          <a:custGeom>
            <a:avLst/>
            <a:gdLst>
              <a:gd name="textAreaLeft" fmla="*/ 304920 w 914400"/>
              <a:gd name="textAreaRight" fmla="*/ 783360 w 914400"/>
              <a:gd name="textAreaTop" fmla="*/ 570600 h 990720"/>
              <a:gd name="textAreaBottom" fmla="*/ 848520 h 99072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rot="5400000">
            <a:off x="6858000" y="2514600"/>
            <a:ext cx="1981440" cy="914400"/>
          </a:xfrm>
          <a:custGeom>
            <a:avLst/>
            <a:gdLst>
              <a:gd name="textAreaLeft" fmla="*/ 309600 w 1981440"/>
              <a:gd name="textAreaRight" fmla="*/ 1733760 w 1981440"/>
              <a:gd name="textAreaTop" fmla="*/ 228600 h 914400"/>
              <a:gd name="textAreaBottom" fmla="*/ 685800 h 9144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685800" y="3505320"/>
            <a:ext cx="2590920" cy="2360880"/>
            <a:chOff x="685800" y="3505320"/>
            <a:chExt cx="2590920" cy="2360880"/>
          </a:xfrm>
        </p:grpSpPr>
        <p:cxnSp>
          <p:nvCxnSpPr>
            <p:cNvPr id="208" name="_s8230"/>
            <p:cNvCxnSpPr>
              <a:stCxn id="209" idx="0"/>
              <a:endCxn id="210" idx="2"/>
            </p:cNvCxnSpPr>
            <p:nvPr/>
          </p:nvCxnSpPr>
          <p:spPr>
            <a:xfrm flipV="1" rot="16200000">
              <a:off x="2197800" y="4231440"/>
              <a:ext cx="472680" cy="907560"/>
            </a:xfrm>
            <a:prstGeom prst="bentConnector3">
              <a:avLst>
                <a:gd name="adj1" fmla="val 2080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1" name="_s8229"/>
            <p:cNvCxnSpPr>
              <a:stCxn id="212" idx="0"/>
              <a:endCxn id="210" idx="2"/>
            </p:cNvCxnSpPr>
            <p:nvPr/>
          </p:nvCxnSpPr>
          <p:spPr>
            <a:xfrm flipV="1">
              <a:off x="1981080" y="4448880"/>
              <a:ext cx="1440" cy="4726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3" name="_s8228"/>
            <p:cNvCxnSpPr>
              <a:stCxn id="214" idx="0"/>
              <a:endCxn id="210" idx="2"/>
            </p:cNvCxnSpPr>
            <p:nvPr/>
          </p:nvCxnSpPr>
          <p:spPr>
            <a:xfrm flipH="1" flipV="1" rot="5400000">
              <a:off x="1291680" y="4232160"/>
              <a:ext cx="472680" cy="906480"/>
            </a:xfrm>
            <a:prstGeom prst="bentConnector3">
              <a:avLst>
                <a:gd name="adj1" fmla="val 20807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10" name="_s8224"/>
            <p:cNvSpPr/>
            <p:nvPr/>
          </p:nvSpPr>
          <p:spPr>
            <a:xfrm>
              <a:off x="1592640" y="35053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_s8225"/>
            <p:cNvSpPr/>
            <p:nvPr/>
          </p:nvSpPr>
          <p:spPr>
            <a:xfrm>
              <a:off x="685800" y="49219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_s8226"/>
            <p:cNvSpPr/>
            <p:nvPr/>
          </p:nvSpPr>
          <p:spPr>
            <a:xfrm>
              <a:off x="1592640" y="49219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_s8227"/>
            <p:cNvSpPr/>
            <p:nvPr/>
          </p:nvSpPr>
          <p:spPr>
            <a:xfrm>
              <a:off x="2499480" y="49219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" name=""/>
          <p:cNvSpPr/>
          <p:nvPr/>
        </p:nvSpPr>
        <p:spPr>
          <a:xfrm>
            <a:off x="990720" y="533520"/>
            <a:ext cx="7391160" cy="1371600"/>
          </a:xfrm>
          <a:prstGeom prst="roundRect">
            <a:avLst>
              <a:gd name="adj" fmla="val 16667"/>
            </a:avLst>
          </a:prstGeom>
          <a:solidFill>
            <a:srgbClr val="bd8d4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Leadership, Managerial Ro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990720" y="2438280"/>
            <a:ext cx="1981080" cy="5335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Organizational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143000" y="2819520"/>
            <a:ext cx="1676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rot="5400000">
            <a:off x="5520960" y="1946160"/>
            <a:ext cx="838080" cy="755640"/>
          </a:xfrm>
          <a:custGeom>
            <a:avLst/>
            <a:gdLst>
              <a:gd name="textAreaLeft" fmla="*/ 130680 w 838080"/>
              <a:gd name="textAreaRight" fmla="*/ 733320 w 838080"/>
              <a:gd name="textAreaTop" fmla="*/ 189000 h 755640"/>
              <a:gd name="textAreaBottom" fmla="*/ 567000 h 75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rot="5400000">
            <a:off x="4495680" y="4495680"/>
            <a:ext cx="1143000" cy="1752480"/>
          </a:xfrm>
          <a:custGeom>
            <a:avLst/>
            <a:gdLst>
              <a:gd name="textAreaLeft" fmla="*/ 327960 w 1143000"/>
              <a:gd name="textAreaRight" fmla="*/ 979200 w 1143000"/>
              <a:gd name="textAreaTop" fmla="*/ 1009440 h 1752480"/>
              <a:gd name="textAreaBottom" fmla="*/ 150120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B7E189-1C62-425D-B1AD-F006E46D329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4038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dershi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610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xercising responsib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uthority, whi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viding motivation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d 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fluencing an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ncouraging staff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o good perform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5715000" y="1219320"/>
            <a:ext cx="3203640" cy="4724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30EC18-744D-4B31-AE98-F150531C99EA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nagement Responsib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4582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mplement and continuously improve the quality management system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ocument a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mmunicat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 all personnel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vide a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uality manu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3733920" y="2514600"/>
            <a:ext cx="5029200" cy="321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B088CD-92C7-44A2-A3BC-371613D5E96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181480" y="1600200"/>
            <a:ext cx="3276720" cy="250344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nagement Commit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4267080" cy="1143000"/>
          </a:xfrm>
          <a:prstGeom prst="rect">
            <a:avLst/>
          </a:prstGeom>
          <a:solidFill>
            <a:srgbClr val="bd8d47"/>
          </a:solidFill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Arial Black"/>
              </a:rPr>
              <a:t>Ministry of Heal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181480" y="1219320"/>
            <a:ext cx="3276720" cy="459720"/>
          </a:xfrm>
          <a:prstGeom prst="rect">
            <a:avLst/>
          </a:prstGeom>
          <a:solidFill>
            <a:srgbClr val="bd8d4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inanc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ana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457200" y="2514600"/>
            <a:ext cx="4267080" cy="26161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231" name="" descr=""/>
          <p:cNvPicPr/>
          <p:nvPr/>
        </p:nvPicPr>
        <p:blipFill>
          <a:blip r:embed="rId3"/>
          <a:stretch/>
        </p:blipFill>
        <p:spPr>
          <a:xfrm>
            <a:off x="5181480" y="3657600"/>
            <a:ext cx="3276720" cy="24447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4"/>
          <a:stretch/>
        </p:blipFill>
        <p:spPr>
          <a:xfrm>
            <a:off x="6019920" y="4648320"/>
            <a:ext cx="1385640" cy="1828800"/>
          </a:xfrm>
          <a:prstGeom prst="rect">
            <a:avLst/>
          </a:prstGeom>
          <a:ln w="0">
            <a:noFill/>
          </a:ln>
        </p:spPr>
      </p:pic>
      <p:sp>
        <p:nvSpPr>
          <p:cNvPr id="233" name="PubOvalCallout"/>
          <p:cNvSpPr/>
          <p:nvPr/>
        </p:nvSpPr>
        <p:spPr>
          <a:xfrm rot="16200000">
            <a:off x="3848040" y="3924000"/>
            <a:ext cx="2057400" cy="3048120"/>
          </a:xfrm>
          <a:custGeom>
            <a:avLst/>
            <a:gdLst>
              <a:gd name="textAreaLeft" fmla="*/ 301320 w 2057400"/>
              <a:gd name="textAreaRight" fmla="*/ 1756080 w 2057400"/>
              <a:gd name="textAreaTop" fmla="*/ 334800 h 3048120"/>
              <a:gd name="textAreaBottom" fmla="*/ 1952640 h 3048120"/>
            </a:gdLst>
            <a:ahLst/>
            <a:rect l="textAreaLeft" t="textAreaTop" r="textAreaRight" b="textAreaBottom"/>
            <a:pathLst>
              <a:path w="21600" h="21600">
                <a:moveTo>
                  <a:pt x="10766" y="21600"/>
                </a:moveTo>
                <a:lnTo>
                  <a:pt x="9590" y="16159"/>
                </a:lnTo>
                <a:arcTo wR="10800" hR="8105" stAng="5912517" swAng="-19304424"/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taff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eet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89B26E-F032-416C-812A-85A2FF8253DE}" type="slidenum">
              <a:t>8</a:t>
            </a:fld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Organizational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85800" y="1600200"/>
            <a:ext cx="777240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a working structure tha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ensures sufficiency at all parts in th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laboratory work f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ignate responsibilities and roles;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develop an organization ch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ignate a Quality Mana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locate sufficient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1B84AC-7BF1-42DE-AFB4-5F9A370FFE9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9:32Z</dcterms:modified>
  <cp:revision>124</cp:revision>
  <dc:subject/>
  <dc:title>Slide 1</dc:title>
</cp:coreProperties>
</file>