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310C-529C-4032-9FC7-8BFF3D9987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B0A78-0EA3-4ECC-B1EB-234432EB2F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2215D-2A47-4AA9-9BD9-1BF94B1E7C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53BAB7-502A-460C-8AFA-663DD9AC42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42535F-E27F-48CD-8EF9-4D99EE199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9EC1D0-73AF-4930-8847-381D2CB1B8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6309B1-A207-4122-990C-31B6EBB1E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A502-F63F-401C-9C49-CE676E864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231DC-ED8A-4D17-A531-7BAB32046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B6C8-BFDA-4607-B4BF-1C70C007F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8A68F-63F9-48F7-B599-402FFAE1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69436-619A-4781-BB6F-9687EB8A5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A4B6C-F5F5-4CFF-8832-193A805D7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FD6A8-B9A7-45D7-ADFD-8E5B81C07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9B1175-1962-4FFE-99E2-B92721F9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75D3F-4700-4384-B30C-982915BA6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6C48-1F9F-4043-AF19-BDF17AA6A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98BADF-C4D2-4C96-9E99-A9A85EBC2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48CE6-85BC-43EB-9823-52A3C9C38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2E67A-D987-4D1A-A208-A2C1EA0107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A8937E-B498-4BF8-ABBC-ABC924061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E9764-D042-416E-92BD-F7386C80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8C840-FA85-41D7-818E-6786616F2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A63E15-D3C6-45BC-9643-EF036F14D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83491-7F59-4130-9976-5D9FB2F8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D59A33-3EB1-4F40-BE9C-86F799196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B90AE-D9B9-4875-B468-840645C46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F865-7DFC-4E6A-84AF-22DE75B183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3F6E-5762-4988-954A-E8522A44E241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3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6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E437F-D307-44B7-A072-DE15DF4F7102}" type="datetime">
              <a:rPr b="0" lang="en-US" sz="12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F29BC-0C7D-4982-B8C5-A0CF845E167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7200" y="624852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sonnel – Module 1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Sample Orientation Checkl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Document"/>
          <p:cNvSpPr/>
          <p:nvPr/>
        </p:nvSpPr>
        <p:spPr>
          <a:xfrm>
            <a:off x="1143000" y="1219320"/>
            <a:ext cx="6781680" cy="5333760"/>
          </a:xfrm>
          <a:prstGeom prst="pie">
            <a:avLst/>
          </a:prstGeom>
          <a:solidFill>
            <a:srgbClr val="ffffd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ou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roductions to manag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technical over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sonnel key poli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boratory Quality Management Sys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3300"/>
              </a:buClr>
              <a:buSzPct val="200000"/>
              <a:buFont typeface="Wingdings" charset="2"/>
              <a:buChar char="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ob descri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371600" y="1447920"/>
            <a:ext cx="6629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295280" y="1371600"/>
            <a:ext cx="647712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AME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ART DAT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SITION: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NAGER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78A995-95E0-44BF-BCA3-D9AF47DA3D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38080" y="1219320"/>
            <a:ext cx="7925040" cy="3934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Performance appraisal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 may highlight more opportunities for improvement </a:t>
            </a:r>
            <a:br>
              <a:rPr sz="3600"/>
            </a:br>
            <a:r>
              <a:rPr b="1" i="1" lang="en-US" sz="3600" spc="-1" strike="noStrike">
                <a:solidFill>
                  <a:srgbClr val="000099"/>
                </a:solidFill>
                <a:latin typeface="Verdana"/>
              </a:rPr>
              <a:t>for the laboratory than for the employe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1239840" cy="1981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3B8D7F-1DCD-463A-AE58-715DD76818C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Job Qualifications and Descri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520" y="1219320"/>
            <a:ext cx="8305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boratory Management shall have job description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at define qualifications and duties for all personnel.</a:t>
            </a:r>
            <a:r>
              <a:rPr b="0" lang="en-US" sz="2400" spc="-1" strike="noStrike">
                <a:solidFill>
                  <a:srgbClr val="000000"/>
                </a:solidFill>
                <a:latin typeface="Arial Rounded MT Bold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O 15189: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990720" y="2819520"/>
            <a:ext cx="380988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edu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certifica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degre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trai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prior experie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quired a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029200" y="2819520"/>
            <a:ext cx="365760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lines of author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specify responsibiliti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du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all responsibilit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5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reporting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990720" y="2438280"/>
            <a:ext cx="380988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Qualif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29200" y="2438280"/>
            <a:ext cx="3657600" cy="3812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Job</a:t>
            </a: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Descrip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02808E-A198-4E79-9FFB-957BE40C159D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 </a:t>
            </a:r>
            <a:r>
              <a:rPr b="0" lang="en-US" sz="2000" spc="-1" strike="noStrike">
                <a:solidFill>
                  <a:srgbClr val="000099"/>
                </a:solidFill>
                <a:latin typeface="Verdana"/>
              </a:rPr>
              <a:t>(to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457200" y="1981080"/>
          <a:ext cx="8229600" cy="40179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457200"/>
                <a:gridCol w="457200"/>
                <a:gridCol w="533520"/>
                <a:gridCol w="3124080"/>
              </a:tblGrid>
              <a:tr h="35280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Nam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ologist Tit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for Evalu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ion D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cedure ite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 procedure manu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manual read lo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quipment availabl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Work area ne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gent prepar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accurat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rform task timel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73433E-04E7-40D2-8C5E-A6C44B268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Verdana"/>
              </a:rPr>
              <a:t>Competency Assessment Checklist</a:t>
            </a: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(bottom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57200" y="1752480"/>
          <a:ext cx="8229600" cy="4435560"/>
        </p:xfrm>
        <a:graphic>
          <a:graphicData uri="http://schemas.openxmlformats.org/drawingml/2006/table">
            <a:tbl>
              <a:tblPr/>
              <a:tblGrid>
                <a:gridCol w="2743200"/>
                <a:gridCol w="914400"/>
                <a:gridCol w="914400"/>
                <a:gridCol w="533520"/>
                <a:gridCol w="31240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rti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705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ment summa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</a:tr>
              <a:tr h="3798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training required to address deficienc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219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ommended activitie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ment to occur in _____ day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040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s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1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ed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74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ed Technologis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aluato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e7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6206AA-C6D6-4914-96E6-6316E3E5402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ompetency Assess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1523880"/>
            <a:ext cx="8610480" cy="4648320"/>
          </a:xfrm>
          <a:prstGeom prst="flowChartDocument">
            <a:avLst/>
          </a:prstGeom>
          <a:solidFill>
            <a:srgbClr val="ffffd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228600" y="1600200"/>
          <a:ext cx="8610480" cy="3916440"/>
        </p:xfrm>
        <a:graphic>
          <a:graphicData uri="http://schemas.openxmlformats.org/drawingml/2006/table">
            <a:tbl>
              <a:tblPr/>
              <a:tblGrid>
                <a:gridCol w="1143000"/>
                <a:gridCol w="914400"/>
                <a:gridCol w="1371600"/>
                <a:gridCol w="1371600"/>
                <a:gridCol w="1143000"/>
                <a:gridCol w="2666880"/>
              </a:tblGrid>
              <a:tr h="82800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petency  Assessment Lo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in Hospital – Microbiology Laborat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mploye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as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ssesso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praisa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mmen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ram Sta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/02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acement of disks too crowded;  Reassess 14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3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irby-Bauer(2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Al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/08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ad BC bottl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7/10/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ytocentrifu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-assess in 1 y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2/04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ll autocla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beya, Ala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eptab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mith, Joh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5/08/0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ysis data ent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g, Mar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sses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 entry errors.  Read manual and reassess 10 day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606D1-774F-4E4C-A725-CA797AA7171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1523880"/>
            <a:ext cx="396252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inked to competenc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operator manua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viewing manual upda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’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quipment training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685800"/>
            <a:ext cx="4038480" cy="642240"/>
          </a:xfrm>
          <a:prstGeom prst="rect">
            <a:avLst/>
          </a:prstGeom>
          <a:solidFill>
            <a:srgbClr val="ffff00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Verdana"/>
              </a:rPr>
              <a:t>Training</a:t>
            </a:r>
            <a:br>
              <a:rPr sz="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572000" y="1752480"/>
            <a:ext cx="4267080" cy="43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ork rela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task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may no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be linked to competency assess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xampl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onferen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ksho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 club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journals and literature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648320" y="609480"/>
            <a:ext cx="4267080" cy="520560"/>
          </a:xfrm>
          <a:prstGeom prst="rect">
            <a:avLst/>
          </a:prstGeom>
          <a:solidFill>
            <a:srgbClr val="00007d"/>
          </a:solidFill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Verdana"/>
              </a:rPr>
              <a:t>Continuing Edu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6934320" y="3733920"/>
            <a:ext cx="1782720" cy="148428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2666880" y="2971800"/>
            <a:ext cx="1109880" cy="129528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2819520" y="3505320"/>
            <a:ext cx="647640" cy="49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Verdana"/>
              </a:rPr>
              <a:t>Manual</a:t>
            </a:r>
            <a:endParaRPr b="0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79B39-51A2-415C-9221-6E1D53906AA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D72C0-C9D2-4A34-9CDE-2044D9386057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99"/>
                </a:solidFill>
                <a:latin typeface="Verdana"/>
              </a:rPr>
              <a:t>Training Resource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1295280"/>
            <a:ext cx="358128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Person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quality assurance committe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nici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urs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pathologist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fection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pidemiologis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800600" y="1295280"/>
            <a:ext cx="41148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xter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sesso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nufacturer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cience socie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orld Health Organiz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enters for Disease Contro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and Preven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tandards development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rganization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99"/>
              </a:buClr>
              <a:buFont typeface="Verdan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N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14600" y="4191120"/>
            <a:ext cx="2130480" cy="236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9005D7-6AD2-4A8A-872E-58A7066727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09480" y="1295280"/>
            <a:ext cx="3733920" cy="34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ne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heal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personal distra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understa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iscommun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0B6179-8308-424C-BD38-33BD41F6C93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Verdana"/>
              </a:rPr>
              <a:t>Causes of Poor Performa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" y="1143000"/>
            <a:ext cx="746748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ksite distra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xcessive worklo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ori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sufficient trai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competency assess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ample complex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bsent or invalid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5000"/>
              </a:lnSpc>
              <a:buClr>
                <a:srgbClr val="00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biguous SO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C5DAE6-ED6D-4D4C-B61F-9D870EC9050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Robin Barteluk</cp:lastModifiedBy>
  <dcterms:modified xsi:type="dcterms:W3CDTF">2008-11-23T23:58:18Z</dcterms:modified>
  <cp:revision>197</cp:revision>
  <dc:subject/>
  <dc:title>Slide 1</dc:title>
</cp:coreProperties>
</file>