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9A07B-F99F-45C0-81CC-A43B4B933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44CF9-EC03-4254-A541-35DA5B8DD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4DCAC-E44C-4AD8-893D-8426DC30E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CADBF-D749-4513-839E-4B4FF6546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1D9A2-366B-42D6-829C-77B799BCB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A279F-A93C-46C0-BE69-579F5FC5C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6470F-FE6A-47A5-BA0F-845F6F8C7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EF337-C952-4C6B-98C7-8BD2FECC0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DE46E-44BC-440F-9BC4-EB6ED0913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D7E1D-ED67-4155-8EC5-DDEAE58DE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ECEC4-4E7A-47B2-8488-41C88A2F5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FC3B3-7515-4728-AB6A-575E478EB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77341-0B46-4337-8267-633B0882D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C5F5F-2B9A-4A22-9B94-0DCA9163A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DCCD5-2C74-4F0B-8C32-7162087926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0B828-A311-4832-823D-61A3C0B8A0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09473-0EBF-4353-A7A4-B670A7E815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AF5BE-97D8-42EE-A00C-BE1D0AC72E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51B8-5861-4EFC-95E0-1117B640B49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7395-3934-42C6-A23C-74B30260CD5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D205-E5E5-4048-A567-FB6F3115019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5EF7-0F59-449B-B5CC-0227CBC8EED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FA1B-903F-4171-9A03-676F203E6E1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3903-32AC-447D-B348-97893727486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B13E-9E03-46FE-A696-0E4D982CE6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D7571-B4BD-444E-9BD9-06AB07D9D1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0289-4167-4FC0-BCE9-7837002D21C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5746-FB7F-4A1E-8DFF-A2DEAF53C7D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FBE2-63D7-4CB6-BE71-C2032BE212F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7770-F415-4774-96D6-8F6C7FB6AE1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DAE8-0360-4DC8-BBE4-66E1B177A1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73BE6-A85E-49CD-96E6-FC8E6FBE3A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6B060-EFE7-4E3A-B3E4-B906A0C2D9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409CE-21CF-4D34-98EE-B792B28895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07664-E673-4B2B-BD8F-B2A1DB52B7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8E932-AD27-4578-8C9B-72C14F90DF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DB2E5-72DA-45A8-8FCE-DC79239655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9C940-9367-419F-8748-0D016BC38F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8EB16-7FE0-4B72-B7A8-0143E82060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40000" indent="-205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51480" indent="-205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0CD2-3387-45BD-970E-8E1558CA38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2971800" y="1600200"/>
            <a:ext cx="61722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cess Control: Q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uality Control of Qualitative and Semi-Quantitative Procedure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5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955D-EB51-4D74-B46B-1CF1438A803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sing 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 as per patient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positive and negative contro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a weak positive control for immunological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oose positive controls close to the cut-off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control to monitor extraction p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F53A-47B1-4515-80AD-C5BCA118ECD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7F4C9-3543-47E2-8E40-03E21031F68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3200400" cy="275616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F865C-CE09-4629-A751-B8C496DC733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ck Cultures for QC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ence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in-house developed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able reactions in stains and medi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media, reag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supplies work as int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886200" y="434340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65DD8-608E-4ABD-8ABD-6BE6AE09E10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ources for Obtaining Reference Strai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C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merican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TCC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ional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(UK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teur Institute Collection (Fran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1B682-F118-4253-8D03-7F66BFBB573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3AA3B-EF79-4911-89DB-D00524F978A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42509-FA76-4EAC-A9AC-11EA661170A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s are important—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e care of them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21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5659560" y="525780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o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95520" y="52578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Continued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67842-583C-48AC-9F48-1BA5569CCA2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E98B4-0A4F-420F-840A-EDEB819F645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 Manag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established procedure for preparation or reconstit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el: content, concentration, date prepared and placed in service, expiration, initi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appropriate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C36BE-FFE7-4460-832E-9ADD3D7B3FD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64F95-921A-4224-BBDC-E0393022151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for St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s appropriate for particular stain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with known organisms or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rystal shards or for precipi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ontaminants such as bacteria and fung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581280" y="4800600"/>
            <a:ext cx="2057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right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am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2C785-7BDB-4ED2-B47B-8C39549E011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5D86D-B846-4E84-8BFE-DFED9F82329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ram Stain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6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0"/>
          <p:cNvSpPr/>
          <p:nvPr/>
        </p:nvSpPr>
        <p:spPr>
          <a:xfrm>
            <a:off x="83808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9900"/>
                </a:solidFill>
                <a:latin typeface="Verdana"/>
              </a:rPr>
              <a:t>Good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5178240" y="502920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Verdana"/>
              </a:rPr>
              <a:t>Poor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CC4AC-338D-4634-9F74-7E034719227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E82D8-1143-40CC-9396-81904F6961B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of Microbiology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erformance of all med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-house prepared: all batch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ercially prepared: new lot on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581280" y="3505320"/>
            <a:ext cx="22100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cConkey Aga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C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non-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63920-29B0-4FDE-918F-38BFD04284D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780D6-55D4-4F3E-B0C9-8960FAF9792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dia Problems to Avoi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3809880" y="1447920"/>
            <a:ext cx="2514600" cy="914400"/>
            <a:chOff x="3809880" y="1447920"/>
            <a:chExt cx="2514600" cy="914400"/>
          </a:xfrm>
        </p:grpSpPr>
        <p:sp>
          <p:nvSpPr>
            <p:cNvPr id="249" name="AutoShape 8"/>
            <p:cNvSpPr/>
            <p:nvPr/>
          </p:nvSpPr>
          <p:spPr>
            <a:xfrm>
              <a:off x="3888360" y="190512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AutoShape 9"/>
            <p:cNvSpPr/>
            <p:nvPr/>
          </p:nvSpPr>
          <p:spPr>
            <a:xfrm>
              <a:off x="3809880" y="144792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5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5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5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5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6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6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6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70" name="Text Box 32"/>
          <p:cNvSpPr/>
          <p:nvPr/>
        </p:nvSpPr>
        <p:spPr>
          <a:xfrm>
            <a:off x="912960" y="1523880"/>
            <a:ext cx="275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-d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ied-ou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min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609480" y="3200400"/>
            <a:ext cx="8229600" cy="26535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Human bloo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hould not be used because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 much batch to batch vari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include inhibitory substanc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including antimicrobial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contain biohazar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(e.g., hepatitis virus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1950840" cy="15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0FC44-F68D-4581-8819-0D9FF22EFA7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7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FF093-01D3-4C95-AF2B-475242EA6D4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of Growth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eep records for media prepared in-h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ord outcomes in a dedicated media logbook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,  sterility,  ability to support growth using stock cultures,  biochemical response of stock cul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st each new batch or lot nu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9A3C6-73AB-44D6-9821-DE984900D3E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00F06-CADF-4558-9BD6-FC57F61128A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between built-in and traditional contro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use stock cultures for microbiology Q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use of quality control procedures for stains used in microscopic examin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methods for verifying performance of microbiological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42B25-7D9C-4C4C-ACDB-E4AF2D0119A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DE063-BD95-447F-8176-76C597261A8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qualitative tests produce non-numerical resul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mi-quantitative tests give an estim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stablish a QC program for qualitative and semi-quantitative tes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A74F6-5B02-4BE9-9E64-6BE2408CD7B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QC procedures followed by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lways record QC results and corrective 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f QC results are not acceptable, do not report patient result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59A0D-24F7-4D65-8D12-9E4F2D680B3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FD063-0D49-4C09-AAC3-C4F84A66171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85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9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99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300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301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302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03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04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05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6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307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8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9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310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311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2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13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4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316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8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321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23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325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6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328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9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30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334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5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337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8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340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1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F78FF-A08D-40AF-BBBE-C1CAB4DDCFF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y A performs a culture, a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identified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QC measures can you use to confirm that the isolate is correctly identified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7E3CF-8F07-473E-BFCC-609377C4DE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09680" y="1066680"/>
            <a:ext cx="5105520" cy="5257440"/>
            <a:chOff x="2209680" y="1066680"/>
            <a:chExt cx="5105520" cy="5257440"/>
          </a:xfrm>
        </p:grpSpPr>
        <p:sp>
          <p:nvSpPr>
            <p:cNvPr id="136" name="AutoShape 4"/>
            <p:cNvSpPr/>
            <p:nvPr/>
          </p:nvSpPr>
          <p:spPr>
            <a:xfrm>
              <a:off x="2209680" y="1066680"/>
              <a:ext cx="5105520" cy="5257440"/>
            </a:xfrm>
            <a:custGeom>
              <a:avLst/>
              <a:gdLst>
                <a:gd name="textAreaLeft" fmla="*/ 249120 w 5105520"/>
                <a:gd name="textAreaRight" fmla="*/ 4856400 w 5105520"/>
                <a:gd name="textAreaTop" fmla="*/ 249120 h 5257440"/>
                <a:gd name="textAreaBottom" fmla="*/ 5008320 h 5257440"/>
              </a:gdLst>
              <a:ahLst/>
              <a:rect l="textAreaLeft" t="textAreaTop" r="textAreaRight" b="textAreaBottom"/>
              <a:pathLst>
                <a:path w="21600" h="22243">
                  <a:moveTo>
                    <a:pt x="3600" y="0"/>
                  </a:moveTo>
                  <a:arcTo wR="3600" hR="3600" stAng="16200000" swAng="-5400000"/>
                  <a:lnTo>
                    <a:pt x="0" y="18643"/>
                  </a:lnTo>
                  <a:arcTo wR="3600" hR="3600" stAng="10800000" swAng="-5400000"/>
                  <a:lnTo>
                    <a:pt x="18000" y="22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21160" y="3834000"/>
              <a:ext cx="118800" cy="705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76200" y="3210480"/>
              <a:ext cx="165600" cy="1108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65040" y="3148920"/>
              <a:ext cx="168840" cy="385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24720" y="5932440"/>
              <a:ext cx="10800" cy="450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566600" y="4794120"/>
              <a:ext cx="1440" cy="101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338880" y="1713960"/>
              <a:ext cx="1440" cy="39837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762080" y="1868760"/>
              <a:ext cx="144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10400" y="1917000"/>
              <a:ext cx="108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09800" y="1760400"/>
              <a:ext cx="38682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09560" y="1156680"/>
              <a:ext cx="1243080" cy="1156320"/>
              <a:chOff x="2509560" y="1156680"/>
              <a:chExt cx="1243080" cy="115632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09560" y="1156680"/>
                <a:ext cx="1220760" cy="1156320"/>
                <a:chOff x="2509560" y="1156680"/>
                <a:chExt cx="1220760" cy="115632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0320" y="1156680"/>
                  <a:ext cx="1135440" cy="1156320"/>
                  <a:chOff x="2560320" y="1156680"/>
                  <a:chExt cx="1135440" cy="115632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09560" y="1423080"/>
                  <a:ext cx="122076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1880" y="156672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41440" y="1156680"/>
              <a:ext cx="1221480" cy="1156320"/>
              <a:chOff x="4141440" y="1156680"/>
              <a:chExt cx="1221480" cy="115632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181760" y="1156680"/>
                <a:ext cx="1136160" cy="115632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41440" y="156672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18240" y="1156680"/>
              <a:ext cx="1221480" cy="1156320"/>
              <a:chOff x="5718240" y="1156680"/>
              <a:chExt cx="1221480" cy="115632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762880" y="1156680"/>
                <a:ext cx="1136160" cy="1156320"/>
                <a:chOff x="5762880" y="1156680"/>
                <a:chExt cx="1136160" cy="115632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18240" y="15710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85040" y="307512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509560" y="2458440"/>
              <a:ext cx="1223280" cy="1155960"/>
              <a:chOff x="2509560" y="2458440"/>
              <a:chExt cx="1223280" cy="115596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3880" y="2458440"/>
                <a:ext cx="11386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09560" y="273708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189680" y="2519280"/>
              <a:ext cx="113580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28920" y="2535480"/>
              <a:ext cx="113400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663160" y="2475720"/>
              <a:ext cx="1316880" cy="1155960"/>
              <a:chOff x="5663160" y="2475720"/>
              <a:chExt cx="1316880" cy="115596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38040" y="247572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663160" y="276696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09800" y="431388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509560" y="3779280"/>
              <a:ext cx="1221480" cy="1157400"/>
              <a:chOff x="2509560" y="3779280"/>
              <a:chExt cx="1221480" cy="115740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0880" y="3779280"/>
                <a:ext cx="113652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09560" y="400428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141440" y="3779280"/>
              <a:ext cx="1221480" cy="1157400"/>
              <a:chOff x="4141440" y="3779280"/>
              <a:chExt cx="1221480" cy="115740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67720" y="3779280"/>
                <a:ext cx="113688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41440" y="4022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38400" y="3772800"/>
              <a:ext cx="113724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18240" y="385020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85040" y="562680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434680" y="5090400"/>
              <a:ext cx="1399680" cy="1155960"/>
              <a:chOff x="2434680" y="5090400"/>
              <a:chExt cx="1399680" cy="115596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1200" y="5090400"/>
                <a:ext cx="113544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4680" y="5319000"/>
                <a:ext cx="139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141440" y="5024160"/>
              <a:ext cx="1221480" cy="1156320"/>
              <a:chOff x="4141440" y="5024160"/>
              <a:chExt cx="1221480" cy="115632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189320" y="5024160"/>
                <a:ext cx="1135440" cy="115632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41440" y="53186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738400" y="5090400"/>
              <a:ext cx="1221480" cy="1155960"/>
              <a:chOff x="5738400" y="5090400"/>
              <a:chExt cx="1221480" cy="115596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757120" y="509040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38400" y="531900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43E60-515F-4003-A406-6D95B51B799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ative or semi-quantitative tests - Exampl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scopic examin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pstick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rologic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biological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y reaction that produces non-numeric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5B3B1-3636-4FA4-808C-2354754E8B5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98" name="wbcrbc" descr="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F43AF-A052-43E6-A7BC-36EE2AAEAC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ortant Concep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mple manageme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ff competenc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mainten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ins, media and reagents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626D8-C18A-4F34-812C-1ED9D86D52A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3CB36-17C6-4A18-9658-CD3DBEA3A1A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Materia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ontrol materials that mimic patient samp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ference organis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B19C5-2D7C-421D-99B8-C084306CB6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tegrated into the design of a test kit dev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utomatically run with each test perform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certain aspects of kit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y not assess enti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esting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1EE0E-06AE-4BC2-925E-364DDA7F0E8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terials with known reacti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imic patient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the integrity of the entir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27CF7-7005-4D0D-91F6-53F49A8B83D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09:52:17Z</dcterms:modified>
  <cp:revision>464</cp:revision>
  <dc:subject/>
  <dc:title>Slide 1</dc:title>
</cp:coreProperties>
</file>