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9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E0A7B-B11E-4B70-A5F5-C017AAD9E2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31526-0612-40D9-B59E-288EFE44D4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13F80-8069-4728-A2C9-A1C7DC8881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A109B-D82D-45E9-95CD-5BD6A04E4F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488DB-E34C-4B86-9D9A-D8B13330BE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73D39-2513-4E87-9AD8-8DD28BB5E4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3DE48-195C-4DE7-A018-A77CF3482D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A5AF7-2A15-4337-A64D-09C2AAD37A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49B9B-4093-4395-BC09-62C8893E28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59209-6EBE-409C-A08F-857A1D7484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EF259-E51B-440C-9E89-2FBD4157D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22243-AB65-456B-B606-C6BA02FFA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0DFA7-8E82-4CEE-923F-55605F035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A0C81-CB35-46BD-A1F9-7086DBBF5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86DC9-42CE-46E2-9660-7DFB0EDB1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0A5D6-FD2F-41CC-AA2D-0AF82CE5B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9BE12-9858-4108-BC63-CC50A51F6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E1D29-0E05-4045-8D09-C398EE556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0A298-ACA6-4468-9062-B942E086C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35415-987A-4E39-B470-6A75BC50B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EBB57-B149-4AF4-8599-147152330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57DA5-B58C-44B7-A3BA-B39BA2C3A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08635-938E-4645-8788-8A78F221F7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22160" y="266688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ZA" sz="4400" spc="-1" strike="noStrike">
                <a:solidFill>
                  <a:srgbClr val="000000"/>
                </a:solidFill>
                <a:latin typeface="Arial"/>
              </a:rPr>
              <a:t>Monitoring Equipment Used in the Microbiology Laborat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06754-0084-4EEA-9C16-EC9A8ECC95D9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CB8DA-6FE9-4870-86D0-8BB36BA5575B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quipment - Microbi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itor temperatures o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ub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frige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eezer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form function checks fo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pet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cla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 m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ights and mea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ntain rec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6" descr="Incubator"/>
          <p:cNvPicPr/>
          <p:nvPr/>
        </p:nvPicPr>
        <p:blipFill>
          <a:blip r:embed="rId1"/>
          <a:stretch/>
        </p:blipFill>
        <p:spPr>
          <a:xfrm>
            <a:off x="6781680" y="1219320"/>
            <a:ext cx="2114640" cy="28191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Pipettes"/>
          <p:cNvPicPr/>
          <p:nvPr/>
        </p:nvPicPr>
        <p:blipFill>
          <a:blip r:embed="rId2"/>
          <a:stretch/>
        </p:blipFill>
        <p:spPr>
          <a:xfrm>
            <a:off x="6477120" y="4267080"/>
            <a:ext cx="2361960" cy="22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5DC32-60B6-4081-8D3E-7A78DC23990C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Object 2"/>
          <p:cNvGraphicFramePr/>
          <p:nvPr/>
        </p:nvGraphicFramePr>
        <p:xfrm>
          <a:off x="1220760" y="1600200"/>
          <a:ext cx="670248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0760" y="1600200"/>
                    <a:ext cx="670248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8A184-C7AD-40C6-B192-7D9B0AEBF8DB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eril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2"/>
          <p:cNvSpPr/>
          <p:nvPr/>
        </p:nvSpPr>
        <p:spPr>
          <a:xfrm>
            <a:off x="6783840" y="1295280"/>
            <a:ext cx="1458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ter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re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ater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3"/>
          <p:cNvSpPr/>
          <p:nvPr/>
        </p:nvSpPr>
        <p:spPr>
          <a:xfrm>
            <a:off x="6707520" y="4800600"/>
            <a:ext cx="1782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af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disposab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was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5"/>
          <p:cNvSpPr/>
          <p:nvPr/>
        </p:nvSpPr>
        <p:spPr>
          <a:xfrm>
            <a:off x="838080" y="1295280"/>
            <a:ext cx="15433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Prepa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re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ater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6"/>
          <p:cNvSpPr/>
          <p:nvPr/>
        </p:nvSpPr>
        <p:spPr>
          <a:xfrm>
            <a:off x="457200" y="4952880"/>
            <a:ext cx="297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Contaminated was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8" descr="Autoclave1"/>
          <p:cNvPicPr/>
          <p:nvPr/>
        </p:nvPicPr>
        <p:blipFill>
          <a:blip r:embed="rId1"/>
          <a:stretch/>
        </p:blipFill>
        <p:spPr>
          <a:xfrm>
            <a:off x="3124080" y="2362320"/>
            <a:ext cx="2286000" cy="3047760"/>
          </a:xfrm>
          <a:prstGeom prst="rect">
            <a:avLst/>
          </a:prstGeom>
          <a:ln w="0">
            <a:noFill/>
          </a:ln>
        </p:spPr>
      </p:pic>
      <p:sp>
        <p:nvSpPr>
          <p:cNvPr id="66" name="AutoShape 27"/>
          <p:cNvSpPr/>
          <p:nvPr/>
        </p:nvSpPr>
        <p:spPr>
          <a:xfrm>
            <a:off x="2666880" y="1676520"/>
            <a:ext cx="3886200" cy="83808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28"/>
          <p:cNvSpPr/>
          <p:nvPr/>
        </p:nvSpPr>
        <p:spPr>
          <a:xfrm>
            <a:off x="2666880" y="5105520"/>
            <a:ext cx="3886200" cy="83808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895EC-D278-403D-9376-658447418EF3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wo Stage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erilization Contro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73152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3300"/>
                </a:solidFill>
                <a:latin typeface="Arial"/>
              </a:rPr>
              <a:t>Process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hemical indic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acteriological indic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3300"/>
                </a:solidFill>
                <a:latin typeface="Arial"/>
              </a:rPr>
              <a:t>Sterile products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rowth t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E3A28-4313-4AA7-BD44-6592C98C1FE7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rilization indica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3" descr="indicateurs-chimiques"/>
          <p:cNvPicPr/>
          <p:nvPr/>
        </p:nvPicPr>
        <p:blipFill>
          <a:blip r:embed="rId1"/>
          <a:stretch/>
        </p:blipFill>
        <p:spPr>
          <a:xfrm>
            <a:off x="1905120" y="1828800"/>
            <a:ext cx="2286000" cy="17146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" descr="indicateurs-biologiques"/>
          <p:cNvPicPr/>
          <p:nvPr/>
        </p:nvPicPr>
        <p:blipFill>
          <a:blip r:embed="rId2"/>
          <a:stretch/>
        </p:blipFill>
        <p:spPr>
          <a:xfrm>
            <a:off x="4952880" y="1676520"/>
            <a:ext cx="2514600" cy="19047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6" descr="mediawebserver"/>
          <p:cNvPicPr/>
          <p:nvPr/>
        </p:nvPicPr>
        <p:blipFill>
          <a:blip r:embed="rId3"/>
          <a:stretch/>
        </p:blipFill>
        <p:spPr>
          <a:xfrm>
            <a:off x="4876920" y="4114800"/>
            <a:ext cx="1623960" cy="16765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2" descr="ds_m_01_Autoclave2"/>
          <p:cNvPicPr/>
          <p:nvPr/>
        </p:nvPicPr>
        <p:blipFill>
          <a:blip r:embed="rId4"/>
          <a:stretch/>
        </p:blipFill>
        <p:spPr>
          <a:xfrm>
            <a:off x="2666880" y="457200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0" descr="autoclave%20tape%20steam"/>
          <p:cNvPicPr/>
          <p:nvPr/>
        </p:nvPicPr>
        <p:blipFill>
          <a:blip r:embed="rId5"/>
          <a:stretch/>
        </p:blipFill>
        <p:spPr>
          <a:xfrm>
            <a:off x="1066680" y="4038480"/>
            <a:ext cx="167652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Slide Number Placeholder 4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E062E-DF37-4776-8BA7-665790F1414D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erility Indica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343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Chemical indicator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mperature for sterilization have been met.  Do not address time or press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7960" y="1295280"/>
            <a:ext cx="426708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Arial"/>
              </a:rPr>
              <a:t>Biological indic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mperature, time and pressure for sterilization have been m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8"/>
          <p:cNvSpPr/>
          <p:nvPr/>
        </p:nvSpPr>
        <p:spPr>
          <a:xfrm>
            <a:off x="1371600" y="3962520"/>
            <a:ext cx="6477120" cy="213336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NOT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Neither indicator is a guarantee of sterilization i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Autoclave is overpack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Broth volumes are too lar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20787-4C6E-4614-8E42-DFDC1238D7BA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"/>
          <p:cNvPicPr/>
          <p:nvPr/>
        </p:nvPicPr>
        <p:blipFill>
          <a:blip r:embed="rId1"/>
          <a:srcRect l="0" t="0" r="0" b="40007"/>
          <a:stretch/>
        </p:blipFill>
        <p:spPr>
          <a:xfrm>
            <a:off x="304920" y="1600200"/>
            <a:ext cx="8534160" cy="41148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rilization Logbo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2AE37-F06B-4F47-80A8-E5A430A32E8C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crosco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4060_research_large"/>
          <p:cNvPicPr/>
          <p:nvPr/>
        </p:nvPicPr>
        <p:blipFill>
          <a:blip r:embed="rId1"/>
          <a:stretch/>
        </p:blipFill>
        <p:spPr>
          <a:xfrm>
            <a:off x="457200" y="1676520"/>
            <a:ext cx="3522600" cy="4016160"/>
          </a:xfrm>
          <a:prstGeom prst="rect">
            <a:avLst/>
          </a:prstGeom>
          <a:ln w="0">
            <a:noFill/>
          </a:ln>
        </p:spPr>
      </p:pic>
      <p:sp>
        <p:nvSpPr>
          <p:cNvPr id="89" name="Text Box 5"/>
          <p:cNvSpPr/>
          <p:nvPr/>
        </p:nvSpPr>
        <p:spPr>
          <a:xfrm>
            <a:off x="4114800" y="1677960"/>
            <a:ext cx="4343400" cy="448308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Keep lens 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Have at least one oil                          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immersion lens (X1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Use spring loaded l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Keep non-immersion lens free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of o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Do not allow sample to migrate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above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 the l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00ff00"/>
                </a:solidFill>
                <a:latin typeface="Arial Narrow"/>
              </a:rPr>
              <a:t>Maintain Kohler Illumination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 Narrow"/>
              <a:buChar char="•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2T03:48:55Z</dcterms:created>
  <dc:creator>Robin Barteluk</dc:creator>
  <dc:description/>
  <dc:language>en-US</dc:language>
  <cp:lastModifiedBy>WHO</cp:lastModifiedBy>
  <dcterms:modified xsi:type="dcterms:W3CDTF">2009-04-02T09:02:42Z</dcterms:modified>
  <cp:revision>2</cp:revision>
  <dc:subject/>
  <dc:title>Slide 1</dc:title>
</cp:coreProperties>
</file>