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F573C-6FCD-41EF-B7C5-900E1C8D4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AA379-5240-41F4-8E11-4F08B52ED7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F17D1-6864-499B-A1C4-9B53C6E7FB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CC22C-F0FB-46B1-8184-18227D3C1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4C6B2-CF5B-403E-909E-65F2485E24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7889D-B87C-44C4-97BA-8EDD2BD04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9F8AF-A2C5-4DAF-B2E8-78BC03ABB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1F6EF-3C70-42AB-B7E2-B7E600257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C2307-CD27-48F3-92E5-837F95BFB8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053A7-8491-4B12-8BDD-3D5799DF2F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E42D-DBBD-4175-8608-B7213798B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F24E-279B-4138-9ED2-31B4377C4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44DC-8A0B-4ACC-8BD9-F7BC1F3E6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7EF2-000F-4B6B-B99F-1589071D0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5038-AEB3-4B19-911F-7667E8648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BE32-E6FC-4566-B1EB-49786F66A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F628-BBD6-4324-93D0-1526BC55D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3378-70A2-4A6C-8EEE-8CD946AAD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E043-4090-4B4C-A80F-438DB30EC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503C-D72E-4013-B531-C6433410E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B65B-E286-4771-9A1B-905CF3116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ADF7-8A5C-4F5A-852F-6580A96C7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0970A-D17B-42F9-8C82-BB7D1C28B5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Monitoring Equipment Used in the Microbiology Labora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47CB3-A0A7-4D38-97C1-8B83F28CF4B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F29AA-E794-41A7-9D34-3E5226E0E88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- Microb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temperatur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ub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z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function check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s and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0E2F7-3C33-4404-95EF-9BAF33A52C3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75D4C-7E7B-4C4B-9049-364C33AF618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6783840" y="1295280"/>
            <a:ext cx="14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er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6707520" y="4800600"/>
            <a:ext cx="178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a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os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e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ntaminated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96640-72D5-4865-BF95-68D44B4BBB3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wo Stag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 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Pro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mical indic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r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Sterile product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wth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6F1A4-0EF4-47C4-B6D4-5B18D10586C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1690E-EFE3-409E-A1E3-E8FADF52540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ty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hemical indicat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 for sterilization have been met.  Do not address time or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B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, time and pressure for sterilization have be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either indicator is a guarantee of sterilization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utoclave is overpa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roth volumes are too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58E67-DD1D-45E0-9D64-41C1585AB75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Log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553ED-E50B-4BD7-9E9C-5E27CD999E6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4060_research_large"/>
          <p:cNvPicPr/>
          <p:nvPr/>
        </p:nvPicPr>
        <p:blipFill>
          <a:blip r:embed="rId1"/>
          <a:stretch/>
        </p:blipFill>
        <p:spPr>
          <a:xfrm>
            <a:off x="45720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4114800" y="1677960"/>
            <a:ext cx="4343400" cy="44830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lens 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Have at least one oil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mmersion lens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Use spring loaded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non-immersion lens fre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f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o not allow sample to migrat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bov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th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ff00"/>
                </a:solidFill>
                <a:latin typeface="Arial Narrow"/>
              </a:rPr>
              <a:t>Maintain Kohler Illumination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WHO</cp:lastModifiedBy>
  <dcterms:modified xsi:type="dcterms:W3CDTF">2009-04-02T09:02:42Z</dcterms:modified>
  <cp:revision>2</cp:revision>
  <dc:subject/>
  <dc:title>Slide 1</dc:title>
</cp:coreProperties>
</file>