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24.png" ContentType="image/png"/>
  <Override PartName="/ppt/media/image22.wmf" ContentType="image/x-wmf"/>
  <Override PartName="/ppt/media/image21.jpeg" ContentType="image/jpeg"/>
  <Override PartName="/ppt/media/image32.wmf" ContentType="image/x-wmf"/>
  <Override PartName="/ppt/media/image28.jpeg" ContentType="image/jpeg"/>
  <Override PartName="/ppt/media/image23.wmf" ContentType="image/x-wmf"/>
  <Override PartName="/ppt/media/image20.png" ContentType="image/png"/>
  <Override PartName="/ppt/media/image2.jpeg" ContentType="image/jpeg"/>
  <Override PartName="/ppt/media/image57.png" ContentType="image/png"/>
  <Override PartName="/ppt/media/image18.png" ContentType="image/png"/>
  <Override PartName="/ppt/media/image17.wmf" ContentType="image/x-wmf"/>
  <Override PartName="/ppt/media/image56.png" ContentType="image/png"/>
  <Override PartName="/ppt/media/image15.jpeg" ContentType="image/jpeg"/>
  <Override PartName="/ppt/media/image3.jpeg" ContentType="image/jpeg"/>
  <Override PartName="/ppt/media/image30.png" ContentType="image/pn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50.png" ContentType="image/png"/>
  <Override PartName="/ppt/media/image10.jpeg" ContentType="image/jpeg"/>
  <Override PartName="/ppt/media/image54.wmf" ContentType="image/x-wmf"/>
  <Override PartName="/ppt/media/image1.jpeg" ContentType="image/jpeg"/>
  <Override PartName="/ppt/media/image35.jpeg" ContentType="image/jpeg"/>
  <Override PartName="/ppt/media/image47.png" ContentType="image/png"/>
  <Override PartName="/ppt/media/image7.png" ContentType="image/png"/>
  <Override PartName="/ppt/media/image16.wmf" ContentType="image/x-wmf"/>
  <Override PartName="/ppt/media/image14.jpeg" ContentType="image/jpeg"/>
  <Override PartName="/ppt/media/image58.png" ContentType="image/png"/>
  <Override PartName="/ppt/media/image46.jpeg" ContentType="image/jpeg"/>
  <Override PartName="/ppt/media/image37.wmf" ContentType="image/x-wmf"/>
  <Override PartName="/ppt/media/image43.wmf" ContentType="image/x-wmf"/>
  <Override PartName="/ppt/media/image53.jpeg" ContentType="image/jpeg"/>
  <Override PartName="/ppt/media/image48.jpeg" ContentType="image/jpeg"/>
  <Override PartName="/ppt/media/image44.jpeg" ContentType="image/jpeg"/>
  <Override PartName="/ppt/media/image38.jpeg" ContentType="image/jpeg"/>
  <Override PartName="/ppt/media/image13.jpeg" ContentType="image/jpeg"/>
  <Override PartName="/ppt/media/image40.jpeg" ContentType="image/jpeg"/>
  <Override PartName="/ppt/media/image49.png" ContentType="image/png"/>
  <Override PartName="/ppt/media/image51.png" ContentType="image/png"/>
  <Override PartName="/ppt/media/image39.png" ContentType="image/png"/>
  <Override PartName="/ppt/media/image42.wmf" ContentType="image/x-wmf"/>
  <Override PartName="/ppt/media/image52.jpeg" ContentType="image/jpeg"/>
  <Override PartName="/ppt/media/image55.jpeg" ContentType="image/jpeg"/>
  <Override PartName="/ppt/media/image45.wmf" ContentType="image/x-wmf"/>
  <Override PartName="/ppt/media/image31.jpeg" ContentType="image/jpeg"/>
  <Override PartName="/ppt/media/image36.png" ContentType="image/png"/>
  <Override PartName="/ppt/media/image33.jpeg" ContentType="image/jpeg"/>
  <Override PartName="/ppt/media/image34.png" ContentType="image/png"/>
  <Override PartName="/ppt/media/image12.jpeg" ContentType="image/jpeg"/>
  <Override PartName="/ppt/media/image6.wmf" ContentType="image/x-wmf"/>
  <Override PartName="/ppt/media/image19.jpeg" ContentType="image/jpeg"/>
  <Override PartName="/ppt/media/image29.wmf" ContentType="image/x-wmf"/>
  <Override PartName="/ppt/media/image11.png" ContentType="image/png"/>
  <Override PartName="/ppt/media/image9.jpeg" ContentType="image/jpeg"/>
  <Override PartName="/ppt/media/image8.png" ContentType="image/png"/>
  <Override PartName="/ppt/media/image4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9937C-B091-4FA0-A0E7-864FD30509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747DE-0D54-4CBE-91C6-741544E44B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A2DAC-E5E0-48D1-8599-9F7871F53E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29921-D816-4F6A-A5E5-65DD768916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DFF62-55AF-4527-B649-07C0CFBA78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E54E0-2414-412F-84A4-2326B257F5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3E51E-D2B5-4EBB-AFAF-7E3E84FA25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F9C77C-93E6-42FB-95D9-09B4D90F07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6C14DF-BEA3-40A1-A476-2A25CC43FA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2B4867-7FEE-4F00-876C-A99D454BD6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C5AA32-EDFF-4152-B4C3-F36E2FFBBB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8C1C-552E-4B77-920A-756336F3183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2DA0-6BEB-4EBE-A029-46A52141C5F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831E-CBF0-4467-8669-6EE5127895F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09B1-DD26-4618-A8CC-FD4A959B064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A7EC-1115-4260-98D4-ED443317EA9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CFE9-8B06-4536-9535-8B45FA927D8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73B6-A35C-421B-8384-09BC8936438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0DCD80-96C6-4CAB-9F84-036E9DE97A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1527-9270-499C-9455-78CE4BDD4F8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EF0D-B2BB-4D01-AF50-D740ABE8732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8DD9-D6D6-46B4-87EB-6E6AD637B1F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76EA-52EE-461F-9A13-5D2A9DFB219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7A18-FB4A-4F7F-B76F-1A7B2C82A7C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94F6FC-49EC-49E2-A5CE-FCA7229822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054F43-BF95-46C3-BB68-B6677524ED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72ADFD-A7A5-48FD-A711-BDE8B4E141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2454E0-75FE-471E-A091-AD4146CD55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AA6A31-6FB7-4AF3-8127-DAB8D51E3D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4E33BC-E287-4830-A171-0B87BF6D59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CF3010-ED6C-4EEF-8539-C778BE268C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DE39A-2AD3-466B-9A3B-5A8C78D5E69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C0AFE-FAC3-4717-BBB7-4311B1E5823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wmf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44.jpeg"/><Relationship Id="rId3" Type="http://schemas.openxmlformats.org/officeDocument/2006/relationships/image" Target="../media/image10.jpeg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jpe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wm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6.wmf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895480" y="2133720"/>
            <a:ext cx="594360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Equip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E5B9-58EB-40C1-B31A-F51D3133831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ng and Acquiring Equipment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609480" y="16765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easy to 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7"/>
          <p:cNvSpPr/>
          <p:nvPr/>
        </p:nvSpPr>
        <p:spPr>
          <a:xfrm>
            <a:off x="609480" y="3809880"/>
            <a:ext cx="2971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safe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will it fi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9"/>
          <p:cNvSpPr/>
          <p:nvPr/>
        </p:nvSpPr>
        <p:spPr>
          <a:xfrm>
            <a:off x="609480" y="31240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warran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5"/>
          <p:cNvSpPr/>
          <p:nvPr/>
        </p:nvSpPr>
        <p:spPr>
          <a:xfrm>
            <a:off x="609480" y="23623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rcRect l="0" t="0" r="11143" b="0"/>
          <a:stretch/>
        </p:blipFill>
        <p:spPr>
          <a:xfrm>
            <a:off x="4191120" y="1523880"/>
            <a:ext cx="4636800" cy="339912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4038480" y="3200400"/>
            <a:ext cx="2524320" cy="23716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4" descr="MCj00787110000[1]"/>
          <p:cNvPicPr/>
          <p:nvPr/>
        </p:nvPicPr>
        <p:blipFill>
          <a:blip r:embed="rId3"/>
          <a:stretch/>
        </p:blipFill>
        <p:spPr>
          <a:xfrm>
            <a:off x="6248520" y="2133720"/>
            <a:ext cx="16030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B3A512-2F4E-4E74-B35F-30B326510CC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cquiring Equipmen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urchase, lease, rent, don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entral acquisi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ulk procur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ditions of contrac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6" name="Picture 4" descr="MCj03008420000[1]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2895480" y="3870360"/>
            <a:ext cx="3886200" cy="2533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3D31DA-855B-4F50-8FC1-E09C34964C0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Negotiating Equipment Acquisi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ring diagra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oftware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rts lis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manu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stallation by manufactur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ial perio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5486400" y="1371600"/>
            <a:ext cx="2324160" cy="203184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260" name=""/>
          <p:cNvSpPr/>
          <p:nvPr/>
        </p:nvSpPr>
        <p:spPr>
          <a:xfrm>
            <a:off x="457200" y="129528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es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2"/>
          <a:srcRect l="60176" t="44598" r="0" b="10494"/>
          <a:stretch/>
        </p:blipFill>
        <p:spPr>
          <a:xfrm>
            <a:off x="6248520" y="2971800"/>
            <a:ext cx="2178000" cy="1565280"/>
          </a:xfrm>
          <a:prstGeom prst="rect">
            <a:avLst/>
          </a:prstGeom>
          <a:ln w="0">
            <a:noFill/>
          </a:ln>
        </p:spPr>
      </p:pic>
      <p:grpSp>
        <p:nvGrpSpPr>
          <p:cNvPr id="262" name=""/>
          <p:cNvGrpSpPr/>
          <p:nvPr/>
        </p:nvGrpSpPr>
        <p:grpSpPr>
          <a:xfrm>
            <a:off x="7010280" y="3809880"/>
            <a:ext cx="1676520" cy="2057040"/>
            <a:chOff x="7010280" y="3809880"/>
            <a:chExt cx="1676520" cy="2057040"/>
          </a:xfrm>
        </p:grpSpPr>
        <p:sp>
          <p:nvSpPr>
            <p:cNvPr id="263" name="Gear"/>
            <p:cNvSpPr/>
            <p:nvPr/>
          </p:nvSpPr>
          <p:spPr>
            <a:xfrm>
              <a:off x="7939800" y="3809880"/>
              <a:ext cx="747000" cy="94320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010280" y="4198680"/>
              <a:ext cx="893160" cy="112752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589520" y="4614480"/>
              <a:ext cx="992520" cy="125244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5B1EC0-523F-40CE-A28A-6FDF891C1FE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17" descr="MCj04349290000[1]"/>
          <p:cNvPicPr/>
          <p:nvPr/>
        </p:nvPicPr>
        <p:blipFill>
          <a:blip r:embed="rId1"/>
          <a:stretch/>
        </p:blipFill>
        <p:spPr>
          <a:xfrm>
            <a:off x="4952880" y="2971800"/>
            <a:ext cx="2210040" cy="220968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Before 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8" name="Text Box 15"/>
          <p:cNvSpPr/>
          <p:nvPr/>
        </p:nvSpPr>
        <p:spPr>
          <a:xfrm>
            <a:off x="380880" y="1905120"/>
            <a:ext cx="861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firm vendor’s responsibilities </a:t>
            </a:r>
            <a:r>
              <a:rPr b="1" i="1" lang="fr-FR" sz="2800" spc="-1" strike="noStrike">
                <a:solidFill>
                  <a:srgbClr val="ff0000"/>
                </a:solidFill>
                <a:latin typeface="Bradley Hand ITC"/>
              </a:rPr>
              <a:t>in wr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6"/>
          <p:cNvSpPr/>
          <p:nvPr/>
        </p:nvSpPr>
        <p:spPr>
          <a:xfrm>
            <a:off x="457200" y="297180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check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9D60C6-06C5-4E77-87BB-6C9175C5FB0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when possible, have manufacturer install and set up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o no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attempt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use prior to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roper install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rcRect l="25142" t="6220" r="4571" b="35764"/>
          <a:stretch/>
        </p:blipFill>
        <p:spPr>
          <a:xfrm>
            <a:off x="5943600" y="2590920"/>
            <a:ext cx="2813040" cy="341136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273" name="Picture 7" descr="MCj02926060000[1]"/>
          <p:cNvPicPr/>
          <p:nvPr/>
        </p:nvPicPr>
        <p:blipFill>
          <a:blip r:embed="rId2"/>
          <a:stretch/>
        </p:blipFill>
        <p:spPr>
          <a:xfrm>
            <a:off x="4724280" y="4495680"/>
            <a:ext cx="1797120" cy="182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6E4CFA-130D-48F4-9D1C-9630E3C3757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34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erify package cont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py software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f part of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5105520" y="2590920"/>
            <a:ext cx="3504960" cy="3271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DE86B2-E033-4A94-8585-EB978ACFAEE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After Equipment Installation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609480" y="1219320"/>
            <a:ext cx="8000280" cy="2513880"/>
            <a:chOff x="609480" y="1219320"/>
            <a:chExt cx="8000280" cy="2513880"/>
          </a:xfrm>
        </p:grpSpPr>
        <p:cxnSp>
          <p:nvCxnSpPr>
            <p:cNvPr id="279" name="_s281605"/>
            <p:cNvCxnSpPr>
              <a:stCxn id="280" idx="0"/>
              <a:endCxn id="281" idx="2"/>
            </p:cNvCxnSpPr>
            <p:nvPr/>
          </p:nvCxnSpPr>
          <p:spPr>
            <a:xfrm flipV="1" rot="16200000">
              <a:off x="5758200" y="1075320"/>
              <a:ext cx="503280" cy="2800800"/>
            </a:xfrm>
            <a:prstGeom prst="bentConnector3">
              <a:avLst>
                <a:gd name="adj1" fmla="val 2075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2" name="_s281606"/>
            <p:cNvCxnSpPr>
              <a:stCxn id="283" idx="0"/>
              <a:endCxn id="281" idx="2"/>
            </p:cNvCxnSpPr>
            <p:nvPr/>
          </p:nvCxnSpPr>
          <p:spPr>
            <a:xfrm flipV="1">
              <a:off x="4609800" y="2224440"/>
              <a:ext cx="2880" cy="503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4" name="_s281607"/>
            <p:cNvCxnSpPr>
              <a:stCxn id="285" idx="0"/>
              <a:endCxn id="281" idx="2"/>
            </p:cNvCxnSpPr>
            <p:nvPr/>
          </p:nvCxnSpPr>
          <p:spPr>
            <a:xfrm flipH="1" flipV="1" rot="5400000">
              <a:off x="2957760" y="1075680"/>
              <a:ext cx="503280" cy="2800800"/>
            </a:xfrm>
            <a:prstGeom prst="bentConnector3">
              <a:avLst>
                <a:gd name="adj1" fmla="val 2075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81" name="_s281608"/>
            <p:cNvSpPr/>
            <p:nvPr/>
          </p:nvSpPr>
          <p:spPr>
            <a:xfrm>
              <a:off x="2609640" y="1219320"/>
              <a:ext cx="4000320" cy="100548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ffff00"/>
                  </a:solidFill>
                  <a:latin typeface="Arial"/>
                </a:rPr>
                <a:t>Inventory Record</a:t>
              </a:r>
              <a:r>
                <a:rPr b="1" lang="en-US" sz="2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br>
                <a:rPr sz="2900"/>
              </a:b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281609"/>
            <p:cNvSpPr/>
            <p:nvPr/>
          </p:nvSpPr>
          <p:spPr>
            <a:xfrm>
              <a:off x="60948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alibr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_s281610"/>
            <p:cNvSpPr/>
            <p:nvPr/>
          </p:nvSpPr>
          <p:spPr>
            <a:xfrm>
              <a:off x="340956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Verific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_s281611"/>
            <p:cNvSpPr/>
            <p:nvPr/>
          </p:nvSpPr>
          <p:spPr>
            <a:xfrm>
              <a:off x="620964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perating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Procedu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6" name="" descr=""/>
            <p:cNvPicPr/>
            <p:nvPr/>
          </p:nvPicPr>
          <p:blipFill>
            <a:blip r:embed="rId1"/>
            <a:stretch/>
          </p:blipFill>
          <p:spPr>
            <a:xfrm>
              <a:off x="684360" y="3034800"/>
              <a:ext cx="385920" cy="35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" descr=""/>
            <p:cNvPicPr/>
            <p:nvPr/>
          </p:nvPicPr>
          <p:blipFill>
            <a:blip r:embed="rId2"/>
            <a:stretch/>
          </p:blipFill>
          <p:spPr>
            <a:xfrm>
              <a:off x="3503880" y="3034800"/>
              <a:ext cx="388440" cy="35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" descr=""/>
            <p:cNvPicPr/>
            <p:nvPr/>
          </p:nvPicPr>
          <p:blipFill>
            <a:blip r:embed="rId3"/>
            <a:stretch/>
          </p:blipFill>
          <p:spPr>
            <a:xfrm>
              <a:off x="6248880" y="2965320"/>
              <a:ext cx="385920" cy="35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9" name=""/>
          <p:cNvSpPr/>
          <p:nvPr/>
        </p:nvSpPr>
        <p:spPr>
          <a:xfrm>
            <a:off x="2362320" y="4191120"/>
            <a:ext cx="4495680" cy="6858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057400" y="5562720"/>
            <a:ext cx="5410080" cy="6858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895480" y="42670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intenance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438280" y="563868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ain ALL Oper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67080" y="2209680"/>
            <a:ext cx="68580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267080" y="3733920"/>
            <a:ext cx="6858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267080" y="4876920"/>
            <a:ext cx="83844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4"/>
          <a:stretch/>
        </p:blipFill>
        <p:spPr>
          <a:xfrm>
            <a:off x="685800" y="3048120"/>
            <a:ext cx="387360" cy="35532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5"/>
          <a:stretch/>
        </p:blipFill>
        <p:spPr>
          <a:xfrm>
            <a:off x="2514600" y="4343400"/>
            <a:ext cx="387360" cy="35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8F8449-03AF-44E0-AB7C-9D3C6C1EDEE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>
            <a:lum bright="-2000"/>
          </a:blip>
          <a:srcRect l="5057" t="2516" r="15171" b="17613"/>
          <a:stretch/>
        </p:blipFill>
        <p:spPr>
          <a:xfrm>
            <a:off x="5562720" y="1371600"/>
            <a:ext cx="3371760" cy="4381560"/>
          </a:xfrm>
          <a:prstGeom prst="rect">
            <a:avLst/>
          </a:prstGeom>
          <a:ln w="0">
            <a:noFill/>
          </a:ln>
        </p:spPr>
      </p:pic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quipment Calibr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rform initial calib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calibrators or standar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llow manufacturer’s instru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termine frequency of routine calibr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F92699-2A4A-476C-AFFD-0E3AA017AEE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erformance </a:t>
            </a: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valu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5257800" y="837000"/>
            <a:ext cx="3352680" cy="129564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st known samples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alyz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rcRect l="20400" t="0" r="7200" b="6400"/>
          <a:stretch/>
        </p:blipFill>
        <p:spPr>
          <a:xfrm>
            <a:off x="304920" y="1676520"/>
            <a:ext cx="4114800" cy="398916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4800600" y="2286000"/>
            <a:ext cx="4038480" cy="2133720"/>
          </a:xfrm>
          <a:prstGeom prst="flowChartPreparation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724280" y="4495680"/>
            <a:ext cx="4114800" cy="2133720"/>
          </a:xfrm>
          <a:prstGeom prst="flowChartDecision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724280"/>
            <a:ext cx="4038840" cy="18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lidat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performance wit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parallel s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486400" y="2514600"/>
            <a:ext cx="3429000" cy="18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tablish stabilit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 temperature- controlled equi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rot="5400000">
            <a:off x="571320" y="1409400"/>
            <a:ext cx="3810240" cy="4495680"/>
          </a:xfrm>
          <a:custGeom>
            <a:avLst/>
            <a:gdLst>
              <a:gd name="textAreaLeft" fmla="*/ 0 w 3810240"/>
              <a:gd name="textAreaRight" fmla="*/ 3810600 w 3810240"/>
              <a:gd name="textAreaTop" fmla="*/ 0 h 4495680"/>
              <a:gd name="textAreaBottom" fmla="*/ 4496040 h 449568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dddddd"/>
          </a:solidFill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 rot="735600">
            <a:off x="914040" y="3048120"/>
            <a:ext cx="35434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cc"/>
                </a:solidFill>
                <a:latin typeface="Arial Black"/>
              </a:rPr>
              <a:t>New Equipment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33cccc"/>
              </a:solidFill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1EF466-AE0A-45C3-8D00-2C3B91DA14A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Function Check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instrument parameter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iodically, daily, weekly, month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fter major instrument repai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ubator temperat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avelength calibr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utoclave temperature cha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7696080" y="685800"/>
            <a:ext cx="1219320" cy="388620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2"/>
          <a:stretch/>
        </p:blipFill>
        <p:spPr>
          <a:xfrm>
            <a:off x="7391520" y="3733920"/>
            <a:ext cx="1523880" cy="228600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3"/>
          <a:stretch/>
        </p:blipFill>
        <p:spPr>
          <a:xfrm>
            <a:off x="6019920" y="4648320"/>
            <a:ext cx="1676160" cy="175248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4"/>
          <a:stretch/>
        </p:blipFill>
        <p:spPr>
          <a:xfrm>
            <a:off x="5791320" y="2819520"/>
            <a:ext cx="2133360" cy="2133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E525B3-5807-46A4-B1D3-0810569347B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you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st factors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consider prior to purchasing equipment for the laborator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age the selection and acquisition of new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scribe the requirements for a preventive maintenance program for equipment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 a rationale for developing a preventive maintenance programs in your laborator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plain how to retire old or outdated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715813-3A2F-41C2-B923-953FED62B00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eventive Maintenance</a:t>
            </a:r>
            <a:br>
              <a:rPr sz="3200"/>
            </a:b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6019920" cy="16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22840" indent="-2228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outine clea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22840" indent="-2228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justment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lacement o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pa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Rectangle 5"/>
          <p:cNvSpPr/>
          <p:nvPr/>
        </p:nvSpPr>
        <p:spPr>
          <a:xfrm>
            <a:off x="457200" y="1523880"/>
            <a:ext cx="6019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5410080" y="1523880"/>
            <a:ext cx="3295800" cy="294336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4" descr="MCj02295450000[1]"/>
          <p:cNvPicPr/>
          <p:nvPr/>
        </p:nvPicPr>
        <p:blipFill>
          <a:blip r:embed="rId2"/>
          <a:stretch/>
        </p:blipFill>
        <p:spPr>
          <a:xfrm>
            <a:off x="4191120" y="2286000"/>
            <a:ext cx="2752560" cy="373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194565-1E68-4274-94E2-0D0E2F6A045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lementing a Maintenance Progra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647712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ign responsib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writte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licies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d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ain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rcRect l="0" t="0" r="11700" b="2532"/>
          <a:stretch/>
        </p:blipFill>
        <p:spPr>
          <a:xfrm>
            <a:off x="4419720" y="2362320"/>
            <a:ext cx="44496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0A6EB3-BCA3-49E7-814F-D3F99FEFC25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evelop a Maintenance Pla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ach piec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f equipment establish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outin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aintenance plan to inclu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requenc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all maintenance tas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outine replacement of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ar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5562720" y="3809880"/>
            <a:ext cx="2514600" cy="22528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sp>
        <p:nvSpPr>
          <p:cNvPr id="327" name=""/>
          <p:cNvSpPr/>
          <p:nvPr/>
        </p:nvSpPr>
        <p:spPr>
          <a:xfrm>
            <a:off x="4038480" y="4648320"/>
            <a:ext cx="1143000" cy="6858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1066680" y="4038480"/>
            <a:ext cx="2819520" cy="191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5EA508-0D09-4CDA-AC13-EB80C698871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reate an Equipment Inventory Log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76201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trument type, model number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rial numb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cation in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urcha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ufacturer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ndor contact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rranty,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te expiration da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are par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rcRect l="0" t="0" r="38626" b="0"/>
          <a:stretch/>
        </p:blipFill>
        <p:spPr>
          <a:xfrm>
            <a:off x="6478560" y="2133720"/>
            <a:ext cx="2665440" cy="262728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6400800" y="4038480"/>
            <a:ext cx="2590920" cy="2189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484069-A6D3-47EC-8523-C081AB482A5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pare Parts Invento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6172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clude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of spare pa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og to track stoc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st and ordering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6781680" y="762120"/>
            <a:ext cx="2095560" cy="2476440"/>
          </a:xfrm>
          <a:prstGeom prst="rect">
            <a:avLst/>
          </a:prstGeom>
          <a:ln w="0">
            <a:noFill/>
          </a:ln>
        </p:spPr>
      </p:pic>
      <p:sp>
        <p:nvSpPr>
          <p:cNvPr id="336" name="Form"/>
          <p:cNvSpPr/>
          <p:nvPr/>
        </p:nvSpPr>
        <p:spPr>
          <a:xfrm>
            <a:off x="6400800" y="2362320"/>
            <a:ext cx="1371600" cy="16761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5791320" y="34290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3"/>
          <a:stretch/>
        </p:blipFill>
        <p:spPr>
          <a:xfrm>
            <a:off x="5105520" y="4267080"/>
            <a:ext cx="1211040" cy="160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AE88D9-B4B3-4FE1-880B-770F145D33E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2" descr="MCDD00744_0000[1]"/>
          <p:cNvPicPr/>
          <p:nvPr/>
        </p:nvPicPr>
        <p:blipFill>
          <a:blip r:embed="rId1"/>
          <a:stretch/>
        </p:blipFill>
        <p:spPr>
          <a:xfrm>
            <a:off x="304920" y="1447920"/>
            <a:ext cx="8229600" cy="516384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roubleshooting: What is the source of the problem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762120" y="2286000"/>
            <a:ext cx="44956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Sample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Reagent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Water, Electricity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Equipment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2" name="Picture 5" descr="MCj03835500000[1]"/>
          <p:cNvPicPr/>
          <p:nvPr/>
        </p:nvPicPr>
        <p:blipFill>
          <a:blip r:embed="rId2"/>
          <a:stretch/>
        </p:blipFill>
        <p:spPr>
          <a:xfrm>
            <a:off x="5486400" y="1143000"/>
            <a:ext cx="2425680" cy="533412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 txBox="1"/>
          <p:nvPr/>
        </p:nvSpPr>
        <p:spPr>
          <a:xfrm>
            <a:off x="5105520" y="3962520"/>
            <a:ext cx="3162240" cy="110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nstruction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A05F48-EC85-4138-B7CD-8652BB5A890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When in-house efforts fail: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ll manufacturer 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ther technical expe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ok for options to continue serv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btain back-up instrument from centr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tores or manufactur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fer sample to nearby laborat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6781680" y="423720"/>
            <a:ext cx="2210040" cy="210348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2"/>
          <a:srcRect l="0" t="5024" r="0" b="15071"/>
          <a:stretch/>
        </p:blipFill>
        <p:spPr>
          <a:xfrm>
            <a:off x="2057400" y="4419720"/>
            <a:ext cx="1616040" cy="193680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3"/>
          <a:stretch/>
        </p:blipFill>
        <p:spPr>
          <a:xfrm>
            <a:off x="5867280" y="4419720"/>
            <a:ext cx="2735280" cy="180792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3733920" y="609588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4"/>
          <a:stretch/>
        </p:blipFill>
        <p:spPr>
          <a:xfrm>
            <a:off x="3962520" y="4876920"/>
            <a:ext cx="1600200" cy="100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23DD99-2663-465C-99D1-2B67CE4BEA3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480" y="4327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09480" y="53316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Do NOT us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equipment that does not function proper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"/>
          <p:cNvSpPr/>
          <p:nvPr/>
        </p:nvSpPr>
        <p:spPr>
          <a:xfrm>
            <a:off x="3733920" y="4876920"/>
            <a:ext cx="3504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rcRect l="15600" t="4800" r="13200" b="19200"/>
          <a:stretch/>
        </p:blipFill>
        <p:spPr>
          <a:xfrm>
            <a:off x="1676520" y="1600200"/>
            <a:ext cx="5767200" cy="461808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2971800" y="2819520"/>
            <a:ext cx="3352680" cy="24714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R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 OF 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DO NOT 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C5DD94-94EA-458E-8896-57E15A42853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rvice and Repai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anufactur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oratory must schedule routine manufacturer’s mainten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rranty may require repair handled by manufactur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n-house biomedical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ervice technicia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rcRect l="17455" t="0" r="29673" b="0"/>
          <a:stretch/>
        </p:blipFill>
        <p:spPr>
          <a:xfrm>
            <a:off x="5867280" y="3581280"/>
            <a:ext cx="2770200" cy="2495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FD5E01-2770-46A7-A8B2-124B8AD5C2D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5" descr="Lab Junk"/>
          <p:cNvPicPr/>
          <p:nvPr/>
        </p:nvPicPr>
        <p:blipFill>
          <a:blip r:embed="rId1"/>
          <a:stretch/>
        </p:blipFill>
        <p:spPr>
          <a:xfrm>
            <a:off x="1523880" y="1371600"/>
            <a:ext cx="6172200" cy="463068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tiring Equipment / Disposal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A34FF8-2D01-4444-830E-8252966E3C0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3886200"/>
            <a:ext cx="7924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3520" y="1066680"/>
            <a:ext cx="83055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reader fails while performing ELISA / EIA tests. There isn’t a documented procedure for troubleshooting, the maintenance log has not been updated for 2 years, and the manufacturer’s instructions are missing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What should you do? 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What should you have done earlier ?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What you would do if this happened in your laborato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4FE2F6-9F99-4D80-BC2A-13CD54FFBEA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3" descr="v3_slide0294_image078"/>
          <p:cNvPicPr/>
          <p:nvPr/>
        </p:nvPicPr>
        <p:blipFill>
          <a:blip r:embed="rId1"/>
          <a:stretch/>
        </p:blipFill>
        <p:spPr>
          <a:xfrm>
            <a:off x="838080" y="1371600"/>
            <a:ext cx="4114800" cy="328140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Retiring Equipment / Disposal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2"/>
          <a:stretch/>
        </p:blipFill>
        <p:spPr>
          <a:xfrm>
            <a:off x="838080" y="4267080"/>
            <a:ext cx="7543800" cy="17528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3"/>
          <a:stretch/>
        </p:blipFill>
        <p:spPr>
          <a:xfrm>
            <a:off x="4191120" y="1371600"/>
            <a:ext cx="4190760" cy="2889360"/>
          </a:xfrm>
          <a:prstGeom prst="rect">
            <a:avLst/>
          </a:prstGeom>
          <a:ln w="76320">
            <a:solidFill>
              <a:srgbClr val="66ffcc"/>
            </a:solidFill>
            <a:miter/>
          </a:ln>
        </p:spPr>
      </p:pic>
      <p:sp>
        <p:nvSpPr>
          <p:cNvPr id="365" name=""/>
          <p:cNvSpPr/>
          <p:nvPr/>
        </p:nvSpPr>
        <p:spPr>
          <a:xfrm>
            <a:off x="4724280" y="3200400"/>
            <a:ext cx="3048120" cy="1066680"/>
          </a:xfrm>
          <a:custGeom>
            <a:avLst/>
            <a:gdLst>
              <a:gd name="textAreaLeft" fmla="*/ 762120 w 3048120"/>
              <a:gd name="textAreaRight" fmla="*/ 2286360 w 3048120"/>
              <a:gd name="textAreaTop" fmla="*/ 0 h 1066680"/>
              <a:gd name="textAreaBottom" fmla="*/ 933480 h 10666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1905120" y="2743200"/>
            <a:ext cx="1114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7010280" y="4572000"/>
            <a:ext cx="1114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4"/>
          <a:stretch/>
        </p:blipFill>
        <p:spPr>
          <a:xfrm>
            <a:off x="4419720" y="1371600"/>
            <a:ext cx="2104920" cy="188604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5257800" y="1600200"/>
            <a:ext cx="990720" cy="3668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486400" y="3048120"/>
            <a:ext cx="1371600" cy="1295280"/>
          </a:xfrm>
          <a:custGeom>
            <a:avLst/>
            <a:gdLst>
              <a:gd name="textAreaLeft" fmla="*/ 313200 w 1371600"/>
              <a:gd name="textAreaRight" fmla="*/ 1058400 w 1371600"/>
              <a:gd name="textAreaTop" fmla="*/ 295560 h 1295280"/>
              <a:gd name="textAreaBottom" fmla="*/ 9997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6"/>
          <a:stretch/>
        </p:blipFill>
        <p:spPr>
          <a:xfrm>
            <a:off x="5791320" y="3352680"/>
            <a:ext cx="761760" cy="698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1817D-9487-4BF6-881E-09672A2B812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Documents"/>
          <p:cNvSpPr/>
          <p:nvPr/>
        </p:nvSpPr>
        <p:spPr>
          <a:xfrm rot="16200000">
            <a:off x="799920" y="1485360"/>
            <a:ext cx="4267080" cy="44956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ocu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3818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written procedures for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Text Box 5"/>
          <p:cNvSpPr/>
          <p:nvPr/>
        </p:nvSpPr>
        <p:spPr>
          <a:xfrm>
            <a:off x="914400" y="1676520"/>
            <a:ext cx="42670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outine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alib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oubleshoo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anufacturer’s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rcRect l="0" t="9172" r="0" b="0"/>
          <a:stretch/>
        </p:blipFill>
        <p:spPr>
          <a:xfrm>
            <a:off x="6705720" y="1828800"/>
            <a:ext cx="2095560" cy="211932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7315200" y="2133720"/>
            <a:ext cx="304920" cy="1620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6" descr="MCPE07250_0000[1]"/>
          <p:cNvPicPr/>
          <p:nvPr/>
        </p:nvPicPr>
        <p:blipFill>
          <a:blip r:embed="rId2"/>
          <a:stretch/>
        </p:blipFill>
        <p:spPr>
          <a:xfrm>
            <a:off x="5334120" y="3352680"/>
            <a:ext cx="1568160" cy="19051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7" descr="MCj02926060000[1]"/>
          <p:cNvPicPr/>
          <p:nvPr/>
        </p:nvPicPr>
        <p:blipFill>
          <a:blip r:embed="rId3"/>
          <a:stretch/>
        </p:blipFill>
        <p:spPr>
          <a:xfrm>
            <a:off x="6553080" y="4267080"/>
            <a:ext cx="1954440" cy="198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6FAF7E-B152-454A-9C4B-3E5CAE59400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edicated Log Book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15328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09160" indent="-209160">
              <a:lnSpc>
                <a:spcPct val="8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Routine maintenance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ib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rvice repai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by manufactur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proble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9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09160" indent="-20916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5334120" y="2286000"/>
            <a:ext cx="33336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2900C0-6B46-40BA-89C0-E0F239EE593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ecording Proble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4" name=""/>
          <p:cNvSpPr/>
          <p:nvPr/>
        </p:nvSpPr>
        <p:spPr>
          <a:xfrm>
            <a:off x="457200" y="1143000"/>
            <a:ext cx="85345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roblem occurred, equipment remove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from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ason for breakdown or fail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rrective actions ta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returned to u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ange in maintenance or in function che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6248520" y="2895480"/>
            <a:ext cx="2419200" cy="1990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DE744C-B9C8-4ACC-BA56-B85C691B061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1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7" name="Picture 3" descr=""/>
          <p:cNvPicPr/>
          <p:nvPr/>
        </p:nvPicPr>
        <p:blipFill>
          <a:blip r:embed="rId1"/>
          <a:stretch/>
        </p:blipFill>
        <p:spPr>
          <a:xfrm>
            <a:off x="2057400" y="1219320"/>
            <a:ext cx="5638680" cy="5275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2E5571-CA5E-44B9-BAB5-C7770D49E97B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2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9" name="Picture 3" descr=""/>
          <p:cNvPicPr/>
          <p:nvPr/>
        </p:nvPicPr>
        <p:blipFill>
          <a:blip r:embed="rId1"/>
          <a:stretch/>
        </p:blipFill>
        <p:spPr>
          <a:xfrm>
            <a:off x="1600200" y="1295280"/>
            <a:ext cx="6172200" cy="4986360"/>
          </a:xfrm>
          <a:prstGeom prst="rect">
            <a:avLst/>
          </a:prstGeom>
          <a:ln w="0">
            <a:noFill/>
          </a:ln>
        </p:spPr>
      </p:pic>
      <p:sp>
        <p:nvSpPr>
          <p:cNvPr id="390" name="Oval 4"/>
          <p:cNvSpPr/>
          <p:nvPr/>
        </p:nvSpPr>
        <p:spPr>
          <a:xfrm>
            <a:off x="533520" y="3276720"/>
            <a:ext cx="7391160" cy="2666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72FE4C-C70F-4404-A8C3-8531CFA90E33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3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92" name="Picture 3" descr=""/>
          <p:cNvPicPr/>
          <p:nvPr/>
        </p:nvPicPr>
        <p:blipFill>
          <a:blip r:embed="rId1"/>
          <a:stretch/>
        </p:blipFill>
        <p:spPr>
          <a:xfrm>
            <a:off x="1676520" y="1219320"/>
            <a:ext cx="5715000" cy="5043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088F63-9DA7-4A46-A075-2A69D204A34A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79250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 equipment management program will addres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quipment sele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ventive maintenanc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cedures for troubleshooting and repa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cuments and records will inclu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ventory of all laboratory equip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formation provided by the manufacturer on operation, maintenance, and troubleshoot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s of all preventive maintenance and repair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01A82F-866F-481F-B373-9AA58F23C889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92504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well-organized equipment maintenance program provid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igh level of performance and greater confidence in the reliability of resul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ewer interruptions in test performance, lower repair costs, and elimination of premature replacement of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reased safety for laboratory workers will result from well-maintained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"/>
          <p:cNvSpPr/>
          <p:nvPr/>
        </p:nvSpPr>
        <p:spPr>
          <a:xfrm>
            <a:off x="152280" y="4495680"/>
            <a:ext cx="8839440" cy="12193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80880" y="4572000"/>
            <a:ext cx="84582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A major part of equipment maintenance is PREVENTIVE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FF0E96-EC1E-43BB-94D4-A4C0EDC8C9E1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401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5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416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417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418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20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1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2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423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Text Box 74"/>
              <p:cNvSpPr/>
              <p:nvPr/>
            </p:nvSpPr>
            <p:spPr>
              <a:xfrm>
                <a:off x="24940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426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427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9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0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1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432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4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6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437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9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0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441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3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444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6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9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450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2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453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5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456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E6413C-C544-4AE2-A0C6-F13EFFC89280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47920" y="45720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2286000" y="1066680"/>
            <a:ext cx="5181480" cy="5410080"/>
            <a:chOff x="2286000" y="1066680"/>
            <a:chExt cx="5181480" cy="5410080"/>
          </a:xfrm>
        </p:grpSpPr>
        <p:sp>
          <p:nvSpPr>
            <p:cNvPr id="137" name="AutoShape 4"/>
            <p:cNvSpPr/>
            <p:nvPr/>
          </p:nvSpPr>
          <p:spPr>
            <a:xfrm>
              <a:off x="228600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9"/>
            <p:cNvSpPr/>
            <p:nvPr/>
          </p:nvSpPr>
          <p:spPr>
            <a:xfrm>
              <a:off x="453060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0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1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2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3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316548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22"/>
            <p:cNvSpPr/>
            <p:nvPr/>
          </p:nvSpPr>
          <p:spPr>
            <a:xfrm>
              <a:off x="315432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4"/>
            <p:cNvSpPr/>
            <p:nvPr/>
          </p:nvSpPr>
          <p:spPr>
            <a:xfrm flipH="1" flipV="1">
              <a:off x="493992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5"/>
            <p:cNvSpPr/>
            <p:nvPr/>
          </p:nvSpPr>
          <p:spPr>
            <a:xfrm flipV="1">
              <a:off x="467820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647676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487656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>
              <a:off x="320040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27"/>
            <p:cNvSpPr/>
            <p:nvPr/>
          </p:nvSpPr>
          <p:spPr>
            <a:xfrm flipH="1">
              <a:off x="289512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1" name="Group 65"/>
            <p:cNvGrpSpPr/>
            <p:nvPr/>
          </p:nvGrpSpPr>
          <p:grpSpPr>
            <a:xfrm>
              <a:off x="2590560" y="1159200"/>
              <a:ext cx="1261800" cy="1189800"/>
              <a:chOff x="2590560" y="1159200"/>
              <a:chExt cx="1261800" cy="1189800"/>
            </a:xfrm>
          </p:grpSpPr>
          <p:grpSp>
            <p:nvGrpSpPr>
              <p:cNvPr id="152" name="Group 66"/>
              <p:cNvGrpSpPr/>
              <p:nvPr/>
            </p:nvGrpSpPr>
            <p:grpSpPr>
              <a:xfrm>
                <a:off x="2590560" y="1159200"/>
                <a:ext cx="1239120" cy="1189800"/>
                <a:chOff x="2590560" y="1159200"/>
                <a:chExt cx="1239120" cy="1189800"/>
              </a:xfrm>
            </p:grpSpPr>
            <p:grpSp>
              <p:nvGrpSpPr>
                <p:cNvPr id="153" name="Group 67"/>
                <p:cNvGrpSpPr/>
                <p:nvPr/>
              </p:nvGrpSpPr>
              <p:grpSpPr>
                <a:xfrm>
                  <a:off x="2642040" y="1159200"/>
                  <a:ext cx="1152360" cy="1189800"/>
                  <a:chOff x="2642040" y="1159200"/>
                  <a:chExt cx="1152360" cy="1189800"/>
                </a:xfrm>
              </p:grpSpPr>
              <p:sp>
                <p:nvSpPr>
                  <p:cNvPr id="154" name="Freeform 68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Freeform 69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6" name="Text Box 70"/>
                <p:cNvSpPr/>
                <p:nvPr/>
              </p:nvSpPr>
              <p:spPr>
                <a:xfrm>
                  <a:off x="259056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" name="Text Box 71"/>
              <p:cNvSpPr/>
              <p:nvPr/>
            </p:nvSpPr>
            <p:spPr>
              <a:xfrm>
                <a:off x="261324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72"/>
            <p:cNvGrpSpPr/>
            <p:nvPr/>
          </p:nvGrpSpPr>
          <p:grpSpPr>
            <a:xfrm>
              <a:off x="4246560" y="1159200"/>
              <a:ext cx="1239840" cy="1189800"/>
              <a:chOff x="4246560" y="1159200"/>
              <a:chExt cx="1239840" cy="1189800"/>
            </a:xfrm>
          </p:grpSpPr>
          <p:sp>
            <p:nvSpPr>
              <p:cNvPr id="159" name="Freeform 73"/>
              <p:cNvSpPr/>
              <p:nvPr/>
            </p:nvSpPr>
            <p:spPr>
              <a:xfrm>
                <a:off x="428724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Text Box 74"/>
              <p:cNvSpPr/>
              <p:nvPr/>
            </p:nvSpPr>
            <p:spPr>
              <a:xfrm>
                <a:off x="424656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Group 75"/>
            <p:cNvGrpSpPr/>
            <p:nvPr/>
          </p:nvGrpSpPr>
          <p:grpSpPr>
            <a:xfrm>
              <a:off x="5846760" y="1159200"/>
              <a:ext cx="1239840" cy="1189800"/>
              <a:chOff x="5846760" y="1159200"/>
              <a:chExt cx="1239840" cy="1189800"/>
            </a:xfrm>
          </p:grpSpPr>
          <p:grpSp>
            <p:nvGrpSpPr>
              <p:cNvPr id="162" name="Group 76"/>
              <p:cNvGrpSpPr/>
              <p:nvPr/>
            </p:nvGrpSpPr>
            <p:grpSpPr>
              <a:xfrm>
                <a:off x="5892120" y="1159200"/>
                <a:ext cx="1153080" cy="1189800"/>
                <a:chOff x="5892120" y="1159200"/>
                <a:chExt cx="1153080" cy="1189800"/>
              </a:xfrm>
            </p:grpSpPr>
            <p:sp>
              <p:nvSpPr>
                <p:cNvPr id="163" name="Freeform 77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Freeform 78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5" name="Text Box 79"/>
              <p:cNvSpPr/>
              <p:nvPr/>
            </p:nvSpPr>
            <p:spPr>
              <a:xfrm>
                <a:off x="584676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Line 27"/>
            <p:cNvSpPr/>
            <p:nvPr/>
          </p:nvSpPr>
          <p:spPr>
            <a:xfrm flipH="1">
              <a:off x="297144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2590560" y="2498760"/>
              <a:ext cx="1241280" cy="1189440"/>
              <a:chOff x="2590560" y="2498760"/>
              <a:chExt cx="1241280" cy="1189440"/>
            </a:xfrm>
          </p:grpSpPr>
          <p:sp>
            <p:nvSpPr>
              <p:cNvPr id="168" name="Freeform 46"/>
              <p:cNvSpPr/>
              <p:nvPr/>
            </p:nvSpPr>
            <p:spPr>
              <a:xfrm>
                <a:off x="259524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Text Box 47"/>
              <p:cNvSpPr/>
              <p:nvPr/>
            </p:nvSpPr>
            <p:spPr>
              <a:xfrm>
                <a:off x="259056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0" name="Freeform 31"/>
            <p:cNvSpPr/>
            <p:nvPr/>
          </p:nvSpPr>
          <p:spPr>
            <a:xfrm>
              <a:off x="429552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43"/>
            <p:cNvSpPr/>
            <p:nvPr/>
          </p:nvSpPr>
          <p:spPr>
            <a:xfrm>
              <a:off x="433548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5790960" y="2516760"/>
              <a:ext cx="1336680" cy="1189440"/>
              <a:chOff x="5790960" y="2516760"/>
              <a:chExt cx="1336680" cy="1189440"/>
            </a:xfrm>
          </p:grpSpPr>
          <p:sp>
            <p:nvSpPr>
              <p:cNvPr id="173" name="Freeform 48"/>
              <p:cNvSpPr/>
              <p:nvPr/>
            </p:nvSpPr>
            <p:spPr>
              <a:xfrm>
                <a:off x="586728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55"/>
              <p:cNvSpPr/>
              <p:nvPr/>
            </p:nvSpPr>
            <p:spPr>
              <a:xfrm>
                <a:off x="579096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" name="Line 27"/>
            <p:cNvSpPr/>
            <p:nvPr/>
          </p:nvSpPr>
          <p:spPr>
            <a:xfrm flipH="1">
              <a:off x="289512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6" name=""/>
            <p:cNvGrpSpPr/>
            <p:nvPr/>
          </p:nvGrpSpPr>
          <p:grpSpPr>
            <a:xfrm>
              <a:off x="2590560" y="3858120"/>
              <a:ext cx="1239840" cy="1191240"/>
              <a:chOff x="2590560" y="3858120"/>
              <a:chExt cx="1239840" cy="1191240"/>
            </a:xfrm>
          </p:grpSpPr>
          <p:sp>
            <p:nvSpPr>
              <p:cNvPr id="177" name="Freeform 81"/>
              <p:cNvSpPr/>
              <p:nvPr/>
            </p:nvSpPr>
            <p:spPr>
              <a:xfrm>
                <a:off x="262260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82"/>
              <p:cNvSpPr/>
              <p:nvPr/>
            </p:nvSpPr>
            <p:spPr>
              <a:xfrm>
                <a:off x="259056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"/>
            <p:cNvGrpSpPr/>
            <p:nvPr/>
          </p:nvGrpSpPr>
          <p:grpSpPr>
            <a:xfrm>
              <a:off x="4246560" y="3858120"/>
              <a:ext cx="1239840" cy="1191240"/>
              <a:chOff x="4246560" y="3858120"/>
              <a:chExt cx="1239840" cy="1191240"/>
            </a:xfrm>
          </p:grpSpPr>
          <p:sp>
            <p:nvSpPr>
              <p:cNvPr id="180" name="Freeform 30"/>
              <p:cNvSpPr/>
              <p:nvPr/>
            </p:nvSpPr>
            <p:spPr>
              <a:xfrm>
                <a:off x="427356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54"/>
              <p:cNvSpPr/>
              <p:nvPr/>
            </p:nvSpPr>
            <p:spPr>
              <a:xfrm>
                <a:off x="424656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" name="Freeform 50"/>
            <p:cNvSpPr/>
            <p:nvPr/>
          </p:nvSpPr>
          <p:spPr>
            <a:xfrm>
              <a:off x="586728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51"/>
            <p:cNvSpPr/>
            <p:nvPr/>
          </p:nvSpPr>
          <p:spPr>
            <a:xfrm>
              <a:off x="584676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27"/>
            <p:cNvSpPr/>
            <p:nvPr/>
          </p:nvSpPr>
          <p:spPr>
            <a:xfrm flipH="1">
              <a:off x="297144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" name=""/>
            <p:cNvGrpSpPr/>
            <p:nvPr/>
          </p:nvGrpSpPr>
          <p:grpSpPr>
            <a:xfrm>
              <a:off x="2514600" y="5207040"/>
              <a:ext cx="1420560" cy="1189440"/>
              <a:chOff x="2514600" y="5207040"/>
              <a:chExt cx="1420560" cy="1189440"/>
            </a:xfrm>
          </p:grpSpPr>
          <p:sp>
            <p:nvSpPr>
              <p:cNvPr id="186" name="Freeform 57"/>
              <p:cNvSpPr/>
              <p:nvPr/>
            </p:nvSpPr>
            <p:spPr>
              <a:xfrm>
                <a:off x="266364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58"/>
              <p:cNvSpPr/>
              <p:nvPr/>
            </p:nvSpPr>
            <p:spPr>
              <a:xfrm>
                <a:off x="251460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4246560" y="5139000"/>
              <a:ext cx="1239840" cy="1189800"/>
              <a:chOff x="4246560" y="5139000"/>
              <a:chExt cx="1239840" cy="1189800"/>
            </a:xfrm>
          </p:grpSpPr>
          <p:sp>
            <p:nvSpPr>
              <p:cNvPr id="189" name="Freeform 34"/>
              <p:cNvSpPr/>
              <p:nvPr/>
            </p:nvSpPr>
            <p:spPr>
              <a:xfrm>
                <a:off x="429552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61"/>
              <p:cNvSpPr/>
              <p:nvPr/>
            </p:nvSpPr>
            <p:spPr>
              <a:xfrm>
                <a:off x="424656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1" name=""/>
            <p:cNvGrpSpPr/>
            <p:nvPr/>
          </p:nvGrpSpPr>
          <p:grpSpPr>
            <a:xfrm>
              <a:off x="5867280" y="5207040"/>
              <a:ext cx="1239840" cy="1189440"/>
              <a:chOff x="5867280" y="5207040"/>
              <a:chExt cx="1239840" cy="1189440"/>
            </a:xfrm>
          </p:grpSpPr>
          <p:sp>
            <p:nvSpPr>
              <p:cNvPr id="192" name="Freeform 63"/>
              <p:cNvSpPr/>
              <p:nvPr/>
            </p:nvSpPr>
            <p:spPr>
              <a:xfrm>
                <a:off x="588636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Text Box 64"/>
              <p:cNvSpPr/>
              <p:nvPr/>
            </p:nvSpPr>
            <p:spPr>
              <a:xfrm>
                <a:off x="586728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3F5153-DBCB-4171-B4AD-EB3E9BF7A76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80520" y="68544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Management Benefits </a:t>
            </a:r>
            <a:br>
              <a:rPr sz="36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5" name="Picture 4" descr="j0435880"/>
          <p:cNvPicPr/>
          <p:nvPr/>
        </p:nvPicPr>
        <p:blipFill>
          <a:blip r:embed="rId1"/>
          <a:srcRect l="0" t="17791" r="0" b="0"/>
          <a:stretch/>
        </p:blipFill>
        <p:spPr>
          <a:xfrm>
            <a:off x="380880" y="1371600"/>
            <a:ext cx="3581640" cy="220824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380880" y="3657600"/>
            <a:ext cx="320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Performance </a:t>
            </a:r>
            <a:br>
              <a:rPr sz="2800"/>
            </a:b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high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4495680" y="129528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Test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Group 8"/>
          <p:cNvGrpSpPr/>
          <p:nvPr/>
        </p:nvGrpSpPr>
        <p:grpSpPr>
          <a:xfrm>
            <a:off x="4343400" y="1676520"/>
            <a:ext cx="2514600" cy="1218960"/>
            <a:chOff x="4343400" y="1676520"/>
            <a:chExt cx="2514600" cy="1218960"/>
          </a:xfrm>
        </p:grpSpPr>
        <p:grpSp>
          <p:nvGrpSpPr>
            <p:cNvPr id="199" name="Group 9"/>
            <p:cNvGrpSpPr/>
            <p:nvPr/>
          </p:nvGrpSpPr>
          <p:grpSpPr>
            <a:xfrm>
              <a:off x="4343400" y="1676520"/>
              <a:ext cx="2438280" cy="1218960"/>
              <a:chOff x="4343400" y="1676520"/>
              <a:chExt cx="2438280" cy="1218960"/>
            </a:xfrm>
          </p:grpSpPr>
          <p:grpSp>
            <p:nvGrpSpPr>
              <p:cNvPr id="200" name="Group 10"/>
              <p:cNvGrpSpPr/>
              <p:nvPr/>
            </p:nvGrpSpPr>
            <p:grpSpPr>
              <a:xfrm>
                <a:off x="4343400" y="1676520"/>
                <a:ext cx="2438280" cy="1218960"/>
                <a:chOff x="4343400" y="1676520"/>
                <a:chExt cx="2438280" cy="1218960"/>
              </a:xfrm>
            </p:grpSpPr>
            <p:sp>
              <p:nvSpPr>
                <p:cNvPr id="201" name="Line 11"/>
                <p:cNvSpPr/>
                <p:nvPr/>
              </p:nvSpPr>
              <p:spPr>
                <a:xfrm>
                  <a:off x="4343400" y="1676520"/>
                  <a:ext cx="0" cy="1218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Line 12"/>
                <p:cNvSpPr/>
                <p:nvPr/>
              </p:nvSpPr>
              <p:spPr>
                <a:xfrm>
                  <a:off x="4343400" y="2895480"/>
                  <a:ext cx="2438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3" name="Line 13"/>
              <p:cNvSpPr/>
              <p:nvPr/>
            </p:nvSpPr>
            <p:spPr>
              <a:xfrm>
                <a:off x="4419360" y="1981080"/>
                <a:ext cx="23623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Line 14"/>
              <p:cNvSpPr/>
              <p:nvPr/>
            </p:nvSpPr>
            <p:spPr>
              <a:xfrm>
                <a:off x="4419360" y="2514600"/>
                <a:ext cx="23623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4495680" y="2209680"/>
                <a:ext cx="2286000" cy="7596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6" name="Line 16"/>
            <p:cNvSpPr/>
            <p:nvPr/>
          </p:nvSpPr>
          <p:spPr>
            <a:xfrm>
              <a:off x="6858000" y="2133360"/>
              <a:ext cx="0" cy="22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Text Box 17"/>
          <p:cNvSpPr/>
          <p:nvPr/>
        </p:nvSpPr>
        <p:spPr>
          <a:xfrm>
            <a:off x="6934320" y="190512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Black"/>
              </a:rPr>
              <a:t>Variation/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18" descr="j0424784"/>
          <p:cNvPicPr/>
          <p:nvPr/>
        </p:nvPicPr>
        <p:blipFill>
          <a:blip r:embed="rId2"/>
          <a:stretch/>
        </p:blipFill>
        <p:spPr>
          <a:xfrm>
            <a:off x="3581280" y="419112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19"/>
          <p:cNvSpPr/>
          <p:nvPr/>
        </p:nvSpPr>
        <p:spPr>
          <a:xfrm>
            <a:off x="1371600" y="5181480"/>
            <a:ext cx="274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owers repair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0"/>
          <p:cNvSpPr/>
          <p:nvPr/>
        </p:nvSpPr>
        <p:spPr>
          <a:xfrm>
            <a:off x="5562720" y="5410080"/>
            <a:ext cx="3124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Lengthens lifesp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 rot="783000">
            <a:off x="6324480" y="2819520"/>
            <a:ext cx="1714680" cy="2571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FFD4C2-4519-40DD-9215-53B94ED0A78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quipment Management Benefi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2209680" y="2362320"/>
            <a:ext cx="2895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educes interruption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of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5029200" y="114300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ncreases saf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2895480" y="4267080"/>
            <a:ext cx="259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Greater customer satisf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8" descr="MCj04326350000[1]"/>
          <p:cNvPicPr/>
          <p:nvPr/>
        </p:nvPicPr>
        <p:blipFill>
          <a:blip r:embed="rId1"/>
          <a:stretch/>
        </p:blipFill>
        <p:spPr>
          <a:xfrm>
            <a:off x="609480" y="1219320"/>
            <a:ext cx="2133720" cy="21333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85800" y="4038480"/>
            <a:ext cx="2286000" cy="16430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rcRect l="16714" t="0" r="10028" b="0"/>
          <a:stretch/>
        </p:blipFill>
        <p:spPr>
          <a:xfrm>
            <a:off x="5334120" y="1752480"/>
            <a:ext cx="3244680" cy="2930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B52C19-A6F6-4D99-B529-14E5D8527AB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3276720" y="2971800"/>
            <a:ext cx="2666880" cy="17524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gram Considera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927000" y="1350720"/>
            <a:ext cx="7289280" cy="4992840"/>
            <a:chOff x="927000" y="1350720"/>
            <a:chExt cx="7289280" cy="4992840"/>
          </a:xfrm>
        </p:grpSpPr>
        <p:sp>
          <p:nvSpPr>
            <p:cNvPr id="222" name="_s109586"/>
            <p:cNvSpPr/>
            <p:nvPr/>
          </p:nvSpPr>
          <p:spPr>
            <a:xfrm flipH="1" flipV="1">
              <a:off x="2817000" y="3221640"/>
              <a:ext cx="877320" cy="312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09585"/>
            <p:cNvSpPr/>
            <p:nvPr/>
          </p:nvSpPr>
          <p:spPr>
            <a:xfrm>
              <a:off x="927000" y="2285280"/>
              <a:ext cx="2026440" cy="1248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Retiring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quipment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disposi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09584"/>
            <p:cNvSpPr/>
            <p:nvPr/>
          </p:nvSpPr>
          <p:spPr>
            <a:xfrm flipH="1">
              <a:off x="2817000" y="415836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109583"/>
            <p:cNvSpPr/>
            <p:nvPr/>
          </p:nvSpPr>
          <p:spPr>
            <a:xfrm>
              <a:off x="927000" y="4158360"/>
              <a:ext cx="2026440" cy="1248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Service</a:t>
              </a:r>
              <a:br>
                <a:rPr sz="24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and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repai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109582"/>
            <p:cNvSpPr/>
            <p:nvPr/>
          </p:nvSpPr>
          <p:spPr>
            <a:xfrm>
              <a:off x="4571640" y="4470840"/>
              <a:ext cx="0" cy="62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109581"/>
            <p:cNvSpPr/>
            <p:nvPr/>
          </p:nvSpPr>
          <p:spPr>
            <a:xfrm>
              <a:off x="3558240" y="5095080"/>
              <a:ext cx="2026440" cy="1248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rouble-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shoot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109580"/>
            <p:cNvSpPr/>
            <p:nvPr/>
          </p:nvSpPr>
          <p:spPr>
            <a:xfrm>
              <a:off x="5448600" y="415836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109579"/>
            <p:cNvSpPr/>
            <p:nvPr/>
          </p:nvSpPr>
          <p:spPr>
            <a:xfrm>
              <a:off x="6189840" y="4158360"/>
              <a:ext cx="2026440" cy="1248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Maintena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109578"/>
            <p:cNvSpPr/>
            <p:nvPr/>
          </p:nvSpPr>
          <p:spPr>
            <a:xfrm flipV="1">
              <a:off x="5448600" y="322344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109577"/>
            <p:cNvSpPr/>
            <p:nvPr/>
          </p:nvSpPr>
          <p:spPr>
            <a:xfrm>
              <a:off x="6189840" y="2287080"/>
              <a:ext cx="2026440" cy="12484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Calibration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erformance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valu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_s109576"/>
            <p:cNvSpPr/>
            <p:nvPr/>
          </p:nvSpPr>
          <p:spPr>
            <a:xfrm flipV="1">
              <a:off x="4571640" y="2599560"/>
              <a:ext cx="0" cy="62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_s109575"/>
            <p:cNvSpPr/>
            <p:nvPr/>
          </p:nvSpPr>
          <p:spPr>
            <a:xfrm>
              <a:off x="3558240" y="1350720"/>
              <a:ext cx="2026440" cy="12484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Install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_s109574"/>
            <p:cNvSpPr/>
            <p:nvPr/>
          </p:nvSpPr>
          <p:spPr>
            <a:xfrm>
              <a:off x="3558240" y="3223800"/>
              <a:ext cx="2026440" cy="1248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Selection </a:t>
              </a:r>
              <a:br>
                <a:rPr sz="2600"/>
              </a:b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and </a:t>
              </a:r>
              <a:br>
                <a:rPr sz="2600"/>
              </a:b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acquisitio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57103F-ED39-4FAE-8BAD-C4EA5A5AE3D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Management Overview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ign responsibilities for all activit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in all personnel on requirements and maintenance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equipment management activiti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all procedures are follow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view all records routine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pdate procedures as nee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A1CD1C-BFDB-49FA-B10C-0DD5397601B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rcRect l="4914" t="34899" r="24572" b="14957"/>
          <a:stretch/>
        </p:blipFill>
        <p:spPr>
          <a:xfrm>
            <a:off x="1523880" y="1143000"/>
            <a:ext cx="2667240" cy="248436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06080" y="456840"/>
            <a:ext cx="8356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ng and Acquiring Equipment</a:t>
            </a:r>
            <a:br>
              <a:rPr sz="28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2971800" y="4495680"/>
            <a:ext cx="510552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erformance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eag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6" descr="j0424784"/>
          <p:cNvPicPr/>
          <p:nvPr/>
        </p:nvPicPr>
        <p:blipFill>
          <a:blip r:embed="rId2"/>
          <a:stretch/>
        </p:blipFill>
        <p:spPr>
          <a:xfrm>
            <a:off x="1143000" y="4572000"/>
            <a:ext cx="1600200" cy="147168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4191120" y="1143000"/>
            <a:ext cx="3276360" cy="243828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4191120" y="3505320"/>
            <a:ext cx="3276360" cy="8380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800600" y="350532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Facility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523880" y="3505320"/>
            <a:ext cx="2667240" cy="8380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Equipment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962520" y="3657600"/>
            <a:ext cx="838080" cy="533520"/>
          </a:xfrm>
          <a:prstGeom prst="leftRightArrow">
            <a:avLst>
              <a:gd name="adj1" fmla="val 50000"/>
              <a:gd name="adj2" fmla="val 3127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10A3B6-7906-4747-A010-E603215183D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5:13Z</dcterms:modified>
  <cp:revision>143</cp:revision>
  <dc:subject/>
  <dc:title>Slide 1</dc:title>
</cp:coreProperties>
</file>