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D8523-7389-4BD5-9A86-8703292E3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B0DA4-A880-4773-9D3A-B7B278BC3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16DA6-8521-42DC-A1CD-2AF432616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3B3C0-1929-4B47-B5B4-B7A92DDCB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7F80A-918F-4AEA-B48D-FBB712968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40AD0-C4BF-4CF0-8C2F-9768126AE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387DE-5032-48CA-97FA-524E20FD0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9DE27-D107-41BD-9FDA-5C6CDD162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6FBBC-F76A-472F-9CC2-3F1732EB3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CB1E3-0D8D-49FC-AF72-BF6978FC3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8279-3C87-4DB5-81C1-5A587533A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FDA95-D2DD-4B71-9BA1-CFFFE7A57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5D5B3-9914-4AD4-8241-FB46C8DC3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30EA-4C6C-4840-83EF-7E4308F73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DFB83-AC5F-4095-B6E0-8627AB89B8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50F0C-B39F-4AF3-B151-444BA75336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D8783-E8A3-4A53-90E5-733938A793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A9A29-55FC-4B11-B7BD-F5A98574CC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5599-9947-42E9-83E6-D4D1FCD2FC8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4377-83C7-4F1C-B9A4-729AB146F44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581A-5638-4D24-B6A6-C3F72518432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163F-3F4C-4295-A94D-E73728C3647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2B8D-E614-4C0A-85D5-0850B1205A4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23A9-C9DE-4264-9DEE-B34A92408C7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26C9-5491-4E3D-9FD9-272C28156D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AB5E6-35CD-489D-91F5-96C5170355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D107-33E2-461D-90A8-16F034BC565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4B30-6662-4F35-9E3E-931049B4E2F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8254-8DFA-4B2C-8F81-1CD138ECA0C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7696-7A86-43D5-9115-6B818C26671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0967-526E-482A-925A-FBE7CFEBD6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668FD-22B0-4BB7-B829-801AA657B3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0F8EE-3EF0-46EB-8444-8ACA498B6F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0BEEF-02CD-46B5-9F42-2D780CAD9F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E34DC-1462-4257-B6FF-B81C1D6287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90789-BA00-4077-B7A1-2462E40BE7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743C9-43D2-4EFE-B537-341EEDB6AF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E26CA-386E-4C3E-BE33-BB2B17DD27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2EBC8-F064-4F83-BCB5-1A5D362F83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40000" indent="-205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51480" indent="-205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978D2-EEDD-490F-9D8D-8FA1B19447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2971800" y="1600200"/>
            <a:ext cx="61722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cess Control: Q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uality Control of Qualitative and Semi-Quantitative Procedure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5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033E-5D4D-4023-8124-E0BF6D4B63E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sing 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 as per patient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positive and negative contr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a weak positive control for immunological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oose positive controls close to the cut-off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control to monitor extraction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D5253-361C-42B0-B98E-5E339DC9F09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6DC3B-0525-4BA2-B668-F89E8EE30FD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3200400" cy="275616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290A6-6D41-47F8-A77B-38AA7C4EFE9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ck Cultures for QC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ence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in-house developed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able reactions in stains and medi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media, reag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supplies work as int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886200" y="434340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5B9CF-E8F7-4A08-88AC-633E5C77DCE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ources for Obtaining Reference Strai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C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merican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TCC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ional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(UK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teur Institute Collection (Fran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A875A-817F-4042-90E1-8D026C3876D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0B465-903C-4ED0-AF09-7284C488032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FE386-EAE7-4F09-B790-EBE71C9F293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s are important—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e care of them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21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5659560" y="525780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o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95520" y="52578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Continued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75B1D-2698-4AB0-8EC8-141FFE3F140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D1465-674B-4813-AC46-79AF13C61C8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 Manag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established procedure for preparation or reconstit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el: content, concentration, date prepared and placed in service, expiration, initi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appropriate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17059-F99A-4E29-BCA4-CF093D0BF25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FE1BA-7411-40DA-A2D7-882E99D9753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for St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s appropriate for particular stain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with known organisms or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rystal shards or for precip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ontaminants such as bacteria and fung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581280" y="4800600"/>
            <a:ext cx="2057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right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am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C3332-B6D4-49E4-8404-5D6D0454E91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C3A1C-765F-4377-AFFA-8E78BA510BD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ram Stain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6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"/>
          <p:cNvSpPr/>
          <p:nvPr/>
        </p:nvSpPr>
        <p:spPr>
          <a:xfrm>
            <a:off x="83808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9900"/>
                </a:solidFill>
                <a:latin typeface="Verdana"/>
              </a:rPr>
              <a:t>Good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5178240" y="502920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Verdana"/>
              </a:rPr>
              <a:t>Poor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D6E6F-A094-4531-A932-61A03847183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F8366-016C-4806-8E3D-0F2A9029EA4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of Microbiology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erformance of all med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-house prepared: all batch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ercially prepared: new lot on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581280" y="3505320"/>
            <a:ext cx="22100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cConkey Aga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C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non-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135E1-C446-4697-9EF1-CC9678559EB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40396-8FF4-450D-866B-641EA686A53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dia Problems to Avoi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3809880" y="1447920"/>
            <a:ext cx="2514600" cy="914400"/>
            <a:chOff x="3809880" y="1447920"/>
            <a:chExt cx="2514600" cy="914400"/>
          </a:xfrm>
        </p:grpSpPr>
        <p:sp>
          <p:nvSpPr>
            <p:cNvPr id="249" name="AutoShape 8"/>
            <p:cNvSpPr/>
            <p:nvPr/>
          </p:nvSpPr>
          <p:spPr>
            <a:xfrm>
              <a:off x="3888360" y="190512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AutoShape 9"/>
            <p:cNvSpPr/>
            <p:nvPr/>
          </p:nvSpPr>
          <p:spPr>
            <a:xfrm>
              <a:off x="3809880" y="144792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5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5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5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5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6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6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6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70" name="Text Box 32"/>
          <p:cNvSpPr/>
          <p:nvPr/>
        </p:nvSpPr>
        <p:spPr>
          <a:xfrm>
            <a:off x="912960" y="1523880"/>
            <a:ext cx="275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-d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ied-ou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min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609480" y="3200400"/>
            <a:ext cx="8229600" cy="26535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Human bloo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hould not be used because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 much batch to batch vari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include inhibitory substanc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including antimicrobial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contain biohazar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(e.g., hepatitis virus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1950840" cy="15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DC232-9FD9-4EFE-812C-04A655C5423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7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E9CFB-DC63-4FEA-9C6D-1EE90320801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of Growth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eep records for media prepared in-h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ord outcomes in a dedicated media logbook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,  sterility,  ability to support growth using stock cultures,  biochemical response of stock cul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st each new batch or lot nu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0AF9C-0058-4F77-91B1-FE3F6FE8178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77258-E272-4E50-ACC1-B5D5E91328C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between built-in and traditional contro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use stock cultures for microbiology Q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use of quality control procedures for stains used in microscopic examin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methods for verifying performance of microbiological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18BA3-3A6E-4D6C-98A7-5FE61742FB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2D3AE-D457-4CC7-B935-659A0B5B44A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qualitative tests produce non-numerical resul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mi-quantitative tests give an estim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stablish a QC program for qualitative and semi-quantitative tes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CCBBB-3DA5-46DB-8DDA-EC0E65EBB17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QC procedures followed by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lways record QC results and corrective 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f QC results are not acceptable, do not report patient result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8EFC9-BCFD-41D7-95EA-7B400679DDA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53374-BC34-43F3-9048-9C40ADAA125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85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99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300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301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302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03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04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05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6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307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8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9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310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311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2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13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4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316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8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321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23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325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6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328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9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30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334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5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337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8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340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1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FBE63-A101-4821-8010-756CF54403D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y A performs a culture, a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identified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QC measures can you use to confirm that the isolate is correctly identified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831EF-06CD-4E1C-9B79-9F2602D940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09680" y="1066680"/>
            <a:ext cx="5105520" cy="5257440"/>
            <a:chOff x="2209680" y="1066680"/>
            <a:chExt cx="5105520" cy="5257440"/>
          </a:xfrm>
        </p:grpSpPr>
        <p:sp>
          <p:nvSpPr>
            <p:cNvPr id="136" name="AutoShape 4"/>
            <p:cNvSpPr/>
            <p:nvPr/>
          </p:nvSpPr>
          <p:spPr>
            <a:xfrm>
              <a:off x="2209680" y="1066680"/>
              <a:ext cx="5105520" cy="5257440"/>
            </a:xfrm>
            <a:custGeom>
              <a:avLst/>
              <a:gdLst>
                <a:gd name="textAreaLeft" fmla="*/ 249120 w 5105520"/>
                <a:gd name="textAreaRight" fmla="*/ 4856400 w 5105520"/>
                <a:gd name="textAreaTop" fmla="*/ 249120 h 5257440"/>
                <a:gd name="textAreaBottom" fmla="*/ 5008320 h 5257440"/>
              </a:gdLst>
              <a:ahLst/>
              <a:rect l="textAreaLeft" t="textAreaTop" r="textAreaRight" b="textAreaBottom"/>
              <a:pathLst>
                <a:path w="21600" h="22243">
                  <a:moveTo>
                    <a:pt x="3600" y="0"/>
                  </a:moveTo>
                  <a:arcTo wR="3600" hR="3600" stAng="16200000" swAng="-5400000"/>
                  <a:lnTo>
                    <a:pt x="0" y="18643"/>
                  </a:lnTo>
                  <a:arcTo wR="3600" hR="3600" stAng="10800000" swAng="-5400000"/>
                  <a:lnTo>
                    <a:pt x="18000" y="22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21160" y="3834000"/>
              <a:ext cx="118800" cy="705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76200" y="3210480"/>
              <a:ext cx="165600" cy="1108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65040" y="3148920"/>
              <a:ext cx="168840" cy="385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24720" y="5932440"/>
              <a:ext cx="10800" cy="450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566600" y="4794120"/>
              <a:ext cx="1440" cy="101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338880" y="1713960"/>
              <a:ext cx="1440" cy="39837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762080" y="1868760"/>
              <a:ext cx="144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10400" y="1917000"/>
              <a:ext cx="108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09800" y="1760400"/>
              <a:ext cx="38682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09560" y="1156680"/>
              <a:ext cx="1243080" cy="1156320"/>
              <a:chOff x="2509560" y="1156680"/>
              <a:chExt cx="1243080" cy="115632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09560" y="1156680"/>
                <a:ext cx="1220760" cy="1156320"/>
                <a:chOff x="2509560" y="1156680"/>
                <a:chExt cx="1220760" cy="115632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0320" y="1156680"/>
                  <a:ext cx="1135440" cy="1156320"/>
                  <a:chOff x="2560320" y="1156680"/>
                  <a:chExt cx="1135440" cy="115632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09560" y="1423080"/>
                  <a:ext cx="122076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1880" y="156672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41440" y="1156680"/>
              <a:ext cx="1221480" cy="1156320"/>
              <a:chOff x="4141440" y="1156680"/>
              <a:chExt cx="1221480" cy="115632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181760" y="1156680"/>
                <a:ext cx="1136160" cy="115632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41440" y="156672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18240" y="1156680"/>
              <a:ext cx="1221480" cy="1156320"/>
              <a:chOff x="5718240" y="1156680"/>
              <a:chExt cx="1221480" cy="115632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762880" y="1156680"/>
                <a:ext cx="1136160" cy="1156320"/>
                <a:chOff x="5762880" y="1156680"/>
                <a:chExt cx="1136160" cy="115632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18240" y="15710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85040" y="307512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509560" y="2458440"/>
              <a:ext cx="1223280" cy="1155960"/>
              <a:chOff x="2509560" y="2458440"/>
              <a:chExt cx="1223280" cy="115596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3880" y="2458440"/>
                <a:ext cx="11386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09560" y="273708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189680" y="2519280"/>
              <a:ext cx="113580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28920" y="2535480"/>
              <a:ext cx="113400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663160" y="2475720"/>
              <a:ext cx="1316880" cy="1155960"/>
              <a:chOff x="5663160" y="2475720"/>
              <a:chExt cx="1316880" cy="115596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38040" y="247572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663160" y="276696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09800" y="431388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509560" y="3779280"/>
              <a:ext cx="1221480" cy="1157400"/>
              <a:chOff x="2509560" y="3779280"/>
              <a:chExt cx="1221480" cy="115740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0880" y="3779280"/>
                <a:ext cx="113652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09560" y="400428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141440" y="3779280"/>
              <a:ext cx="1221480" cy="1157400"/>
              <a:chOff x="4141440" y="3779280"/>
              <a:chExt cx="1221480" cy="115740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67720" y="3779280"/>
                <a:ext cx="113688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41440" y="4022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38400" y="3772800"/>
              <a:ext cx="113724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18240" y="385020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85040" y="562680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434680" y="5090400"/>
              <a:ext cx="1399680" cy="1155960"/>
              <a:chOff x="2434680" y="5090400"/>
              <a:chExt cx="1399680" cy="115596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1200" y="5090400"/>
                <a:ext cx="113544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4680" y="5319000"/>
                <a:ext cx="139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41440" y="5024160"/>
              <a:ext cx="1221480" cy="1156320"/>
              <a:chOff x="4141440" y="5024160"/>
              <a:chExt cx="1221480" cy="115632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189320" y="5024160"/>
                <a:ext cx="1135440" cy="115632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41440" y="53186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738400" y="5090400"/>
              <a:ext cx="1221480" cy="1155960"/>
              <a:chOff x="5738400" y="5090400"/>
              <a:chExt cx="1221480" cy="115596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757120" y="509040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38400" y="531900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309BC-CA8A-409E-A391-DDE8F91FF49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ative or semi-quantitative tests - Exampl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scopic examin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pstick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rologic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biological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y reaction that produces non-numeric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601E4-4C9A-4F30-827C-B5085682859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98" name="wbcrbc" descr="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AEBB5-7A98-443B-8270-29EFC89767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ortant Concep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mple manageme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ff competenc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mainten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ins, media and reagents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5EBB5-5D6C-41D6-8FF4-AB60CD26900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E286D-6F0F-4E1D-8E14-FA0A543465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Materia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ontrol materials that mimic patient samp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ference organis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ACA09-E188-49DB-B30B-3EE6A69A6C4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tegrated into the design of a test kit dev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utomatically run with each test perform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certain aspects of kit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y not assess enti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esting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D96C6-C476-43A7-A74B-F1AB7D5B46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terials with known reacti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imic patient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the integrity of the entir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9A878-4FDB-4E48-907D-918C87752D4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09:52:17Z</dcterms:modified>
  <cp:revision>464</cp:revision>
  <dc:subject/>
  <dc:title>Slide 1</dc:title>
</cp:coreProperties>
</file>