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B1F10-B031-4FFB-966B-FF91CE68C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4244A-409C-476B-ACE5-79418FDDE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75E16-FE0F-4241-9C38-E4036607E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6064D-F4D0-4B08-BF7F-8F56DABA9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CBC21-8FA4-4EA8-9796-AA7A24168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A9422-A477-491C-B728-F30E7ECB1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8955E-7905-47FA-841B-86016FCCE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703E9-EA9F-4D59-B119-1208C5EAA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F79AA-F34D-40C1-A354-B1A485C0D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09A60-0F8B-4DE6-9E67-4A7C8E660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BA74A-49EA-4317-BCCB-FEBC1A569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A5601-1210-41C9-8D5F-CB2929331D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9530A-7AFC-4085-B145-0CE69595A5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DC635-87CF-4900-AA58-5262871415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C2D1C-7E0E-4008-B342-A01A5A1BBC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32FECB-3158-4ED4-91F0-C633D3D01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49B986-8F65-49B1-A9A6-1FEF1909D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E680C9-FEED-47E4-8138-5A15F7C59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67472F-6C24-42A9-B5E3-92BA87826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C69FD4-9339-46A4-A8B4-7F95F963C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EFA71E-167D-4CE2-AF65-2F97A1DA4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39C3AE-C43E-4BBD-909B-B21E9D39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419D6-E351-4702-A02F-C42647D110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5E6CF9-8F34-4778-8944-06E37D80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8187F0-19F9-46F1-9506-7D8FC832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EE7208-7A44-4114-A555-E1507D46F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D10023-4865-467E-A640-5EF0B87EA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8E2909-5331-4207-B48A-7324223F2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0C200-46C1-4878-8766-E6AA0ED421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EAA9A-2548-447F-8CE0-F9A479FB95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4EDAC-44B0-49A9-BC4B-1D4AF666B9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93AB2-2F79-41BB-B0D0-2C91C413CB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2982B-9D4D-4A12-9DDF-2F55867EC7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68E8A-F8CB-4369-80E8-683EAA5527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30B74-03A2-424D-BD21-F17C814F06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70D06-396D-4863-8CA3-902E52F554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8CBBE-D770-4422-B358-3483015700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estgard Multirule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“multi-rule” system developed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. James O. Westgard based on statistical conce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bination of decision criteria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to assess if a system is in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when at least 2 levels of contro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run with the examination r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use with only one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westgard_lecturing"/>
          <p:cNvPicPr/>
          <p:nvPr/>
        </p:nvPicPr>
        <p:blipFill>
          <a:blip r:embed="rId1"/>
          <a:stretch/>
        </p:blipFill>
        <p:spPr>
          <a:xfrm>
            <a:off x="2971800" y="41911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F1DE1-58FC-46A7-BD6F-2496E4AE008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17B8C-38AB-4B4D-B60B-EB15911D0F0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nswers for activ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1, 22, 24, 26, 27, 30, 31, 33, 34, 36-44 – in contr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878F6-A45F-4EC5-ABED-B55E26450CA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Multirule System Titles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419720" y="16002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d when 2 levels of control material are analyzed per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18163-9F22-4F68-952A-4A69536CD6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ARNING RU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not cause for rejecting a r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of two control results falls outside 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erts technologist to possibl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hen evaluate the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ED5FC-B056-4E2B-9923-7BBB9E7A46F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QC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nsecutive control values for the same level fall outside of ±2SD in the same directio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controls in the same run exceed ±2SD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results cannot be repor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A24A7-2F8D-4BB7-B0AF-B98D007CAD5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control exceeds the mean by –2SD, and the other control exceeds the mean by +2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nge between the two results will therefore exceed 4 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dom error has occurred, test run must be rejec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E86F9-D5C3-472D-A9B2-9D9606E2F3F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consecutive QC results for one level of control are outside ±1SD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consecutive results that are outside ±1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AD1F1-681E-47CF-8457-0946214F92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 consecutive QC results for one level of control are on one side of the mea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five consecutive results that are on the same side of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5FFA1-E83C-4710-AA7E-25298A57D9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estgard Multirule QC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7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A2DD0-72D6-44DE-8B43-6DFCD238B08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Activity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Using the Westgard Multirule System, describe the control values for each day in the following slide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B1223-E853-4FDC-9C2D-8B6CBDCA837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Robin Barteluk</cp:lastModifiedBy>
  <dcterms:modified xsi:type="dcterms:W3CDTF">2008-11-27T20:41:53Z</dcterms:modified>
  <cp:revision>4</cp:revision>
  <dc:subject/>
  <dc:title>Westgard Multirule System</dc:title>
</cp:coreProperties>
</file>