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90634-7FDA-4EA1-8301-A10B995CB3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3A1B9-E342-4891-923D-2D9540E03D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EFF1F-65F2-422F-9102-682C3386EA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9DB3B-D51F-40F2-89AB-C693CC7C8347}" type="datetime3">
              <a:rPr b="0" lang="en-US" sz="1200" spc="-1" strike="noStrike">
                <a:solidFill>
                  <a:srgbClr val="000000"/>
                </a:solidFill>
                <a:latin typeface="Arial"/>
              </a:rPr>
              <a:t>July 31,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27E20-ADD9-408C-8D3F-7C59ADE52F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2BDAE-BA01-4FCC-B114-EB79377FDC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65C33-349E-482E-A8E3-2482F55B39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5B1EE5-091D-4DCA-9227-3AFBCFF37E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E8C1D-D431-4046-8436-C7167C43E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293D66-0C92-473A-981D-380ADD6397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DA6158-B26C-4A32-8F6A-46B7DE1229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7D768B-E6B0-46AB-A956-C88026A35A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3EDD07-DF81-438D-B977-BAB70EC856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90E51B-F3EE-43AB-BB0F-4F07426203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D6A3D2-A8C2-40E4-AF61-F8CA240C8D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1BCE49-BAFB-4F93-B852-B015FB34A9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976A2A-F4AA-4042-9BC4-58DD033168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B1980F-A4B4-49A2-A586-5252B1EF70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808CF-8C63-4D28-A300-FB235A5A8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3A071-E1F4-44DA-AC97-0E0918E98E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4FB36-DAD2-433A-969A-C8AE0CF2DD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5AEE68-560D-44BF-886D-6F95B4FEEF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C8A230-78EA-4F23-92C9-E30A6AED3A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4B9383-6501-47A2-A7C2-F31C64BC42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ECE1A-0903-4E1D-A818-122160EEF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EE0A2-339F-4BCA-A063-CEF7FCB91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69749-882F-4EEE-9139-B6912001C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9A510-8F8D-4E5E-94C6-077FD67EA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D7A78-4BCA-4498-8C66-CD866881D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AA0E6-5DB9-4B42-9B77-74F5C09B6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869EE-0E4D-419D-AFC4-C3AD4347E9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1FFDA-6BBE-4052-83EB-B8C298A8E7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8AF769B-53DD-4C52-9C72-254349238FC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246CE45-84FA-40E9-9602-096B87621D9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2B69B-3A3D-4A04-8233-5029141C9F0F}"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9F273-5648-40A6-9552-3AF91057E23E}"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