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B582-8F3F-4B8E-A9CB-5506DB553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53E5-5DCF-4AEA-BE95-891DC54F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FF91-4F80-4F6E-B350-0E6AFD3BF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7986-4561-4FA5-9E52-92BD41CF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17273-1DB8-4CAF-9F67-F1E13D50959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48E2C-5EE4-4ABF-92AE-54E5A47C17A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800B8-F6AD-460A-A8D3-8EBFE4076F7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01CF7-986A-4F30-98BF-8B714635A43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4DA009-1CF8-4357-BCD6-49677D76A4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D8BF74-533C-4EFF-8378-0AC0EDD34B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A643AC-8E9E-4F50-98AE-6B77A9E371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D5CEB-E818-4658-960B-C81B694F3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266158-B463-43EE-9757-A7C87F9B8B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CCA5A-D7B5-4CA6-BC95-E3AA622F9E2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BEB3A4-E257-41E0-B6F3-A985B9E5D3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612830-A27C-4998-923F-C9B0A435BBD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594CA7-1D04-4BA6-8814-FCD5CFD68C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09A6-0B35-44B8-A217-5637F2836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4123E-6CF0-49BA-981E-0DC12A0B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AB0-386F-4807-AE13-22D569796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DA5A2-754B-4E09-A481-EF950325E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E126-BC88-40C4-B18F-907210D5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18E0-9FF7-4EDC-A72E-79B9BCA5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E4A7F-48A4-4BE3-8BF2-79D424D9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24DB7-EE5F-4C90-B096-7979C87DD3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E2541CB-FD3C-4CAE-B4D3-88A1D004A94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84E09A3-94DA-431C-8CA8-3EB5076C308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Contact Trac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24050-FE75-43D5-946E-4D5B310A41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4.png"/><Relationship Id="rId17" Type="http://schemas.openxmlformats.org/officeDocument/2006/relationships/image" Target="../media/image4.png"/><Relationship Id="rId18" Type="http://schemas.openxmlformats.org/officeDocument/2006/relationships/image" Target="../media/image4.png"/><Relationship Id="rId19" Type="http://schemas.openxmlformats.org/officeDocument/2006/relationships/image" Target="../media/image4.png"/><Relationship Id="rId20" Type="http://schemas.openxmlformats.org/officeDocument/2006/relationships/image" Target="../media/image4.png"/><Relationship Id="rId21" Type="http://schemas.openxmlformats.org/officeDocument/2006/relationships/image" Target="../media/image4.png"/><Relationship Id="rId22" Type="http://schemas.openxmlformats.org/officeDocument/2006/relationships/image" Target="../media/image4.png"/><Relationship Id="rId23" Type="http://schemas.openxmlformats.org/officeDocument/2006/relationships/image" Target="../media/image4.png"/><Relationship Id="rId24" Type="http://schemas.openxmlformats.org/officeDocument/2006/relationships/image" Target="../media/image4.png"/><Relationship Id="rId25" Type="http://schemas.openxmlformats.org/officeDocument/2006/relationships/image" Target="../media/image4.png"/><Relationship Id="rId26" Type="http://schemas.openxmlformats.org/officeDocument/2006/relationships/image" Target="../media/image4.png"/><Relationship Id="rId27" Type="http://schemas.openxmlformats.org/officeDocument/2006/relationships/image" Target="../media/image4.png"/><Relationship Id="rId28" Type="http://schemas.openxmlformats.org/officeDocument/2006/relationships/image" Target="../media/image4.png"/><Relationship Id="rId29" Type="http://schemas.openxmlformats.org/officeDocument/2006/relationships/image" Target="../media/image4.png"/><Relationship Id="rId30" Type="http://schemas.openxmlformats.org/officeDocument/2006/relationships/image" Target="../media/image4.png"/><Relationship Id="rId31" Type="http://schemas.openxmlformats.org/officeDocument/2006/relationships/image" Target="../media/image4.png"/><Relationship Id="rId32" Type="http://schemas.openxmlformats.org/officeDocument/2006/relationships/image" Target="../media/image4.png"/><Relationship Id="rId3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-1440" y="2276640"/>
            <a:ext cx="9144000" cy="16570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Verdana"/>
              </a:rPr>
              <a:t>Contact Tracing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EPA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ndromic surveillanc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on transportation hubs and country bor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dent Management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onnel designed to lead the 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uthority to make decisions and release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la Treatment Unit (ETU) [minimum:1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ED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rnal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up using WHO and MSF guide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olding/Isolation Uni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olation of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SPECT C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isting Infra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pply basic food/necessiti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If need for repeat testing in 72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formation Technology [not required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piInfo VHF software (CDC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latform of easy data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ndatory reporting to WH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boratory Services must be identified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not need to be in coun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per specimen packaging and shipment†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Personnel Hierarc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Diagram 3" descr=""/>
          <p:cNvPicPr/>
          <p:nvPr/>
        </p:nvPicPr>
        <p:blipFill>
          <a:blip r:embed="rId1"/>
          <a:stretch/>
        </p:blipFill>
        <p:spPr>
          <a:xfrm>
            <a:off x="1511280" y="476280"/>
            <a:ext cx="5975280" cy="3589200"/>
          </a:xfrm>
          <a:prstGeom prst="rect">
            <a:avLst/>
          </a:prstGeom>
          <a:ln w="0">
            <a:noFill/>
          </a:ln>
        </p:spPr>
      </p:pic>
      <p:sp>
        <p:nvSpPr>
          <p:cNvPr id="115" name="Straight Connector 6"/>
          <p:cNvSpPr/>
          <p:nvPr/>
        </p:nvSpPr>
        <p:spPr>
          <a:xfrm>
            <a:off x="2362320" y="3962520"/>
            <a:ext cx="2057400" cy="34272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8"/>
          <p:cNvSpPr/>
          <p:nvPr/>
        </p:nvSpPr>
        <p:spPr>
          <a:xfrm>
            <a:off x="1752480" y="3962520"/>
            <a:ext cx="2514600" cy="761760"/>
          </a:xfrm>
          <a:prstGeom prst="line">
            <a:avLst/>
          </a:prstGeom>
          <a:ln w="9360">
            <a:solidFill>
              <a:srgbClr val="b6dcd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Diagram 7" descr=""/>
          <p:cNvPicPr/>
          <p:nvPr/>
        </p:nvPicPr>
        <p:blipFill>
          <a:blip r:embed="rId2"/>
          <a:stretch/>
        </p:blipFill>
        <p:spPr>
          <a:xfrm>
            <a:off x="914400" y="3743280"/>
            <a:ext cx="6473880" cy="26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vestigation Te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ologists, psychosocial behavioral experts (for stigma and mental health related issues), and health communication experts (for education and networking issues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xperience and training in probing contact tracing ques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terview a case about potential contac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tracer is concerned about the health status of a contact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sess the contact to determine whether they should be considered an EVD ca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the contact is symptomatic and therefore a suspect case, they alert the field supervi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ctivated if a new case is identified through other means (i.e.-HC facility)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sidence visit to identify all contac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lert contacts of their status, the contact tracing procedure, and offer sup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st all contacts on the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ontact Listing Form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 of two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apid Response Team (RRT)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for Investigation Team; subset of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ponsible for the first case detected in a cou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-call 24 hours a day and 7 days a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inimum of two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Lead Epidemiologist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ined in contact tracing at the national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versees all field supervisors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need to be continued to be follow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are a prior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cide what contacts can be discharged from follow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unicate with other branches such as the case management team and logistical team when a contact becomes a suspect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inimum of one at the national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Field Supervisor: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epidemiologist with prior contact tracing experi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ign tracers to cont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ndle challenges and questions that arise in the fie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ctivate the investigation team for a symptomatic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sess quality assurance measur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ect data on current tracing effo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: one field supervisor for 5-10 trac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racing Team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contact tracing trai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iable and responsible, with cultural awar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t contacts every day for 21 day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viewing / inquiring about the contact’s health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Organizing tracing teams by geographic areas may maximize efficienc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clude tracers from the specific or nearby communities to increase acceptability of contact tracing activities among community resid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y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 least two tracers assigned to each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eam to see 10-20 contact a day, or more depending on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Data Manager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or data management experience and proficient computer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re: VHF EpiInfo datab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sure all data is entered electron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 reports to the lead epidemiologist and WH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ervise those doing data ent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neral obj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9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explains how to conduct contact tracing to effectively control the Ebola virus disease (EVD) out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Transportation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terrain and geograp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infection prevention and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 identified suspect cases and confirmed cases to isolation units and ETU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quipped with a transportation vehicle that can handle droplet precautions and allow for disinfec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imum of three people on a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for transport;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Disinfection Tea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unity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vironmental health officers or sanitar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nitization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cations where probable, suspected, and confirmed cases’ have been, locations where the initial identification occurred, and/or burial locations [depend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infection of transport vehic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ordinate with the transportation tea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hould follow WHO and CDC guidelines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Quantit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: minimum of two members per tea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urial Team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ackground/Experienc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ty memb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gone the Ebola infection control trai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sponsibilit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rial of deceased probable, suspected, and confirmed cases as well as cont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team of at least 6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to carry the body, 1 to disinfect the body, 1 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22360" y="1789200"/>
          <a:ext cx="8099280" cy="4146480"/>
        </p:xfrm>
        <a:graphic>
          <a:graphicData uri="http://schemas.openxmlformats.org/drawingml/2006/table">
            <a:tbl>
              <a:tblPr/>
              <a:tblGrid>
                <a:gridCol w="1816200"/>
                <a:gridCol w="976320"/>
                <a:gridCol w="760320"/>
                <a:gridCol w="869760"/>
                <a:gridCol w="768600"/>
                <a:gridCol w="647640"/>
                <a:gridCol w="838080"/>
                <a:gridCol w="812880"/>
                <a:gridCol w="609480"/>
              </a:tblGrid>
              <a:tr h="192600">
                <a:tc gridSpan="6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ntact Tracing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ther Team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7080"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ead Epidemiologi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Supervis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vestiga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cer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ata Manage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infection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urial Tea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Personal Protective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isposable Glov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ow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shield (or goggl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ace mask N95/FFP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urgical mask for the Cas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Bio-hazard plastic bag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nformation Technolog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Global Positioning Sys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ellular phones (with credit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Compu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lectronic Data Collection Too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Field Equipm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hermom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Office Suppli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ppropriate Form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Transport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6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7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8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9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0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1"/>
                      <a:tile tx="0" ty="0" sx="100000" sy="100000" algn="ctr"/>
                    </a:blipFill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2"/>
                      <a:tile tx="0" ty="0" sx="100000" sy="100000" algn="ctr"/>
                    </a:blipFill>
                  </a:tcPr>
                </a:tc>
              </a:tr>
              <a:tr h="192600"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river/Car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X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la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eld Super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c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e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ychosocial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river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quipment (including resources sli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of cellular phone cred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ing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Sanitiz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ransport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or field supervisors, tracers, and investigation te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xis (if u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el if using own veh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low Dia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3" descr=""/>
          <p:cNvPicPr/>
          <p:nvPr/>
        </p:nvPicPr>
        <p:blipFill>
          <a:blip r:embed="rId1"/>
          <a:stretch/>
        </p:blipFill>
        <p:spPr>
          <a:xfrm>
            <a:off x="1905120" y="1143000"/>
            <a:ext cx="5637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suspect, probable or confirmed case is first detected, the RRT is activat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acts must be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ing questions to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interviewing [case aliv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bal Autopsy [case dead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hold and community vis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: May require several interviews of the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l out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Box 2"/>
          <p:cNvSpPr/>
          <p:nvPr/>
        </p:nvSpPr>
        <p:spPr>
          <a:xfrm>
            <a:off x="1605240" y="5157720"/>
            <a:ext cx="60526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Types of 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= Touched body fluids of the patient (blood, vomit, saliva, urine, feces, sperm, swea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= Had direct physical contact with the body of the patient (alive or dea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 = Touched or cleaned the linens, clothes, or dishes of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= Slept or ate in the same household as the pati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3"/>
          <p:cNvSpPr/>
          <p:nvPr/>
        </p:nvSpPr>
        <p:spPr>
          <a:xfrm>
            <a:off x="2641680" y="44280"/>
            <a:ext cx="38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BOLA CONTACT LISTING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Object 4" descr=""/>
          <p:cNvPicPr/>
          <p:nvPr/>
        </p:nvPicPr>
        <p:blipFill>
          <a:blip r:embed="rId1"/>
          <a:stretch/>
        </p:blipFill>
        <p:spPr>
          <a:xfrm>
            <a:off x="147600" y="533520"/>
            <a:ext cx="8848800" cy="53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Li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s interviewed by the investigation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k last date of contact with the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discrepancy, use the most recent d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termine exposure stat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’, ‘low’, or ‘no risk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” and ‘Low’ risk persons will require follow-u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ymptomatic contacts can continue daily activities if they have timely access to HC facilities in the event that they fall ill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definitions related to cases and contacts of patient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to prepare for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how contact tracing should be conduct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how contact tracing should be managed in the context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yze how to maintain quality assurance during  contact tracing related to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ce Deemed a Contact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ollowing must occu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is notified of their sta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ain follow-up proced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ucate about EV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them contact information for tracing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 them to notify the team if they move or leave the geographic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f a Contact Becomes Ill…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us is changed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SPECT 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ion team contacts the field supervi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ate transportation and disinfection te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ed to isolation unit for 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**Need to initiate contact identification and contact listing for this new cas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Follow-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ily visits by tracing team for 21 d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e-determined location and ti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deally, same team for the dur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sure continuity and tru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nuances of contact’s daily rout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ome contacts are not found, they should be reported to the field supervis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rd this on th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acing Summary For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eld Supervisor notifie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manag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epidemiolog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036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cing Summary Form (for Field Superviso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1828800" y="1125360"/>
            <a:ext cx="541332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ily Visit Scenar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ontent Placeholder 2" descr=""/>
          <p:cNvPicPr/>
          <p:nvPr/>
        </p:nvPicPr>
        <p:blipFill>
          <a:blip r:embed="rId1"/>
          <a:stretch/>
        </p:blipFill>
        <p:spPr>
          <a:xfrm>
            <a:off x="360360" y="1060560"/>
            <a:ext cx="8326440" cy="50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w Suspect Case Cavi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has been sick for &lt;3 day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y remain in isolation until repeat test on day 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SI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w classified as CONFIRMED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ansported to E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team continues with this case’s contact identification and trac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the suspect case tests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EGATIV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-classified as a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nues with previous 21 day follow-up proc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452520" y="2492280"/>
          <a:ext cx="8229600" cy="3678480"/>
        </p:xfrm>
        <a:graphic>
          <a:graphicData uri="http://schemas.openxmlformats.org/drawingml/2006/table">
            <a:tbl>
              <a:tblPr/>
              <a:tblGrid>
                <a:gridCol w="846000"/>
                <a:gridCol w="351000"/>
                <a:gridCol w="352440"/>
                <a:gridCol w="350640"/>
                <a:gridCol w="352440"/>
                <a:gridCol w="351000"/>
                <a:gridCol w="35244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  <a:gridCol w="350640"/>
                <a:gridCol w="351000"/>
                <a:gridCol w="352440"/>
                <a:gridCol w="350640"/>
                <a:gridCol w="352440"/>
                <a:gridCol w="351000"/>
                <a:gridCol w="352440"/>
              </a:tblGrid>
              <a:tr h="19044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1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2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at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Fever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alai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Muscle pain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eadach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Sore Throat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Vomiting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Diarrhe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52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Rash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Haemorrhage (unexplained bleeding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9040" rIns="590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1001"/>
                        </a:spcBef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000000"/>
                          </a:solidFill>
                          <a:latin typeface="TT15At00"/>
                          <a:ea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9040" marR="59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TextBox 2"/>
          <p:cNvSpPr/>
          <p:nvPr/>
        </p:nvSpPr>
        <p:spPr>
          <a:xfrm>
            <a:off x="-37440" y="1197000"/>
            <a:ext cx="915408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ame: _______________________________________        Gender:_______      Age:  _______          Date of last contact (dd/mm/yy): ___________________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10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Address:______________________________________        Telephone number:_______________________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nstructions: For each day, evaluate the contact for the symptoms below and write ‘yes’ if the contact has the symptom and ‘no’ if the contact does not hav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ymptom. If a contact has any of the symptoms, immediately call the public health department at XXX-XXX-XXXX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108000" y="-27000"/>
            <a:ext cx="892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aily Contact Follow-Up Form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for Tracer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 Dischar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 following criteria are met on day 21, the contact is discharged from the tracing proces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1 days of follow-up by the contact team have been per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was evaluated on day 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 available, discharge cannot occur until evalu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Initial Case Identification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Ebola case is identified by the surveillance system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s activated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rapid response team interviews the case using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he Ebola Virus Disease Case  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ontact Questionnaire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and  performs a household visit to establish a list of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ntact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apid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response team meets with each contact and performs the following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ssess the health status of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lert the contact of their stat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nterview the contact with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he Ebola Virus Disease Case Contact Questionnair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lain the procedure of being traced daily for 21 day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 flight risk of the individ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Identify an appropriate meeting place and time with the conta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repare the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ontact Listing Form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e lead epidemiologist assigns field supervisors based on the geographic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distribution of contac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il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.     The lead epidemiologist distributes an updated contact list to fi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erviso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field supervisors meet with their assigned tracing teams and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 the contact list for each team clustering contacts with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graphic proxim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.     The tracers meet each contact and perform the following task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servation of the contact’s general condition for any overt signs of ill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view contact regarding health status (presence of absence of specific sympto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out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ct Follow-Up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if they know of anyone else who is si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EFINI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900108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Steps: DAIL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Step-by-Step Gui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8360" y="1916280"/>
            <a:ext cx="8229600" cy="40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   While tracer teams are evaluating contacts, the field supervisor provides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Logistical support including the arranging the transportation of tracing teams and ensuring pay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Activation of the investigative team for any contact that tracers identify as having developed symptom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Quality assurance to ensure accuracy of the tracer’s report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the end of the day, tracers contact their field supervisors and repo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 status of their contac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field supervisors complete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cer Summary For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ased on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tion provided by the contact tracers and investigation team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ata is sent to both the lead epidemiologist and data manag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   The data manager or data entry staff enters the data electronical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ead epidemiologist reviews the data and sets up the list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ent/ongoing contacts for the following da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TACT TRACING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gisters information regarding cases and contac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duces daily reports, exporting for data analysi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eographic mapping of contact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imely reporting of data and trend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sufficient resources and/or existing infrastructure exist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ctronic data collection in the field should be consid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E: Although the VHF EpiInfo Database is recommended, other databases such as WHO’s Field Information Management System (FIMS), can be utilized as well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 incentives to particip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ing w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health insur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ing PPE for staff and their famil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loy EVD surviv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 staff in a timely ma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Trai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ers need proper training and resources for perform their job saf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ilor to the role of the staff me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resher train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training if issues arise or operating procedures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al certificate of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combat rank dif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onnel: Heal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vide medical care while employe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luding for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following should be addressed and strictly enforced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enter communities that seem hostile, aggressive, or unwelco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try to impede contacts or cases that are trying to f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**Of note, if security professionals interact with suspect, probable, or confirmed cases, depending on the situation they may meet the definition of a contact, and therefore, require tracer follow-up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Identif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bing questions to ask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direct physic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ith sexual conta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lived with the case in the same househol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ersons who visited the case (at home, healthcare facility, funeral/burial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aces the case visited (i.e. work, pharmacy, church, extended family, traditional healers, et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alth facilities utilized by the case and all health care workers who cared for the c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siderations for Contact Identif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alendars, holidays, or birthdays to assist with recall of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suspect, probable, or confirmed cases are notified of their status, fear is the likely respo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ychosocial support on the investigation t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cultural sensi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Enrollment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istical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street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of nick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ntries without a national ID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PS tracking of contac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gaging community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cts: Stig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s to overcome stigm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ing and educating community leaders regarding EVD infection, transmission, and the community’s ro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health communication campaig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mploy early psychosocial support to combat f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termine a “safe” meeting place/time for contacts that will not identify them as an EVD contact to their peers, family and/or communit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sic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: the process of identifying, controlling, and managing EVD to eliminate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atic follow-up during 21 days after the date of last cont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 incubation peri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QUALITY ASSURANCE AND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vestigation Team/Rapid Response Team/Lead Epidemiologis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cases with a low number of reported cont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 cautious when the numbers don’t match to previous cases with similar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re-interviewing the case, family, neighbor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nsider prompting for additional activities of daily liv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sure accurate assessment of a contact’s health status by trac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to interview and evaluate whether the assessment of the health status is similar to the tracers’ re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 Supervisor(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sure tracers are visiting the contacts da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e technology is readily available, employ mobile GPS tracking of the contact tra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ppropriate, take a picture of the contact or landmark to submit to field officer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house-checks by randomly selecting contacts of different tracer teams and interview the contacts to ensure they have been receiving a visit by a tracer every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days were missed, confirm they were accurately recorded by the tracing te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79280" y="274680"/>
            <a:ext cx="878544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ality Measures: Must be 100%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ness of the weekly active surveillance repor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being traced dai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ontacts followed for all 21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cent of cases that had contact tracing implemented within 24 hours of case iden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CAL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contacts are not identified/missed, exponential EVD transmission is lik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ontact tracing protocol must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e more investigation teams, field supervisors, and contact trac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cus efforts primarily on the high risk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“Plan B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deration should be give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ring more pers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anding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ing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dditional teams to accommodate expanding control efforts (i.e.; disinfection or burial team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alability: Shift of Foc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s may begin to focus primarily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igh risk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groups, in order to save direct resources in an appropriate man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k classification of contacts are based on the CDC guidelines†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ct tracing is essential for the identification, control, and elimination of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even one contact is missed, there is high likelihood for ongoing transmiss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critical that contact tracing is implemented quickly and managed sufficiently for the EVD response to be effe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jectives of Contact Trac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identification of individuals who become symptomatic, and thus, contagio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pping EVD transmi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mplemented quickly and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ACT*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person who interacted with a symptomatic EVD case (suspect, probable, or confirmed) in at least one of the following manner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case (dead or alive)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 physical contact with the (dead) case at the funer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blood or body fluids of the case while 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s breastfed by the patient (for infa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uched the clothes or linens of the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lept in the same household with a c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itions: CONTACT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High vs Low Ris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cutaneous or mucous membrane exposure to blood or body fluids of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skin contact with, or exposure to blood or body fluids of, a confirmed or suspect EVD patient without appropriate personal protective equipment (PP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ing blood or body fluids of a confirmed EVD patient without appropriate PPE or standard bio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 contact with a dead body without appropriate PPE in a country where an EVD outbreak is occur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 contact with an EVD pat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 contact with EVD patients in health care facilities or community setting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ing within approximately 3 feet (1 meter) of an EVD patient or within the patient’s room or care area for a prolonged period of time (e.g., health care personnel, household members)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Having direct brief contact (e.g., shaking hands) with an EVD patient while not wearing recommended personal protective equipmen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categories of EVD ca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Suspect Case:  A person, dead or alive, with at least one of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Unknown cause of bleed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, unknown cause of deat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contact with either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uspect, probable or confirmed EVD cas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 sick or dead anim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udden onset high fever and at least three of the following symptoms: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eadach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norexia / loss of appeti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etharg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ching muscles or joi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reathing difficult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omi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arrhe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omach 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ifficulty swallow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Hiccup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Probable Case: Any suspect case that meets the following criteria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valuated by a clinician and concluded to be infected with EV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e case is deceased but with a known epidemiological link to a confirmed case</a:t>
            </a:r>
            <a:br>
              <a:rPr sz="1300"/>
            </a:b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 u="sng">
                <a:solidFill>
                  <a:srgbClr val="000000"/>
                </a:solidFill>
                <a:uFillTx/>
                <a:latin typeface="Arial"/>
              </a:rPr>
              <a:t>Confirmed Cas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y suspect or probable case with a positive EVD laboratory result (PCR or serology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8:10Z</dcterms:modified>
  <cp:revision>142</cp:revision>
  <dc:subject/>
  <dc:title>DPC Training and Technical Update</dc:title>
</cp:coreProperties>
</file>