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350F67-9CEE-4AF3-A0EA-F390D2ADC5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7F3EB-E018-48C3-AFD9-6A39D6B682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E3742B13-9809-4033-9064-86B45CF21CED}"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955B323-B672-4215-8055-832BED7E6B8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F5520D8B-8EA6-4A36-98BD-91AA27493E7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6E4C782-C0F7-48BA-A0A8-5F7EE4422A64}" type="datetime">
              <a:rPr b="0" lang="en-US" sz="1200" spc="-1" strike="noStrike">
                <a:solidFill>
                  <a:srgbClr val="000000"/>
                </a:solidFill>
                <a:latin typeface="Times New Roman"/>
                <a:ea typeface="Arial"/>
              </a:rPr>
              <a:t>07/28/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7BF318A-7E82-4C68-9541-A0C0428A7A78}" type="datetime3">
              <a:rPr b="0" lang="en-US" sz="1200" spc="-1" strike="noStrike">
                <a:solidFill>
                  <a:srgbClr val="000000"/>
                </a:solidFill>
                <a:latin typeface="Times New Roman"/>
                <a:ea typeface="Arial"/>
              </a:rPr>
              <a:t>July 28,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8DE34F9-E4FB-4819-A8D8-F545272E035B}"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DB9AB7-BF81-4D5E-980B-0E56D49336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089A25-FDBD-42F8-8578-221D9CAC6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E90686-64DE-4F49-B23A-52C0B3FC3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978A8-6CB0-42E4-9273-42A23F549C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25D61B-18B0-4061-AC5A-A76BDF606D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0456E5-3749-42D4-B03B-79BD2B4AE6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B78496-6CCC-4758-9DBB-CC7774D9BC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31FB11-8777-41EA-B6D8-14C505173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64ADC1-5E9E-4992-A7A8-FF3BAA2C2E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975BB5-71D2-4327-9AAD-0505C3EFC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C1E83-9C5D-486F-B461-B83F5217D6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709A39-396E-4A80-BACC-533EA3248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01B53-E8D7-4F4A-80DD-B42B114B5B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927D43-F9EF-4912-8BEC-DC4A9D784F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D82D5-6E7B-4CAA-B88C-F23C42B398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90F42F-8487-499B-9834-4A76DFEC2B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4D51C1-8FFC-4146-B081-8546592E91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F414AF-8D36-47D5-AA77-A463685927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47B03F-DDC2-4ED1-832B-753A61E28A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602E7D-EC0D-4D81-9855-D87F1B1B50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A267A-E44E-4E50-9A64-436B3DE5B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E34E7-57B5-4E11-963B-BB1B98076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93789-50B3-40EB-A9D4-5E6948E82E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4DDD74-3A9B-4FD0-98DF-B1F37C7F7E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6016B5-0A40-4751-B233-1E1FFF5355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55ADD8D-74AF-4663-B680-DF465DCF85C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5A31820-4266-4147-B795-FBFF8B14BB9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BB69FDF-3295-4472-87D5-F3C40ABB60F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3E0F2-9CD2-445E-80D2-922E021A9CD4}"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EDBD9B4-0D51-4428-995D-04E529E0DD7B}"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8DF9705-04CA-4403-9B6D-4A3A18C0F7C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099D59C-8C45-4594-BA9B-040172E149D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