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1DA77-B51F-4241-8433-BAAAC840FE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AE1BE-50E3-4298-80EB-07D9AD64F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B877EF71-77D8-460C-AD3A-E046F13A2B0F}"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6E0E60B-4913-4867-8C55-E471C691BA6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51F4917-9890-4F11-8F7E-DEEE232C158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E61CCE8-A9CE-40A7-A331-89AAE1218CEF}" type="datetime">
              <a:rPr b="0" lang="en-US" sz="1200" spc="-1" strike="noStrike">
                <a:solidFill>
                  <a:srgbClr val="000000"/>
                </a:solidFill>
                <a:latin typeface="Times New Roman"/>
                <a:ea typeface="Arial"/>
              </a:rPr>
              <a:t>07/31/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1FDB9E1-B178-4049-9072-783C148072AE}" type="datetime3">
              <a:rPr b="0" lang="en-US" sz="1200" spc="-1" strike="noStrike">
                <a:solidFill>
                  <a:srgbClr val="000000"/>
                </a:solidFill>
                <a:latin typeface="Times New Roman"/>
                <a:ea typeface="Arial"/>
              </a:rPr>
              <a:t>July 31,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FFC9361-B035-4EB2-84CD-60687D93F22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8EA08F-DA95-42F4-99F2-D556D085FE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E7C1B-0175-4BDD-95C7-A9558242B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8AED9-64E8-437E-BF9F-37844BBCB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B7F161-4DC5-4724-B376-F34AE04973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CBAF4-5156-4152-A210-6FA129613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8D5E6B-75B4-428A-975A-882E7877AE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C6072E-3612-40ED-AF63-CA9AEF973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348FEA-6C99-4CC1-8A1A-19BA889B9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277550-9167-4DD8-9D18-28D4CB2900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BC83BF-DE5F-4D18-A866-4D04308C9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86F36-B529-474A-A51E-AB0E5D179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9646FA-ABA6-4132-B42A-09BFD7A86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AA713-3630-4669-BE2E-E76979AD6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58E5A-15EF-457C-8DCB-3C7B43F49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62372-25F4-4323-B519-C63412E49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6921F2-E872-43E0-916E-B1DD9D1430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79FBF2-27E3-408B-88E9-FDD3EE8FDD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CED475-8249-4C6C-B41D-51806894F4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9666B-B69C-40DA-BF29-60CA80EA4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E2834-0A8B-41C6-8FD9-A920FC094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AD7E2-06B3-4062-89A5-435A11EE0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44D93-757E-4653-9BC3-5B596E882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8C6A1-13BD-4646-931B-BE3BDB955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0DB90-92B0-438E-A823-58236B557C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E589A-368F-404F-A6E3-AA06C93A5C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9E03BC7-EE1D-45EC-9A05-850CF777C01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8863D2E-164A-4614-BC91-704DFADAA7B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E3C7C90-28CF-4928-B445-F286B0FA9E9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0A8C6-4E9C-496D-9115-AF7BB2AD2746}"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DE1C431-BE1D-4AC4-B335-0A965E8FD3E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663B67B-0CA0-4CAD-856A-C463F0DE1E9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97571FA-AE46-4745-ADC1-2FB90E67FE7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