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80FC7-FCEC-4E89-BF41-D180B70217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7F220-0DFF-43B4-810E-0D1195BF016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56A95-EDD8-4551-A775-5443C4285F9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96C8092-718C-41AD-A2D4-2B01A4B4E41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EB5F03E-A5DA-437C-BA1D-101E448D839E}" type="datetime">
              <a:rPr b="0" lang="fr-FR" sz="1200" spc="-1" strike="noStrike">
                <a:solidFill>
                  <a:srgbClr val="000000"/>
                </a:solidFill>
                <a:latin typeface="Times New Roman"/>
                <a:ea typeface="Arial"/>
              </a:rPr>
              <a:t>29/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AA3E4-40BB-41B0-A753-2E8731051D6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62FEE-218E-423D-B341-CB5D7194273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A51364-7E1C-40B4-A391-2BF85F26E7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1C3B3-3AA4-4235-9066-102895D8D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7ECD82-82BD-443E-986A-A5E8D3BCD8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5AC6B-F851-408C-BC11-2A485B59DE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47CBC-B261-496C-B92D-F5926CE2A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0C594-8383-440A-8E18-3CA8274E1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3729F-3D81-42EB-93DE-F226B729F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D59A4-9DA2-42B9-B8EC-CB8F508FB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E08DA-5ADE-458D-A03F-3A2251BD4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E75FD-A57C-4B75-B4AA-3A81CE00D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D0FCC-E298-4F97-B3A2-A0E054D26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B66D7-303F-47F4-A212-E67AC36A23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CE545-CF38-4300-BA37-BE17EA8450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7E9F217-A8B0-4D21-BB42-A2F2FB1D7FD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5E62F-B327-4E97-B516-13EB4DB2D1C7}"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22615-64D4-4DD1-8E1C-25E589C1FCAA}"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